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2F0-D20B-4E81-81A1-5595428B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8CC-D9EF-4372-9CBC-E7ECFD5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896-B376-4DB7-A5CB-7998F897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799-508D-43D6-90FD-1A798592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75BD-318B-4604-B322-A7E2003B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23FD-0AD8-4328-B4FB-27C3C0F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4C0-7CC1-4602-B843-967469A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A1EA-0220-409E-8E95-E53AB8A2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23D-3997-4365-B2A1-D38C2F8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ABC6-6F47-43D2-9AC9-75B341C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79C-01E1-4F06-AE63-A3B7254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F30-BD5A-4C5E-B694-02390132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C453-87B4-45EA-A3D1-A1D1F4B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1A0E-DEEC-419E-B315-F82666A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9964-5D18-4C44-9350-E0B6DB7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8CDE-2B78-4A4C-988E-B684D384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0331-914D-4714-986B-065F26DD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7F2-5DAC-4CCC-9AD3-08E4CB33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D2A-BDEE-4ED9-AA25-54B2F843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7C2-D4FD-41D1-9A01-898DD6EC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AA5-6659-4C67-89A5-2B59EDA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D4E-0319-4FCD-82E1-19DA6E5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1C2-1FD7-4921-B9B2-0724BD3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07C-760C-41B2-AC31-8D3A6AF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511CE9-A11D-433D-AF8E-148F18FEA5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c0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c06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c06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c06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c06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c06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c06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c06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c06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02C9DB-4166-4C52-8B87-6DDAED34956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" y="404640"/>
            <a:ext cx="6994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蓝色立方体堆积创意</a:t>
            </a:r>
            <a:r>
              <a:rPr b="1" lang="en-US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模板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51811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c06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c06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dobe Heiti Std R"/>
                <a:ea typeface="Adobe Heiti Std R"/>
              </a:rPr>
              <a:t>Tex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1295280"/>
            <a:ext cx="678132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46712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Adobe Heiti Std R"/>
                <a:ea typeface="Adobe Heiti Std R"/>
              </a:rPr>
              <a:t>Print Slide</a:t>
            </a:r>
            <a:endParaRPr b="0" lang="en-US" sz="36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2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c06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c0600"/>
                </a:solidFill>
                <a:latin typeface="Calibri"/>
              </a:rPr>
              <a:t>This is a placeholder of item. Here can be text, picture,    graph, table, etc.</a:t>
            </a:r>
            <a:endParaRPr b="0" lang="en-US" sz="2400" spc="-1" strike="noStrike">
              <a:solidFill>
                <a:srgbClr val="0c0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c06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c06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0018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0018">
  <a:themeElements>
    <a:clrScheme name="Custom 58">
      <a:dk1>
        <a:srgbClr val="0c0600"/>
      </a:dk1>
      <a:lt1>
        <a:srgbClr val="ffffff"/>
      </a:lt1>
      <a:dk2>
        <a:srgbClr val="03b0b9"/>
      </a:dk2>
      <a:lt2>
        <a:srgbClr val="7bdefd"/>
      </a:lt2>
      <a:accent1>
        <a:srgbClr val="9cbcc4"/>
      </a:accent1>
      <a:accent2>
        <a:srgbClr val="dce9ec"/>
      </a:accent2>
      <a:accent3>
        <a:srgbClr val="9aa5a8"/>
      </a:accent3>
      <a:accent4>
        <a:srgbClr val="005658"/>
      </a:accent4>
      <a:accent5>
        <a:srgbClr val="14cece"/>
      </a:accent5>
      <a:accent6>
        <a:srgbClr val="ecf6f8"/>
      </a:accent6>
      <a:hlink>
        <a:srgbClr val="ffffff"/>
      </a:hlink>
      <a:folHlink>
        <a:srgbClr val="00515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0018</Template>
  <TotalTime>2</TotalTime>
  <Application>LibreOffice/7.4.7.2$Linux_X86_64 LibreOffice_project/40$Build-2</Application>
  <AppVersion>15.0000</AppVersion>
  <Words>241</Words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3:18:20Z</dcterms:created>
  <dc:creator>for_yang@qq.com</dc:creator>
  <dc:description/>
  <dc:language>en-US</dc:language>
  <cp:lastModifiedBy>yu wang</cp:lastModifiedBy>
  <dcterms:modified xsi:type="dcterms:W3CDTF">2015-08-12T14:56:07Z</dcterms:modified>
  <cp:revision>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