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408-B4E0-48AF-8833-F1D1E989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B8E-2A2F-42D5-8C6C-E865C20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5B4-821C-4866-B8A7-667DF4B8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FA7-E4CC-4CE3-B947-1B271BA5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2A91-0D65-4403-ABB1-74D5B741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4668-C732-402D-9BDC-3D4CA91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202-25A7-4A1A-925C-43A5E731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526-E611-4267-80FF-12E95F0E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B88-B00D-44AA-AB0F-A97018E2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FE5-9962-4CA1-8621-5CC3164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557-3306-4A7C-B14F-DA47D04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698-59B0-48B7-9589-E1A84D27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E848-2832-4B2E-8E40-645030B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5671-C056-444E-9C6B-8BF86D8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4FBC-2DB4-4A9B-B763-8D8F24F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831-AAD7-4F63-B05C-0850D7EA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B7E8-3086-4FC4-9428-124598CB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351-C8FD-4AAC-B0A9-E85D118D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F8E-DF7D-429C-A7CD-DB0D7BF4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47D-9C99-4786-AF7D-1808553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1AB-4023-49EC-93C5-BA37928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87F-7A89-4562-AD60-D88E919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F7B-5951-478D-9158-87BB282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EF8-2D4C-4BCE-AC4A-DCE00E8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3C8F47-3C19-4948-BF85-B0ED4765ABF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D7E407-BAFB-4897-B82C-F04F34D257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2120" y="3501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立体方块企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2637000"/>
            <a:ext cx="83527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7200" spc="-1" strike="noStrike" cap="all">
                <a:solidFill>
                  <a:srgbClr val="255997"/>
                </a:solidFill>
                <a:latin typeface="微软雅黑"/>
                <a:ea typeface="微软雅黑"/>
              </a:rPr>
              <a:t>谢 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  <Words>164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00:52:49Z</dcterms:created>
  <dc:creator>ww</dc:creator>
  <dc:description/>
  <dc:language>en-US</dc:language>
  <cp:lastModifiedBy>yu wang</cp:lastModifiedBy>
  <dcterms:modified xsi:type="dcterms:W3CDTF">2015-08-12T14:56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