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194-00AD-41C7-8E81-C891CF10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4F5-C5B8-43F8-A09C-4D1B1D64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CB9-70EE-4EDA-A402-273F03F4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CFB-1E37-4AFB-8D6F-4AC2B2AE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92B-90A7-426B-897A-8F03A2D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565-337E-4771-9485-F8D5585B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061-5BF0-43A8-A138-087E2C3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334-3A26-43B2-99CC-C874C5C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9B4-CC5E-49ED-A0D1-EEE3CC8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FDB-D346-4BE8-9761-0E1465CA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FB7-BD5A-4F08-BD18-7AAB2A7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5F0-D25E-45B1-8873-19AC0B0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F19-59C5-43AD-9634-035406C8D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ppt模板\个人作品\蝶恋花\u=358021438,1087397126&amp;fm=51&amp;gp=0.jpg"/>
          <p:cNvPicPr/>
          <p:nvPr/>
        </p:nvPicPr>
        <p:blipFill>
          <a:blip r:embed="rId1"/>
          <a:stretch/>
        </p:blipFill>
        <p:spPr>
          <a:xfrm>
            <a:off x="1432080" y="3870360"/>
            <a:ext cx="1628640" cy="165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ppt模板\个人作品\蝶恋花\u=358021438,1087397126&amp;fm=51&amp;gp=0.jpg"/>
          <p:cNvPicPr/>
          <p:nvPr/>
        </p:nvPicPr>
        <p:blipFill>
          <a:blip r:embed="rId2"/>
          <a:stretch/>
        </p:blipFill>
        <p:spPr>
          <a:xfrm>
            <a:off x="6477120" y="3809880"/>
            <a:ext cx="16002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21"/>
          <p:cNvGrpSpPr/>
          <p:nvPr/>
        </p:nvGrpSpPr>
        <p:grpSpPr>
          <a:xfrm>
            <a:off x="3067200" y="3913200"/>
            <a:ext cx="3168360" cy="1481040"/>
            <a:chOff x="3067200" y="3913200"/>
            <a:chExt cx="3168360" cy="1481040"/>
          </a:xfrm>
        </p:grpSpPr>
        <p:pic>
          <p:nvPicPr>
            <p:cNvPr id="44" name="TextBox 21" descr=""/>
            <p:cNvPicPr/>
            <p:nvPr/>
          </p:nvPicPr>
          <p:blipFill>
            <a:blip r:embed="rId3"/>
            <a:stretch/>
          </p:blipFill>
          <p:spPr>
            <a:xfrm>
              <a:off x="3067200" y="3913200"/>
              <a:ext cx="3168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276720" y="4038480"/>
              <a:ext cx="289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论文答辩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辩人：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1"/>
          <p:cNvSpPr/>
          <p:nvPr/>
        </p:nvSpPr>
        <p:spPr>
          <a:xfrm>
            <a:off x="2556000" y="160020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清新风格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-2.22222E-006 L 0.1125 -0.0069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0.00417 L -0.17083 0.0041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0.00833 -0.28932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4"/>
          <p:cNvGrpSpPr/>
          <p:nvPr/>
        </p:nvGrpSpPr>
        <p:grpSpPr>
          <a:xfrm>
            <a:off x="533520" y="4114800"/>
            <a:ext cx="6019560" cy="1220760"/>
            <a:chOff x="533520" y="4114800"/>
            <a:chExt cx="6019560" cy="1220760"/>
          </a:xfrm>
        </p:grpSpPr>
        <p:pic>
          <p:nvPicPr>
            <p:cNvPr id="49" name="圆角矩形 55" descr=""/>
            <p:cNvPicPr/>
            <p:nvPr/>
          </p:nvPicPr>
          <p:blipFill>
            <a:blip r:embed="rId1"/>
            <a:stretch/>
          </p:blipFill>
          <p:spPr>
            <a:xfrm>
              <a:off x="1219320" y="419076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6" descr="E:\ppt模板\个人作品\蝶恋花\u=1191349500,127836432&amp;fm=52&amp;gp=0_副本.jpg"/>
            <p:cNvPicPr/>
            <p:nvPr/>
          </p:nvPicPr>
          <p:blipFill>
            <a:blip r:embed="rId2"/>
            <a:stretch/>
          </p:blipFill>
          <p:spPr>
            <a:xfrm>
              <a:off x="533520" y="411480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组合 25"/>
          <p:cNvGrpSpPr/>
          <p:nvPr/>
        </p:nvGrpSpPr>
        <p:grpSpPr>
          <a:xfrm>
            <a:off x="533520" y="2666880"/>
            <a:ext cx="6019560" cy="1220760"/>
            <a:chOff x="533520" y="2666880"/>
            <a:chExt cx="6019560" cy="1220760"/>
          </a:xfrm>
        </p:grpSpPr>
        <p:pic>
          <p:nvPicPr>
            <p:cNvPr id="52" name="圆角矩形 55" descr=""/>
            <p:cNvPicPr/>
            <p:nvPr/>
          </p:nvPicPr>
          <p:blipFill>
            <a:blip r:embed="rId3"/>
            <a:stretch/>
          </p:blipFill>
          <p:spPr>
            <a:xfrm>
              <a:off x="1219320" y="274284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E:\ppt模板\个人作品\蝶恋花\u=1191349500,127836432&amp;fm=52&amp;gp=0_副本.jpg"/>
            <p:cNvPicPr/>
            <p:nvPr/>
          </p:nvPicPr>
          <p:blipFill>
            <a:blip r:embed="rId4"/>
            <a:stretch/>
          </p:blipFill>
          <p:spPr>
            <a:xfrm>
              <a:off x="533520" y="266688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28"/>
          <p:cNvGrpSpPr/>
          <p:nvPr/>
        </p:nvGrpSpPr>
        <p:grpSpPr>
          <a:xfrm>
            <a:off x="457200" y="1219320"/>
            <a:ext cx="6019920" cy="1220760"/>
            <a:chOff x="457200" y="1219320"/>
            <a:chExt cx="6019920" cy="1220760"/>
          </a:xfrm>
        </p:grpSpPr>
        <p:pic>
          <p:nvPicPr>
            <p:cNvPr id="55" name="圆角矩形 55" descr=""/>
            <p:cNvPicPr/>
            <p:nvPr/>
          </p:nvPicPr>
          <p:blipFill>
            <a:blip r:embed="rId5"/>
            <a:stretch/>
          </p:blipFill>
          <p:spPr>
            <a:xfrm>
              <a:off x="1143000" y="1295280"/>
              <a:ext cx="533412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E:\ppt模板\个人作品\蝶恋花\u=1191349500,127836432&amp;fm=52&amp;gp=0_副本.jpg"/>
            <p:cNvPicPr/>
            <p:nvPr/>
          </p:nvPicPr>
          <p:blipFill>
            <a:blip r:embed="rId6"/>
            <a:stretch/>
          </p:blipFill>
          <p:spPr>
            <a:xfrm>
              <a:off x="457200" y="121932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9" descr="C:\Documents and Settings\Owner\My Documents\My Pictures\图片_副本.png"/>
          <p:cNvPicPr/>
          <p:nvPr/>
        </p:nvPicPr>
        <p:blipFill>
          <a:blip r:embed="rId7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Owner\My Documents\My Pictures\图片_副本.png"/>
          <p:cNvPicPr/>
          <p:nvPr/>
        </p:nvPicPr>
        <p:blipFill>
          <a:blip r:embed="rId8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2"/>
          <p:cNvGrpSpPr/>
          <p:nvPr/>
        </p:nvGrpSpPr>
        <p:grpSpPr>
          <a:xfrm>
            <a:off x="304920" y="0"/>
            <a:ext cx="7619760" cy="6677640"/>
            <a:chOff x="304920" y="0"/>
            <a:chExt cx="7619760" cy="6677640"/>
          </a:xfrm>
        </p:grpSpPr>
        <p:grpSp>
          <p:nvGrpSpPr>
            <p:cNvPr id="60" name="组合 110"/>
            <p:cNvGrpSpPr/>
            <p:nvPr/>
          </p:nvGrpSpPr>
          <p:grpSpPr>
            <a:xfrm>
              <a:off x="304920" y="380880"/>
              <a:ext cx="7619760" cy="2027520"/>
              <a:chOff x="304920" y="380880"/>
              <a:chExt cx="7619760" cy="2027520"/>
            </a:xfrm>
          </p:grpSpPr>
          <p:sp>
            <p:nvSpPr>
              <p:cNvPr id="61" name="Rectangle 2"/>
              <p:cNvSpPr/>
              <p:nvPr/>
            </p:nvSpPr>
            <p:spPr>
              <a:xfrm>
                <a:off x="4387680" y="1517760"/>
                <a:ext cx="1768320" cy="2602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3"/>
              <p:cNvSpPr/>
              <p:nvPr/>
            </p:nvSpPr>
            <p:spPr>
              <a:xfrm>
                <a:off x="2647800" y="1811520"/>
                <a:ext cx="1739880" cy="258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"/>
              <p:cNvSpPr/>
              <p:nvPr/>
            </p:nvSpPr>
            <p:spPr>
              <a:xfrm>
                <a:off x="885600" y="2108520"/>
                <a:ext cx="1758960" cy="258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5"/>
              <p:cNvSpPr/>
              <p:nvPr/>
            </p:nvSpPr>
            <p:spPr>
              <a:xfrm flipH="1">
                <a:off x="304920" y="1739880"/>
                <a:ext cx="2340000" cy="369720"/>
              </a:xfrm>
              <a:prstGeom prst="parallelogram">
                <a:avLst>
                  <a:gd name="adj" fmla="val 158462"/>
                </a:avLst>
              </a:prstGeom>
              <a:gradFill rotWithShape="0">
                <a:gsLst>
                  <a:gs pos="0">
                    <a:srgbClr val="c7e374">
                      <a:alpha val="82352"/>
                    </a:srgbClr>
                  </a:gs>
                  <a:gs pos="100000">
                    <a:srgbClr val="99cc00">
                      <a:alpha val="5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6"/>
              <p:cNvSpPr/>
              <p:nvPr/>
            </p:nvSpPr>
            <p:spPr>
              <a:xfrm flipH="1">
                <a:off x="2133720" y="1424160"/>
                <a:ext cx="2340000" cy="387360"/>
              </a:xfrm>
              <a:prstGeom prst="parallelogram">
                <a:avLst>
                  <a:gd name="adj" fmla="val 1547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aee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2057400" y="1435320"/>
                <a:ext cx="590400" cy="67788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3798720" y="1125360"/>
                <a:ext cx="2347920" cy="393480"/>
              </a:xfrm>
              <a:prstGeom prst="parallelogram">
                <a:avLst>
                  <a:gd name="adj" fmla="val 14832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c8e4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3795840" y="1122480"/>
                <a:ext cx="591840" cy="69696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00"/>
                  </a:gs>
                  <a:gs pos="100000">
                    <a:srgbClr val="99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4"/>
              <p:cNvSpPr/>
              <p:nvPr/>
            </p:nvSpPr>
            <p:spPr>
              <a:xfrm>
                <a:off x="4587480" y="915840"/>
                <a:ext cx="92052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1188000" y="1635480"/>
                <a:ext cx="713160" cy="336240"/>
                <a:chOff x="1188000" y="1635480"/>
                <a:chExt cx="713160" cy="336240"/>
              </a:xfrm>
            </p:grpSpPr>
            <p:sp>
              <p:nvSpPr>
                <p:cNvPr id="71" name="AutoShape 29"/>
                <p:cNvSpPr/>
                <p:nvPr/>
              </p:nvSpPr>
              <p:spPr>
                <a:xfrm flipH="1" flipV="1" rot="3964800">
                  <a:off x="1551240" y="1492920"/>
                  <a:ext cx="936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30"/>
                <p:cNvSpPr/>
                <p:nvPr/>
              </p:nvSpPr>
              <p:spPr>
                <a:xfrm flipH="1" flipV="1" rot="4780200">
                  <a:off x="1454400" y="1530360"/>
                  <a:ext cx="936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61"/>
              <p:cNvSpPr/>
              <p:nvPr/>
            </p:nvSpPr>
            <p:spPr>
              <a:xfrm>
                <a:off x="6156360" y="1222200"/>
                <a:ext cx="1768320" cy="258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62"/>
              <p:cNvSpPr/>
              <p:nvPr/>
            </p:nvSpPr>
            <p:spPr>
              <a:xfrm flipH="1">
                <a:off x="5565960" y="828360"/>
                <a:ext cx="2349360" cy="395280"/>
              </a:xfrm>
              <a:prstGeom prst="parallelogram">
                <a:avLst>
                  <a:gd name="adj" fmla="val 14823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aee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63"/>
              <p:cNvSpPr/>
              <p:nvPr/>
            </p:nvSpPr>
            <p:spPr>
              <a:xfrm>
                <a:off x="5562720" y="826920"/>
                <a:ext cx="593640" cy="69696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67"/>
              <p:cNvSpPr/>
              <p:nvPr/>
            </p:nvSpPr>
            <p:spPr>
              <a:xfrm>
                <a:off x="6326640" y="380880"/>
                <a:ext cx="865440" cy="23688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81"/>
              <p:cNvSpPr/>
              <p:nvPr/>
            </p:nvSpPr>
            <p:spPr>
              <a:xfrm>
                <a:off x="304920" y="1730520"/>
                <a:ext cx="590400" cy="677880"/>
              </a:xfrm>
              <a:custGeom>
                <a:avLst/>
                <a:gdLst/>
                <a:ahLst/>
                <a:rect l="l" t="t" r="r" b="b"/>
                <a:pathLst>
                  <a:path w="386" h="712">
                    <a:moveTo>
                      <a:pt x="3" y="292"/>
                    </a:moveTo>
                    <a:lnTo>
                      <a:pt x="386" y="712"/>
                    </a:lnTo>
                    <a:lnTo>
                      <a:pt x="386" y="404"/>
                    </a:lnTo>
                    <a:lnTo>
                      <a:pt x="0" y="0"/>
                    </a:lnTo>
                    <a:lnTo>
                      <a:pt x="3" y="2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00">
                      <a:alpha val="80000"/>
                    </a:srgbClr>
                  </a:gs>
                  <a:gs pos="100000">
                    <a:srgbClr val="cde6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15"/>
            <p:cNvSpPr/>
            <p:nvPr/>
          </p:nvSpPr>
          <p:spPr>
            <a:xfrm>
              <a:off x="2656800" y="2514600"/>
              <a:ext cx="14680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16"/>
            <p:cNvSpPr/>
            <p:nvPr/>
          </p:nvSpPr>
          <p:spPr>
            <a:xfrm>
              <a:off x="4419720" y="2286000"/>
              <a:ext cx="1468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17"/>
            <p:cNvSpPr/>
            <p:nvPr/>
          </p:nvSpPr>
          <p:spPr>
            <a:xfrm>
              <a:off x="6327720" y="1920240"/>
              <a:ext cx="146808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15"/>
            <p:cNvSpPr/>
            <p:nvPr/>
          </p:nvSpPr>
          <p:spPr>
            <a:xfrm>
              <a:off x="1143000" y="2666880"/>
              <a:ext cx="162792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矩形 97" descr=""/>
            <p:cNvPicPr/>
            <p:nvPr/>
          </p:nvPicPr>
          <p:blipFill>
            <a:blip r:embed="rId1"/>
            <a:stretch/>
          </p:blipFill>
          <p:spPr>
            <a:xfrm>
              <a:off x="1066680" y="1066680"/>
              <a:ext cx="4388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矩形 98" descr=""/>
            <p:cNvPicPr/>
            <p:nvPr/>
          </p:nvPicPr>
          <p:blipFill>
            <a:blip r:embed="rId2"/>
            <a:stretch/>
          </p:blipFill>
          <p:spPr>
            <a:xfrm>
              <a:off x="2822400" y="682560"/>
              <a:ext cx="438840" cy="6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矩形 99" descr=""/>
            <p:cNvPicPr/>
            <p:nvPr/>
          </p:nvPicPr>
          <p:blipFill>
            <a:blip r:embed="rId3"/>
            <a:stretch/>
          </p:blipFill>
          <p:spPr>
            <a:xfrm>
              <a:off x="4651200" y="457200"/>
              <a:ext cx="4388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矩形 100" descr=""/>
            <p:cNvPicPr/>
            <p:nvPr/>
          </p:nvPicPr>
          <p:blipFill>
            <a:blip r:embed="rId4"/>
            <a:stretch/>
          </p:blipFill>
          <p:spPr>
            <a:xfrm>
              <a:off x="6327720" y="0"/>
              <a:ext cx="43884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9" descr="C:\Documents and Settings\Owner\My Documents\My Pictures\图片_副本.png"/>
          <p:cNvPicPr/>
          <p:nvPr/>
        </p:nvPicPr>
        <p:blipFill>
          <a:blip r:embed="rId5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Documents and Settings\Owner\My Documents\My Pictures\图片_副本.png"/>
          <p:cNvPicPr/>
          <p:nvPr/>
        </p:nvPicPr>
        <p:blipFill>
          <a:blip r:embed="rId6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1524240" y="1022760"/>
            <a:ext cx="5506920" cy="5149080"/>
            <a:chOff x="1524240" y="1022760"/>
            <a:chExt cx="5506920" cy="5149080"/>
          </a:xfrm>
        </p:grpSpPr>
        <p:sp>
          <p:nvSpPr>
            <p:cNvPr id="89" name="Freeform 5"/>
            <p:cNvSpPr/>
            <p:nvPr/>
          </p:nvSpPr>
          <p:spPr>
            <a:xfrm rot="20805000">
              <a:off x="4516560" y="2756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rot="5461200">
              <a:off x="2722320" y="2308320"/>
              <a:ext cx="1150920" cy="3316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6320"/>
                <a:gd name="textAreaBottom" fmla="*/ 3316680 h 331632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bdeff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 rot="14128200">
              <a:off x="4572720" y="778320"/>
              <a:ext cx="1150920" cy="33177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1524240" y="1527840"/>
              <a:ext cx="5506920" cy="4644000"/>
              <a:chOff x="1524240" y="1527840"/>
              <a:chExt cx="5506920" cy="4644000"/>
            </a:xfrm>
          </p:grpSpPr>
          <p:sp>
            <p:nvSpPr>
              <p:cNvPr id="93" name="Freeform 9"/>
              <p:cNvSpPr/>
              <p:nvPr/>
            </p:nvSpPr>
            <p:spPr>
              <a:xfrm>
                <a:off x="4319640" y="2855880"/>
                <a:ext cx="1150920" cy="331596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3315960"/>
                  <a:gd name="textAreaBottom" fmla="*/ 3316320 h 33159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 rot="6256200">
                <a:off x="2698200" y="2202480"/>
                <a:ext cx="1150560" cy="3317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rot="14922600">
                <a:off x="4701240" y="1006920"/>
                <a:ext cx="1150560" cy="3317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1994760" y="3009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190120" y="2181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8"/>
            <p:cNvSpPr/>
            <p:nvPr/>
          </p:nvSpPr>
          <p:spPr>
            <a:xfrm>
              <a:off x="3525120" y="4732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3"/>
          <p:cNvPicPr/>
          <p:nvPr/>
        </p:nvPicPr>
        <p:blipFill>
          <a:blip r:embed="rId1"/>
          <a:stretch/>
        </p:blipFill>
        <p:spPr>
          <a:xfrm>
            <a:off x="3809880" y="2975040"/>
            <a:ext cx="129852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150920" y="626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4"/>
          <p:cNvSpPr/>
          <p:nvPr/>
        </p:nvSpPr>
        <p:spPr>
          <a:xfrm>
            <a:off x="990720" y="49053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"/>
          <p:cNvSpPr/>
          <p:nvPr/>
        </p:nvSpPr>
        <p:spPr>
          <a:xfrm rot="10800000">
            <a:off x="6076440" y="39830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295280" y="44197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d83e"/>
              </a:gs>
              <a:gs pos="50000">
                <a:srgbClr val="99cc00"/>
              </a:gs>
              <a:gs pos="100000">
                <a:srgbClr val="b2d83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"/>
          <p:cNvSpPr/>
          <p:nvPr/>
        </p:nvSpPr>
        <p:spPr>
          <a:xfrm>
            <a:off x="914400" y="25099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 rot="10800000">
            <a:off x="6000840" y="158760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143000" y="19051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8ea"/>
              </a:gs>
              <a:gs pos="50000">
                <a:srgbClr val="bbe0e3"/>
              </a:gs>
              <a:gs pos="100000">
                <a:srgbClr val="cce8e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C:\Documents and Settings\Owner\My Documents\My Pictures\图片_副本.png"/>
          <p:cNvPicPr/>
          <p:nvPr/>
        </p:nvPicPr>
        <p:blipFill>
          <a:blip r:embed="rId1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心形 4"/>
          <p:cNvGrpSpPr/>
          <p:nvPr/>
        </p:nvGrpSpPr>
        <p:grpSpPr>
          <a:xfrm>
            <a:off x="8174160" y="5992920"/>
            <a:ext cx="568080" cy="414360"/>
            <a:chOff x="8174160" y="5992920"/>
            <a:chExt cx="568080" cy="414360"/>
          </a:xfrm>
        </p:grpSpPr>
        <p:pic>
          <p:nvPicPr>
            <p:cNvPr id="112" name="心形 4" descr=""/>
            <p:cNvPicPr/>
            <p:nvPr/>
          </p:nvPicPr>
          <p:blipFill>
            <a:blip r:embed="rId1"/>
            <a:stretch/>
          </p:blipFill>
          <p:spPr>
            <a:xfrm>
              <a:off x="8174160" y="5992920"/>
              <a:ext cx="5680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305920" y="6095880"/>
              <a:ext cx="304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TextBox 6"/>
          <p:cNvGrpSpPr/>
          <p:nvPr/>
        </p:nvGrpSpPr>
        <p:grpSpPr>
          <a:xfrm>
            <a:off x="2792520" y="2792520"/>
            <a:ext cx="3779640" cy="1315800"/>
            <a:chOff x="2792520" y="2792520"/>
            <a:chExt cx="3779640" cy="1315800"/>
          </a:xfrm>
        </p:grpSpPr>
        <p:pic>
          <p:nvPicPr>
            <p:cNvPr id="115" name="TextBox 6" descr=""/>
            <p:cNvPicPr/>
            <p:nvPr/>
          </p:nvPicPr>
          <p:blipFill>
            <a:blip r:embed="rId2"/>
            <a:stretch/>
          </p:blipFill>
          <p:spPr>
            <a:xfrm>
              <a:off x="2792520" y="2792520"/>
              <a:ext cx="37796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84520" y="289548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谢谢老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83 -0.61448 C -0.37865 -0.68155 -0.30365 -0.77706 -0.21493 -0.77706 C -0.08281 -0.77706 0.025 -0.67785 0.025 -0.55111 C 0.025 -0.51041 0.01389 -0.47341 -0.00764 -0.43964 C -0.00399 -0.43964 -0.42083 0.06198 -0.42083 0.0666 C -0.42083 0.06198 -0.83889 -0.43964 -0.83524 -0.43964 C -0.8566 -0.47341 -0.86667 -0.51041 -0.86667 -0.55111 C -0.86667 -0.67785 -0.76007 -0.77706 -0.62465 -0.77706 C -0.53889 -0.77706 -0.46424 -0.68155 -0.42083 -0.61448 Z">
                                      <p:cBhvr>
                                        <p:cTn id="7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3:3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