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A50-8FF2-4404-AD87-010E5D28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DD8-0D06-4965-8449-30998081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503-7B9B-4BDF-BF65-547FB92C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6EE-4EB4-4605-8627-B51D87D8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144C-DCD2-477D-B73D-90C08AFA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7619-DA90-438F-8C34-F900AAC1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B0DC-7CAE-4785-A720-4C41BF7E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ACEB-4854-4687-88B3-82F45963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F56A-69B6-4282-AEE2-C8E42E70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374D-989C-4640-BC8E-D08ED4D3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AF37-C497-420A-8901-3C2EDEB7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854-5EE3-4CE5-9C2C-5F0A13D8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1065-60DB-4D03-8825-D9657B14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BDA0-F2B9-4939-AD37-252B8C06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DE53-EBA9-4501-AE1D-ACB1103F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5D6C-BE81-4CCD-8DCB-62E4CBFD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2AC2-49F0-4B9C-BCD3-D9DEDFF6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B73-D220-4212-B212-F5C497C9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EC1-BD16-47B4-80DA-CD7B94E4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A00-575E-48B2-A258-FA2B305D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B6D-8BB2-41DF-9226-8A1507D5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4B7-91A9-4256-B695-291375C3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CC7-7944-4F24-B628-B99A2D9E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A81-3093-4080-A865-508F1F3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921A48-01E4-4FAA-B975-26DBD5F3F44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92EF2C-745F-4620-B8A4-A8089336D56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785960" y="2071800"/>
            <a:ext cx="41428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接连接符 5"/>
          <p:cNvCxnSpPr/>
          <p:nvPr/>
        </p:nvCxnSpPr>
        <p:spPr>
          <a:xfrm>
            <a:off x="1857240" y="2087280"/>
            <a:ext cx="2429280" cy="216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sp>
        <p:nvSpPr>
          <p:cNvPr id="84" name="TextBox 7"/>
          <p:cNvSpPr/>
          <p:nvPr/>
        </p:nvSpPr>
        <p:spPr>
          <a:xfrm>
            <a:off x="785160" y="1469880"/>
            <a:ext cx="5162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绿色清新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22827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421164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635472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14240" y="357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7116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85460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385452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485460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321156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34257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54975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556884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87660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306864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54262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29973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54975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11624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506880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62118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31402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321156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80532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85468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314028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29973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4975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72400" y="652320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178272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656928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649764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78272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406872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249732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22114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57117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556884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249732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328284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"/>
          <p:cNvSpPr/>
          <p:nvPr/>
        </p:nvSpPr>
        <p:spPr>
          <a:xfrm>
            <a:off x="578340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57117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  <Words>304</Words>
  <Paragraphs>7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2T14:54:45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