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0C1-051E-4760-A277-C99EFD22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33D-9348-44D7-BD75-0151733C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8AAA4-36A0-4D27-B9BE-AB96814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E0AFB-2DE8-4DB3-AD4C-6BF0228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7D6E8-DBD7-4F1C-BE44-DB452CB8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7DD6F-5A1A-42AD-8662-0B5B87A5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A6F17-D49A-4A57-8C9B-4899010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38B44-2855-4AAB-AEBF-95135A4D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F3D60-F9A8-475B-B490-EAA2AAA8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10D87-5030-4F4E-8B0A-F3577DB0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A6AFE-FFE1-4142-B68C-A8B2B12C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6C6E4-85BC-4D02-8FE6-A8EBC63F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CEF-8397-4E49-A9FF-03A9E7E7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7AC00-3DC2-47E1-88AC-04BE93B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3719D-51A5-4B36-A50E-82902065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47723-3241-4EF2-AD79-20428959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BC368-8652-47D2-BD00-C38852DB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74A0E-06B2-4CAD-AD43-8EBD98E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58BCD-95AF-48B7-B987-CD8D7C6A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1062E-1AB2-40F6-ABE1-CEAC20B4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3A2C5-65DF-4F81-87D5-06704E11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75F86-844F-4179-BB9C-DFB3CFE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65D45-C852-40FE-A030-567939CF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F4C-0268-4E63-AC98-EDD7F927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3665A-B557-4452-B78C-56A14294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EC071-FAC9-4130-893F-6D37756D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53D25-D52A-4FA9-A404-0BFD6341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0B149-9D76-4011-9CA3-08B1C1E8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CC393-EF85-43FF-AF4C-3F5A21F3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BC1F7-BF4D-425A-A5FA-303BD46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F2402-8E62-4509-96B0-4A2C6C6D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309F0-91DA-4024-B8EA-1AD5479B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781D-0D8A-4F10-85FF-751C394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6CEEE-5629-4AAB-A23A-BDD4F472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C87B-824E-47CA-A011-1E04384D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1137-A672-4785-8557-575E4E3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ED449-BD71-4F03-BEE5-1F0AE2E5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8289E-1DB7-465E-A8DE-CD58E722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8940-A17A-4461-B575-87D78A54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AED-4201-462C-9E03-CA0F3C40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3AF5-1DD3-4585-B061-B849E2D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092-5F64-4539-BEC9-097AAD9F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65A8-BDF3-4320-825B-F05CF4D7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BEC4-A35F-4FCE-896C-582E8F9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D4A-732D-458A-8779-FC5FE463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CC6A-ED06-441F-B0D3-0D3FA89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AB2E-7A19-4699-A905-A4EEEB2A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D43-83CC-4B26-BA61-8049B66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6368-FF2E-49A5-A598-74BF4FBD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DC7A-CF53-4B1C-B06A-92BE9BE2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93A8-D96D-49EA-A764-1F8748CC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3E87-1489-4636-BB7C-9CA094E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ED68-8021-4B51-859C-B13B41D6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B725-7095-4E7D-8FCF-A22EA68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FF1D-491F-49EB-918A-234C32C1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7AC-C92D-4F9A-B3C5-50801A8F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D7136-23B2-47A8-98B3-432569B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BE2A-1F4B-44C1-819F-EE3CFDB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C152-A650-4FF9-B4E5-C243B732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08A6-1009-4D8D-AAC8-2B52C7B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1A13-8CDB-4D1A-A40E-3E9FC9B3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611D-C600-4888-809E-BAD4F8F7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D484-F97E-4BBB-BD0C-E8ABC337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37AB-2CCA-41D4-B9AC-18E8BC4D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A371-176A-4579-89AF-31CB3827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D7E1-1F49-485A-9514-45F1298D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145-5DB7-4DA4-9AC7-F9B4EE0E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6654-1188-4214-ABCA-1C2A190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7BEF-DBE0-4693-8CA5-DEE7B016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FAD9F-1E65-40DE-A02B-8F715421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9B12-0415-4EE6-B099-AD3818A2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AC1A-2D44-42EB-843A-F3FC888E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75E4-7D1E-4A5B-8906-53C56C1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15B1-500B-4091-A4B1-53B31F5C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BFF8-3D11-408A-B997-172E41A0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B7E9-46E3-4580-B71D-0D582198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67F04-D797-4D72-A1CD-82DF2D49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261-71DB-4BEE-8C85-6962F55B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881E-B54F-41AB-9275-1E4D7E79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B938D-677F-4183-B27E-6A207B37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A04B-A8B1-437A-A52E-2F5A8420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199EE-4698-425A-B7C6-F4CF5064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33657-4663-481D-ADC6-A162174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E390C-7911-4C42-A0A4-A7E6AAF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3263-7C25-4EA7-8758-FFA2135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FE5BB-705A-4E15-88BC-E7B34C6F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7BD6-3BA7-47EC-817F-6540773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6BE35-F117-43CC-A155-CC84CA1A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59F-6FA4-4250-8F59-95E0EAA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07B60-6E24-4793-972E-A0CB8782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01F7-A625-4828-9F32-5C102C4D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8AA92-03D0-426E-815C-72B740C9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603D-8431-409B-88AC-EC34BEA4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011D-727C-4D44-A526-6CE63D3E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9629-DDB2-4CAE-A39E-AD97502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1F44-D474-430C-B6F1-E6A5FE47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0104-5D4B-4BE8-9FD6-281EA2D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0B40-5715-4A9E-A14E-A47FB96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96CC-041D-4BDF-B4C3-5CB5F472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A2A-72CE-4843-8135-3F80EB5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7B591-409A-44BB-8273-5F0F634F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08BE1-79AB-4E3C-8F62-6A0CF5D9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81AE-7552-47D0-8443-1342999F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B8FEB-3648-4C3D-AB81-928FA3B3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7059C-E192-47A1-B01D-C0F391C1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A634-6A1A-4257-98CC-1D20C22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26498-BDD3-4B4F-B47B-86BCDD5F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8FC7-ECDC-44A7-9802-4B2A34C4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D3CD-65B3-4CD5-9639-A23C9FDD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350C-2B42-4CA1-AE11-9C631D23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D44-9CB6-4A6D-A581-2A670F16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895DB-8B56-4CB9-BFAF-E6DBFA82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5B7F-FC3C-40F1-8C38-7A11B19B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DC41F-ACF3-43F8-A4D2-8A5FC1F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6C585-6BE8-4D62-A9AE-5BCA1DF3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42DF9-A3A1-4C76-98FC-5CD4C78C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1B78-5AFC-4CB5-A57C-C51AC1CC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FEB0-E0F9-4613-BAA1-7BD3CABA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04BD2-2920-416A-95B9-E96B8C89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7987E-E1BF-4723-B866-3EFFA4C0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576A2-9C7B-4025-9E72-A181FFC7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DF9-50D4-41F9-86B4-5ACBEAE1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4C97B-DD50-4407-A838-57F9FAF0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A8591-3A88-4F49-885A-9B10A3C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69B86-707E-4872-8462-C8ED8169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20311-9B1C-40AA-A6E8-C237601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0883-7153-46EB-A40E-22BBE8BD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E9DDC-F22F-4EB1-A1E9-258124D0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A3CE5-7222-4806-AF32-A12E3C35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A934-1866-484B-AE47-D6F37C92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45F15-5847-43B1-9E22-B26860A3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63EC4-3250-45C4-917E-4EDCA59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B70A-883E-4688-A1E9-59A695C2D63F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F66-2CC9-4C03-9CE1-54CBF3842F9E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450" name="矩形 9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20D1-1A44-438D-B0CE-E0585A43609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47" name="矩形 9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1DDB-EF4B-446E-81EB-ADC56EF1A0B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92" name="矩形 9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05C1-4552-44EA-8713-DA825ADE0E3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137" name="矩形 9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4511-C9F5-4198-97C0-B62F26F0933E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182" name="矩形 9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5B94-9AFC-494C-881C-CA0E39C611F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227" name="矩形 9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5FC5-F301-4238-A8FE-321B14BCC2B3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272" name="矩形 9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4EA2-DFF6-45B1-A3B0-E9C07F9DCA2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7900-BEFB-482D-B021-F16C92708032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矩形 8" descr=""/>
          <p:cNvPicPr/>
          <p:nvPr/>
        </p:nvPicPr>
        <p:blipFill>
          <a:blip r:embed="rId3"/>
          <a:stretch/>
        </p:blipFill>
        <p:spPr>
          <a:xfrm>
            <a:off x="1785960" y="9429840"/>
            <a:ext cx="5432400" cy="1755720"/>
          </a:xfrm>
          <a:prstGeom prst="rect">
            <a:avLst/>
          </a:prstGeom>
          <a:ln w="0">
            <a:noFill/>
          </a:ln>
        </p:spPr>
      </p:pic>
      <p:sp>
        <p:nvSpPr>
          <p:cNvPr id="361" name="矩形 9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BFE-7D6D-4E73-B6A8-D262AC7EE6BE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8"/>
          <p:cNvSpPr/>
          <p:nvPr/>
        </p:nvSpPr>
        <p:spPr>
          <a:xfrm>
            <a:off x="1711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8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6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"/>
          <p:cNvSpPr/>
          <p:nvPr/>
        </p:nvSpPr>
        <p:spPr>
          <a:xfrm>
            <a:off x="2906640" y="6588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色商务背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108000" y="6165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5d5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r>
              <a:rPr b="0" lang="zh-CN" sz="1000" spc="-1" strike="noStrike" u="sng">
                <a:solidFill>
                  <a:srgbClr val="00d5d5"/>
                </a:solidFill>
                <a:uFillTx/>
                <a:latin typeface="Franklin Gothic Book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d5d5"/>
                </a:solidFill>
                <a:uFillTx/>
                <a:latin typeface="Franklin Gothic Book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           </a:t>
            </a: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           </a:t>
            </a: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d5d5"/>
                </a:solidFill>
                <a:uFillTx/>
                <a:latin typeface="Franklin Gothic Book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9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7"/>
          <p:cNvSpPr/>
          <p:nvPr/>
        </p:nvSpPr>
        <p:spPr>
          <a:xfrm>
            <a:off x="414072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5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7"/>
          <p:cNvSpPr/>
          <p:nvPr/>
        </p:nvSpPr>
        <p:spPr>
          <a:xfrm>
            <a:off x="3786120" y="1000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7"/>
          <p:cNvSpPr/>
          <p:nvPr/>
        </p:nvSpPr>
        <p:spPr>
          <a:xfrm>
            <a:off x="4140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6"/>
          <p:cNvSpPr/>
          <p:nvPr/>
        </p:nvSpPr>
        <p:spPr>
          <a:xfrm>
            <a:off x="4069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7"/>
          <p:cNvSpPr/>
          <p:nvPr/>
        </p:nvSpPr>
        <p:spPr>
          <a:xfrm>
            <a:off x="200016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7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5"/>
          <p:cNvSpPr/>
          <p:nvPr/>
        </p:nvSpPr>
        <p:spPr>
          <a:xfrm>
            <a:off x="5997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578628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9"/>
          <p:cNvSpPr/>
          <p:nvPr/>
        </p:nvSpPr>
        <p:spPr>
          <a:xfrm>
            <a:off x="35690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5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7"/>
          <p:cNvSpPr/>
          <p:nvPr/>
        </p:nvSpPr>
        <p:spPr>
          <a:xfrm>
            <a:off x="228600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9"/>
          <p:cNvSpPr/>
          <p:nvPr/>
        </p:nvSpPr>
        <p:spPr>
          <a:xfrm>
            <a:off x="67125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2783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6"/>
          <p:cNvSpPr/>
          <p:nvPr/>
        </p:nvSpPr>
        <p:spPr>
          <a:xfrm>
            <a:off x="5783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7"/>
          <p:cNvSpPr/>
          <p:nvPr/>
        </p:nvSpPr>
        <p:spPr>
          <a:xfrm>
            <a:off x="142884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9"/>
          <p:cNvSpPr/>
          <p:nvPr/>
        </p:nvSpPr>
        <p:spPr>
          <a:xfrm>
            <a:off x="599796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7"/>
          <p:cNvSpPr/>
          <p:nvPr/>
        </p:nvSpPr>
        <p:spPr>
          <a:xfrm>
            <a:off x="199764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925560" y="632448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d5d5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9"/>
          <p:cNvSpPr/>
          <p:nvPr/>
        </p:nvSpPr>
        <p:spPr>
          <a:xfrm>
            <a:off x="5426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"/>
          <p:cNvSpPr/>
          <p:nvPr/>
        </p:nvSpPr>
        <p:spPr>
          <a:xfrm>
            <a:off x="2354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9"/>
          <p:cNvSpPr/>
          <p:nvPr/>
        </p:nvSpPr>
        <p:spPr>
          <a:xfrm>
            <a:off x="3640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6"/>
          <p:cNvSpPr/>
          <p:nvPr/>
        </p:nvSpPr>
        <p:spPr>
          <a:xfrm>
            <a:off x="514080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185724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7"/>
          <p:cNvSpPr/>
          <p:nvPr/>
        </p:nvSpPr>
        <p:spPr>
          <a:xfrm>
            <a:off x="6212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yu wang</cp:lastModifiedBy>
  <dcterms:modified xsi:type="dcterms:W3CDTF">2015-08-12T14:54:39Z</dcterms:modified>
  <cp:revision>33</cp:revision>
  <dc:subject/>
  <dc:title>www.pptbz.com</dc:title>
</cp:coreProperties>
</file>