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D2C-BC8A-4942-A2D9-41BBCF96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5B0-DA19-4B26-9BFA-AA9EF424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136AB-A0DA-4DCD-AE7D-30D98BAB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54C45-EF81-40BA-892D-95C42AB7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0CBCA-A3C9-44FC-86AB-6589608E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7EF89-C746-4FD1-B8C8-05C40BC1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D8706-2190-4490-958C-FCF0B0FE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463CB-2E3E-42FA-A930-A2F37A37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9C58C1-271B-4593-A9A8-5788F518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02F66-26FE-4E10-81B3-49BAE5DE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4EE7A-8328-495B-AAAB-74602599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8527B-5374-410F-85AD-2995FE77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E69D-FF50-4FEA-AB32-BE31A223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05451-31DE-4EC5-812D-05DECCE0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A3629-DC6E-4C11-9F3D-8AF71B61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16BE3-A38E-4655-9BC5-38BB0CA8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8D337-FFDA-47E2-8338-073685C0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68EF7-6176-4691-B13D-0BA0BBC6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D68F4-17C9-450D-95BF-6EBD26C1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21FB6-7643-4192-8CA6-676AFCC0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47BB8-FFE0-446E-A597-7C0118F6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FA9DE-98B7-4F88-8D60-15FD4562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889464-F3A6-484A-AE4D-FBEC4598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707-A859-463F-8D49-6AAD6E7A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BFA53-5DC2-495C-A82C-785FB3BE8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7620A-5F2E-42A1-BFEE-A47E991A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587EE-7F85-4AB0-9BA4-4FCC54DF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4ACA5-C2D4-41BC-8163-82E6D7FA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59B4D-73B1-4821-9FB4-093C52DB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8BD2E-5007-4CEC-97B0-C6770605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B22483-C400-4AF7-9CDE-AD78E1D8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64867-9394-40A6-ACCC-CEB695D5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5A995-F114-49D1-AA74-1CF27F9C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05787-2E97-4FD2-9E4C-7A292697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05F1-F332-4E1D-8446-C30AB590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62938-3EB7-43D8-A53A-15208EA2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2D574-3E9E-463C-B897-AEDF1825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30512-5172-40CD-AE2D-5E69A24C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F023F-571E-4080-83B5-39B1DA0D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E26F4-6430-47C0-88D0-0FAE45A9A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4BDBE-8058-45C7-8712-75ED8216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12B4F-0FB9-4860-B6E5-73B8241A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3C9F5-EEE3-4DF5-88E1-B03B50B4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18600-F8B2-4B39-934E-B991492E9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C4440C-72C9-435C-8B4C-CFA7CEC7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EA8E-7135-4FB6-B2F3-87D0C4B6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6D6A91-023B-4790-A90E-9F0C0C8B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5882D7-FE91-4B0E-AA42-1362B5F30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D7591B-45C2-4D4D-A0E8-88E59593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6F4672-8AFE-4C02-9574-93FB5AA9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B7084A-FCD3-434C-8795-278EE80B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F14D1-CED9-4F1F-B99A-EE310827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93DFD-8455-4B72-8241-09BDEFDC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19C8F-1FE2-47A0-A2F0-550F5732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AD270-4F17-40F5-9F8F-B011442D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607F7-5867-4B70-B91A-3BE5141E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BDDE-7C66-42F8-A720-28E6D80C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1EDE0E-7F24-4632-8DEF-46C64F72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CC2F87-9322-455E-A872-772656C0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E640A-8FDA-4EE0-9A63-A4E88FB2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34303-D45D-4E49-B809-BD082722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F8D206-946A-40E6-AB66-14522ECC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ECB28-9B6F-4253-BF6F-F898926C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BE781D-3EF4-436B-BB55-BC3E0F6B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56F7-A618-4796-A1E4-623930B4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7F737-5DB2-493D-AA7E-B1360A79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D933-9778-4D6E-9D03-98D0531A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CC6B-FE96-43F9-8726-C88ACE0C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2E7-B431-4E72-8CA7-DE9E2E13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EF73-C2C0-4C90-BFF7-DCEA86C3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C952-411C-4C2D-81A7-6E55E495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26DB-D1D6-435B-954D-B856BFBC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3512-5B14-4171-963C-2EFC1CFE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B211-47A4-42A0-A52C-AFA4E428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D04D8-F744-4687-A0C9-52C30931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4049-3CD4-449E-BEDC-BC491A8D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7E118-33B2-417A-B0E0-E3DA83D4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BB81-8A5C-4693-9781-EB827CA3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7643A-219B-41DB-AA8F-9678E633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202-D269-45C0-B931-4B518A20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DD579-1071-4027-AC71-E87D45E0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10F42-9998-4DEB-BA3C-6CA49910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314C2-2A5E-489C-9C54-E18160E0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6CCAA-D6B0-4415-848F-8A8C0CA8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DF946-C0F0-4424-AB0A-848FEF15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A00AC-86B0-47FA-BC29-7467564E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BCF5-CDF9-4C9E-B730-88F1D58A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1B2B4-1B49-4211-86F1-7C5A4EC2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DC63E-4E2A-49BF-A050-7EED70B8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CAC36-D5D3-493C-9F99-A871590B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CD7-260C-4616-B822-98239A48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A9C03-9BEE-4122-9CF4-A52514B8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B0737-5EE1-4438-B552-A8FF70DD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A7A5E-5E85-4648-BF5B-E6BAACB5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D4B0F-A739-4C31-8EDF-CBD22D2C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0C41C-A0FC-4AD2-AD1A-9C92605F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B0D4F-D349-4C3D-A749-0D80327C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76412-9BE3-4A51-A8F8-28251764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E0A8C-0FE8-4797-A52B-B60827A4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8A4BD-2252-49F0-B30E-0285E70D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3E6A5-766C-4118-8697-D2F1D1FB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BEC3-60A6-49DB-8EC4-BE21BB7A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CCE10-E67E-4437-A8C1-E6CCBCA2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9A31A-0F63-429C-8747-7DAFFF0F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A401F-2C07-4453-8FC7-74E6190F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8C130-5802-46B8-8F65-9906FA75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BFC94-8BC1-4575-9D55-8B97E3CA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15EDF-1097-439F-94C9-4EC6EDA4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16945-7878-4DBD-B1DA-831C5061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2E385-39A2-4452-9ABC-F8430145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5E616-5DF0-446A-A0E0-49DD0FE9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243AB-1080-4AE9-A080-D4573D20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BAE-E08A-4821-A745-5A2CD7A6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2F91C-C5C4-4CAC-8C2F-7C1256EC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50796-917C-44B6-9A5E-91C5A7A0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B9947-8C0D-4DF3-A79C-A638A5E5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B2B12-EB3F-463A-A347-748B7E7B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F475C-1235-4522-AD01-5E40B65B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129CB-2F75-449F-887E-AC14A1D1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34144-A14B-4867-97CD-5A4C35D5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54194-3943-45DB-B2FC-BCAC67A5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71C06-0887-446E-A4BF-10F9D815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80095-EAE1-4F27-B589-E4C6603E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C802-3F54-4BFB-93E8-E85BE910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17819-C636-452C-9D2A-D43BE4B23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443D3-A7A7-407E-B500-9506C988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1AE10-8A42-4B68-A9E4-D23054E4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E8B9F-BD1E-4CEA-97BA-5959FFD1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9F320-7B8B-475D-A64A-47828053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C3B97-1F2C-4DD0-B5AD-D6F3E7AE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92E56-5B8A-496D-8F33-E38AA147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BF73F-A8DC-440C-AEDB-611FC747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AA6C7-35B4-444D-BA98-DCCD93D2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204F6-A57C-4523-9BC3-C2F5479F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916-237E-405F-A8C6-D62AB03B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28758-23D9-4D8C-B9ED-FA832C02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C1FDC-4867-4DB7-A8B4-76753704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53B5F-807D-4C5E-98D4-A32ADE59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4B112-FF81-45BB-8BCE-9F6CC8162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D2CC0-45AE-4F1A-9569-6A7362B2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44A21-C52B-4BFC-8075-D24B2880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31776-82CB-4040-9A56-5B855B93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9A42C-C4DC-47EE-95F9-4722524C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4D8C6-27C4-4493-9BE5-CA426C85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5D2E3-B747-4ACA-810B-CB72775C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62B-9861-4FAE-BB5F-1FE15160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FB2F1-D2AF-4828-B423-3144E78A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5DB9E-4BB0-4ED6-A817-BF52F619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493A6-CFCF-4CA9-9916-EA84C85D3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29F17-0CFC-4F3D-BFC6-76980B1B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FA098-1C74-4AB3-9F7B-08E110CE2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5FA81-B5A1-41CB-B80C-52A591A7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FB437-B9FA-4B8A-89E5-1F713789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DA667-136B-4D9F-9F5E-81D51424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C7006-3256-4F8A-BE6C-DE114BD8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25123-11C1-4644-96E4-2889BCB4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D6F9-DC3E-424A-BA6F-3937E76C833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6D2D-A302-4007-86B4-388CDF4AF34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938C-B399-45F7-BD3A-853860241D8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9076-00BE-4229-8AC7-1213AFB43AF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9DAA-A066-4279-8EDD-DCD571C1973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28CC-DB1A-4E7A-8BD1-3DAA9864221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E26E-69FA-4B1B-B439-87C70661451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D016-9F58-4091-AE30-D9E0C77A7A9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183F-A08B-471F-9445-F397A715487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4187-1641-4EB7-A940-1B6D6A57A7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EEB4-82E4-4542-AABB-63FA810DADD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932F-D52C-407A-9796-72C85BF540C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B8CC-9B54-4AAE-8CFB-4B30CD2AF78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477C-D72F-491E-8410-4BB9574B9BB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231F-BF64-4B50-9A2B-D4A54F82EF29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9C40-50E2-4180-8855-EDDD6A9333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F68F-FAB3-4A9C-89D6-18E7CAC9743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0A6F-436D-41DF-90D6-3F03A78EE9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E335-EB6A-4FD4-B2FC-A290B20A3E5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B41F-3AD8-450A-8CEC-7218286EEAF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5E85-4BBE-4D78-87A8-05CB60E7632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2410-DFE0-4D4A-B8D9-92F8393789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A2EA-7F81-4ADF-82EF-2AFAB71771BE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CF3B7-30FA-4BD3-A8C8-80AA52D5F7A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61BE-D97A-402F-ACCA-E3AE153CC1D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4344-CB61-4F71-9B6E-BE37491431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모서리가 둥근 직사각형 6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7181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7"/>
          <p:cNvSpPr/>
          <p:nvPr/>
        </p:nvSpPr>
        <p:spPr>
          <a:xfrm>
            <a:off x="1686960" y="2320920"/>
            <a:ext cx="5770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a2292b"/>
                </a:solidFill>
                <a:latin typeface="-윤고딕330"/>
                <a:ea typeface="-윤고딕330"/>
              </a:rPr>
              <a:t>P</a:t>
            </a:r>
            <a:r>
              <a:rPr b="0" lang="en-US" sz="66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resent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262626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그림 10" descr=""/>
          <p:cNvPicPr/>
          <p:nvPr/>
        </p:nvPicPr>
        <p:blipFill>
          <a:blip r:embed="rId1"/>
          <a:stretch/>
        </p:blipFill>
        <p:spPr>
          <a:xfrm>
            <a:off x="3132000" y="1987560"/>
            <a:ext cx="1430640" cy="1428840"/>
          </a:xfrm>
          <a:prstGeom prst="rect">
            <a:avLst/>
          </a:prstGeom>
          <a:ln w="0">
            <a:noFill/>
          </a:ln>
        </p:spPr>
      </p:pic>
      <p:sp>
        <p:nvSpPr>
          <p:cNvPr id="537" name="직사각형 11"/>
          <p:cNvSpPr/>
          <p:nvPr/>
        </p:nvSpPr>
        <p:spPr>
          <a:xfrm>
            <a:off x="250920" y="5950080"/>
            <a:ext cx="8642160" cy="358560"/>
          </a:xfrm>
          <a:prstGeom prst="rect">
            <a:avLst/>
          </a:prstGeom>
          <a:solidFill>
            <a:srgbClr val="a2292b"/>
          </a:solidFill>
          <a:ln w="25560">
            <a:solidFill>
              <a:srgbClr val="a22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"/>
          <p:cNvSpPr/>
          <p:nvPr/>
        </p:nvSpPr>
        <p:spPr>
          <a:xfrm>
            <a:off x="2581920" y="2602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立体箭头简洁背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모서리가 둥근 직사각형 6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7181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262626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4"/>
          <p:cNvGrpSpPr/>
          <p:nvPr/>
        </p:nvGrpSpPr>
        <p:grpSpPr>
          <a:xfrm>
            <a:off x="3176280" y="2154240"/>
            <a:ext cx="2745000" cy="2530800"/>
            <a:chOff x="3176280" y="2154240"/>
            <a:chExt cx="2745000" cy="2530800"/>
          </a:xfrm>
        </p:grpSpPr>
        <p:sp>
          <p:nvSpPr>
            <p:cNvPr id="592" name="TextBox 7"/>
            <p:cNvSpPr/>
            <p:nvPr/>
          </p:nvSpPr>
          <p:spPr>
            <a:xfrm>
              <a:off x="3176280" y="2488320"/>
              <a:ext cx="269856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800" spc="-1" strike="noStrike">
                  <a:solidFill>
                    <a:srgbClr val="a2292b"/>
                  </a:solidFill>
                  <a:latin typeface="-윤고딕330"/>
                  <a:ea typeface="-윤고딕330"/>
                </a:rPr>
                <a:t>Q</a:t>
              </a:r>
              <a:r>
                <a:rPr b="0" lang="en-US" sz="6600" spc="-1" strike="noStrike">
                  <a:solidFill>
                    <a:srgbClr val="262626"/>
                  </a:solidFill>
                  <a:latin typeface="-윤고딕330"/>
                  <a:ea typeface="-윤고딕330"/>
                </a:rPr>
                <a:t>&amp;A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3" name="그림 10" descr=""/>
            <p:cNvPicPr/>
            <p:nvPr/>
          </p:nvPicPr>
          <p:blipFill>
            <a:blip r:embed="rId1"/>
            <a:stretch/>
          </p:blipFill>
          <p:spPr>
            <a:xfrm>
              <a:off x="4491720" y="2154240"/>
              <a:ext cx="1429560" cy="142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4" name="직사각형 8"/>
          <p:cNvSpPr/>
          <p:nvPr/>
        </p:nvSpPr>
        <p:spPr>
          <a:xfrm>
            <a:off x="250920" y="5950080"/>
            <a:ext cx="8642160" cy="358560"/>
          </a:xfrm>
          <a:prstGeom prst="rect">
            <a:avLst/>
          </a:prstGeom>
          <a:solidFill>
            <a:srgbClr val="a2292b"/>
          </a:solidFill>
          <a:ln w="25560">
            <a:solidFill>
              <a:srgbClr val="a22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모서리가 둥근 직사각형 6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7181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직사각형 9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262626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2181960" y="2154240"/>
            <a:ext cx="4781520" cy="2363760"/>
            <a:chOff x="2181960" y="2154240"/>
            <a:chExt cx="4781520" cy="2363760"/>
          </a:xfrm>
        </p:grpSpPr>
        <p:sp>
          <p:nvSpPr>
            <p:cNvPr id="598" name="TextBox 7"/>
            <p:cNvSpPr/>
            <p:nvPr/>
          </p:nvSpPr>
          <p:spPr>
            <a:xfrm>
              <a:off x="2181960" y="2321280"/>
              <a:ext cx="4781520" cy="21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800" spc="-1" strike="noStrike">
                  <a:solidFill>
                    <a:srgbClr val="a2292b"/>
                  </a:solidFill>
                  <a:latin typeface="-윤고딕330"/>
                  <a:ea typeface="-윤고딕330"/>
                </a:rPr>
                <a:t>T</a:t>
              </a:r>
              <a:r>
                <a:rPr b="0" lang="en-US" sz="6600" spc="-1" strike="noStrike">
                  <a:solidFill>
                    <a:srgbClr val="262626"/>
                  </a:solidFill>
                  <a:latin typeface="-윤고딕330"/>
                  <a:ea typeface="-윤고딕330"/>
                </a:rPr>
                <a:t>hank you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9" name="그림 10" descr=""/>
            <p:cNvPicPr/>
            <p:nvPr/>
          </p:nvPicPr>
          <p:blipFill>
            <a:blip r:embed="rId1"/>
            <a:stretch/>
          </p:blipFill>
          <p:spPr>
            <a:xfrm>
              <a:off x="3276360" y="2154240"/>
              <a:ext cx="1430280" cy="1430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0" name="직사각형 8"/>
          <p:cNvSpPr/>
          <p:nvPr/>
        </p:nvSpPr>
        <p:spPr>
          <a:xfrm>
            <a:off x="250920" y="5950080"/>
            <a:ext cx="8642160" cy="358560"/>
          </a:xfrm>
          <a:prstGeom prst="rect">
            <a:avLst/>
          </a:prstGeom>
          <a:solidFill>
            <a:srgbClr val="a2292b"/>
          </a:solidFill>
          <a:ln w="25560">
            <a:solidFill>
              <a:srgbClr val="a22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2"/>
          <p:cNvSpPr/>
          <p:nvPr/>
        </p:nvSpPr>
        <p:spPr>
          <a:xfrm>
            <a:off x="4643640" y="2975040"/>
            <a:ext cx="23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-윤고딕330"/>
              </a:rPr>
              <a:t>ppt</a:t>
            </a:r>
            <a:r>
              <a:rPr b="0" lang="zh-CN" sz="1200" spc="-1" strike="noStrike">
                <a:solidFill>
                  <a:srgbClr val="262626"/>
                </a:solidFill>
                <a:latin typeface="-윤고딕330"/>
              </a:rPr>
              <a:t>宝藏</a:t>
            </a:r>
            <a:r>
              <a:rPr b="0" lang="zh-CN" sz="1200" spc="-1" strike="noStrike">
                <a:solidFill>
                  <a:srgbClr val="262626"/>
                </a:solidFill>
                <a:latin typeface="-윤고딕330"/>
              </a:rPr>
              <a:t>_www.pptbz.com_</a:t>
            </a:r>
            <a:r>
              <a:rPr b="0" lang="zh-CN" sz="1200" spc="-1" strike="noStrike">
                <a:solidFill>
                  <a:srgbClr val="262626"/>
                </a:solidFill>
                <a:latin typeface="-윤고딕330"/>
              </a:rPr>
              <a:t>提供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Malgun Gothic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Malgun Gothic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Malgun Gothic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04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모서리가 둥근 직사각형 7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7181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직사각형 10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262626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4212360" y="3476520"/>
            <a:ext cx="31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1</a:t>
            </a:r>
            <a:r>
              <a:rPr b="0" lang="en-US" sz="4400" spc="-1" strike="noStrike">
                <a:solidFill>
                  <a:srgbClr val="a2292b"/>
                </a:solidFill>
                <a:latin typeface="-윤고딕330"/>
                <a:ea typeface="-윤고딕330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직선 연결선 9"/>
          <p:cNvSpPr/>
          <p:nvPr/>
        </p:nvSpPr>
        <p:spPr>
          <a:xfrm>
            <a:off x="5076720" y="4460760"/>
            <a:ext cx="38275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그림 15" descr=""/>
          <p:cNvPicPr/>
          <p:nvPr/>
        </p:nvPicPr>
        <p:blipFill>
          <a:blip r:embed="rId1"/>
          <a:stretch/>
        </p:blipFill>
        <p:spPr>
          <a:xfrm>
            <a:off x="4667400" y="2057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545" name="직사각형 17"/>
          <p:cNvSpPr/>
          <p:nvPr/>
        </p:nvSpPr>
        <p:spPr>
          <a:xfrm>
            <a:off x="250920" y="5950080"/>
            <a:ext cx="8642160" cy="358560"/>
          </a:xfrm>
          <a:prstGeom prst="rect">
            <a:avLst/>
          </a:prstGeom>
          <a:solidFill>
            <a:srgbClr val="a2292b"/>
          </a:solidFill>
          <a:ln w="25560">
            <a:solidFill>
              <a:srgbClr val="a22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모서리가 둥근 직사각형 7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7181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그림 5" descr=""/>
          <p:cNvPicPr/>
          <p:nvPr/>
        </p:nvPicPr>
        <p:blipFill>
          <a:blip r:embed="rId1"/>
          <a:stretch/>
        </p:blipFill>
        <p:spPr>
          <a:xfrm rot="20529000">
            <a:off x="-433080" y="-814320"/>
            <a:ext cx="1689120" cy="1689120"/>
          </a:xfrm>
          <a:prstGeom prst="rect">
            <a:avLst/>
          </a:prstGeom>
          <a:ln w="0">
            <a:noFill/>
          </a:ln>
        </p:spPr>
      </p:pic>
      <p:sp>
        <p:nvSpPr>
          <p:cNvPr id="548" name="TextBox 6"/>
          <p:cNvSpPr/>
          <p:nvPr/>
        </p:nvSpPr>
        <p:spPr>
          <a:xfrm>
            <a:off x="286560" y="63036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292b"/>
                </a:solidFill>
                <a:latin typeface="-윤고딕330"/>
                <a:ea typeface="-윤고딕330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직선 연결선 9"/>
          <p:cNvSpPr/>
          <p:nvPr/>
        </p:nvSpPr>
        <p:spPr>
          <a:xfrm>
            <a:off x="230040" y="1123920"/>
            <a:ext cx="86630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직사각형 10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262626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직사각형 11"/>
          <p:cNvSpPr/>
          <p:nvPr/>
        </p:nvSpPr>
        <p:spPr>
          <a:xfrm>
            <a:off x="250920" y="5950080"/>
            <a:ext cx="8642160" cy="358560"/>
          </a:xfrm>
          <a:prstGeom prst="rect">
            <a:avLst/>
          </a:prstGeom>
          <a:solidFill>
            <a:srgbClr val="a2292b"/>
          </a:solidFill>
          <a:ln w="25560">
            <a:solidFill>
              <a:srgbClr val="a22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모서리가 둥근 직사각형 7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7181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직사각형 10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262626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6"/>
          <p:cNvSpPr/>
          <p:nvPr/>
        </p:nvSpPr>
        <p:spPr>
          <a:xfrm>
            <a:off x="4212360" y="3476520"/>
            <a:ext cx="31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2</a:t>
            </a:r>
            <a:r>
              <a:rPr b="0" lang="en-US" sz="4400" spc="-1" strike="noStrike">
                <a:solidFill>
                  <a:srgbClr val="a2292b"/>
                </a:solidFill>
                <a:latin typeface="-윤고딕330"/>
                <a:ea typeface="-윤고딕330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직선 연결선 9"/>
          <p:cNvSpPr/>
          <p:nvPr/>
        </p:nvSpPr>
        <p:spPr>
          <a:xfrm>
            <a:off x="5076720" y="4460760"/>
            <a:ext cx="38275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그림 15" descr=""/>
          <p:cNvPicPr/>
          <p:nvPr/>
        </p:nvPicPr>
        <p:blipFill>
          <a:blip r:embed="rId1"/>
          <a:stretch/>
        </p:blipFill>
        <p:spPr>
          <a:xfrm>
            <a:off x="4667400" y="2057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557" name="직사각형 8"/>
          <p:cNvSpPr/>
          <p:nvPr/>
        </p:nvSpPr>
        <p:spPr>
          <a:xfrm>
            <a:off x="250920" y="5950080"/>
            <a:ext cx="8642160" cy="358560"/>
          </a:xfrm>
          <a:prstGeom prst="rect">
            <a:avLst/>
          </a:prstGeom>
          <a:solidFill>
            <a:srgbClr val="a2292b"/>
          </a:solidFill>
          <a:ln w="25560">
            <a:solidFill>
              <a:srgbClr val="a22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407880" y="56894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모서리가 둥근 직사각형 7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7181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그림 5" descr=""/>
          <p:cNvPicPr/>
          <p:nvPr/>
        </p:nvPicPr>
        <p:blipFill>
          <a:blip r:embed="rId1"/>
          <a:stretch/>
        </p:blipFill>
        <p:spPr>
          <a:xfrm rot="20529000">
            <a:off x="-433080" y="-814320"/>
            <a:ext cx="1689120" cy="1689120"/>
          </a:xfrm>
          <a:prstGeom prst="rect">
            <a:avLst/>
          </a:prstGeom>
          <a:ln w="0">
            <a:noFill/>
          </a:ln>
        </p:spPr>
      </p:pic>
      <p:sp>
        <p:nvSpPr>
          <p:cNvPr id="561" name="TextBox 6"/>
          <p:cNvSpPr/>
          <p:nvPr/>
        </p:nvSpPr>
        <p:spPr>
          <a:xfrm>
            <a:off x="286560" y="63036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292b"/>
                </a:solidFill>
                <a:latin typeface="-윤고딕330"/>
                <a:ea typeface="-윤고딕330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직사각형 10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262626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직선 연결선 8"/>
          <p:cNvSpPr/>
          <p:nvPr/>
        </p:nvSpPr>
        <p:spPr>
          <a:xfrm>
            <a:off x="230040" y="1123920"/>
            <a:ext cx="86630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직사각형 11"/>
          <p:cNvSpPr/>
          <p:nvPr/>
        </p:nvSpPr>
        <p:spPr>
          <a:xfrm>
            <a:off x="250920" y="5950080"/>
            <a:ext cx="8642160" cy="358560"/>
          </a:xfrm>
          <a:prstGeom prst="rect">
            <a:avLst/>
          </a:prstGeom>
          <a:solidFill>
            <a:srgbClr val="a2292b"/>
          </a:solidFill>
          <a:ln w="25560">
            <a:solidFill>
              <a:srgbClr val="a22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모서리가 둥근 직사각형 7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7181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직사각형 10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262626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4212360" y="3476520"/>
            <a:ext cx="31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3</a:t>
            </a:r>
            <a:r>
              <a:rPr b="0" lang="en-US" sz="4400" spc="-1" strike="noStrike">
                <a:solidFill>
                  <a:srgbClr val="a2292b"/>
                </a:solidFill>
                <a:latin typeface="-윤고딕330"/>
                <a:ea typeface="-윤고딕330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직선 연결선 9"/>
          <p:cNvSpPr/>
          <p:nvPr/>
        </p:nvSpPr>
        <p:spPr>
          <a:xfrm>
            <a:off x="5076720" y="4460760"/>
            <a:ext cx="38275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그림 15" descr=""/>
          <p:cNvPicPr/>
          <p:nvPr/>
        </p:nvPicPr>
        <p:blipFill>
          <a:blip r:embed="rId1"/>
          <a:stretch/>
        </p:blipFill>
        <p:spPr>
          <a:xfrm>
            <a:off x="4667400" y="2057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570" name="직사각형 8"/>
          <p:cNvSpPr/>
          <p:nvPr/>
        </p:nvSpPr>
        <p:spPr>
          <a:xfrm>
            <a:off x="250920" y="5950080"/>
            <a:ext cx="8642160" cy="358560"/>
          </a:xfrm>
          <a:prstGeom prst="rect">
            <a:avLst/>
          </a:prstGeom>
          <a:solidFill>
            <a:srgbClr val="a2292b"/>
          </a:solidFill>
          <a:ln w="25560">
            <a:solidFill>
              <a:srgbClr val="a22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모서리가 둥근 직사각형 7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7181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그림 5" descr=""/>
          <p:cNvPicPr/>
          <p:nvPr/>
        </p:nvPicPr>
        <p:blipFill>
          <a:blip r:embed="rId1"/>
          <a:stretch/>
        </p:blipFill>
        <p:spPr>
          <a:xfrm rot="20529000">
            <a:off x="-433080" y="-814320"/>
            <a:ext cx="1689120" cy="1689120"/>
          </a:xfrm>
          <a:prstGeom prst="rect">
            <a:avLst/>
          </a:prstGeom>
          <a:ln w="0">
            <a:noFill/>
          </a:ln>
        </p:spPr>
      </p:pic>
      <p:sp>
        <p:nvSpPr>
          <p:cNvPr id="573" name="TextBox 6"/>
          <p:cNvSpPr/>
          <p:nvPr/>
        </p:nvSpPr>
        <p:spPr>
          <a:xfrm>
            <a:off x="286560" y="63036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292b"/>
                </a:solidFill>
                <a:latin typeface="-윤고딕330"/>
                <a:ea typeface="-윤고딕330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직사각형 10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262626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직선 연결선 8"/>
          <p:cNvSpPr/>
          <p:nvPr/>
        </p:nvSpPr>
        <p:spPr>
          <a:xfrm>
            <a:off x="230040" y="1123920"/>
            <a:ext cx="86630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직사각형 11"/>
          <p:cNvSpPr/>
          <p:nvPr/>
        </p:nvSpPr>
        <p:spPr>
          <a:xfrm>
            <a:off x="250920" y="5950080"/>
            <a:ext cx="8642160" cy="358560"/>
          </a:xfrm>
          <a:prstGeom prst="rect">
            <a:avLst/>
          </a:prstGeom>
          <a:solidFill>
            <a:srgbClr val="a2292b"/>
          </a:solidFill>
          <a:ln w="25560">
            <a:solidFill>
              <a:srgbClr val="a22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모서리가 둥근 직사각형 7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7181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직사각형 10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262626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6"/>
          <p:cNvSpPr/>
          <p:nvPr/>
        </p:nvSpPr>
        <p:spPr>
          <a:xfrm>
            <a:off x="4212360" y="3476520"/>
            <a:ext cx="31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-윤고딕330"/>
                <a:ea typeface="-윤고딕330"/>
              </a:rPr>
              <a:t>4</a:t>
            </a:r>
            <a:r>
              <a:rPr b="0" lang="en-US" sz="4400" spc="-1" strike="noStrike">
                <a:solidFill>
                  <a:srgbClr val="a2292b"/>
                </a:solidFill>
                <a:latin typeface="-윤고딕330"/>
                <a:ea typeface="-윤고딕330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직선 연결선 9"/>
          <p:cNvSpPr/>
          <p:nvPr/>
        </p:nvSpPr>
        <p:spPr>
          <a:xfrm>
            <a:off x="5076720" y="4460760"/>
            <a:ext cx="38275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그림 15" descr=""/>
          <p:cNvPicPr/>
          <p:nvPr/>
        </p:nvPicPr>
        <p:blipFill>
          <a:blip r:embed="rId1"/>
          <a:stretch/>
        </p:blipFill>
        <p:spPr>
          <a:xfrm>
            <a:off x="4667400" y="20574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582" name="직사각형 8"/>
          <p:cNvSpPr/>
          <p:nvPr/>
        </p:nvSpPr>
        <p:spPr>
          <a:xfrm>
            <a:off x="250920" y="5950080"/>
            <a:ext cx="8642160" cy="358560"/>
          </a:xfrm>
          <a:prstGeom prst="rect">
            <a:avLst/>
          </a:prstGeom>
          <a:solidFill>
            <a:srgbClr val="a2292b"/>
          </a:solidFill>
          <a:ln w="25560">
            <a:solidFill>
              <a:srgbClr val="a22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모서리가 둥근 직사각형 7"/>
          <p:cNvSpPr/>
          <p:nvPr/>
        </p:nvSpPr>
        <p:spPr>
          <a:xfrm>
            <a:off x="250920" y="260280"/>
            <a:ext cx="8642160" cy="6337440"/>
          </a:xfrm>
          <a:prstGeom prst="roundRect">
            <a:avLst>
              <a:gd name="adj" fmla="val 7181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그림 5" descr=""/>
          <p:cNvPicPr/>
          <p:nvPr/>
        </p:nvPicPr>
        <p:blipFill>
          <a:blip r:embed="rId1"/>
          <a:stretch/>
        </p:blipFill>
        <p:spPr>
          <a:xfrm rot="20529000">
            <a:off x="-433080" y="-814320"/>
            <a:ext cx="1689120" cy="1689120"/>
          </a:xfrm>
          <a:prstGeom prst="rect">
            <a:avLst/>
          </a:prstGeom>
          <a:ln w="0">
            <a:noFill/>
          </a:ln>
        </p:spPr>
      </p:pic>
      <p:sp>
        <p:nvSpPr>
          <p:cNvPr id="585" name="TextBox 6"/>
          <p:cNvSpPr/>
          <p:nvPr/>
        </p:nvSpPr>
        <p:spPr>
          <a:xfrm>
            <a:off x="286560" y="63036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292b"/>
                </a:solidFill>
                <a:latin typeface="-윤고딕330"/>
                <a:ea typeface="-윤고딕330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10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262626"/>
          </a:solidFill>
          <a:ln w="255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선 연결선 8"/>
          <p:cNvSpPr/>
          <p:nvPr/>
        </p:nvSpPr>
        <p:spPr>
          <a:xfrm>
            <a:off x="230040" y="1123920"/>
            <a:ext cx="866304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직사각형 11"/>
          <p:cNvSpPr/>
          <p:nvPr/>
        </p:nvSpPr>
        <p:spPr>
          <a:xfrm>
            <a:off x="250920" y="5950080"/>
            <a:ext cx="8642160" cy="358560"/>
          </a:xfrm>
          <a:prstGeom prst="rect">
            <a:avLst/>
          </a:prstGeom>
          <a:solidFill>
            <a:srgbClr val="a2292b"/>
          </a:solidFill>
          <a:ln w="25560">
            <a:solidFill>
              <a:srgbClr val="a229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8:19:00Z</dcterms:created>
  <dc:creator>ppt宝藏</dc:creator>
  <dc:description/>
  <dc:language>en-US</dc:language>
  <cp:lastModifiedBy>yu wang</cp:lastModifiedBy>
  <cp:lastPrinted>1899-12-30T00:00:00Z</cp:lastPrinted>
  <dcterms:modified xsi:type="dcterms:W3CDTF">2015-08-12T14:53:38Z</dcterms:modified>
  <cp:revision>9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