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CF00E9-40E0-459A-A338-31CAC2167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BA0F24-5481-4E5F-9953-22620F52C3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019E1F-F2EB-4E81-8A86-108D105845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9DC2E3-9C38-447B-8E5A-9059FC6552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3BF94F-D232-4D6D-AA0A-D7C52F49A8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0D6-F052-4BCA-A3AA-7BF1C27E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CC8-2E90-489B-BD6A-88290462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9178-B58A-407B-8E4C-58233E76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9741-CABA-48D0-B554-B1DA84A2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7370-AD6B-4906-B1FC-C57DFCBD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CF93-C7EA-4F18-94B8-D09EC9CC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2F4A-5732-48A3-BA5A-5AED6634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99F1-4077-4072-B5B9-27B23BF4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81EC-2EFF-44B9-811E-7EB2E38B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180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0D0B-9378-4EF5-BA02-2C49E2E8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31CF-886D-46BC-9457-BF8F2E40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A2FB-22F6-4918-9BB5-E3CCC2A3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1A0F-C68D-47B1-A298-58D236BD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201B-0AC0-4741-A345-8E39B2F0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38DD-2E9B-4198-842F-890C732A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A351-B3E2-44EB-909B-89FF3BEF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2B9B-86DC-4458-B072-28E0D7C1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35421-F78E-40E8-929A-0AA4F2F6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84406-2C37-4970-922B-4A50A5E7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FB4BA-3479-4671-88A7-0B827F8D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B08A9-F281-4CAD-A8A4-EE6AA463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1374B-3CE4-4202-869F-8722ABB3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E35D-613E-47D4-942C-EAFEFBC2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180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7E669-196F-4AF8-ABD9-AE9CE379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D68CB-E72A-4304-95B0-73962589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79E75-4333-4A02-B2DC-8CD5A555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4E3B6-D413-4E6B-BD7B-47A6718A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5CE00-BAA3-45FD-BCEA-C6885B2E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C3C82-BCD8-4029-8733-F91F2798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F7592-25E5-40AD-AB2C-7494AB47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A4FD-6B60-43E5-A9EB-CC4BAFBA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F915-34B5-4A4D-B703-3AB2863D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180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D018-D041-4F2E-8F55-B89194D9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9C4-A5A3-47DB-B738-6D71182D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551B-79DF-4040-B002-84A733F3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3F3-FE65-423A-B27D-64889463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5640" cy="143964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85098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" name="Picture 10" descr=""/>
          <p:cNvPicPr/>
          <p:nvPr/>
        </p:nvPicPr>
        <p:blipFill>
          <a:blip r:embed="rId2"/>
          <a:srcRect l="6614" t="4486" r="3878" b="0"/>
          <a:stretch/>
        </p:blipFill>
        <p:spPr>
          <a:xfrm>
            <a:off x="7224840" y="0"/>
            <a:ext cx="1918800" cy="1439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" descr=""/>
          <p:cNvPicPr/>
          <p:nvPr/>
        </p:nvPicPr>
        <p:blipFill>
          <a:blip r:embed="rId3"/>
          <a:srcRect l="6613" t="4488" r="3879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4"/>
          <p:cNvSpPr/>
          <p:nvPr/>
        </p:nvSpPr>
        <p:spPr>
          <a:xfrm>
            <a:off x="574560" y="0"/>
            <a:ext cx="8569080" cy="136800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6000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6360" y="55800"/>
            <a:ext cx="7772040" cy="722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83fb27"/>
                </a:solidFill>
                <a:latin typeface="Arial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91CDA6-999E-4934-870C-75BA6BCBD65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0"/>
            <a:ext cx="7235640" cy="143964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85098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2"/>
          <a:srcRect l="6614" t="4486" r="3878" b="0"/>
          <a:stretch/>
        </p:blipFill>
        <p:spPr>
          <a:xfrm>
            <a:off x="7224840" y="0"/>
            <a:ext cx="1918800" cy="1439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83fb27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D5FA0E-391F-408C-8971-387B78FD037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0"/>
            <a:ext cx="7235640" cy="143964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85098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2"/>
          <a:srcRect l="6614" t="4486" r="3878" b="0"/>
          <a:stretch/>
        </p:blipFill>
        <p:spPr>
          <a:xfrm>
            <a:off x="7224840" y="0"/>
            <a:ext cx="1918800" cy="143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83fb27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20CFB4-7A11-4708-8687-B8679B59796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82560" y="777960"/>
            <a:ext cx="6400440" cy="479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GB" sz="2800" spc="-1" strike="noStrike">
                <a:solidFill>
                  <a:srgbClr val="83fb27"/>
                </a:solidFill>
                <a:latin typeface="Arial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2463840" y="7452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立体空间线条创意简洁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83fb27"/>
                </a:solidFill>
                <a:latin typeface="Arial"/>
              </a:rPr>
              <a:t>Example Bullet Poin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440" y="1663560"/>
            <a:ext cx="8229240" cy="4368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83fb27"/>
                </a:solidFill>
                <a:latin typeface="Arial"/>
              </a:rPr>
              <a:t>Sample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Content Placeholder 3"/>
          <p:cNvGraphicFramePr/>
          <p:nvPr/>
        </p:nvGraphicFramePr>
        <p:xfrm>
          <a:off x="901800" y="1790640"/>
          <a:ext cx="7340400" cy="3944520"/>
        </p:xfrm>
        <a:graphic>
          <a:graphicData uri="http://schemas.openxmlformats.org/presentationml/2006/ole">
            <p:oleObj progId="Excel.Chart.8" r:id="rId1" spid="">
              <p:embed/>
              <p:pic>
                <p:nvPicPr>
                  <p:cNvPr id="145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1790640"/>
                    <a:ext cx="7340400" cy="39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83fb27"/>
                </a:solidFill>
                <a:latin typeface="Arial"/>
              </a:rPr>
              <a:t>Colour sch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571920" y="2863800"/>
            <a:ext cx="826560" cy="6109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648320" y="2863800"/>
            <a:ext cx="826560" cy="610920"/>
          </a:xfrm>
          <a:prstGeom prst="rect">
            <a:avLst/>
          </a:prstGeom>
          <a:solidFill>
            <a:schemeClr val="bg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19280" y="4478400"/>
            <a:ext cx="826560" cy="61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587760" y="4478400"/>
            <a:ext cx="826560" cy="6109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56240" y="4478400"/>
            <a:ext cx="826560" cy="6109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5726160" y="4478400"/>
            <a:ext cx="826560" cy="61092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5708520" y="2863800"/>
            <a:ext cx="826560" cy="610920"/>
          </a:xfrm>
          <a:prstGeom prst="rect">
            <a:avLst/>
          </a:prstGeom>
          <a:solidFill>
            <a:schemeClr val="tx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2503440" y="2863800"/>
            <a:ext cx="826560" cy="61092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2285280" y="2224080"/>
            <a:ext cx="1264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3614400" y="2101680"/>
            <a:ext cx="746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553280" y="2224080"/>
            <a:ext cx="1016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5843160" y="2101680"/>
            <a:ext cx="55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662200" y="3838680"/>
            <a:ext cx="542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3609000" y="3838680"/>
            <a:ext cx="802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4543560" y="3716280"/>
            <a:ext cx="102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5624640" y="3714840"/>
            <a:ext cx="102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43640" y="658908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b6de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b6de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83fb27"/>
                </a:solidFill>
                <a:latin typeface="Arial"/>
              </a:rPr>
              <a:t>Pictur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69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IMG_9271"/>
          <p:cNvPicPr/>
          <p:nvPr/>
        </p:nvPicPr>
        <p:blipFill>
          <a:blip r:embed="rId1"/>
          <a:stretch/>
        </p:blipFill>
        <p:spPr>
          <a:xfrm>
            <a:off x="5256360" y="2205000"/>
            <a:ext cx="3096720" cy="3852360"/>
          </a:xfrm>
          <a:prstGeom prst="rect">
            <a:avLst/>
          </a:prstGeom>
          <a:ln w="5715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539640" y="1268280"/>
            <a:ext cx="8208720" cy="53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83fb27"/>
                </a:solidFill>
                <a:latin typeface="Arial"/>
              </a:rPr>
              <a:t>Use of templ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50920" y="1711440"/>
            <a:ext cx="69498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are free to use these templates for your personal and business presen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150920" y="3139920"/>
            <a:ext cx="3409560" cy="24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 these templates for your presen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you like these templates, we would always appreciate a link back to our website.  Many than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4495680" y="3139920"/>
            <a:ext cx="3639600" cy="20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Don’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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ell or distribute these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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t these templates on a website for download.  This includes uploading them onto file sharing networks like Slideshare, Myspace, Facebook, bit torrent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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ss off any of our created content as your own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042920" y="5423040"/>
            <a:ext cx="716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can find many more free PowerPoint templates on the Presentation Magazine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150920" y="2608200"/>
            <a:ext cx="692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 have put a lot of work into developing all these templates and retain the copyright in them.  You can use them freely providing that you do not redistribute or sell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83fb27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1" lang="en-US" sz="1050" spc="-1" strike="noStrike" u="sng">
                <a:solidFill>
                  <a:srgbClr val="0b6def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b6de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b6de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en-US" sz="900" spc="-1" strike="noStrike" u="sng">
                <a:solidFill>
                  <a:srgbClr val="0b6de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b6def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b6def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Custom 257">
      <a:dk1>
        <a:srgbClr val="000000"/>
      </a:dk1>
      <a:lt1>
        <a:srgbClr val="ffffff"/>
      </a:lt1>
      <a:dk2>
        <a:srgbClr val="000000"/>
      </a:dk2>
      <a:lt2>
        <a:srgbClr val="ffffff"/>
      </a:lt2>
      <a:accent1>
        <a:srgbClr val="000000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Custom 257">
      <a:dk1>
        <a:srgbClr val="000000"/>
      </a:dk1>
      <a:lt1>
        <a:srgbClr val="ffffff"/>
      </a:lt1>
      <a:dk2>
        <a:srgbClr val="000000"/>
      </a:dk2>
      <a:lt2>
        <a:srgbClr val="ffffff"/>
      </a:lt2>
      <a:accent1>
        <a:srgbClr val="000000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Custom 257">
      <a:dk1>
        <a:srgbClr val="000000"/>
      </a:dk1>
      <a:lt1>
        <a:srgbClr val="ffffff"/>
      </a:lt1>
      <a:dk2>
        <a:srgbClr val="000000"/>
      </a:dk2>
      <a:lt2>
        <a:srgbClr val="ffffff"/>
      </a:lt2>
      <a:accent1>
        <a:srgbClr val="000000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ffffff"/>
      </a:lt2>
      <a:accent1>
        <a:srgbClr val="000000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  <Words>362</Words>
  <Paragraphs>6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yu wang</cp:lastModifiedBy>
  <dcterms:modified xsi:type="dcterms:W3CDTF">2015-08-12T14:53:35Z</dcterms:modified>
  <cp:revision>13</cp:revision>
  <dc:subject/>
  <dc:title>Firework Swirls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全屏显示(4:3)</vt:lpwstr>
  </property>
  <property fmtid="{D5CDD505-2E9C-101B-9397-08002B2CF9AE}" pid="4" name="Slides">
    <vt:r8>7</vt:r8>
  </property>
</Properties>
</file>