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5DC4-EB92-4D52-B054-A4B7F0D86785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46F5-1906-4854-8119-0520AD536C08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3887640" y="869004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14B5B54-598E-48EC-BEB9-B3751059F218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10DE-864F-497C-802D-571825B72D83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99520" y="41076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99520" y="41076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219240" y="6365880"/>
            <a:ext cx="1342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fld id="{09912B6B-68C0-49CC-80B6-9935FF2FECC0}" type="slidenum"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4400" y="1309320"/>
            <a:ext cx="7118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ffffff"/>
                </a:solidFill>
                <a:latin typeface="华文细黑"/>
                <a:ea typeface="华文细黑"/>
              </a:rPr>
              <a:t>蓝天与白云简洁</a:t>
            </a:r>
            <a:r>
              <a:rPr b="1" sz="4000" spc="-1" strike="noStrike">
                <a:solidFill>
                  <a:srgbClr val="ffffff"/>
                </a:solidFill>
                <a:latin typeface="华文细黑"/>
                <a:ea typeface="华文细黑"/>
              </a:rPr>
              <a:t>PPT</a:t>
            </a:r>
            <a:r>
              <a:rPr b="1" sz="4000" spc="-1" strike="noStrike">
                <a:solidFill>
                  <a:srgbClr val="ffffff"/>
                </a:solidFill>
                <a:latin typeface="华文细黑"/>
                <a:ea typeface="华文细黑"/>
              </a:rPr>
              <a:t>模板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74400" y="2472840"/>
            <a:ext cx="714204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0000"/>
                </a:solidFill>
                <a:latin typeface="Arial"/>
              </a:rPr>
              <a:t>Sample Slide </a:t>
            </a:r>
            <a:r>
              <a:rPr b="1" sz="2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sz="2600" spc="-1" strike="noStrike">
                <a:solidFill>
                  <a:srgbClr val="000000"/>
                </a:solidFill>
                <a:latin typeface="Arial"/>
              </a:rPr>
              <a:t> Bullet Poi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The text demonstrates how your own text will look when 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you replace the placeholder with your own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This is a placeholder text. This text can be replaced with 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your own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If you don’t want to use the style and size of the fonts as used in this placeholder it is possible to replace it by selecting different op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or replacing the placeholder text you need to click on 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the placeholder text and insert y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The text that you insert will retain the same style 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and format as the placeholde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c40505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c40505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40505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c40505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40505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c40505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40505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c40505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40505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c40505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40505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c40505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40505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c40505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40505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c40505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40505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c40505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40505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3:54:21Z</dcterms:created>
  <dc:creator/>
  <dc:description>PresentationLoad.com</dc:description>
  <dc:language>en-US</dc:language>
  <cp:lastModifiedBy>yu wang</cp:lastModifiedBy>
  <dcterms:modified xsi:type="dcterms:W3CDTF">2015-08-12T14:55:29Z</dcterms:modified>
  <cp:revision>71</cp:revision>
  <dc:subject/>
  <dc:title>PowerPoint Template</dc:title>
</cp:coreProperties>
</file>