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777-1BD4-4593-B279-911511F4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16B-735A-4213-953D-5167D9EB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4A4-0566-4B0F-9C7D-45715885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7EA-EE32-4ABC-B147-03A6D77F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048-F62A-4DC7-A010-16ED84D3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2C5-D1D3-4E3F-8567-98599BBC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778-270C-4BBF-9F2E-A3D9DC5C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47D-4979-4496-A47C-A797621F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A2C-B933-4D5C-9198-52C34964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59D-8B5B-4470-B4E4-98EB4190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280-E001-4E27-AB63-324F7AB7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97C-9495-42AB-A224-D136DCF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04E5-2F4B-4975-8923-37DC8FA8FC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rbel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2034720" y="830160"/>
            <a:ext cx="47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旅游印象简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8"/>
          <p:cNvPicPr/>
          <p:nvPr/>
        </p:nvPicPr>
        <p:blipFill>
          <a:blip r:embed="rId2"/>
          <a:stretch/>
        </p:blipFill>
        <p:spPr>
          <a:xfrm>
            <a:off x="36360" y="593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7808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0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10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10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3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10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5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7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11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3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6220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949"/>
                </a:solidFill>
                <a:latin typeface="Candara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949"/>
                </a:solidFill>
                <a:latin typeface="Candara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6462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4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www.pptbz.com</dc:creator>
  <dc:description/>
  <dc:language>en-US</dc:language>
  <cp:lastModifiedBy>yu wang</cp:lastModifiedBy>
  <dcterms:modified xsi:type="dcterms:W3CDTF">2015-08-12T14:52:12Z</dcterms:modified>
  <cp:revision>5</cp:revision>
  <dc:subject/>
  <dc:title>印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