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A54-F26C-44D3-BE99-F2D5D1A3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0B6-7BDB-4015-A8E7-17DF6160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25A-BFC8-462E-84D4-3EC5C76D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192-5D2E-4214-8532-D5EFEE42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D86-9E79-4A53-B289-88273F42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09E-3F6D-46C4-9874-30E619A8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CC1-04DE-4D3A-B822-30720428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6F0-9F06-428A-87F7-3EB4F4A8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242-F32A-4266-BE65-19BE68A1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88B-BF2C-47E0-A1E3-B13DDF07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DF4-DB1D-4E14-8012-DF881CC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8C0-E587-473F-B8F6-2923291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D18-0EFB-4272-99DD-77C289D6E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1120000">
            <a:off x="686880" y="21297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“路”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480000">
            <a:off x="1371240" y="388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在路上 刘欢赢在中国主题曲.mp3" descr="在路上 刘欢赢在中国主题曲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324080" y="1006560"/>
            <a:ext cx="74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旅游专业论文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1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7be0e"/>
                                      </p:to>
                                    </p:animClr>
                                    <p:animClr clrSpc="rgb"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7be0e"/>
                                      </p:to>
                                    </p:animClr>
                                    <p:set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34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终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人生终结了，路到了尽头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720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8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人生路注定有很多坎坷，我们只能坚强地面对，希望我们可以无怨无悔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389 0.658611 C 0.029734 0.658981 0.024491 0.660833 0.021458 0.660833 C 0.018426 0.660833 0.015949 0.659352 0.013194 0.658611 C 0.01044 0.65787 0.007685 0.657114 0.004931 0.656389 C 0.002176 0.655663 -0.000579 0.654985 -0.003333 0.654259 C -0.006088 0.653534 -0.008843 0.653148 -0.011597 0.652037 C -0.014352 0.650926 -0.017107 0.648704 -0.019861 0.647593 C -0.022616 0.646481 -0.02537 0.646096 -0.028125 0.64537 C -0.03088 0.644645 -0.033634 0.643966 -0.036389 0.643241 C -0.039144 0.642515 -0.041898 0.641759 -0.044653 0.641019 C -0.047407 0.640278 -0.050162 0.639537 -0.052917 0.638796 C -0.055671 0.638056 -0.05816 0.63767 -0.061181 0.636574 C -0.064201 0.635478 -0.068021 0.633688 -0.071042 0.632222 C -0.074062 0.630756 -0.076551 0.629614 -0.079306 0.627778 C -0.08206 0.625941 -0.084537 0.62304 -0.087569 0.621204 C -0.090602 0.619367 -0.094745 0.619336 -0.0975 0.616759 C -0.100255 0.614182 -0.101898 0.609414 -0.104097 0.605741 C -0.106296 0.602068 -0.109595 0.59875 -0.110694 0.594722 C -0.111794 0.590694 -0.110972 0.585602 -0.110694 0.581574 C -0.110417 0.577546 -0.110127 0.574228 -0.109028 0.570556 C -0.107928 0.566883 -0.106296 0.562114 -0.104097 0.559537 C -0.101898 0.55696 -0.098866 0.556559 -0.095833 0.555093 C -0.092801 0.553627 -0.088935 0.551836 -0.085903 0.550741 C -0.08287 0.549645 -0.080394 0.548889 -0.077639 0.548519 C -0.074884 0.548148 -0.072118 0.548889 -0.069375 0.548519 C -0.066632 0.548148 -0.063924 0.547407 -0.061181 0.546296 C -0.058438 0.545185 -0.055671 0.542947 -0.052917 0.541852 C -0.050162 0.540756 -0.047407 0.541188 -0.044653 0.539722 C -0.041898 0.538256 -0.038322 0.536003 -0.036389 0.533056 C -0.034456 0.530108 -0.032789 0.52571 -0.033056 0.522037 C -0.033322 0.518364 -0.035787 0.513951 -0.037986 0.511019 C -0.040185 0.508086 -0.043218 0.507006 -0.04625 0.504444 C -0.049282 0.501883 -0.053148 0.497855 -0.056181 0.495648 C -0.059213 0.493441 -0.06169 0.492299 -0.064444 0.491204 C -0.067199 0.490108 -0.069676 0.489799 -0.072708 0.489074 C -0.075741 0.488349 -0.079607 0.487963 -0.082639 0.486852 C -0.085671 0.485741 -0.087882 0.484244 -0.090903 0.482407 C -0.093924 0.480571 -0.097743 0.47804 -0.100764 0.475833 C -0.103785 0.473627 -0.106273 0.471003 -0.109028 0.469167 C -0.111782 0.46733 -0.114537 0.467006 -0.117292 0.464815 C -0.120046 0.462623 -0.122801 0.458225 -0.125556 0.456019 C -0.12831 0.453812 -0.131065 0.453781 -0.133819 0.451574 C -0.136574 0.449367 -0.139329 0.44571 -0.142083 0.442778 C -0.144838 0.439846 -0.148148 0.437284 -0.150347 0.433981 C -0.152546 0.430679 -0.154178 0.426636 -0.155278 0.422963 C -0.156377 0.41929 -0.156389 0.415617 -0.156944 0.411944 C -0.1575 0.408272 -0.158611 0.404599 -0.158611 0.400926 C -0.158611 0.397253 -0.158322 0.39358 -0.156944 0.389907 C -0.155567 0.386235 -0.153102 0.381821 -0.150347 0.378889 C -0.147593 0.375957 -0.143449 0.374151 -0.140417 0.372315 C -0.137384 0.370478 -0.135174 0.368981 -0.132153 0.36787 C -0.129132 0.366759 -0.12559 0.366373 -0.122292 0.365648 C -0.118993 0.364923 -0.115394 0.364614 -0.112361 0.363519 C -0.109329 0.362423 -0.106852 0.360555 -0.104097 0.359074 C -0.101343 0.357593 -0.098588 0.356096 -0.095833 0.35463 C -0.093079 0.353164 -0.090324 0.352114 -0.087569 0.350278 C -0.084815 0.348441 -0.081782 0.346543 -0.079306 0.343611 C -0.076829 0.340679 -0.073808 0.336343 -0.072708 0.332685 C -0.071609 0.329028 -0.072708 0.325339 -0.072708 0.321667 C -0.072708 0.317994 -0.072153 0.314691 -0.072708 0.310648 C -0.073264 0.306605 -0.074387 0.301451 -0.076042 0.297407 C -0.077697 0.293364 -0.080718 0.290062 -0.082639 0.286389 C -0.08456 0.282716 -0.08537 0.279043 -0.087569 0.27537 C -0.089769 0.271697 -0.093079 0.267654 -0.095833 0.264352 C -0.098588 0.261049 -0.101343 0.257762 -0.104097 0.255556 C -0.106852 0.253349 -0.109607 0.252207 -0.112361 0.251111 C -0.115116 0.250015 -0.11787 0.250077 -0.120625 0.248981 C -0.12338 0.247886 -0.126134 0.245648 -0.128889 0.244537 C -0.131644 0.243426 -0.13412 0.24341 -0.137153 0.242315 C -0.140185 0.241219 -0.144063 0.239799 -0.147083 0.237963 C -0.150104 0.236127 -0.152535 0.233503 -0.155278 0.231296 C -0.158021 0.229089 -0.161053 0.227654 -0.163542 0.224722 C -0.16603 0.22179 -0.168275 0.217377 -0.170208 0.213704 C -0.172141 0.210031 -0.174039 0.206358 -0.175139 0.202685 C -0.176238 0.199012 -0.175984 0.195339 -0.176806 0.191667 C -0.177627 0.187994 -0.179525 0.184321 -0.180069 0.180648 C -0.180613 0.176975 -0.180336 0.173302 -0.180069 0.16963 C -0.179803 0.165957 -0.179294 0.162284 -0.178472 0.158611 C -0.17765 0.154938 -0.177072 0.151265 -0.175139 0.147593 C -0.173206 0.14392 -0.16963 0.139136 -0.166875 0.136574 C -0.16412 0.134012 -0.161644 0.133318 -0.158611 0.132222 C -0.155579 0.131127 -0.151713 0.131111 -0.148681 0.13 C -0.145648 0.128889 -0.143171 0.126296 -0.140417 0.125556 C -0.137662 0.124815 -0.134907 0.12591 -0.132153 0.125556 C -0.129398 0.125201 -0.126632 0.123781 -0.123889 0.123426 C -0.121146 0.123071 -0.118715 0.123796 -0.115694 0.123426 C -0.112674 0.123056 -0.108796 0.121944 -0.105764 0.121204 C -0.102732 0.120463 -0.099977 0.121559 -0.0975 0.118981 C -0.095023 0.116404 -0.091181 0.110139 -0.090903 0.105741 C -0.090625 0.101343 -0.09419 0.09662 -0.095833 0.092593 C -0.097477 0.088565 -0.098565 0.085247 -0.100764 0.081574 C -0.102963 0.077901 -0.106273 0.073503 -0.109028 0.070556 C -0.111782 0.067608 -0.114537 0.066466 -0.117292 0.063889 C -0.120046 0.061312 -0.122801 0.057654 -0.125556 0.055093 C -0.12831 0.052531 -0.132164 0.051451 -0.133819 0.048519 C -0.135475 0.045586 -0.135208 0.041173 -0.135486 0.0375 C -0.135764 0.033827 -0.135764 0.030154 -0.135486 0.026481 C -0.135208 0.022809 -0.135197 0.019136 -0.133819 0.015463 C -0.132442 0.01179 -0.129421 0.008117 -0.127222 0.004444 C -0.125023 0.000772 -0.123102 -0.004367 -0.120625 -0.006574 C -0.118148 -0.008781 -0.115116 -0.007701 -0.112361 -0.008796 C -0.109607 -0.009892 -0.107674 -0.012052 -0.104097 -0.013148 C -0.100521 -0.014244 -0.094479 -0.015 -0.090903 -0.01537 C -0.087326 -0.015741 -0.085394 -0.01537 -0.082639 -0.01537 C -0.079884 -0.01537 -0.07713 -0.01537 -0.074375 -0.01537 C -0.07162 -0.01537 -0.068866 -0.01537 -0.066111 -0.01537 C -0.063357 -0.01537 -0.060602 -0.01537 -0.057847 -0.01537 C -0.055093 -0.01537 -0.052338 -0.01537 -0.049583 -0.01537 C -0.046829 -0.01537 -0.044074 -0.015741 -0.041319 -0.01537 C -0.038565 -0.015 -0.03581 -0.014244 -0.033056 -0.013148 C -0.030301 -0.012052 -0.027546 -0.009522 -0.024792 -0.008796 C -0.022037 -0.008071 -0.019282 -0.009537 -0.016528 -0.008796 C -0.013773 -0.008056 -0.011019 -0.005818 -0.008264 -0.004352 C -0.005509 -0.002886 -0.001377 -0.000725 0 0 E">
                                      <p:cBhvr>
                                        <p:cTn id="29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30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animClr clrSpc="rgb">
                                      <p:cBhvr>
                                        <p:cTn id="306" dur="10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set>
                                      <p:cBhvr>
                                        <p:cTn id="307" dur="1000" autoRev="1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8200"/>
                            </p:stCondLst>
                            <p:childTnLst>
                              <p:par>
                                <p:cTn id="309" nodeType="afterEffect" fill="hold" presetClass="pat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1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起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从出生开始，我们的人生路就要开始起航了，我们要从路的这一头走到那一头去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晨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们蓄势待发准备着时刻出发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00000" y="620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animClr clrSpc="rgb">
                                      <p:cBhvr>
                                        <p:cTn id="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set>
                                      <p:cBhvr>
                                        <p:cTn id="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起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们终于可以出发了，心情是否十分激动呢？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66"/>
                                </p:to>
                              </p:animCl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01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7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逐渐的，我们有了目标，向着我们的目标出发！！！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133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134" dur="2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彼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达到目标后，我们到达了彼岸，看到了最美的风景。。。。。。。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animClr clrSpc="rgb">
                                      <p:cBhvr>
                                        <p:cTn id="151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4faf7"/>
                                      </p:to>
                                    </p:animClr>
                                    <p:set>
                                      <p:cBhvr>
                                        <p:cTn id="152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animClr clrSpc="rgb">
                                      <p:cBhvr>
                                        <p:cTn id="1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c69"/>
                                      </p:to>
                                    </p:animClr>
                                    <p:set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孤独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可是，就算是这样，我们还是会有孤独一个人的时候，请你要坚强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8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360" y="2133720"/>
            <a:ext cx="3961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孤独过后，让我们沿着路继续走吧。。。。无论遇到什么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3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04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5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5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归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们沿着归途回到另一个终点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animClr clrSpc="rgb">
                                      <p:cBhvr>
                                        <p:cTn id="2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db4bf"/>
                                      </p:to>
                                    </p:animClr>
                                    <p:set>
                                      <p:cBhvr>
                                        <p:cTn id="2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4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20:45:04Z</dcterms:created>
  <dc:creator>wo</dc:creator>
  <dc:description/>
  <cp:keywords/>
  <dc:language>en-US</dc:language>
  <cp:lastModifiedBy>yu wang</cp:lastModifiedBy>
  <cp:lastPrinted>1899-12-30T00:00:00Z</cp:lastPrinted>
  <dcterms:modified xsi:type="dcterms:W3CDTF">2015-08-14T12:51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