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E75-51FB-4441-96E2-3A1D1462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C20-9536-489B-8D03-8E8FC519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A5E-D6EC-4D85-96F7-61A05BF6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694-20E4-4F92-B0D2-7435EB76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549-ECB0-4736-B63C-4979246A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728-94E7-49F5-9E4A-332229BB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7A1-2C27-4330-AFCF-1285796A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FCC-DDFB-42F0-AFD6-250BA38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D9F-C599-49C1-AF9B-BBC6D7E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BE2-1CA2-497F-AF82-A6EEF97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E95-BD94-4CB1-9013-78C4A3B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BC0-88F9-420F-876F-772279A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0FDC-71D6-4AAE-B8E8-732948B646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826920" y="1341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Calibri"/>
              </a:rPr>
              <a:t>梅花新年中国风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extBox 1" descr=""/>
          <p:cNvPicPr/>
          <p:nvPr/>
        </p:nvPicPr>
        <p:blipFill>
          <a:blip r:embed="rId1"/>
          <a:stretch/>
        </p:blipFill>
        <p:spPr>
          <a:xfrm>
            <a:off x="1116000" y="2779560"/>
            <a:ext cx="7485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2:30Z</dcterms:modified>
  <cp:revision>7</cp:revision>
  <dc:subject/>
  <dc:title>PowerPoint 演示文稿</dc:title>
</cp:coreProperties>
</file>