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1BE-CDAC-4D81-8487-A3A6C066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450-F252-49A4-AEC3-C46775A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4180-C008-4C3E-949D-CA7A424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C4FC0-2592-4CC1-B1A4-649327F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2EB3C-F6A4-4791-B5FD-4794F463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49190-FFFE-4A5A-B798-AF28FE6F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194FE-E427-4584-9C9F-1E8DCF9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A8A22-CA5D-416A-B5EA-0FDA1A8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DA217-B09E-4FD6-9316-2C3C233C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A4AE5-A3A1-442A-A675-035EB2AA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0E4E8-5655-47B5-8FD1-48A1A104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F6BAB-605F-47F0-BC80-CDD6E92F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CBF-319E-4CC6-B326-15188371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23BBA-4FB4-464B-B411-60091390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99D45-D6B2-430F-BFD6-AB3DCFAC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F2798-8CF9-4146-9985-5917272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5BDE9-9100-4732-A542-C2B61E1A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F0646-F0C3-497D-8754-3A00A856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A418F-408B-4D91-8851-4950B10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46CB3-C51A-4CD1-8DA9-EB7ED63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D3988-0CDD-4B42-9DBD-F7B3E8A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32DA3-4A4E-4326-AE61-58A02390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52E57-FE6E-49B7-9B5F-15C68B0A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008-0D0B-44FF-BF9E-246D2371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815A7-2519-4958-B3E7-B34E57FA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7BA1-03D8-4EA2-979A-84BBF0F1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CC79D-53D4-4C5E-9A90-C9E9E45F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20BDB-B80B-4F2F-8C30-1FC9A0F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3C665-A2D6-4F5D-B733-43A3BCA1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07E39-9AF3-4D52-BEBF-EA1004ED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A600A-1992-4992-8DA2-D5A0C7D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896DB-D5AA-42B2-89E5-70800912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8578D-746C-460F-9C69-C55DC9D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13FFD-746D-48E3-BC6F-2E11A41C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6B5C-FCF9-46B4-9671-97A9FD6B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B720C-74D0-4A65-9E6F-C8108E2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54E55-E29A-4314-9FDD-0679FAE9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7001D-6B6F-4FC1-9EE3-4717A196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CB4B6-39C8-4F10-B9C9-CBB5DE31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647F-AB89-43CB-9E55-46AE03F7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12BC7-877D-4CD9-A7EE-D99D8FDF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5A289-D567-4317-845E-E236E83A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64AA0-D427-49E2-B601-DFBD33D0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57273-6570-46BF-84CF-94A159D3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D447E-FC2B-425A-A444-A5FFD6E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4A35-8C4A-463D-AEF9-E598F77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F5F73-6154-4BAE-AB10-3638DC5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DE340-F736-47A3-84A4-4696403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41290-678B-49F8-865C-49BD7A7E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F0426-E06A-4E6D-B1BF-12139CC6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966E0-DD72-4347-A852-9AAE3866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842E-2D15-4412-9682-0DBAFDF0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C8F4-2F5E-4A90-9F7C-1704FAF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C5F-B4E2-42A4-9ECE-913BE6CF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E719-FBBA-44B0-848D-5AF6A119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75B-7F2C-40A7-BED6-0B5D6BB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AAE-30BD-45FC-8630-5AE537CD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4DC-4C41-4F66-A473-9686DA9C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7B1-2D0B-4CE3-B1B7-18137ED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D6E0-65B8-4623-8D82-232F2F05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BA60-27BC-4385-BD98-CA76CB72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FA7-2C67-412F-8F17-54821FB9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518B-612B-456E-AD81-760709CD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F84F-9522-4E16-9B39-A9A51F9A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524F-542D-4608-9E28-3F36AEDC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EF7B-8920-4C69-A113-4334A76B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E21E-1AB5-4C29-A83C-537DEF20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CB4-A016-40A9-92E9-F814A16C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9F22-5BD2-435F-A1F5-722DC511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EA02-3B7F-433D-B3E1-FEE3A85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D5F8-AB80-4EB0-818B-5D4A0705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B346-9E1E-4FF0-B7A2-B88C8F4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599F-C88A-43D8-B5EE-D68A901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8C21-D34C-4FA9-A35A-E4206CCC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EDCD-17E9-4040-A8D3-63465C08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4B81-3C69-47BE-8F4D-7A0702B1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EAFE-8B07-40F3-9472-8BEEF973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2504-E424-418C-9406-C4F0761F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810-19F2-44BF-AB4F-312F128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D006-6CB1-43D1-9198-D8F6B5B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E892-3C68-4398-8E6C-B71EA92A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777A-DA79-43FC-9096-19B23BE0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F0C9-69F0-4CA4-B119-CF51C36C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A764-CCDD-4B15-9ADD-0CEFF86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238D-2855-4D08-A6EC-CF895EF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E1CE-DDAB-4222-B24D-8B0FD8C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59F5-6F0F-4E19-AEFE-A65B4749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C423-7BB2-4FFD-9E32-3B941994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44A50-4302-4BC7-A68F-5CF7D5B2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A48-F0B8-45C7-B050-A6F329A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4700-45EE-462F-97ED-825C2AFF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0B20-B142-4B62-BA26-017543EF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1CBF-8B46-4866-8D4A-FB24B316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D3E9B-FA57-4B84-BA93-11ECAB22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3FE5-BBFF-43BC-A50E-ACACF45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31DB-A895-4CC3-9B57-DAE6558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17EEE-A279-43E5-B199-38CA048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9E5D-E072-41D3-8C07-D89AA38C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86CB-F6A0-42EC-B433-0B450864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31E4-5C71-4544-8084-61EC04F7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995-D960-42CB-9C08-C4B560E7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71C9-631C-4CE9-88B5-750F7C17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79524-3662-4550-8077-0E1A606B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CAA9-E14A-4B03-B264-61F705D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D20A-BF33-4E6B-A176-4A8A23ED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D7436-A921-4081-81FF-270EC6B5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767C-FE6D-4F02-974D-526F1CAA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7DDC-7847-4D86-8B1D-08DBB457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98C0B-3F6A-4635-B331-634D3CEA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0FED-A66F-4D55-978D-93A493C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BA62-828B-4083-8CA9-C5DB35D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B95-7BDE-4F99-AEC9-66C6E97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2750-7299-4981-8266-708C431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7464-692D-4489-A944-EFF3F150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A5B9-1E25-4272-ACF2-8C160DCE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A55E-E495-4417-9228-EC5E79DA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F8F2-86AD-44F9-80BD-17CA6310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0C2F-D25E-4DA6-8677-BC2BAE09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56143-609F-4968-8463-2C554235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5611-453D-4FA7-AABF-D51A876F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6E29-B83D-4EC7-98EC-9048C488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1E1C-3BE5-41E3-A328-38251F5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F7A-33BE-42D4-925D-CE9CB26A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ED6C4-74CC-450C-BC7D-5BB3DFB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DF2E6-4759-4C42-A0E0-A3249748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32F0E-12B1-4E20-9FF2-3E34B4CD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5602A-7196-42F2-8763-712AED30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BF044-7210-43C5-97B2-D4ED2B4C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E82FB-64BF-418F-9294-B7BEE672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AF283-0A91-44C5-8D97-5B484535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EBD8-D5F3-46B5-B79E-48CF885E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043C6-01C8-4AEF-942E-F932AD36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AB21-D911-4C3A-B0B4-60B17A0E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256-59A6-47A2-82D9-5299D3E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E834-DFEB-4858-B45F-5FF0AFC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E4FD-9009-4ED3-86F6-B00B49A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D97B2-86C5-4E06-AF97-E2A898C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77ABD-D452-4769-B018-274250BF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423C2-7616-4D34-8F51-DD91337B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1E3B-C561-477A-8693-B9DC3F49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B4FF0-14DE-4198-A431-43B3D502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57FAF-E54C-4E36-866B-6AE63A49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DF4EE-AF02-4C8D-9DC8-2A738C0B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0DFFC-0EDE-4F43-BD06-E0C62D9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A53-514F-4BD2-ABE8-EC9A568E55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A0E1-25B7-46B8-93B6-656D460C5D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557F-CD43-4C13-9E9C-6E0C74ADF0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96A-A65C-488C-A881-162B11068C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2F0-5CAF-40DA-A6A4-AAA6F74796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AE70-7CF3-4BA6-8136-E043139F27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F8AE-E80D-4EA7-ADE4-99CB05AF9EF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205C-62BA-415A-96D4-E51A1BB924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47AE-29E2-46EA-8F83-C40613626D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5D2-7C68-428D-96F6-1FB2DD1D70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7A7D-5319-4352-A6D9-C12E24CB905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CF80-7267-455E-91F1-58D129BEA7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59DA-7081-40F4-BCE6-30F8D4135A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48A-2B4D-4A7F-90C3-7506630967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2DA6-80E9-47CE-94E1-E319203B7A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62CA-4D3B-4CF4-B424-8F6E0D973F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41CF-4009-4669-8435-753D102593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D5EA-0F51-495B-856E-025D31B3FB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7CF5-975D-4355-8973-84DECF7368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2F8-0A4C-4521-9D91-18F012C001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356B-1921-4402-BC95-B5D1CEA5B6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77FF-B78D-4C68-A65A-1D52A30C12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1ECA-0DA5-451B-9CA1-E2F9C9BAB8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AEF8-C6EA-4803-8316-0419240B20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rcRect l="0" t="2748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2920" y="157176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美女商务</a:t>
            </a:r>
            <a:r>
              <a:rPr b="1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矩形 12"/>
          <p:cNvSpPr/>
          <p:nvPr/>
        </p:nvSpPr>
        <p:spPr>
          <a:xfrm>
            <a:off x="33804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目 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Group 6"/>
          <p:cNvGrpSpPr/>
          <p:nvPr/>
        </p:nvGrpSpPr>
        <p:grpSpPr>
          <a:xfrm>
            <a:off x="2340000" y="1346040"/>
            <a:ext cx="4929120" cy="787680"/>
            <a:chOff x="2340000" y="1346040"/>
            <a:chExt cx="4929120" cy="787680"/>
          </a:xfrm>
        </p:grpSpPr>
        <p:sp>
          <p:nvSpPr>
            <p:cNvPr id="501" name="圆角矩形 3"/>
            <p:cNvSpPr/>
            <p:nvPr/>
          </p:nvSpPr>
          <p:spPr>
            <a:xfrm>
              <a:off x="2340000" y="1489680"/>
              <a:ext cx="4929120" cy="504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标题 1"/>
            <p:cNvSpPr/>
            <p:nvPr/>
          </p:nvSpPr>
          <p:spPr>
            <a:xfrm>
              <a:off x="3220200" y="1346040"/>
              <a:ext cx="31687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研究</a:t>
              </a:r>
              <a:r>
                <a:rPr b="0" lang="en-US" sz="1800" spc="-1" strike="noStrike">
                  <a:solidFill>
                    <a:srgbClr val="ffff00"/>
                  </a:solidFill>
                  <a:latin typeface="微软雅黑"/>
                </a:rPr>
                <a:t>PPT</a:t>
              </a: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模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9"/>
          <p:cNvGrpSpPr/>
          <p:nvPr/>
        </p:nvGrpSpPr>
        <p:grpSpPr>
          <a:xfrm>
            <a:off x="2340000" y="2162160"/>
            <a:ext cx="4929120" cy="787320"/>
            <a:chOff x="2340000" y="2162160"/>
            <a:chExt cx="4929120" cy="787320"/>
          </a:xfrm>
        </p:grpSpPr>
        <p:sp>
          <p:nvSpPr>
            <p:cNvPr id="504" name="圆角矩形 15"/>
            <p:cNvSpPr/>
            <p:nvPr/>
          </p:nvSpPr>
          <p:spPr>
            <a:xfrm>
              <a:off x="2340000" y="230580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标题 1"/>
            <p:cNvSpPr/>
            <p:nvPr/>
          </p:nvSpPr>
          <p:spPr>
            <a:xfrm>
              <a:off x="3220200" y="216216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不变的风格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2"/>
          <p:cNvGrpSpPr/>
          <p:nvPr/>
        </p:nvGrpSpPr>
        <p:grpSpPr>
          <a:xfrm>
            <a:off x="2340000" y="2978280"/>
            <a:ext cx="4929120" cy="787320"/>
            <a:chOff x="2340000" y="2978280"/>
            <a:chExt cx="4929120" cy="787320"/>
          </a:xfrm>
        </p:grpSpPr>
        <p:sp>
          <p:nvSpPr>
            <p:cNvPr id="507" name="圆角矩形 18"/>
            <p:cNvSpPr/>
            <p:nvPr/>
          </p:nvSpPr>
          <p:spPr>
            <a:xfrm>
              <a:off x="2340000" y="312192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标题 1"/>
            <p:cNvSpPr/>
            <p:nvPr/>
          </p:nvSpPr>
          <p:spPr>
            <a:xfrm>
              <a:off x="3220200" y="297828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求变求创新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5"/>
          <p:cNvGrpSpPr/>
          <p:nvPr/>
        </p:nvGrpSpPr>
        <p:grpSpPr>
          <a:xfrm>
            <a:off x="2359080" y="3794040"/>
            <a:ext cx="4929120" cy="787320"/>
            <a:chOff x="2359080" y="3794040"/>
            <a:chExt cx="4929120" cy="787320"/>
          </a:xfrm>
        </p:grpSpPr>
        <p:sp>
          <p:nvSpPr>
            <p:cNvPr id="510" name="圆角矩形 21"/>
            <p:cNvSpPr/>
            <p:nvPr/>
          </p:nvSpPr>
          <p:spPr>
            <a:xfrm>
              <a:off x="2359080" y="393768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标题 1"/>
            <p:cNvSpPr/>
            <p:nvPr/>
          </p:nvSpPr>
          <p:spPr>
            <a:xfrm>
              <a:off x="3239280" y="379404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一天怎么这么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25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圆角矩形 3"/>
          <p:cNvSpPr/>
          <p:nvPr/>
        </p:nvSpPr>
        <p:spPr>
          <a:xfrm>
            <a:off x="324000" y="912960"/>
            <a:ext cx="8496000" cy="4608360"/>
          </a:xfrm>
          <a:prstGeom prst="roundRect">
            <a:avLst>
              <a:gd name="adj" fmla="val 2394"/>
            </a:avLst>
          </a:prstGeom>
          <a:solidFill>
            <a:srgbClr val="ffffff">
              <a:alpha val="25000"/>
            </a:srgbClr>
          </a:solidFill>
          <a:ln w="93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4" descr=""/>
          <p:cNvPicPr/>
          <p:nvPr/>
        </p:nvPicPr>
        <p:blipFill>
          <a:blip r:embed="rId4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5" descr=""/>
          <p:cNvPicPr/>
          <p:nvPr/>
        </p:nvPicPr>
        <p:blipFill>
          <a:blip r:embed="rId5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4"/>
          <p:cNvSpPr/>
          <p:nvPr/>
        </p:nvSpPr>
        <p:spPr>
          <a:xfrm>
            <a:off x="1104840" y="1488960"/>
            <a:ext cx="69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</a:rPr>
              <a:t>书到用时方恨少，年少有空的时间多积累些东西，待到用时信手拈来，即为快哉，图表这东西很多的了，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</a:rPr>
              <a:t>做了没用究竟有没有意义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7"/>
          <p:cNvSpPr/>
          <p:nvPr/>
        </p:nvSpPr>
        <p:spPr>
          <a:xfrm>
            <a:off x="4822920" y="25304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68"/>
          <p:cNvSpPr/>
          <p:nvPr/>
        </p:nvSpPr>
        <p:spPr>
          <a:xfrm>
            <a:off x="6665760" y="4481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69"/>
          <p:cNvSpPr/>
          <p:nvPr/>
        </p:nvSpPr>
        <p:spPr>
          <a:xfrm>
            <a:off x="7093080" y="324180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70"/>
          <p:cNvSpPr/>
          <p:nvPr/>
        </p:nvSpPr>
        <p:spPr>
          <a:xfrm>
            <a:off x="3386160" y="45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71"/>
          <p:cNvSpPr/>
          <p:nvPr/>
        </p:nvSpPr>
        <p:spPr>
          <a:xfrm>
            <a:off x="3475080" y="3429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14"/>
          <p:cNvGrpSpPr/>
          <p:nvPr/>
        </p:nvGrpSpPr>
        <p:grpSpPr>
          <a:xfrm>
            <a:off x="4765680" y="2473200"/>
            <a:ext cx="1933560" cy="1933560"/>
            <a:chOff x="4765680" y="2473200"/>
            <a:chExt cx="1933560" cy="1933560"/>
          </a:xfrm>
        </p:grpSpPr>
        <p:sp>
          <p:nvSpPr>
            <p:cNvPr id="530" name="Oval 14"/>
            <p:cNvSpPr/>
            <p:nvPr/>
          </p:nvSpPr>
          <p:spPr>
            <a:xfrm>
              <a:off x="4765680" y="2473200"/>
              <a:ext cx="1933560" cy="19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16"/>
            <p:cNvGrpSpPr/>
            <p:nvPr/>
          </p:nvGrpSpPr>
          <p:grpSpPr>
            <a:xfrm>
              <a:off x="4889520" y="2512800"/>
              <a:ext cx="1680120" cy="560160"/>
              <a:chOff x="4889520" y="2512800"/>
              <a:chExt cx="1680120" cy="560160"/>
            </a:xfrm>
          </p:grpSpPr>
          <p:sp>
            <p:nvSpPr>
              <p:cNvPr id="532" name="Oval 17"/>
              <p:cNvSpPr/>
              <p:nvPr/>
            </p:nvSpPr>
            <p:spPr>
              <a:xfrm>
                <a:off x="4889520" y="2512800"/>
                <a:ext cx="1680120" cy="56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Text Box 18"/>
            <p:cNvSpPr/>
            <p:nvPr/>
          </p:nvSpPr>
          <p:spPr>
            <a:xfrm>
              <a:off x="4958640" y="2927160"/>
              <a:ext cx="168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是否有点无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19"/>
          <p:cNvSpPr/>
          <p:nvPr/>
        </p:nvSpPr>
        <p:spPr>
          <a:xfrm>
            <a:off x="5940360" y="4562640"/>
            <a:ext cx="78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Inspi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4745160" y="4632480"/>
            <a:ext cx="66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Prem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027320" y="3666960"/>
            <a:ext cx="52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ub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4070520" y="2473200"/>
            <a:ext cx="55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ty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6842160" y="3699000"/>
            <a:ext cx="5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Vis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 rot="1390800">
            <a:off x="5749920" y="1809720"/>
            <a:ext cx="118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amp;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5"/>
          <p:cNvSpPr/>
          <p:nvPr/>
        </p:nvSpPr>
        <p:spPr>
          <a:xfrm>
            <a:off x="6927840" y="262080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Ef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6"/>
          <p:cNvSpPr/>
          <p:nvPr/>
        </p:nvSpPr>
        <p:spPr>
          <a:xfrm>
            <a:off x="4784760" y="1733400"/>
            <a:ext cx="70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Univer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8"/>
          <p:cNvSpPr/>
          <p:nvPr/>
        </p:nvSpPr>
        <p:spPr>
          <a:xfrm>
            <a:off x="611280" y="1241280"/>
            <a:ext cx="1888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</a:rPr>
              <a:t>主要原因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2f2f2"/>
                </a:solidFill>
                <a:latin typeface="微软雅黑"/>
              </a:rPr>
              <a:t>反正闲着也是闲着，让无聊进行到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000"/>
                </a:solidFill>
                <a:latin typeface="微软雅黑"/>
              </a:rPr>
              <a:t>主要原因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2f2f2"/>
                </a:solidFill>
                <a:latin typeface="微软雅黑"/>
              </a:rPr>
              <a:t>身在异地见不到女朋友，连女朋友生气了也没法哄，想发泄下</a:t>
            </a:r>
            <a:r>
              <a:rPr b="0" lang="en-US" sz="1200" spc="-1" strike="noStrike">
                <a:solidFill>
                  <a:srgbClr val="f2f2f2"/>
                </a:solidFill>
                <a:latin typeface="微软雅黑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3"/>
          <p:cNvSpPr/>
          <p:nvPr/>
        </p:nvSpPr>
        <p:spPr>
          <a:xfrm>
            <a:off x="2843280" y="1417680"/>
            <a:ext cx="1440" cy="224928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书签有木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6"/>
          <p:cNvGrpSpPr/>
          <p:nvPr/>
        </p:nvGrpSpPr>
        <p:grpSpPr>
          <a:xfrm>
            <a:off x="811800" y="2226600"/>
            <a:ext cx="1227960" cy="1287000"/>
            <a:chOff x="811800" y="2226600"/>
            <a:chExt cx="1227960" cy="1287000"/>
          </a:xfrm>
        </p:grpSpPr>
        <p:grpSp>
          <p:nvGrpSpPr>
            <p:cNvPr id="549" name="Group 7"/>
            <p:cNvGrpSpPr/>
            <p:nvPr/>
          </p:nvGrpSpPr>
          <p:grpSpPr>
            <a:xfrm>
              <a:off x="811800" y="2226600"/>
              <a:ext cx="1227960" cy="1287000"/>
              <a:chOff x="811800" y="2226600"/>
              <a:chExt cx="1227960" cy="1287000"/>
            </a:xfrm>
          </p:grpSpPr>
          <p:sp>
            <p:nvSpPr>
              <p:cNvPr id="550" name="矩形 3"/>
              <p:cNvSpPr/>
              <p:nvPr/>
            </p:nvSpPr>
            <p:spPr>
              <a:xfrm rot="19432800">
                <a:off x="1043280" y="2352240"/>
                <a:ext cx="764640" cy="1035360"/>
              </a:xfrm>
              <a:prstGeom prst="rect">
                <a:avLst/>
              </a:prstGeom>
              <a:solidFill>
                <a:srgbClr val="598e88">
                  <a:alpha val="70000"/>
                </a:srgbClr>
              </a:solidFill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矩形 4"/>
              <p:cNvSpPr/>
              <p:nvPr/>
            </p:nvSpPr>
            <p:spPr>
              <a:xfrm rot="19432800">
                <a:off x="905400" y="2602800"/>
                <a:ext cx="90000" cy="2250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Box 5"/>
              <p:cNvSpPr/>
              <p:nvPr/>
            </p:nvSpPr>
            <p:spPr>
              <a:xfrm rot="19432800">
                <a:off x="909000" y="2642760"/>
                <a:ext cx="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Box 8"/>
            <p:cNvSpPr/>
            <p:nvPr/>
          </p:nvSpPr>
          <p:spPr>
            <a:xfrm rot="19508400">
              <a:off x="1136160" y="2666880"/>
              <a:ext cx="69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12"/>
          <p:cNvGrpSpPr/>
          <p:nvPr/>
        </p:nvGrpSpPr>
        <p:grpSpPr>
          <a:xfrm>
            <a:off x="2005560" y="2201040"/>
            <a:ext cx="1285200" cy="1371240"/>
            <a:chOff x="2005560" y="2201040"/>
            <a:chExt cx="1285200" cy="1371240"/>
          </a:xfrm>
        </p:grpSpPr>
        <p:sp>
          <p:nvSpPr>
            <p:cNvPr id="555" name="矩形 13"/>
            <p:cNvSpPr/>
            <p:nvPr/>
          </p:nvSpPr>
          <p:spPr>
            <a:xfrm rot="20086800">
              <a:off x="2278800" y="2347200"/>
              <a:ext cx="815400" cy="110376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0"/>
            <p:cNvSpPr/>
            <p:nvPr/>
          </p:nvSpPr>
          <p:spPr>
            <a:xfrm rot="20086800">
              <a:off x="2201760" y="2322000"/>
              <a:ext cx="815400" cy="110376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14"/>
            <p:cNvSpPr/>
            <p:nvPr/>
          </p:nvSpPr>
          <p:spPr>
            <a:xfrm rot="20163000">
              <a:off x="2315520" y="270936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16"/>
          <p:cNvGrpSpPr/>
          <p:nvPr/>
        </p:nvGrpSpPr>
        <p:grpSpPr>
          <a:xfrm>
            <a:off x="3375360" y="2280240"/>
            <a:ext cx="880920" cy="1119600"/>
            <a:chOff x="3375360" y="2280240"/>
            <a:chExt cx="880920" cy="1119600"/>
          </a:xfrm>
        </p:grpSpPr>
        <p:sp>
          <p:nvSpPr>
            <p:cNvPr id="559" name="矩形 17"/>
            <p:cNvSpPr/>
            <p:nvPr/>
          </p:nvSpPr>
          <p:spPr>
            <a:xfrm rot="396000">
              <a:off x="3432240" y="2320560"/>
              <a:ext cx="766800" cy="103824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16"/>
            <p:cNvSpPr/>
            <p:nvPr/>
          </p:nvSpPr>
          <p:spPr>
            <a:xfrm>
              <a:off x="3434400" y="2313000"/>
              <a:ext cx="766800" cy="103824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18"/>
            <p:cNvSpPr/>
            <p:nvPr/>
          </p:nvSpPr>
          <p:spPr>
            <a:xfrm>
              <a:off x="3534480" y="2644200"/>
              <a:ext cx="72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20"/>
          <p:cNvGrpSpPr/>
          <p:nvPr/>
        </p:nvGrpSpPr>
        <p:grpSpPr>
          <a:xfrm>
            <a:off x="6928920" y="2258280"/>
            <a:ext cx="1122120" cy="1334880"/>
            <a:chOff x="6928920" y="2258280"/>
            <a:chExt cx="1122120" cy="1334880"/>
          </a:xfrm>
        </p:grpSpPr>
        <p:sp>
          <p:nvSpPr>
            <p:cNvPr id="563" name="矩形 19"/>
            <p:cNvSpPr/>
            <p:nvPr/>
          </p:nvSpPr>
          <p:spPr>
            <a:xfrm rot="907200">
              <a:off x="7064280" y="2349000"/>
              <a:ext cx="851040" cy="115272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0"/>
            <p:cNvSpPr/>
            <p:nvPr/>
          </p:nvSpPr>
          <p:spPr>
            <a:xfrm rot="907200">
              <a:off x="7077240" y="2622960"/>
              <a:ext cx="105480" cy="41004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21"/>
            <p:cNvSpPr/>
            <p:nvPr/>
          </p:nvSpPr>
          <p:spPr>
            <a:xfrm rot="907200">
              <a:off x="7222680" y="2774520"/>
              <a:ext cx="6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24"/>
          <p:cNvGrpSpPr/>
          <p:nvPr/>
        </p:nvGrpSpPr>
        <p:grpSpPr>
          <a:xfrm>
            <a:off x="4491720" y="2240640"/>
            <a:ext cx="1091880" cy="1194480"/>
            <a:chOff x="4491720" y="2240640"/>
            <a:chExt cx="1091880" cy="1194480"/>
          </a:xfrm>
        </p:grpSpPr>
        <p:sp>
          <p:nvSpPr>
            <p:cNvPr id="567" name="矩形 23"/>
            <p:cNvSpPr/>
            <p:nvPr/>
          </p:nvSpPr>
          <p:spPr>
            <a:xfrm rot="714600">
              <a:off x="5188680" y="2313360"/>
              <a:ext cx="360000" cy="37548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24"/>
            <p:cNvSpPr/>
            <p:nvPr/>
          </p:nvSpPr>
          <p:spPr>
            <a:xfrm rot="714600">
              <a:off x="4526280" y="2990520"/>
              <a:ext cx="360000" cy="37548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22"/>
            <p:cNvSpPr/>
            <p:nvPr/>
          </p:nvSpPr>
          <p:spPr>
            <a:xfrm rot="714600">
              <a:off x="4643640" y="2309760"/>
              <a:ext cx="780840" cy="105624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Box 26"/>
          <p:cNvSpPr/>
          <p:nvPr/>
        </p:nvSpPr>
        <p:spPr>
          <a:xfrm rot="857400">
            <a:off x="4738680" y="2682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版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29"/>
          <p:cNvGrpSpPr/>
          <p:nvPr/>
        </p:nvGrpSpPr>
        <p:grpSpPr>
          <a:xfrm>
            <a:off x="5634720" y="2193840"/>
            <a:ext cx="1180800" cy="1297440"/>
            <a:chOff x="5634720" y="2193840"/>
            <a:chExt cx="1180800" cy="1297440"/>
          </a:xfrm>
        </p:grpSpPr>
        <p:sp>
          <p:nvSpPr>
            <p:cNvPr id="572" name="矩形 27"/>
            <p:cNvSpPr/>
            <p:nvPr/>
          </p:nvSpPr>
          <p:spPr>
            <a:xfrm rot="1645200">
              <a:off x="5834520" y="2314440"/>
              <a:ext cx="781560" cy="105624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角三角形 28"/>
            <p:cNvSpPr/>
            <p:nvPr/>
          </p:nvSpPr>
          <p:spPr>
            <a:xfrm rot="1645200">
              <a:off x="5671800" y="2979720"/>
              <a:ext cx="214200" cy="213840"/>
            </a:xfrm>
            <a:prstGeom prst="rtTriangle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直角三角形 29"/>
            <p:cNvSpPr/>
            <p:nvPr/>
          </p:nvSpPr>
          <p:spPr>
            <a:xfrm rot="12445800">
              <a:off x="6622920" y="2525400"/>
              <a:ext cx="145800" cy="145800"/>
            </a:xfrm>
            <a:prstGeom prst="rtTriangle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0"/>
            <p:cNvSpPr/>
            <p:nvPr/>
          </p:nvSpPr>
          <p:spPr>
            <a:xfrm rot="1645200">
              <a:off x="5947920" y="2719440"/>
              <a:ext cx="7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7" descr=""/>
          <p:cNvPicPr/>
          <p:nvPr/>
        </p:nvPicPr>
        <p:blipFill>
          <a:blip r:embed="rId1"/>
          <a:srcRect l="0" t="2748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71640" y="1704960"/>
            <a:ext cx="74152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9640" y="4944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2:51:00Z</dcterms:created>
  <dc:creator>ppt宝藏</dc:creator>
  <dc:description/>
  <dc:language>en-US</dc:language>
  <cp:lastModifiedBy>yu wang</cp:lastModifiedBy>
  <cp:lastPrinted>1899-12-30T00:00:00Z</cp:lastPrinted>
  <dcterms:modified xsi:type="dcterms:W3CDTF">2015-08-14T12:53:49Z</dcterms:modified>
  <cp:revision>1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