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B277-83D4-47E5-B097-49A15FE4E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E567-D3EC-49FC-BBE8-696B730A3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4E8387-6EA9-4F4D-848C-95580A90E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3DC236-E742-486B-B9AD-C36C6F0D7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1A2F37-53F9-4093-8E0E-267254FFF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58DF4C-F738-43AF-9440-EE4EDA31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E501A8-EDCD-4CD1-BC14-EFE0D2F2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174543-1B1A-4FA4-9D33-DFBCEB6D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E81527-77A2-40C4-84EF-AD2716A51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49ED59-C2FE-47D0-8933-AE839382C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1CDB1A-2871-4A1F-9092-5EBEC1C03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7A57D0-F8E6-4A4D-A61F-0EBF27C0E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46F3-67B5-452F-894D-C69F095C5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459763-8A40-4694-A7CD-600980A05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7FE66F-CE2F-4D5D-A846-4E3DB4D55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77231D-410E-444F-94A9-B0713E28E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C12985-6441-42AE-B3D3-C83EB4225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76535D-4A1A-44C3-A219-92DB6A6EA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7B7B52-0513-4419-A775-9B9C09B2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DCE434-98FF-416F-A64D-99C977C4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C0AA99-8887-4F4D-B65E-87ED6CD29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E3093A-9890-4276-8C6A-F6E4CB7EF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642E21-C144-4BB1-A60F-CDD08D426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B7FD-4240-4730-B3B6-7536E7F53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AEF816-289B-4959-B123-CD8346CA9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DC6E45-562C-4D3D-B95A-FFDD0306B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FD3E9D-F184-4428-A9DD-2CABF813A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C122EE-E7F0-4225-B669-F341D9754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B2C497-13EA-46FF-87E6-CDB16F161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175379-673B-4797-B4D9-058260BFB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91DAB4-E67E-4066-AAF2-6C51861CF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9A8501-100A-4E87-9B55-C31A695A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334309-D8F6-4F7F-B4C2-BB809F07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9E1DE4-BF7E-4A7F-B6D4-3B7874CA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7C718-600E-47EA-AE57-D27764F1B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407DEF-E9FD-4076-922F-3F80A7B20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ED4705-584E-463D-A3F3-F14918845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09F16A-241B-4EBE-9CF6-F9FC0E96A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05C310-ED72-4653-8FE8-B090515B6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1E4379-4709-4A3E-9949-D167B0F2C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380860-C0B3-4569-92DF-0C5B8C72A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D801F9-9655-46FA-BB82-77731AD32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BCDD2B-66A7-43E4-9583-EEF27B672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73C200-2A12-405F-959E-D2C9A3619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A01754-A6A7-4C96-9A44-2763F1F4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31AD6-7F53-4A51-BAD2-0DBB50B4C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1C6CDF-ADF8-4B2F-B6EC-D6D94700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5254E7-B197-4C74-B0AB-14A618CD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AB84BC-3B7F-4B33-82E2-41DCF91B2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1A807F-485B-4AAC-BA4B-A192FC45E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8C0289-3E4D-4B90-AF94-997FE0717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B663D7-2686-4552-9267-38E9BC9A0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4FEBC3-59DB-4688-9412-CB1ACDB0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F46575-BCD6-46AD-8A6B-D87913056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009A08-59B0-4923-8D5E-45F7D5EF3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FE5F34-01DD-4B74-9478-D51DE5D9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D1632-D481-4730-A6F5-4FCDB19B0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835A3E-8138-4824-A2EF-A881605A3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F71AA8-1B77-44CD-A76C-66930EF9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254428-E2B0-46F2-AE25-A3BCCC6D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87DB23-2CA0-49E3-AEFD-1658B082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095582-1C6C-4EE6-9DCD-CA1D45CAA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6F2998-F27E-4DD5-B5C7-C180C1538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EEC2A5-6E6B-4D99-AB19-5D849A518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019E2C-0E2B-4433-8CBD-F3EBC819E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986A1B-D25B-4990-8224-B65B596F4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E48718-76E8-4F07-9AFC-7FF0AA155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6C663-44C5-4347-9AA6-95B746643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7CADA7-C4B0-458C-9D32-857F0B4B8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D8BD13-7B67-4E3F-AE56-68E8B0ACE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B70C4F-5CFA-4D55-8ADC-7748E84AA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2AED19-1268-43AE-A58F-6596023F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53A20E-D030-41A6-BE0B-CC9005A6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0FD075-B3ED-42C0-A806-C79FF981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78C5ED-7651-488C-95FC-C26A25D8B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188A39-7E39-4238-8021-FC03309CE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7B3627-F574-4DA3-B473-6871D9805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304C94-0376-499C-A2CC-8E376AA27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0819E-7DFE-447E-ABCE-DD7AF9872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6C4779-73D6-4A54-AD9B-405E022DA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3FC78B-BBCC-4978-BCCB-A765F7F3F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EDF98C-1269-4EC5-84B9-D35F125F9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C27E9D-BB41-4610-B5E4-CCE7AE260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DD8A45-85D5-40DC-BB5A-64511691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1FB9F0-8F64-4075-9719-48EA4804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FF035B-E3EF-4A9F-83A1-D11F7E25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67C81B-A904-4581-9BC7-7D1D7EBB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D8CC44-B508-402C-8AE8-A289B536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D72389-5B15-46AD-B425-B83DFC5EE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872C2-8A6C-4646-8D1A-01B6DBF9C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735234-B992-48D4-B451-680770CE7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AF71FC-3CED-4BB0-AC79-4AE7A363F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201817-C7EE-4CB0-94DC-3826645B6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0F9A63-9463-489C-B637-0F94452B5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87D835-8500-4FE7-96AF-44974C653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32CAC1-3A48-4087-9AAA-E04C3812C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2C072F-3A21-4F18-AE82-FEAC023A4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C6DC37-9E5D-4CDE-B654-7143BE8A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FB80C6-0B12-48BB-B945-020EA3BC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69942D-8525-4687-B2C1-393D17D9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0C823-78CC-4BB3-9010-A4A51E4B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B67147-6408-4615-994E-9DEE27B58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F297BE-FDEC-4C3D-91F5-1AE0177DC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BE2623-5BCC-4ACB-8DEA-7D5DB9098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8852A1-2047-41E2-B9EB-3313355AC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1A5A51-67C6-4064-A793-EE8A9F956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A5D4D7-BEA1-430F-A170-002E5D688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1821A2-466A-4674-B518-ABC2C247B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5F6DE1-02F9-4CF9-A79A-40C1E7619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130C07-3486-46F1-8701-B98BB21D2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A56D87-1FD2-40E3-ACBD-AE781C01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8E0A-2B21-4319-A644-6CE09BE6C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4F6CC-DC86-4641-8269-8432BDB7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1F740F-97D2-408A-AF07-A007D9B1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AE6E5D-CB12-44F2-A473-23650017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B931F4-7AA1-4FC0-9695-CBF26A32D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96CA06-CEC2-4FEC-A896-B29598C8E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C67AF4-30FE-4195-AF4A-954515A28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8E0034-D796-4CAD-A8AC-B68A3EAC1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8C43FA-45E4-44A3-8F34-B4FD98AB3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49D28B-17CA-425F-B25C-0DF60755E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AFC80D-3FAA-4357-A75C-794B597ED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FC76F0-826B-4B3A-B0B8-5802848F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3D7F1-64D9-4CDB-9C7F-6F4E156E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CC625D-0F79-483F-A16F-8038DE175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CD50C1-CA33-4680-B1CC-8B6EEADC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822D56-4EFD-44B2-A1BF-8DB499CF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3013D6-FD94-49C0-B1C5-B2B6FA55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9B9924-9517-4154-AFDF-88AEE7F51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707CE5-AFA2-4159-BBDD-2D9FCE126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1F962D-7BB7-40F4-A703-5E65B5925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0960D9-9630-4E90-BB14-CB2B7DA47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A36E58-9366-4F1F-89CF-C8B64C7BB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D5BF2F-6906-4E16-998C-55758BC3F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3C828-1E00-43D1-B15A-CBC7DD7E4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94C4DD-6531-4B31-B29F-A4E723807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BAE4C6-B44E-4257-BD01-C1A3A79A6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447C1E-8287-4D6C-8462-BAC88A81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090317-1ED5-4F51-903C-3600C501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CD6FC5-0592-4F84-B4BE-F73C159B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7BED2C-EDAB-48F1-B645-178D86F6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801607-935E-4308-BB88-421A2128E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D69DF8-82B2-4310-AAF3-5106EA001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7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676A1B-0445-4EC8-8C45-E3C5CF6A2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42F2C0-ACE1-440D-9421-1BA1E7F2B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BF1E2-641D-453B-9E51-B5A51A085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ED38EA-A7F6-47BC-AC59-5DC91635A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E242B8-B583-414D-9B8B-C25AC6EA4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9FAB77-D8C3-4CCD-9210-ADC2AEB12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25494F-7F82-4D19-92E8-D1BD4A2D8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CC8FD7-C57F-495A-B090-0CC20A8C8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F270FD-39F0-4160-88D8-1DAF1E20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94FFA0-E1D8-4120-993A-38473E01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5C65C2-0C10-4AC4-A186-F5E6A6E3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79AB45-35CF-4055-82AE-D70913D24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6D3BF7-4F3B-44B6-87E1-3C6820FB5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2E601-2443-4B0B-8844-686F2C3AC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2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C60677-9B3F-47BC-AB90-59141DDC9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15A8D4-302C-4304-AFAD-760490C6E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8428B9-AF0E-472A-ADA2-163968B67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490790-728B-449D-9D61-34BAE4B36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CD1309-0842-4047-A715-5785E5DB9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CDED2C-F687-4A94-BE05-6747E4033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3E3D31-B1F4-4F98-8708-1C2CDD7D8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303A09-6570-4AA8-B3CA-749652D3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F50565-79B3-42FC-AD57-3F06C4B4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40D618-F51F-4BAF-8DF5-79BDC307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8408D-1482-49DB-B34B-4F21B1197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AC9F6B-5A21-4222-A796-0CFCC8FF3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310361-EB3F-47B2-B937-F01BC83AA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6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6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B5D19A-71B7-46E1-99A0-A602D7ECF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D722993-51FB-475A-9155-6F4A4A859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314ABB1-666C-487E-9C98-C93046C1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49C1A9-1408-4697-BF5C-8098A98E1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FBE984D-FE7F-41EB-BC7E-3FB9E810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0D6A6F6-A927-4424-9660-CADF70EA4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7E7A247-1A0C-42FF-B40A-C8445C183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0370376-8DA5-4E82-BDC2-33A0235F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2A9D7-0144-4E87-88F8-B71E16701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2694E9E-B21D-4DE1-A1A9-9BE2A7CC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F2EE36-F35A-498F-AE18-A1E7C116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E7A2341-C02A-4007-908F-D5640C421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503A517-B922-4BBA-81C5-A51528A68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FE3D5C-0A49-4A4D-B11B-C7DD0569D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DE24E96-63C4-4694-89A6-58901981D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48A4AF5-951B-4694-A99D-17F839E7C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B4FEEB7-705E-4C25-A1CD-D5461A1D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A937D2-60AD-412B-BB49-EAF6C83B9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B50DCCF-7FED-4163-84A5-C8B2250A1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B28B3-8E02-4CCB-BB87-3BD0E93AA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D13872D-834B-4A75-A7CE-D2CB66EAC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4842B63-1426-499F-AF81-4FC76AC8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B9AFC64-FC4F-4799-8C95-573C53CD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1758738-FAF2-4F71-96B0-81791D01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67B5EFB-0617-4A13-9F7E-835DAB302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9D24BDF-E5DD-4784-9308-34375B8F5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4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4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F3163E-04A1-4387-A01C-B53D9CFE6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A9D2F6C-FD90-4410-ADE0-CE3950241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FA1A4A3-020A-4DD6-BFC6-4FE9A5F82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BB64E95-BEE7-47FE-B76F-34739FB5D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C0BE9-A016-4BF7-A1CC-85F01A6D7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AE1FCF0-3001-4BCC-98B5-5802E468F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7DE7E6B-E783-4570-9B52-DD253C5F1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8D72AB8-FD79-4D03-A591-37B754D19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F9601CB-D1AE-4898-BAB3-D03B68CF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DF78BEB-95C8-4B88-B275-51E0F620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1EE3F80-C09B-4C1F-9A3E-23CF0198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19CF1B2-C131-441E-8D5C-C57BF308F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8114ADE-312A-4C95-B6C4-E83421C38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8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8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2F48C2A-D95C-42CA-9CCC-738C1249D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36742C4-44DB-403F-A2A4-0B275E979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30794-2BEC-4997-AB45-CAF965B09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5FCBE98-166A-4DBF-BE97-892F7021F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FB75033-2E06-4C5F-821D-53CE73D52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A418A56-68CD-4094-86D2-2FD471F7E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7707FA7-9E04-4CC9-A000-70B667A9E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9C1C018-8DFA-405F-ABF7-7A868DE09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72F5786-F105-4180-B274-5AD86B68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69B6941-6D16-48BF-A4FC-D63C7BCC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1838D06-A43C-4391-80DC-6BE57B99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B359832-1650-4942-9599-23ED94729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898C325-5A04-46E0-B50D-AFFF8F15D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381F-5D8B-4D43-8255-4AB9FF970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C62DE-D334-4E43-915B-3A57D002A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02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02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B17CF32-B5F5-4FCB-913F-0CCE09191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E9A84-7E03-4085-B8F3-6B577E97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09760-039A-44E5-B465-4988D1E6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33674-BE00-4057-A335-7027424B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89B2B-B50E-4C36-BFD4-6C93DE271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E952F-C874-437D-A728-D00C94CF5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C436F-400B-4C68-9EC8-320283D79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0ED1B-A7A9-400B-B4B9-1C130E789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42520-9703-4EF4-BFB1-73D86F212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BB31E-8310-4D0B-B826-38002FF61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CB89-5D5A-4507-841A-666C0C06F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02D8E-2F57-423E-854B-B739D2EA5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647AB-9EE8-42F5-8101-D9DFE4D3A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E5C13-7323-4C29-AF2F-AC9328CA9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ECD0E-5223-499D-8598-7340C067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807EC-91C4-4568-B8A6-1CF6D0EB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CC675-F812-4042-8A2D-E84CDD86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58BA0-130C-408E-B4DE-001ABAFC8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F4E58-4856-4D49-A636-D2483E857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B2256-2F28-4B40-BEBB-B2D7F81BA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EAE12-A9C8-49CE-B4F5-F80BF9C71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B124-290C-45E2-BD73-4C3663BF6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259A1-6093-4641-8FC5-D98EBBE56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CA48F-B8D2-4C20-9B7B-89FFF1A50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ABBBA-BDE6-4431-AACA-DD8C7744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EC0DE-F81B-4014-BBCA-0A5362058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D80F1-9245-44C4-A238-55CC3CE2D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23B44-0D94-4319-966C-0613972B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9CD0D-92BD-4BDD-B554-D25FF699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34FC8-9344-4F18-93C6-2618F0DF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3F38C-B3EB-42DE-8795-F3A01358D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1092F-99EC-48CC-A34E-FD8B1C990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0978-32FC-41A2-975D-EED60D64D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B2247-35A9-4698-BE72-080B2431C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043FE-5A30-46CB-8A32-C0355DD5C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882083-E4CF-4D2C-8606-A41E34EBD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2DAF3-2143-4579-8608-E0A3CCF7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360F6-3F3B-454B-B214-CF0DEA82B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4CBDF8-1F39-4EC5-A9F5-7AA7EE0D8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CE3C1-5030-447C-89EA-8BABB7728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74E47-3A39-45B2-8600-C9D9BD56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E5F6B-1C28-48CF-A11B-90ACA404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AC415-11F2-4185-B6CA-E53CFFEC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16EB-B900-466E-B877-079D61A9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FB69B-994E-49E9-8C1C-875B39C76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6B01F-C766-459C-A109-B3ADFD949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092E3-5D0C-412D-92FA-161C359FA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CB8880-B030-44D1-B28D-297E905AF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46296-AE52-4F20-9190-EDDB1BB6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A44287-CDE0-46FC-B605-C9E93F4D5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8F914-928A-4E1C-82FB-F2251119F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48A16D-AD2C-4F90-9F11-0854253F8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B398D-8ABA-4FA7-9F20-AFBD0BC73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889DA8-7D19-40F7-BC00-E71C2D73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8E9D-2437-48BB-B6C6-ADC137AD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24CF17-4DF7-46F2-95EF-9EE19CAD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6E8C1-932E-41E2-948F-5257356B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3DEAC-5BA9-46DF-BBEB-4F5010D72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8B861-F23B-418D-BE7B-8F3C759F3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AD1E1-D87F-43F1-8DD7-041F2E22A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D69E9C-BBB7-4CA0-9EE5-75320C83D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D85D49-2D00-41BA-8437-C467F2FE5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990BC-1098-4632-8B9A-54BA51AB6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B7E6CA-EB79-4831-AB2C-D5700BB09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5BF830-0FAB-4FC5-B4D5-FC9D395BF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634A-391E-402E-A99B-4EFB4288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206176-5493-46FB-8BB1-88B05804C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CBC9A-D033-4CD2-9E14-7F2ECBCA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685530-21B8-4BAB-A971-0D425D3A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919C4-3293-4A16-9AAF-B6F87E08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331875-836F-4928-BAA8-F0BB0B445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3DA049-3E99-4B8B-AF27-AE44EE333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E1F9F1-BF95-4563-960E-B197A6775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D4F130-57E4-4D2A-9606-68D025905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34C5DF-0B86-4254-9BA3-137A9F297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9D21EC-D8D4-4E14-8A5E-A268C1841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3"/>
          <a:stretch/>
        </p:blipFill>
        <p:spPr>
          <a:xfrm>
            <a:off x="0" y="17640"/>
            <a:ext cx="9144000" cy="5144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CFA12-F79C-469F-8F95-157CCA42ECB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"/>
          <p:cNvPicPr/>
          <p:nvPr/>
        </p:nvPicPr>
        <p:blipFill>
          <a:blip r:embed="rId3"/>
          <a:stretch/>
        </p:blipFill>
        <p:spPr>
          <a:xfrm>
            <a:off x="0" y="17640"/>
            <a:ext cx="9144000" cy="514476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8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ftr" idx="29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sldNum" idx="30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4B1FA-D59C-4D90-ADE8-04B79F0C81D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2" descr=""/>
          <p:cNvPicPr/>
          <p:nvPr/>
        </p:nvPicPr>
        <p:blipFill>
          <a:blip r:embed="rId3"/>
          <a:stretch/>
        </p:blipFill>
        <p:spPr>
          <a:xfrm>
            <a:off x="0" y="17640"/>
            <a:ext cx="9144000" cy="514476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dt" idx="3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ftr" idx="3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sldNum" idx="3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BA750-A621-45FC-81A7-B7A77534121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2" descr=""/>
          <p:cNvPicPr/>
          <p:nvPr/>
        </p:nvPicPr>
        <p:blipFill>
          <a:blip r:embed="rId3"/>
          <a:stretch/>
        </p:blipFill>
        <p:spPr>
          <a:xfrm>
            <a:off x="0" y="17640"/>
            <a:ext cx="9144000" cy="514476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dt" idx="34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ftr" idx="3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sldNum" idx="36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18808-8148-4011-B4F8-B048B0E1DB1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2" descr=""/>
          <p:cNvPicPr/>
          <p:nvPr/>
        </p:nvPicPr>
        <p:blipFill>
          <a:blip r:embed="rId3"/>
          <a:stretch/>
        </p:blipFill>
        <p:spPr>
          <a:xfrm>
            <a:off x="0" y="17640"/>
            <a:ext cx="9144000" cy="514476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dt" idx="37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ftr" idx="38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sldNum" idx="39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94385-FC03-4EA6-9493-0BAA4F37918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2" descr=""/>
          <p:cNvPicPr/>
          <p:nvPr/>
        </p:nvPicPr>
        <p:blipFill>
          <a:blip r:embed="rId3"/>
          <a:stretch/>
        </p:blipFill>
        <p:spPr>
          <a:xfrm>
            <a:off x="0" y="17640"/>
            <a:ext cx="9144000" cy="51447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dt" idx="40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ftr" idx="41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sldNum" idx="42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91DAF-FD05-454A-8C44-5A53F3D40A6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4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67DC5-310A-488D-B705-34154A5F9D3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4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4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C6629-04BB-4566-8D46-4D232AFE39E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dt" idx="4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7980A-B23A-4178-815D-5F14ACFD90D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ftr" idx="4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 type="sldNum" idx="4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79E99-8183-4D09-AA66-6030F3075C3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201C-9263-47FA-8FCB-E3EC173A6A1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5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5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687FE-0668-47B4-BA8C-4B543082105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dt" idx="5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A174A-D60A-4E50-AE30-224A69C4C91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 type="ftr" idx="5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 type="sldNum" idx="5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29805-1C69-4913-AC5C-7F339880406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 type="dt" idx="5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F07E9-2EBB-469F-9AB8-7368167CB52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 type="ftr" idx="5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 type="sldNum" idx="5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FE95-12FC-4990-B107-C06840D5202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8DC49-7BC3-4970-A94C-CC37B329F76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0D9FC-2342-4BA2-BEA6-02D6EE7F37C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dt" idx="58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34573-A611-4D2F-84FA-AF95C3E4DD3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ftr" idx="59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sldNum" idx="60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B8385-614E-41E1-AF29-8C8520B2D8F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 type="dt" idx="6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6D5C1-17DB-4A5D-BDB1-9AA4B4F1261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 type="ftr" idx="6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 type="sldNum" idx="6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0B3EE-3F7F-4653-A762-F4EC8E19DAB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6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93DC2-A35A-4034-9A74-3192D5B6CF8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6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6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1725B-004C-4BB9-98D5-FB8ABF673EA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 type="dt" idx="6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03E21-AAC1-4939-90F5-531D39AE35D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 type="ftr" idx="6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 type="sldNum" idx="6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190E3-1689-4544-A529-8F93711A5F9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 type="dt" idx="7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56D34-6C1F-4328-B006-4496892F9FF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 type="ftr" idx="7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 type="sldNum" idx="7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09A0E-EFA4-41E0-B9B1-A8D15D1EB62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 type="dt" idx="7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4413D-F0BC-4FE2-B2DE-7628B9E2524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 type="ftr" idx="7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 type="sldNum" idx="7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DB5AE-AB70-4412-B415-202C188B8F7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3"/>
          <a:stretch/>
        </p:blipFill>
        <p:spPr>
          <a:xfrm>
            <a:off x="0" y="17640"/>
            <a:ext cx="9144000" cy="51447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8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9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D5B6E-3364-40AA-9DF2-1525510C066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3"/>
          <a:stretch/>
        </p:blipFill>
        <p:spPr>
          <a:xfrm>
            <a:off x="0" y="17640"/>
            <a:ext cx="9144000" cy="51447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1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2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79032-F9BC-402D-8C6A-1CBF26FB670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行楷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"/>
          <p:cNvPicPr/>
          <p:nvPr/>
        </p:nvPicPr>
        <p:blipFill>
          <a:blip r:embed="rId3"/>
          <a:stretch/>
        </p:blipFill>
        <p:spPr>
          <a:xfrm>
            <a:off x="0" y="17640"/>
            <a:ext cx="9144000" cy="51447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13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14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sldNum" idx="15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939E4-9ECD-4F02-B50D-F5BA3C0A73F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"/>
          <p:cNvPicPr/>
          <p:nvPr/>
        </p:nvPicPr>
        <p:blipFill>
          <a:blip r:embed="rId3"/>
          <a:stretch/>
        </p:blipFill>
        <p:spPr>
          <a:xfrm>
            <a:off x="0" y="17640"/>
            <a:ext cx="9144000" cy="51447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dt" idx="16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ftr" idx="17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sldNum" idx="18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6B6B0-A5D6-458C-AB4F-7B48F9ABD53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3"/>
          <a:stretch/>
        </p:blipFill>
        <p:spPr>
          <a:xfrm>
            <a:off x="0" y="17640"/>
            <a:ext cx="9144000" cy="514476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dt" idx="19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ftr" idx="20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sldNum" idx="21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B1228-DE13-4B76-BDA1-9931AA20221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"/>
          <p:cNvPicPr/>
          <p:nvPr/>
        </p:nvPicPr>
        <p:blipFill>
          <a:blip r:embed="rId3"/>
          <a:stretch/>
        </p:blipFill>
        <p:spPr>
          <a:xfrm>
            <a:off x="0" y="17640"/>
            <a:ext cx="9144000" cy="514476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22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23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24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53E4E-AA96-4E8F-A809-2A934318530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"/>
          <p:cNvPicPr/>
          <p:nvPr/>
        </p:nvPicPr>
        <p:blipFill>
          <a:blip r:embed="rId3"/>
          <a:stretch/>
        </p:blipFill>
        <p:spPr>
          <a:xfrm>
            <a:off x="0" y="17640"/>
            <a:ext cx="9144000" cy="514476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dt" idx="25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ftr" idx="26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sldNum" idx="27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5E1B6-0061-45BD-8880-FD85BC4A943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1.png"/><Relationship Id="rId17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1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1.png"/><Relationship Id="rId4" Type="http://schemas.openxmlformats.org/officeDocument/2006/relationships/image" Target="../media/image14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1.png"/><Relationship Id="rId17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图片 3" descr=""/>
          <p:cNvPicPr/>
          <p:nvPr/>
        </p:nvPicPr>
        <p:blipFill>
          <a:blip r:embed="rId2"/>
          <a:srcRect l="9158" t="18571" r="24553" b="18117"/>
          <a:stretch/>
        </p:blipFill>
        <p:spPr>
          <a:xfrm>
            <a:off x="9217080" y="-592200"/>
            <a:ext cx="841320" cy="801720"/>
          </a:xfrm>
          <a:prstGeom prst="rect">
            <a:avLst/>
          </a:prstGeom>
          <a:ln w="0">
            <a:noFill/>
          </a:ln>
        </p:spPr>
      </p:pic>
      <p:pic>
        <p:nvPicPr>
          <p:cNvPr id="1027" name="图片 4" descr=""/>
          <p:cNvPicPr/>
          <p:nvPr/>
        </p:nvPicPr>
        <p:blipFill>
          <a:blip r:embed="rId3"/>
          <a:srcRect l="0" t="33314" r="23930" b="31046"/>
          <a:stretch/>
        </p:blipFill>
        <p:spPr>
          <a:xfrm flipH="1" rot="20297400">
            <a:off x="9559440" y="-160560"/>
            <a:ext cx="963720" cy="4507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5" descr=""/>
          <p:cNvPicPr/>
          <p:nvPr/>
        </p:nvPicPr>
        <p:blipFill>
          <a:blip r:embed="rId4"/>
          <a:srcRect l="0" t="33229" r="28381" b="17607"/>
          <a:stretch/>
        </p:blipFill>
        <p:spPr>
          <a:xfrm rot="10518600">
            <a:off x="8570160" y="-593640"/>
            <a:ext cx="827280" cy="568080"/>
          </a:xfrm>
          <a:prstGeom prst="rect">
            <a:avLst/>
          </a:prstGeom>
          <a:ln w="0">
            <a:noFill/>
          </a:ln>
        </p:spPr>
      </p:pic>
      <p:pic>
        <p:nvPicPr>
          <p:cNvPr id="1029" name="图片 7" descr=""/>
          <p:cNvPicPr/>
          <p:nvPr/>
        </p:nvPicPr>
        <p:blipFill>
          <a:blip r:embed="rId5"/>
          <a:srcRect l="0" t="33314" r="23930" b="31046"/>
          <a:stretch/>
        </p:blipFill>
        <p:spPr>
          <a:xfrm flipH="1" rot="20298600">
            <a:off x="9274320" y="143640"/>
            <a:ext cx="963360" cy="451440"/>
          </a:xfrm>
          <a:prstGeom prst="rect">
            <a:avLst/>
          </a:prstGeom>
          <a:ln w="0">
            <a:noFill/>
          </a:ln>
        </p:spPr>
      </p:pic>
      <p:pic>
        <p:nvPicPr>
          <p:cNvPr id="1030" name="图片 8" descr=""/>
          <p:cNvPicPr/>
          <p:nvPr/>
        </p:nvPicPr>
        <p:blipFill>
          <a:blip r:embed="rId6"/>
          <a:srcRect l="0" t="33314" r="23930" b="31046"/>
          <a:stretch/>
        </p:blipFill>
        <p:spPr>
          <a:xfrm flipH="1" rot="20297400">
            <a:off x="7517880" y="-464760"/>
            <a:ext cx="963720" cy="452520"/>
          </a:xfrm>
          <a:prstGeom prst="rect">
            <a:avLst/>
          </a:prstGeom>
          <a:ln w="0">
            <a:noFill/>
          </a:ln>
        </p:spPr>
      </p:pic>
      <p:pic>
        <p:nvPicPr>
          <p:cNvPr id="1031" name="图片 9" descr=""/>
          <p:cNvPicPr/>
          <p:nvPr/>
        </p:nvPicPr>
        <p:blipFill>
          <a:blip r:embed="rId7"/>
          <a:srcRect l="9158" t="18571" r="24553" b="18117"/>
          <a:stretch/>
        </p:blipFill>
        <p:spPr>
          <a:xfrm>
            <a:off x="9750600" y="757080"/>
            <a:ext cx="841320" cy="804960"/>
          </a:xfrm>
          <a:prstGeom prst="rect">
            <a:avLst/>
          </a:prstGeom>
          <a:ln w="0">
            <a:noFill/>
          </a:ln>
        </p:spPr>
      </p:pic>
      <p:pic>
        <p:nvPicPr>
          <p:cNvPr id="1032" name="图片 10" descr=""/>
          <p:cNvPicPr/>
          <p:nvPr/>
        </p:nvPicPr>
        <p:blipFill>
          <a:blip r:embed="rId8"/>
          <a:srcRect l="0" t="33314" r="23930" b="31046"/>
          <a:stretch/>
        </p:blipFill>
        <p:spPr>
          <a:xfrm flipH="1" rot="20297400">
            <a:off x="9349920" y="-312480"/>
            <a:ext cx="963720" cy="452520"/>
          </a:xfrm>
          <a:prstGeom prst="rect">
            <a:avLst/>
          </a:prstGeom>
          <a:ln w="0">
            <a:noFill/>
          </a:ln>
        </p:spPr>
      </p:pic>
      <p:pic>
        <p:nvPicPr>
          <p:cNvPr id="1033" name="图片 1" descr=""/>
          <p:cNvPicPr/>
          <p:nvPr/>
        </p:nvPicPr>
        <p:blipFill>
          <a:blip r:embed="rId9"/>
          <a:stretch/>
        </p:blipFill>
        <p:spPr>
          <a:xfrm>
            <a:off x="6310440" y="-522360"/>
            <a:ext cx="3058920" cy="5799240"/>
          </a:xfrm>
          <a:prstGeom prst="rect">
            <a:avLst/>
          </a:prstGeom>
          <a:ln w="0">
            <a:noFill/>
          </a:ln>
        </p:spPr>
      </p:pic>
      <p:pic>
        <p:nvPicPr>
          <p:cNvPr id="1034" name="图片 6" descr=""/>
          <p:cNvPicPr/>
          <p:nvPr/>
        </p:nvPicPr>
        <p:blipFill>
          <a:blip r:embed="rId10"/>
          <a:srcRect l="31725" t="4394" r="9492" b="52673"/>
          <a:stretch/>
        </p:blipFill>
        <p:spPr>
          <a:xfrm rot="20135400">
            <a:off x="-338040" y="1574280"/>
            <a:ext cx="1550880" cy="2208240"/>
          </a:xfrm>
          <a:prstGeom prst="rect">
            <a:avLst/>
          </a:prstGeom>
          <a:ln w="0">
            <a:noFill/>
          </a:ln>
        </p:spPr>
      </p:pic>
      <p:pic>
        <p:nvPicPr>
          <p:cNvPr id="1035" name="图片 11" descr=""/>
          <p:cNvPicPr/>
          <p:nvPr/>
        </p:nvPicPr>
        <p:blipFill>
          <a:blip r:embed="rId11"/>
          <a:stretch/>
        </p:blipFill>
        <p:spPr>
          <a:xfrm>
            <a:off x="-246240" y="2112840"/>
            <a:ext cx="3732480" cy="3030840"/>
          </a:xfrm>
          <a:prstGeom prst="rect">
            <a:avLst/>
          </a:prstGeom>
          <a:ln w="0">
            <a:noFill/>
          </a:ln>
        </p:spPr>
      </p:pic>
      <p:pic>
        <p:nvPicPr>
          <p:cNvPr id="1036" name="图片 13" descr=""/>
          <p:cNvPicPr/>
          <p:nvPr/>
        </p:nvPicPr>
        <p:blipFill>
          <a:blip r:embed="rId12"/>
          <a:srcRect l="6833" t="0" r="45140" b="37834"/>
          <a:stretch/>
        </p:blipFill>
        <p:spPr>
          <a:xfrm>
            <a:off x="1344600" y="3844800"/>
            <a:ext cx="179280" cy="174600"/>
          </a:xfrm>
          <a:prstGeom prst="rect">
            <a:avLst/>
          </a:prstGeom>
          <a:ln w="0">
            <a:noFill/>
          </a:ln>
        </p:spPr>
      </p:pic>
      <p:pic>
        <p:nvPicPr>
          <p:cNvPr id="1037" name="图片 15" descr=""/>
          <p:cNvPicPr/>
          <p:nvPr/>
        </p:nvPicPr>
        <p:blipFill>
          <a:blip r:embed="rId13"/>
          <a:srcRect l="6833" t="0" r="45140" b="37834"/>
          <a:stretch/>
        </p:blipFill>
        <p:spPr>
          <a:xfrm>
            <a:off x="1344600" y="3817800"/>
            <a:ext cx="179280" cy="174600"/>
          </a:xfrm>
          <a:prstGeom prst="rect">
            <a:avLst/>
          </a:prstGeom>
          <a:ln w="0">
            <a:noFill/>
          </a:ln>
        </p:spPr>
      </p:pic>
      <p:pic>
        <p:nvPicPr>
          <p:cNvPr id="1038" name="图片 16" descr=""/>
          <p:cNvPicPr/>
          <p:nvPr/>
        </p:nvPicPr>
        <p:blipFill>
          <a:blip r:embed="rId14"/>
          <a:srcRect l="6833" t="0" r="45140" b="37834"/>
          <a:stretch/>
        </p:blipFill>
        <p:spPr>
          <a:xfrm>
            <a:off x="811080" y="3029040"/>
            <a:ext cx="179640" cy="174600"/>
          </a:xfrm>
          <a:prstGeom prst="rect">
            <a:avLst/>
          </a:prstGeom>
          <a:ln w="0">
            <a:noFill/>
          </a:ln>
        </p:spPr>
      </p:pic>
      <p:pic>
        <p:nvPicPr>
          <p:cNvPr id="1039" name="图片 17" descr=""/>
          <p:cNvPicPr/>
          <p:nvPr/>
        </p:nvPicPr>
        <p:blipFill>
          <a:blip r:embed="rId15"/>
          <a:srcRect l="6833" t="0" r="45140" b="37834"/>
          <a:stretch/>
        </p:blipFill>
        <p:spPr>
          <a:xfrm>
            <a:off x="811080" y="3083040"/>
            <a:ext cx="179640" cy="17460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6" descr=""/>
          <p:cNvPicPr/>
          <p:nvPr/>
        </p:nvPicPr>
        <p:blipFill>
          <a:blip r:embed="rId16"/>
          <a:stretch/>
        </p:blipFill>
        <p:spPr>
          <a:xfrm>
            <a:off x="8153280" y="-77760"/>
            <a:ext cx="3276720" cy="5240160"/>
          </a:xfrm>
          <a:prstGeom prst="rect">
            <a:avLst/>
          </a:prstGeom>
          <a:ln w="0">
            <a:noFill/>
          </a:ln>
        </p:spPr>
      </p:pic>
      <p:sp>
        <p:nvSpPr>
          <p:cNvPr id="1041" name="矩形 1"/>
          <p:cNvSpPr/>
          <p:nvPr/>
        </p:nvSpPr>
        <p:spPr>
          <a:xfrm>
            <a:off x="2385720" y="2257560"/>
            <a:ext cx="476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墨竹鲤鱼中国风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12"/>
          <p:cNvSpPr/>
          <p:nvPr/>
        </p:nvSpPr>
        <p:spPr>
          <a:xfrm>
            <a:off x="487440" y="48052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9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9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11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1545 C -0.00086 0.03275 0.00226 0.0482 0.004 0.0658 C 0.004 0.07198 0.00365 0.17486 0.00087 0.21038 C -3.61111000000004E-006 0.2215 -0.00295 0.23263 -0.00399 0.24406 C -0.00625 0.26877 -0.00694 0.29441 -0.0151 0.31573 C -0.01666 0.33025 -0.01701 0.34507 -0.02309 0.35527 C -0.025 0.36824 -0.02656 0.38029 -0.03073 0.39141 C -0.03333 0.40562 -0.03541 0.42045 -0.04027 0.43312 C -0.04236 0.44486 -0.04739 0.45351 -0.05139 0.46401 C -0.05764 0.481 -0.05208 0.47822 -0.06076 0.4949 C -0.06389 0.51159 -0.0618 0.51777 -0.07031 0.5224 C -0.07465 0.54557 -0.08229 0.56997 -0.09392 0.58388 C -0.0967 0.5984 -0.10225 0.60859 -0.10972 0.61693 C -0.11319 0.63361 -0.12014 0.64937 -0.12864 0.65864 C -0.13229 0.66821 -0.13507 0.67099 -0.13975 0.67872 C -0.14878 0.69231 -0.15798 0.7059 -0.16666 0.72042 C -0.16909 0.7334 -0.17135 0.72969 -0.17777 0.7368 C -0.18454 0.75502 -0.18541 0.74545 -0.19496 0.75657 C -0.20156 0.7646 -0.20659 0.7714 -0.21389 0.77603 C -0.22118 0.78468 -0.22951 0.79611 -0.23767 0.80105 C -0.24357 0.80847 -0.24791 0.81681 -0.25503 0.82052 C -0.25607 0.82206 -0.25677 0.82484 -0.25816 0.82638 C -0.26111 0.82917 -0.2677 0.83195 -0.2677 0.83225 C -0.27343 0.83874 -0.28003 0.84616 -0.28645 0.8511 C -0.28958 0.85388 -0.29288 0.85512 -0.296 0.85697 C -0.29757 0.8579 -0.30086 0.85975 -0.30086 0.86006 C -0.30659 0.86655 -0.31284 0.86933 -0.31961 0.87365 C -0.32118 0.87427 -0.32291 0.8755 -0.32448 0.87643 C -0.32604 0.87705 -0.32916 0.87921 -0.32916 0.87952 C -0.33073 0.88106 -0.33229 0.88323 -0.33402 0.88477 C -0.33524 0.8857 -0.33715 0.8857 -0.33854 0.88724 C -0.34079 0.88971 -0.34253 0.89342 -0.34496 0.89589 C -0.34791 0.89836 -0.35451 0.90145 -0.35451 0.90176 C -0.35555 0.903 -0.35625 0.90578 -0.35764 0.90732 C -0.36059 0.9098 -0.36701 0.91258 -0.36701 0.91288 C -0.36857 0.91443 -0.36996 0.91659 -0.3717 0.91814 C -0.37326 0.91937 -0.37517 0.91937 -0.37656 0.92092 C -0.37777 0.92215 -0.37847 0.92493 -0.37968 0.92648 C -0.38125 0.92833 -0.38975 0.93142 -0.39079 0.93204 C -0.39357 0.93513 -0.39566 0.94069 -0.39861 0.94347 C -0.40555 0.94965 -0.41753 0.95397 -0.42552 0.95984 C -0.43611 0.96818 -0.44566 0.97714 -0.45711 0.98239 C -0.46788 0.99475 -0.46284 0.99135 -0.47118 0.9963 C -0.48767 1.01607 -0.46336 0.98795 -0.48229 1.00433 C -0.48576 1.00773 -0.48854 1.01174 -0.49166 1.01576 C -0.49444 1.01885 -0.49826 1.01885 -0.50121 1.02163 C -0.50659 1.02595 -0.50989 1.03151 -0.51545 1.03522 C -0.5276 1.04943 -0.53177 1.05561 -0.54548 1.06333 C -0.54704 1.06519 -0.54843 1.06735 -0.55 1.06889 C -0.55312 1.07106 -0.55954 1.07415 -0.55954 1.07445 C -0.56527 1.08094 -0.57066 1.08156 -0.57708 1.08527 C -0.58385 1.09361 -0.59149 1.09392 -0.59913 1.09948 C -0.60347 1.10226 -0.60764 1.10689 -0.61163 1.1106 C -0.61371 1.11245 -0.61632 1.11338 -0.61788 1.11585 C -0.61892 1.1177 -0.61979 1.12048 -0.62118 1.12141 C -0.62604 1.12604 -0.63177 1.12666 -0.63698 1.13006 C -0.63889 1.13099 -0.6401 1.13377 -0.64166 1.13562 C -0.65659 1.14736 -0.67291 1.1523 -0.68906 1.1523 L -0.70312 1.16064 E">
                                      <p:cBhvr>
                                        <p:cTn id="12" dur="2300" fill="hold"/>
                                        <p:tgtEl>
                                          <p:spTgt spid="10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5E-006 1.4396E-006 C 0.00382 0.02008 0.00816 0.04109 0.00955 0.0621 C 0.01059 0.07723 0.01268 0.1072 0.01268 0.1072 C 0.01233 0.14581 0.02743 0.25826 0.00643 0.31603 C 0.00521 0.34693 0.00538 0.39079 -5E-006 0.42045 C -0.00192 0.46834 -0.00782 0.51776 -0.01424 0.56472 C -0.01702 0.58542 -0.01876 0.6089 -0.02536 0.62651 C -0.02796 0.64072 -0.02883 0.65369 -0.03334 0.66636 C -0.03525 0.68057 -0.0382 0.69262 -0.04133 0.70559 C -0.04515 0.72258 -0.04671 0.74112 -0.054 0.75409 C -0.0573 0.77139 -0.06043 0.78282 -0.06511 0.7992 C -0.0672 0.81403 -0.07206 0.83534 -0.07935 0.84399 C -0.08126 0.8548 -0.08473 0.86963 -0.0889 0.87828 C -0.09133 0.88323 -0.09428 0.88755 -0.09688 0.89249 C -0.09845 0.89527 -0.10157 0.90053 -0.10157 0.90053 C -0.10261 0.90454 -0.10331 0.90887 -0.1047 0.91196 C -0.10695 0.91752 -0.11268 0.92617 -0.11268 0.92617 C -0.11442 0.93605 -0.11668 0.94161 -0.12067 0.94903 C -0.12327 0.96231 -0.12501 0.95613 -0.13022 0.9654 C -0.13265 0.96973 -0.13386 0.9759 -0.13647 0.97961 C -0.13942 0.98455 -0.14602 0.99104 -0.14602 0.99104 C -0.15122 1.00525 -0.14775 0.99815 -0.15869 1.01081 C -0.16025 1.01267 -0.16355 1.01668 -0.16355 1.01668 C -0.1698 1.03151 -0.17015 1.02657 -0.17779 1.03615 C -0.18126 1.04047 -0.18386 1.04665 -0.18733 1.05036 C -0.18872 1.0519 -0.19063 1.05159 -0.19202 1.05314 C -0.19532 1.05653 -0.20157 1.06457 -0.20157 1.06457 C -0.20782 1.08156 -0.2007 1.06518 -0.21112 1.07878 C -0.22622 1.09793 -0.20452 1.07754 -0.22223 1.09299 C -0.22848 1.10751 -0.22935 1.10226 -0.23647 1.11245 C -0.24775 1.12882 -0.26164 1.14859 -0.27622 1.15508 C -0.29341 1.18598 -0.2757 1.15941 -0.29046 1.17176 C -0.31025 1.18937 -0.29133 1.1764 -0.30626 1.19154 C -0.31147 1.19679 -0.3198 1.19864 -0.32536 1.20266 C -0.3297 1.21069 -0.33681 1.21625 -0.34289 1.21965 C -0.34845 1.22644 -0.34567 1.22552 -0.3507 1.22552 E">
                                      <p:cBhvr>
                                        <p:cTn id="14" dur="2400" fill="hold"/>
                                        <p:tgtEl>
                                          <p:spTgt spid="10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0" repeatCount="indefinite">
                                  <p:stCondLst>
                                    <p:cond delay="2900"/>
                                  </p:stCondLst>
                                  <p:childTnLst>
                                    <p:animMotion origin="layout" path="M 1.66667E-006 -3.21594E-006 C 0.00434 0.02317 0.00261 0.01112 0.00469 0.03677 C 0.00382 0.12975 0.00816 0.17764 1.66667E-006 0.25147 C -0.00191 0.28792 -0.00451 0.32376 -0.01111 0.35867 C -0.01267 0.37473 -0.01406 0.3874 -0.0191 0.40099 C -0.02326 0.42323 -0.02552 0.44857 -0.03489 0.46618 C -0.03646 0.47483 -0.03559 0.47452 -0.03976 0.48008 C -0.04288 0.48409 -0.0493 0.49151 -0.0493 0.49151 C -0.0559 0.50912 -0.06493 0.51375 -0.07465 0.52549 C -0.07882 0.53043 -0.0842 0.53105 -0.08889 0.53383 C -0.09045 0.53476 -0.09375 0.53661 -0.09375 0.53661 C -0.09479 0.53846 -0.09549 0.54125 -0.09687 0.54248 C -0.09983 0.54526 -0.10642 0.54804 -0.10642 0.54804 C -0.11788 0.54526 -0.12118 0.5502 -0.12378 0.53105 C -0.12309 0.50757 -0.12396 0.45197 -0.10955 0.43497 C -0.1066 0.41922 -0.10625 0.41335 -0.09844 0.40408 C -0.09444 0.38215 -0.10035 0.40841 -0.09201 0.38987 C -0.08576 0.37597 -0.09618 0.38462 -0.08576 0.37844 C -0.07934 0.36114 -0.08663 0.3769 -0.07778 0.36732 C -0.06684 0.35558 -0.08368 0.3667 -0.06979 0.35867 C -0.06233 0.34971 -0.06701 0.35434 -0.05555 0.34755 C -0.05399 0.34662 -0.05243 0.34569 -0.05087 0.34477 C -0.0493 0.34384 -0.04601 0.34168 -0.04601 0.34168 C -0.04184 0.3426 -0.0375 0.34322 -0.03333 0.34477 C -0.03003 0.346 -0.02378 0.35033 -0.02378 0.35033 C -0.02222 0.35218 -0.02014 0.35311 -0.0191 0.35589 C -0.01424 0.36979 -0.01476 0.38709 -0.00955 0.40099 C -0.01111 0.44733 -0.01094 0.4498 -0.0191 0.48317 C -0.02483 0.50634 -0.01892 0.49367 -0.02535 0.50572 C -0.0283 0.52024 -0.02621 0.5119 -0.03333 0.53105 C -0.03437 0.53383 -0.03542 0.53661 -0.03646 0.53939 C -0.0375 0.54217 -0.03976 0.54804 -0.03976 0.54804 C -0.04201 0.55978 -0.04687 0.56812 -0.05087 0.57863 C -0.05885 0.59994 -0.06389 0.61786 -0.07621 0.63269 C -0.08073 0.64505 -0.08819 0.65493 -0.09375 0.66667 C -0.09878 0.67717 -0.1026 0.69077 -0.10799 0.70065 C -0.11528 0.71394 -0.12361 0.72506 -0.13177 0.73711 C -0.14739 0.75997 -0.15937 0.79055 -0.17621 0.81063 C -0.18264 0.82855 -0.17552 0.81125 -0.1842 0.82484 C -0.20121 0.85141 -0.1875 0.83442 -0.19844 0.84739 C -0.20521 0.86531 -0.22795 0.88848 -0.23976 0.89528 C -0.24635 0.90763 -0.25503 0.91134 -0.26354 0.91814 C -0.2691 0.92246 -0.27205 0.92864 -0.27778 0.93204 C -0.28524 0.94594 -0.27587 0.93049 -0.28576 0.94069 C -0.29358 0.94903 -0.29809 0.95861 -0.30642 0.96324 C -0.31163 0.96911 -0.31788 0.97961 -0.32378 0.98301 C -0.32778 0.98981 -0.33125 0.99382 -0.33646 0.99722 C -0.34167 1.00618 -0.34722 1.01267 -0.35399 1.01699 C -0.35451 1.01977 -0.35434 1.02317 -0.35555 1.02534 C -0.35677 1.0275 -0.35885 1.02688 -0.36042 1.02812 C -0.37535 1.04109 -0.35555 1.02719 -0.36979 1.03677 C -0.37083 1.03862 -0.3717 1.04109 -0.37309 1.04233 C -0.37604 1.0448 -0.38264 1.04789 -0.38264 1.04789 C -0.38698 1.05314 -0.3908 1.06024 -0.39531 1.06488 C -0.40538 1.07538 -0.39444 1.05808 -0.40486 1.07322 C -0.41146 1.0828 -0.41701 1.09392 -0.42535 1.09886 C -0.42639 1.10071 -0.42726 1.10319 -0.42864 1.10442 C -0.43212 1.10813 -0.4375 1.1072 -0.42864 1.1072 E">
                                      <p:cBhvr>
                                        <p:cTn id="16" dur="4600" fill="hold"/>
                                        <p:tgtEl>
                                          <p:spTgt spid="10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7.19802E-007 C 0.00642 0.01082 0.00451 0.0275 0.00642 0.04233 C 0.00712 0.0482 0.00955 0.05963 0.00955 0.05963 C 0.01076 0.10875 0.0125 0.13408 0.00955 0.18351 C 0.0092 0.18938 0.00729 0.19463 0.00642 0.2005 C 0.0033 0.22305 -0.0007 0.24591 -0.00469 0.26815 C -0.00573 0.27433 -0.00834 0.27928 -0.00955 0.28515 C -0.01372 0.30646 -0.01511 0.33921 -0.02379 0.35589 C -0.02552 0.36516 -0.03177 0.38122 -0.03177 0.38122 C -0.03472 0.39729 -0.0375 0.41737 -0.04445 0.42911 C -0.0467 0.44023 -0.04879 0.4532 -0.05243 0.46309 C -0.05677 0.47575 -0.06337 0.48564 -0.06823 0.49707 C -0.06962 0.49985 -0.06997 0.50294 -0.07136 0.50541 C -0.07622 0.51406 -0.08264 0.51962 -0.0875 0.52796 C -0.09063 0.54681 -0.08594 0.52858 -0.09358 0.53939 C -0.09514 0.54156 -0.09549 0.54526 -0.09688 0.54773 C -0.10018 0.5536 -0.10226 0.55391 -0.10625 0.55638 C -0.11111 0.56442 -0.11754 0.57523 -0.12379 0.57894 C -0.12709 0.58079 -0.13038 0.58233 -0.13334 0.5845 C -0.13507 0.58542 -0.13802 0.58728 -0.13802 0.58728 C -0.14202 0.59438 -0.14705 0.59778 -0.15226 0.60118 C -0.15538 0.60365 -0.15868 0.60519 -0.16198 0.60705 C -0.16337 0.60798 -0.16667 0.60983 -0.16667 0.60983 C -0.17917 0.62528 -0.19341 0.62744 -0.20782 0.6296 C -0.2217 0.62744 -0.23837 0.63671 -0.24913 0.62126 C -0.25243 0.61663 -0.25469 0.60056 -0.25556 0.59593 C -0.25608 0.59315 -0.25712 0.58728 -0.25712 0.58728 C -0.25643 0.56256 -0.26007 0.52858 -0.24913 0.50819 C -0.24566 0.48935 -0.23629 0.4668 -0.22535 0.46031 C -0.21476 0.44115 -0.22014 0.44579 -0.21111 0.44054 C -0.20521 0.43065 -0.19983 0.41984 -0.19219 0.4152 C -0.18716 0.40594 -0.17847 0.39358 -0.17153 0.38956 C -0.16389 0.3806 -0.1566 0.37813 -0.14775 0.37566 C -0.14462 0.37381 -0.14271 0.36886 -0.13976 0.36701 C -0.13611 0.36454 -0.11511 0.36145 -0.11441 0.36145 C -0.09688 0.35095 -0.07622 0.35743 -0.05868 0.35867 C -0.054 0.36145 -0.04931 0.36423 -0.04445 0.36701 C -0.04306 0.36794 -0.03976 0.36979 -0.03976 0.36979 C -0.0375 0.37412 -0.03386 0.37659 -0.03177 0.38122 C -0.03073 0.38338 -0.03108 0.38709 -0.03021 0.38956 C -0.02674 0.39945 -0.02222 0.40964 -0.01754 0.41798 C -0.01459 0.43436 -0.01302 0.43837 -0.00955 0.45166 C -0.00816 0.45722 -0.00729 0.46309 -0.00625 0.46865 C -0.00573 0.47143 -0.00469 0.4773 -0.00469 0.4773 C -0.00521 0.49954 -0.00052 0.56998 -0.01424 0.59593 C -0.01788 0.61446 -0.02084 0.63794 -0.02847 0.65246 C -0.03073 0.66451 -0.03681 0.67872 -0.04115 0.68891 C -0.04306 0.69849 -0.04549 0.70467 -0.04931 0.71177 C -0.05278 0.73155 -0.0474 0.70807 -0.05729 0.72568 C -0.05972 0.73031 -0.06094 0.73803 -0.06337 0.74267 C -0.06771 0.75039 -0.07292 0.75626 -0.07622 0.76522 C -0.07726 0.768 -0.07795 0.77171 -0.07934 0.77387 C -0.08056 0.77572 -0.08264 0.77572 -0.0842 0.77665 C -0.09358 0.79302 -0.10313 0.80723 -0.11285 0.82453 C -0.1191 0.83596 -0.12639 0.85079 -0.13507 0.85574 C -0.14427 0.86686 -0.154 0.87551 -0.16337 0.88663 C -0.16632 0.89003 -0.17032 0.88941 -0.17292 0.8925 C -0.1849 0.9064 -0.20087 0.91196 -0.21441 0.92061 C -0.2217 0.92555 -0.229 0.93235 -0.23663 0.9376 C -0.24532 0.94378 -0.25452 0.94625 -0.26337 0.95181 C -0.26511 0.95305 -0.2665 0.95614 -0.26823 0.95737 C -0.28004 0.96479 -0.29271 0.96571 -0.30469 0.97158 C -0.31545 0.97684 -0.32535 0.9827 -0.33646 0.98549 C -0.34479 0.99105 -0.35313 0.99599 -0.36181 0.9997 C -0.37587 1.01545 -0.39375 1.02194 -0.40972 1.0309 C -0.41806 1.04078 -0.42847 1.04511 -0.43802 1.05067 C -0.4507 1.05808 -0.43525 1.04882 -0.44757 1.05623 C -0.44913 1.05716 -0.45226 1.05901 -0.45226 1.05901 C -0.45764 1.06797 -0.46597 1.0692 -0.47292 1.07322 C -0.47448 1.07415 -0.47622 1.07507 -0.47778 1.076 C -0.47934 1.07693 -0.48091 1.07785 -0.48247 1.07878 C -0.48403 1.07971 -0.48733 1.08156 -0.48733 1.08156 C -0.49202 1.09052 -0.49827 1.09207 -0.50469 1.09577 C -0.51893 1.10411 -0.53282 1.114 -0.54757 1.11832 C -0.56059 1.12605 -0.57431 1.12759 -0.58733 1.13532 C -0.59045 1.13717 -0.59358 1.13902 -0.5967 1.14088 C -0.59827 1.1418 -0.60157 1.14366 -0.60157 1.14366 E">
                                      <p:cBhvr>
                                        <p:cTn id="18" dur="5000" fill="hold"/>
                                        <p:tgtEl>
                                          <p:spTgt spid="10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0" repeatCount="indefinite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5.55556E-006 1.82268E-006 C 0.0026 0.0139 0.00485 0.02533 0.00642 0.03954 C 0.0059 0.05993 0.00919 0.10534 -0.00157 0.12449 C -0.00244 0.13067 -0.00487 0.1489 -0.00626 0.15261 C -0.00973 0.16187 -0.01442 0.17361 -0.01581 0.18381 C -0.01772 0.19709 -0.01928 0.20914 -0.02379 0.22026 C -0.02831 0.25363 -0.02188 0.21254 -0.02848 0.24003 C -0.02935 0.24374 -0.029 0.24806 -0.03004 0.25146 C -0.0323 0.25857 -0.03542 0.26475 -0.03803 0.27123 C -0.03907 0.27401 -0.04115 0.27957 -0.04115 0.27957 C -0.04289 0.28915 -0.04515 0.29502 -0.04914 0.30244 C -0.05105 0.31232 -0.05365 0.31696 -0.05712 0.32499 C -0.06129 0.33518 -0.06494 0.34692 -0.0698 0.35588 C -0.07119 0.35835 -0.0731 0.35928 -0.07449 0.36175 C -0.08004 0.37164 -0.08369 0.38214 -0.09046 0.38986 C -0.09983 0.41272 -0.11355 0.42817 -0.12535 0.4464 C -0.13351 0.45906 -0.13403 0.46431 -0.14445 0.46895 C -0.15469 0.48748 -0.16528 0.50324 -0.17935 0.51127 C -0.19775 0.54525 -0.16928 0.49459 -0.19046 0.52548 C -0.19185 0.52764 -0.19219 0.53166 -0.19358 0.53382 C -0.19792 0.54031 -0.20261 0.54062 -0.20782 0.54247 C -0.21372 0.55267 -0.21997 0.55761 -0.22692 0.56502 C -0.23542 0.57398 -0.24237 0.58727 -0.2507 0.59592 C -0.25817 0.60364 -0.26667 0.60889 -0.27449 0.61569 C -0.279 0.62372 -0.28438 0.62619 -0.29046 0.6299 C -0.29671 0.64164 -0.29653 0.64318 -0.30782 0.64967 C -0.31094 0.65152 -0.31737 0.65523 -0.31737 0.65523 C -0.32483 0.66419 -0.33733 0.67593 -0.34601 0.68087 C -0.35765 0.69477 -0.34289 0.6784 -0.35712 0.68921 C -0.36702 0.69663 -0.35643 0.69292 -0.36667 0.70342 C -0.36997 0.70682 -0.37431 0.7059 -0.37778 0.70898 C -0.39167 0.72165 -0.37952 0.71516 -0.39202 0.72042 C -0.39792 0.73092 -0.40626 0.74111 -0.41424 0.74575 C -0.42535 0.75872 -0.43733 0.7683 -0.44914 0.77973 C -0.45903 0.78931 -0.46841 0.80444 -0.47935 0.81062 C -0.48091 0.81248 -0.4823 0.81526 -0.48403 0.81649 C -0.48612 0.81804 -0.48855 0.81742 -0.49046 0.81927 C -0.49237 0.82113 -0.49324 0.82545 -0.49515 0.82761 C -0.49758 0.83039 -0.50053 0.83132 -0.50313 0.83317 C -0.50903 0.84399 -0.51407 0.84955 -0.52223 0.85295 C -0.52431 0.85573 -0.52622 0.85943 -0.52848 0.8616 C -0.53091 0.86407 -0.53403 0.86438 -0.53647 0.86716 C -0.54671 0.87951 -0.54219 0.88229 -0.55556 0.88693 C -0.56147 0.89774 -0.5698 0.90485 -0.57778 0.90948 C -0.58265 0.91844 -0.58872 0.91998 -0.59515 0.92369 C -0.60226 0.92801 -0.60886 0.93821 -0.61581 0.94346 C -0.61928 0.94624 -0.62327 0.94686 -0.62692 0.94902 C -0.63143 0.95736 -0.63664 0.95891 -0.64272 0.96323 C -0.64688 0.97034 -0.65747 0.97775 -0.66337 0.98022 C -0.67969 0.99907 -0.69879 1.00834 -0.71581 1.02533 C -0.71737 1.02687 -0.71893 1.02934 -0.72049 1.03089 C -0.72466 1.0349 -0.729 1.03861 -0.73334 1.04232 C -0.73733 1.04603 -0.74011 1.05406 -0.74445 1.05653 C -0.74966 1.05962 -0.75035 1.05962 -0.75556 1.06487 C -0.76303 1.07228 -0.7691 1.07877 -0.77778 1.08186 C -0.78664 1.09762 -0.77761 1.08464 -0.79046 1.09329 C -0.79219 1.09453 -0.79341 1.09762 -0.79515 1.09885 C -0.80452 1.10627 -0.8132 1.11244 -0.82223 1.1214 C -0.82883 1.12789 -0.83664 1.14118 -0.84445 1.14118 E">
                                      <p:cBhvr>
                                        <p:cTn id="20" dur="4000" fill="hold"/>
                                        <p:tgtEl>
                                          <p:spTgt spid="10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0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00399 0.01545 C -0.00086 0.03275 0.00226 0.0482 0.004 0.0658 C 0.004 0.07198 0.00365 0.17486 0.00087 0.21038 C -3.61111000000004E-006 0.2215 -0.00295 0.23263 -0.00399 0.24406 C -0.00625 0.26877 -0.00694 0.29441 -0.0151 0.31573 C -0.01666 0.33025 -0.01701 0.34507 -0.02309 0.35527 C -0.025 0.36824 -0.02656 0.38029 -0.03073 0.39141 C -0.03333 0.40562 -0.03541 0.42045 -0.04027 0.43312 C -0.04236 0.44486 -0.04739 0.45351 -0.05139 0.46401 C -0.05764 0.481 -0.05208 0.47822 -0.06076 0.4949 C -0.06389 0.51159 -0.0618 0.51777 -0.07031 0.5224 C -0.07465 0.54557 -0.08229 0.56997 -0.09392 0.58388 C -0.0967 0.5984 -0.10225 0.60859 -0.10972 0.61693 C -0.11319 0.63361 -0.12014 0.64937 -0.12864 0.65864 C -0.13229 0.66821 -0.13507 0.67099 -0.13975 0.67872 C -0.14878 0.69231 -0.15798 0.7059 -0.16666 0.72042 C -0.16909 0.7334 -0.17135 0.72969 -0.17777 0.7368 C -0.18454 0.75502 -0.18541 0.74545 -0.19496 0.75657 C -0.20156 0.7646 -0.20659 0.7714 -0.21389 0.77603 C -0.22118 0.78468 -0.22951 0.79611 -0.23767 0.80105 C -0.24357 0.80847 -0.24791 0.81681 -0.25503 0.82052 C -0.25607 0.82206 -0.25677 0.82484 -0.25816 0.82638 C -0.26111 0.82917 -0.2677 0.83195 -0.2677 0.83225 C -0.27343 0.83874 -0.28003 0.84616 -0.28645 0.8511 C -0.28958 0.85388 -0.29288 0.85512 -0.296 0.85697 C -0.29757 0.8579 -0.30086 0.85975 -0.30086 0.86006 C -0.30659 0.86655 -0.31284 0.86933 -0.31961 0.87365 C -0.32118 0.87427 -0.32291 0.8755 -0.32448 0.87643 C -0.32604 0.87705 -0.32916 0.87921 -0.32916 0.87952 C -0.33073 0.88106 -0.33229 0.88323 -0.33402 0.88477 C -0.33524 0.8857 -0.33715 0.8857 -0.33854 0.88724 C -0.34079 0.88971 -0.34253 0.89342 -0.34496 0.89589 C -0.34791 0.89836 -0.35451 0.90145 -0.35451 0.90176 C -0.35555 0.903 -0.35625 0.90578 -0.35764 0.90732 C -0.36059 0.9098 -0.36701 0.91258 -0.36701 0.91288 C -0.36857 0.91443 -0.36996 0.91659 -0.3717 0.91814 C -0.37326 0.91937 -0.37517 0.91937 -0.37656 0.92092 C -0.37777 0.92215 -0.37847 0.92493 -0.37968 0.92648 C -0.38125 0.92833 -0.38975 0.93142 -0.39079 0.93204 C -0.39357 0.93513 -0.39566 0.94069 -0.39861 0.94347 C -0.40555 0.94965 -0.41753 0.95397 -0.42552 0.95984 C -0.43611 0.96818 -0.44566 0.97714 -0.45711 0.98239 C -0.46788 0.99475 -0.46284 0.99135 -0.47118 0.9963 C -0.48767 1.01607 -0.46336 0.98795 -0.48229 1.00433 C -0.48576 1.00773 -0.48854 1.01174 -0.49166 1.01576 C -0.49444 1.01885 -0.49826 1.01885 -0.50121 1.02163 C -0.50659 1.02595 -0.50989 1.03151 -0.51545 1.03522 C -0.5276 1.04943 -0.53177 1.05561 -0.54548 1.06333 C -0.54704 1.06519 -0.54843 1.06735 -0.55 1.06889 C -0.55312 1.07106 -0.55954 1.07415 -0.55954 1.07445 C -0.56527 1.08094 -0.57066 1.08156 -0.57708 1.08527 C -0.58385 1.09361 -0.59149 1.09392 -0.59913 1.09948 C -0.60347 1.10226 -0.60764 1.10689 -0.61163 1.1106 C -0.61371 1.11245 -0.61632 1.11338 -0.61788 1.11585 C -0.61892 1.1177 -0.61979 1.12048 -0.62118 1.12141 C -0.62604 1.12604 -0.63177 1.12666 -0.63698 1.13006 C -0.63889 1.13099 -0.6401 1.13377 -0.64166 1.13562 C -0.65659 1.14736 -0.67291 1.1523 -0.68906 1.1523 L -0.70312 1.16064 E">
                                      <p:cBhvr>
                                        <p:cTn id="22" dur="4200" fill="hold"/>
                                        <p:tgtEl>
                                          <p:spTgt spid="10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0" repeatCount="indefinite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-5.55556E-006 1.82268E-006 C 0.0026 0.0139 0.00485 0.02533 0.00642 0.03954 C 0.0059 0.05993 0.00919 0.10534 -0.00157 0.12449 C -0.00244 0.13067 -0.00487 0.1489 -0.00626 0.15261 C -0.00973 0.16187 -0.01442 0.17361 -0.01581 0.18381 C -0.01772 0.19709 -0.01928 0.20914 -0.02379 0.22026 C -0.02831 0.25363 -0.02188 0.21254 -0.02848 0.24003 C -0.02935 0.24374 -0.029 0.24806 -0.03004 0.25146 C -0.0323 0.25857 -0.03542 0.26475 -0.03803 0.27123 C -0.03907 0.27401 -0.04115 0.27957 -0.04115 0.27957 C -0.04289 0.28915 -0.04515 0.29502 -0.04914 0.30244 C -0.05105 0.31232 -0.05365 0.31696 -0.05712 0.32499 C -0.06129 0.33518 -0.06494 0.34692 -0.0698 0.35588 C -0.07119 0.35835 -0.0731 0.35928 -0.07449 0.36175 C -0.08004 0.37164 -0.08369 0.38214 -0.09046 0.38986 C -0.09983 0.41272 -0.11355 0.42817 -0.12535 0.4464 C -0.13351 0.45906 -0.13403 0.46431 -0.14445 0.46895 C -0.15469 0.48748 -0.16528 0.50324 -0.17935 0.51127 C -0.19775 0.54525 -0.16928 0.49459 -0.19046 0.52548 C -0.19185 0.52764 -0.19219 0.53166 -0.19358 0.53382 C -0.19792 0.54031 -0.20261 0.54062 -0.20782 0.54247 C -0.21372 0.55267 -0.21997 0.55761 -0.22692 0.56502 C -0.23542 0.57398 -0.24237 0.58727 -0.2507 0.59592 C -0.25817 0.60364 -0.26667 0.60889 -0.27449 0.61569 C -0.279 0.62372 -0.28438 0.62619 -0.29046 0.6299 C -0.29671 0.64164 -0.29653 0.64318 -0.30782 0.64967 C -0.31094 0.65152 -0.31737 0.65523 -0.31737 0.65523 C -0.32483 0.66419 -0.33733 0.67593 -0.34601 0.68087 C -0.35765 0.69477 -0.34289 0.6784 -0.35712 0.68921 C -0.36702 0.69663 -0.35643 0.69292 -0.36667 0.70342 C -0.36997 0.70682 -0.37431 0.7059 -0.37778 0.70898 C -0.39167 0.72165 -0.37952 0.71516 -0.39202 0.72042 C -0.39792 0.73092 -0.40626 0.74111 -0.41424 0.74575 C -0.42535 0.75872 -0.43733 0.7683 -0.44914 0.77973 C -0.45903 0.78931 -0.46841 0.80444 -0.47935 0.81062 C -0.48091 0.81248 -0.4823 0.81526 -0.48403 0.81649 C -0.48612 0.81804 -0.48855 0.81742 -0.49046 0.81927 C -0.49237 0.82113 -0.49324 0.82545 -0.49515 0.82761 C -0.49758 0.83039 -0.50053 0.83132 -0.50313 0.83317 C -0.50903 0.84399 -0.51407 0.84955 -0.52223 0.85295 C -0.52431 0.85573 -0.52622 0.85943 -0.52848 0.8616 C -0.53091 0.86407 -0.53403 0.86438 -0.53647 0.86716 C -0.54671 0.87951 -0.54219 0.88229 -0.55556 0.88693 C -0.56147 0.89774 -0.5698 0.90485 -0.57778 0.90948 C -0.58265 0.91844 -0.58872 0.91998 -0.59515 0.92369 C -0.60226 0.92801 -0.60886 0.93821 -0.61581 0.94346 C -0.61928 0.94624 -0.62327 0.94686 -0.62692 0.94902 C -0.63143 0.95736 -0.63664 0.95891 -0.64272 0.96323 C -0.64688 0.97034 -0.65747 0.97775 -0.66337 0.98022 C -0.67969 0.99907 -0.69879 1.00834 -0.71581 1.02533 C -0.71737 1.02687 -0.71893 1.02934 -0.72049 1.03089 C -0.72466 1.0349 -0.729 1.03861 -0.73334 1.04232 C -0.73733 1.04603 -0.74011 1.05406 -0.74445 1.05653 C -0.74966 1.05962 -0.75035 1.05962 -0.75556 1.06487 C -0.76303 1.07228 -0.7691 1.07877 -0.77778 1.08186 C -0.78664 1.09762 -0.77761 1.08464 -0.79046 1.09329 C -0.79219 1.09453 -0.79341 1.09762 -0.79515 1.09885 C -0.80452 1.10627 -0.8132 1.11244 -0.82223 1.1214 C -0.82883 1.12789 -0.83664 1.14118 -0.84445 1.14118 E">
                                      <p:cBhvr>
                                        <p:cTn id="24" dur="3800" fill="hold"/>
                                        <p:tgtEl>
                                          <p:spTgt spid="10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2" presetSubtype="2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800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" dur="8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2" presetSubtype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800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" dur="8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 repeatCount="indefinite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2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path" presetID="42" repeatCount="indefinite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-1.11111E-006 2.40037E-006 L 0.00347 -0.80723 E">
                                      <p:cBhvr>
                                        <p:cTn id="37" dur="3000" fill="hold"/>
                                        <p:tgtEl>
                                          <p:spTgt spid="10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6" repeatCount="indefinite">
                                  <p:stCondLst>
                                    <p:cond delay="2100"/>
                                  </p:stCondLst>
                                  <p:childTnLst>
                                    <p:animScale>
                                      <p:cBhvr>
                                        <p:cTn id="39" dur="3000" fill="hold"/>
                                        <p:tgtEl>
                                          <p:spTgt spid="103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3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42" repeatCount="indefinite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-1.11111E-006 2.40037E-006 L 0.00347 -0.80723 E">
                                      <p:cBhvr>
                                        <p:cTn id="44" dur="3000" fill="hold"/>
                                        <p:tgtEl>
                                          <p:spTgt spid="10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6" repeatCount="indefinite">
                                  <p:stCondLst>
                                    <p:cond delay="3500"/>
                                  </p:stCondLst>
                                  <p:childTnLst>
                                    <p:animScale>
                                      <p:cBhvr>
                                        <p:cTn id="46" dur="3000" fill="hold"/>
                                        <p:tgtEl>
                                          <p:spTgt spid="1037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 repeatCount="indefinite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3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42" repeatCount="indefinite">
                                  <p:stCondLst>
                                    <p:cond delay="3700"/>
                                  </p:stCondLst>
                                  <p:childTnLst>
                                    <p:animMotion origin="layout" path="M -1.11111E-006 2.40037E-006 L 0.00347 -0.80723 E">
                                      <p:cBhvr>
                                        <p:cTn id="51" dur="3000" fill="hold"/>
                                        <p:tgtEl>
                                          <p:spTgt spid="10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6" repeatCount="indefinite">
                                  <p:stCondLst>
                                    <p:cond delay="3700"/>
                                  </p:stCondLst>
                                  <p:childTnLst>
                                    <p:animScale>
                                      <p:cBhvr>
                                        <p:cTn id="53" dur="3000" fill="hold"/>
                                        <p:tgtEl>
                                          <p:spTgt spid="103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 repeatCount="indefinite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3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42" repeatCount="indefinite">
                                  <p:stCondLst>
                                    <p:cond delay="4100"/>
                                  </p:stCondLst>
                                  <p:childTnLst>
                                    <p:animMotion origin="layout" path="M -1.11111E-006 2.40037E-006 L 0.00347 -0.80723 E">
                                      <p:cBhvr>
                                        <p:cTn id="58" dur="3000" fill="hold"/>
                                        <p:tgtEl>
                                          <p:spTgt spid="10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6" repeatCount="indefinite">
                                  <p:stCondLst>
                                    <p:cond delay="4100"/>
                                  </p:stCondLst>
                                  <p:childTnLst>
                                    <p:animScale>
                                      <p:cBhvr>
                                        <p:cTn id="60" dur="3000" fill="hold"/>
                                        <p:tgtEl>
                                          <p:spTgt spid="103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2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556452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5" descr=""/>
          <p:cNvPicPr/>
          <p:nvPr/>
        </p:nvPicPr>
        <p:blipFill>
          <a:blip r:embed="rId2"/>
          <a:stretch/>
        </p:blipFill>
        <p:spPr>
          <a:xfrm flipH="1" rot="17290800">
            <a:off x="2137680" y="720720"/>
            <a:ext cx="1238400" cy="1325880"/>
          </a:xfrm>
          <a:prstGeom prst="rect">
            <a:avLst/>
          </a:prstGeom>
          <a:ln w="0">
            <a:noFill/>
          </a:ln>
        </p:spPr>
      </p:pic>
      <p:pic>
        <p:nvPicPr>
          <p:cNvPr id="1045" name="图片 9" descr=""/>
          <p:cNvPicPr/>
          <p:nvPr/>
        </p:nvPicPr>
        <p:blipFill>
          <a:blip r:embed="rId3"/>
          <a:srcRect l="6833" t="0" r="45140" b="37834"/>
          <a:stretch/>
        </p:blipFill>
        <p:spPr>
          <a:xfrm>
            <a:off x="8686800" y="4324320"/>
            <a:ext cx="179280" cy="174600"/>
          </a:xfrm>
          <a:prstGeom prst="rect">
            <a:avLst/>
          </a:prstGeom>
          <a:ln w="0">
            <a:noFill/>
          </a:ln>
        </p:spPr>
      </p:pic>
      <p:sp>
        <p:nvSpPr>
          <p:cNvPr id="1046" name="TextBox 2"/>
          <p:cNvSpPr/>
          <p:nvPr/>
        </p:nvSpPr>
        <p:spPr>
          <a:xfrm>
            <a:off x="7192800" y="572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提示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TextBox 3"/>
          <p:cNvSpPr/>
          <p:nvPr/>
        </p:nvSpPr>
        <p:spPr>
          <a:xfrm>
            <a:off x="3686760" y="1123920"/>
            <a:ext cx="105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、内容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8" name="Picture 6" descr=""/>
          <p:cNvPicPr/>
          <p:nvPr/>
        </p:nvPicPr>
        <p:blipFill>
          <a:blip r:embed="rId4"/>
          <a:stretch/>
        </p:blipFill>
        <p:spPr>
          <a:xfrm>
            <a:off x="-988920" y="-77760"/>
            <a:ext cx="3274920" cy="524016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5" descr=""/>
          <p:cNvPicPr/>
          <p:nvPr/>
        </p:nvPicPr>
        <p:blipFill>
          <a:blip r:embed="rId5"/>
          <a:stretch/>
        </p:blipFill>
        <p:spPr>
          <a:xfrm flipH="1" rot="17291400">
            <a:off x="2131920" y="2331360"/>
            <a:ext cx="1239840" cy="1325880"/>
          </a:xfrm>
          <a:prstGeom prst="rect">
            <a:avLst/>
          </a:prstGeom>
          <a:ln w="0">
            <a:noFill/>
          </a:ln>
        </p:spPr>
      </p:pic>
      <p:sp>
        <p:nvSpPr>
          <p:cNvPr id="1050" name="TextBox 15"/>
          <p:cNvSpPr/>
          <p:nvPr/>
        </p:nvSpPr>
        <p:spPr>
          <a:xfrm>
            <a:off x="4042080" y="268452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、内容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1" name="图片 16" descr=""/>
          <p:cNvPicPr/>
          <p:nvPr/>
        </p:nvPicPr>
        <p:blipFill>
          <a:blip r:embed="rId6"/>
          <a:srcRect l="31741" t="4400" r="9485" b="52681"/>
          <a:stretch/>
        </p:blipFill>
        <p:spPr>
          <a:xfrm rot="19065000">
            <a:off x="7940160" y="3835080"/>
            <a:ext cx="951120" cy="135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23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1.11111E-006 2.40037E-006 L 0.00347 -0.80723 E">
                                      <p:cBhvr>
                                        <p:cTn id="73" dur="2300" fill="hold"/>
                                        <p:tgtEl>
                                          <p:spTgt spid="10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75" dur="2300" fill="hold"/>
                                        <p:tgtEl>
                                          <p:spTgt spid="1045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10">
                                  <p:stCondLst>
                                    <p:cond delay="2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5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" dur="8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6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" dur="6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5400000">
                                      <p:cBhvr>
                                        <p:cTn id="90" dur="6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2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9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9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9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6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0" dur="6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8">
                                  <p:stCondLst>
                                    <p:cond delay="1500"/>
                                  </p:stCondLst>
                                  <p:childTnLst>
                                    <p:animRot by="5400000">
                                      <p:cBhvr>
                                        <p:cTn id="102" dur="6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2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9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9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9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2" name="图片 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5" descr=""/>
          <p:cNvPicPr/>
          <p:nvPr/>
        </p:nvPicPr>
        <p:blipFill>
          <a:blip r:embed="rId2"/>
          <a:stretch/>
        </p:blipFill>
        <p:spPr>
          <a:xfrm flipH="1" rot="1132800">
            <a:off x="2190240" y="721440"/>
            <a:ext cx="1238400" cy="1325880"/>
          </a:xfrm>
          <a:prstGeom prst="rect">
            <a:avLst/>
          </a:prstGeom>
          <a:ln w="0">
            <a:noFill/>
          </a:ln>
        </p:spPr>
      </p:pic>
      <p:sp>
        <p:nvSpPr>
          <p:cNvPr id="1054" name="TextBox 2"/>
          <p:cNvSpPr/>
          <p:nvPr/>
        </p:nvSpPr>
        <p:spPr>
          <a:xfrm>
            <a:off x="7193160" y="572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上午</a:t>
            </a: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顾老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TextBox 3"/>
          <p:cNvSpPr/>
          <p:nvPr/>
        </p:nvSpPr>
        <p:spPr>
          <a:xfrm>
            <a:off x="3763080" y="1123920"/>
            <a:ext cx="105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、内容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6" name="Picture 6" descr=""/>
          <p:cNvPicPr/>
          <p:nvPr/>
        </p:nvPicPr>
        <p:blipFill>
          <a:blip r:embed="rId3"/>
          <a:stretch/>
        </p:blipFill>
        <p:spPr>
          <a:xfrm>
            <a:off x="-988920" y="-77760"/>
            <a:ext cx="3274920" cy="524016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5" descr=""/>
          <p:cNvPicPr/>
          <p:nvPr/>
        </p:nvPicPr>
        <p:blipFill>
          <a:blip r:embed="rId4"/>
          <a:stretch/>
        </p:blipFill>
        <p:spPr>
          <a:xfrm flipH="1" rot="399000">
            <a:off x="2183760" y="2333160"/>
            <a:ext cx="1238040" cy="1324440"/>
          </a:xfrm>
          <a:prstGeom prst="rect">
            <a:avLst/>
          </a:prstGeom>
          <a:ln w="0">
            <a:noFill/>
          </a:ln>
        </p:spPr>
      </p:pic>
      <p:sp>
        <p:nvSpPr>
          <p:cNvPr id="1058" name="TextBox 15"/>
          <p:cNvSpPr/>
          <p:nvPr/>
        </p:nvSpPr>
        <p:spPr>
          <a:xfrm>
            <a:off x="4118400" y="268452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、内容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9" name="图片 16" descr=""/>
          <p:cNvPicPr/>
          <p:nvPr/>
        </p:nvPicPr>
        <p:blipFill>
          <a:blip r:embed="rId5"/>
          <a:srcRect l="31741" t="4400" r="9485" b="52681"/>
          <a:stretch/>
        </p:blipFill>
        <p:spPr>
          <a:xfrm rot="19065000">
            <a:off x="7938720" y="3835080"/>
            <a:ext cx="950760" cy="1352520"/>
          </a:xfrm>
          <a:prstGeom prst="rect">
            <a:avLst/>
          </a:prstGeom>
          <a:ln w="0">
            <a:noFill/>
          </a:ln>
        </p:spPr>
      </p:pic>
      <p:pic>
        <p:nvPicPr>
          <p:cNvPr id="1060" name="图片 10" descr=""/>
          <p:cNvPicPr/>
          <p:nvPr/>
        </p:nvPicPr>
        <p:blipFill>
          <a:blip r:embed="rId6"/>
          <a:srcRect l="18571" t="24553" r="18117" b="9158"/>
          <a:stretch/>
        </p:blipFill>
        <p:spPr>
          <a:xfrm>
            <a:off x="2843280" y="1886040"/>
            <a:ext cx="804960" cy="841320"/>
          </a:xfrm>
          <a:prstGeom prst="rect">
            <a:avLst/>
          </a:prstGeom>
          <a:ln w="0">
            <a:noFill/>
          </a:ln>
        </p:spPr>
      </p:pic>
      <p:sp>
        <p:nvSpPr>
          <p:cNvPr id="1061" name="TextBox 11"/>
          <p:cNvSpPr/>
          <p:nvPr/>
        </p:nvSpPr>
        <p:spPr>
          <a:xfrm>
            <a:off x="3744720" y="203832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内容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2" name="图片 12" descr=""/>
          <p:cNvPicPr/>
          <p:nvPr/>
        </p:nvPicPr>
        <p:blipFill>
          <a:blip r:embed="rId7"/>
          <a:srcRect l="18571" t="24553" r="18117" b="9158"/>
          <a:stretch/>
        </p:blipFill>
        <p:spPr>
          <a:xfrm>
            <a:off x="2819520" y="2492280"/>
            <a:ext cx="803160" cy="841320"/>
          </a:xfrm>
          <a:prstGeom prst="rect">
            <a:avLst/>
          </a:prstGeom>
          <a:ln w="0">
            <a:noFill/>
          </a:ln>
        </p:spPr>
      </p:pic>
      <p:sp>
        <p:nvSpPr>
          <p:cNvPr id="1063" name="TextBox 17"/>
          <p:cNvSpPr/>
          <p:nvPr/>
        </p:nvSpPr>
        <p:spPr>
          <a:xfrm>
            <a:off x="3502080" y="2643120"/>
            <a:ext cx="12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内容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图片 18" descr=""/>
          <p:cNvPicPr/>
          <p:nvPr/>
        </p:nvPicPr>
        <p:blipFill>
          <a:blip r:embed="rId8"/>
          <a:srcRect l="18571" t="24553" r="18117" b="9158"/>
          <a:stretch/>
        </p:blipFill>
        <p:spPr>
          <a:xfrm>
            <a:off x="2819520" y="3102120"/>
            <a:ext cx="803160" cy="841320"/>
          </a:xfrm>
          <a:prstGeom prst="rect">
            <a:avLst/>
          </a:prstGeom>
          <a:ln w="0">
            <a:noFill/>
          </a:ln>
        </p:spPr>
      </p:pic>
      <p:sp>
        <p:nvSpPr>
          <p:cNvPr id="1065" name="TextBox 19"/>
          <p:cNvSpPr/>
          <p:nvPr/>
        </p:nvSpPr>
        <p:spPr>
          <a:xfrm>
            <a:off x="3502080" y="3254400"/>
            <a:ext cx="12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内容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6" name="图片 20" descr=""/>
          <p:cNvPicPr/>
          <p:nvPr/>
        </p:nvPicPr>
        <p:blipFill>
          <a:blip r:embed="rId9"/>
          <a:srcRect l="18571" t="24553" r="18117" b="9158"/>
          <a:stretch/>
        </p:blipFill>
        <p:spPr>
          <a:xfrm>
            <a:off x="2800440" y="3711600"/>
            <a:ext cx="804600" cy="841320"/>
          </a:xfrm>
          <a:prstGeom prst="rect">
            <a:avLst/>
          </a:prstGeom>
          <a:ln w="0">
            <a:noFill/>
          </a:ln>
        </p:spPr>
      </p:pic>
      <p:sp>
        <p:nvSpPr>
          <p:cNvPr id="1067" name="TextBox 21"/>
          <p:cNvSpPr/>
          <p:nvPr/>
        </p:nvSpPr>
        <p:spPr>
          <a:xfrm>
            <a:off x="3483000" y="3863880"/>
            <a:ext cx="12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内容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图片 4" descr=""/>
          <p:cNvPicPr/>
          <p:nvPr/>
        </p:nvPicPr>
        <p:blipFill>
          <a:blip r:embed="rId10"/>
          <a:stretch/>
        </p:blipFill>
        <p:spPr>
          <a:xfrm>
            <a:off x="2274840" y="0"/>
            <a:ext cx="4594320" cy="514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3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8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9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9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8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9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8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9" name="图片 1" descr=""/>
          <p:cNvPicPr/>
          <p:nvPr/>
        </p:nvPicPr>
        <p:blipFill>
          <a:blip r:embed="rId2"/>
          <a:stretch/>
        </p:blipFill>
        <p:spPr>
          <a:xfrm>
            <a:off x="6310440" y="-522360"/>
            <a:ext cx="3058920" cy="579924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6" descr=""/>
          <p:cNvPicPr/>
          <p:nvPr/>
        </p:nvPicPr>
        <p:blipFill>
          <a:blip r:embed="rId3"/>
          <a:stretch/>
        </p:blipFill>
        <p:spPr>
          <a:xfrm>
            <a:off x="8153280" y="-77760"/>
            <a:ext cx="3276720" cy="5240160"/>
          </a:xfrm>
          <a:prstGeom prst="rect">
            <a:avLst/>
          </a:prstGeom>
          <a:ln w="0">
            <a:noFill/>
          </a:ln>
        </p:spPr>
      </p:pic>
      <p:pic>
        <p:nvPicPr>
          <p:cNvPr id="1071" name="图片 11" descr=""/>
          <p:cNvPicPr/>
          <p:nvPr/>
        </p:nvPicPr>
        <p:blipFill>
          <a:blip r:embed="rId4"/>
          <a:srcRect l="18571" t="24553" r="18117" b="9158"/>
          <a:stretch/>
        </p:blipFill>
        <p:spPr>
          <a:xfrm>
            <a:off x="576360" y="-17640"/>
            <a:ext cx="804600" cy="839880"/>
          </a:xfrm>
          <a:prstGeom prst="rect">
            <a:avLst/>
          </a:prstGeom>
          <a:ln w="0">
            <a:noFill/>
          </a:ln>
        </p:spPr>
      </p:pic>
      <p:sp>
        <p:nvSpPr>
          <p:cNvPr id="1072" name="TextBox 12"/>
          <p:cNvSpPr/>
          <p:nvPr/>
        </p:nvSpPr>
        <p:spPr>
          <a:xfrm>
            <a:off x="1264320" y="13320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高合金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3" name="图片 13" descr=""/>
          <p:cNvPicPr/>
          <p:nvPr/>
        </p:nvPicPr>
        <p:blipFill>
          <a:blip r:embed="rId5"/>
          <a:srcRect l="18571" t="24553" r="18117" b="9158"/>
          <a:stretch/>
        </p:blipFill>
        <p:spPr>
          <a:xfrm>
            <a:off x="552600" y="587520"/>
            <a:ext cx="803160" cy="841320"/>
          </a:xfrm>
          <a:prstGeom prst="rect">
            <a:avLst/>
          </a:prstGeom>
          <a:ln w="0">
            <a:noFill/>
          </a:ln>
        </p:spPr>
      </p:pic>
      <p:sp>
        <p:nvSpPr>
          <p:cNvPr id="1074" name="TextBox 14"/>
          <p:cNvSpPr/>
          <p:nvPr/>
        </p:nvSpPr>
        <p:spPr>
          <a:xfrm>
            <a:off x="1115640" y="73836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6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风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5" name="图片 15" descr=""/>
          <p:cNvPicPr/>
          <p:nvPr/>
        </p:nvPicPr>
        <p:blipFill>
          <a:blip r:embed="rId6"/>
          <a:srcRect l="18571" t="24553" r="18117" b="9158"/>
          <a:stretch/>
        </p:blipFill>
        <p:spPr>
          <a:xfrm>
            <a:off x="552600" y="1197000"/>
            <a:ext cx="803160" cy="841320"/>
          </a:xfrm>
          <a:prstGeom prst="rect">
            <a:avLst/>
          </a:prstGeom>
          <a:ln w="0">
            <a:noFill/>
          </a:ln>
        </p:spPr>
      </p:pic>
      <p:sp>
        <p:nvSpPr>
          <p:cNvPr id="1076" name="TextBox 16"/>
          <p:cNvSpPr/>
          <p:nvPr/>
        </p:nvSpPr>
        <p:spPr>
          <a:xfrm>
            <a:off x="1303200" y="134928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7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也很热调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7" name="图片 17" descr=""/>
          <p:cNvPicPr/>
          <p:nvPr/>
        </p:nvPicPr>
        <p:blipFill>
          <a:blip r:embed="rId7"/>
          <a:srcRect l="18571" t="24553" r="18117" b="9158"/>
          <a:stretch/>
        </p:blipFill>
        <p:spPr>
          <a:xfrm>
            <a:off x="533520" y="1809720"/>
            <a:ext cx="803160" cy="841320"/>
          </a:xfrm>
          <a:prstGeom prst="rect">
            <a:avLst/>
          </a:prstGeom>
          <a:ln w="0">
            <a:noFill/>
          </a:ln>
        </p:spPr>
      </p:pic>
      <p:sp>
        <p:nvSpPr>
          <p:cNvPr id="1078" name="TextBox 27"/>
          <p:cNvSpPr/>
          <p:nvPr/>
        </p:nvSpPr>
        <p:spPr>
          <a:xfrm>
            <a:off x="1158840" y="1957320"/>
            <a:ext cx="113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减色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9" name="图片 28" descr=""/>
          <p:cNvPicPr/>
          <p:nvPr/>
        </p:nvPicPr>
        <p:blipFill>
          <a:blip r:embed="rId8"/>
          <a:srcRect l="0" t="33314" r="23930" b="31046"/>
          <a:stretch/>
        </p:blipFill>
        <p:spPr>
          <a:xfrm rot="2178600">
            <a:off x="869760" y="2451240"/>
            <a:ext cx="677520" cy="585720"/>
          </a:xfrm>
          <a:prstGeom prst="rect">
            <a:avLst/>
          </a:prstGeom>
          <a:ln w="0">
            <a:noFill/>
          </a:ln>
        </p:spPr>
      </p:pic>
      <p:sp>
        <p:nvSpPr>
          <p:cNvPr id="1080" name="TextBox 29"/>
          <p:cNvSpPr/>
          <p:nvPr/>
        </p:nvSpPr>
        <p:spPr>
          <a:xfrm>
            <a:off x="177840" y="2533680"/>
            <a:ext cx="988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fa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1" name="图片 30" descr=""/>
          <p:cNvPicPr/>
          <p:nvPr/>
        </p:nvPicPr>
        <p:blipFill>
          <a:blip r:embed="rId9"/>
          <a:srcRect l="0" t="33314" r="23930" b="31046"/>
          <a:stretch/>
        </p:blipFill>
        <p:spPr>
          <a:xfrm rot="2178600">
            <a:off x="870120" y="3097080"/>
            <a:ext cx="677520" cy="586080"/>
          </a:xfrm>
          <a:prstGeom prst="rect">
            <a:avLst/>
          </a:prstGeom>
          <a:ln w="0">
            <a:noFill/>
          </a:ln>
        </p:spPr>
      </p:pic>
      <p:sp>
        <p:nvSpPr>
          <p:cNvPr id="1082" name="TextBox 31"/>
          <p:cNvSpPr/>
          <p:nvPr/>
        </p:nvSpPr>
        <p:spPr>
          <a:xfrm>
            <a:off x="1219320" y="3173400"/>
            <a:ext cx="988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gjhk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3" name="图片 32" descr=""/>
          <p:cNvPicPr/>
          <p:nvPr/>
        </p:nvPicPr>
        <p:blipFill>
          <a:blip r:embed="rId10"/>
          <a:srcRect l="0" t="33314" r="23930" b="31046"/>
          <a:stretch/>
        </p:blipFill>
        <p:spPr>
          <a:xfrm rot="2178600">
            <a:off x="869760" y="3859200"/>
            <a:ext cx="677520" cy="585720"/>
          </a:xfrm>
          <a:prstGeom prst="rect">
            <a:avLst/>
          </a:prstGeom>
          <a:ln w="0">
            <a:noFill/>
          </a:ln>
        </p:spPr>
      </p:pic>
      <p:sp>
        <p:nvSpPr>
          <p:cNvPr id="1084" name="TextBox 33"/>
          <p:cNvSpPr/>
          <p:nvPr/>
        </p:nvSpPr>
        <p:spPr>
          <a:xfrm>
            <a:off x="1219320" y="3935520"/>
            <a:ext cx="988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kolgl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9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9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9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9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9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5" name="图片 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5" descr=""/>
          <p:cNvPicPr/>
          <p:nvPr/>
        </p:nvPicPr>
        <p:blipFill>
          <a:blip r:embed="rId2"/>
          <a:stretch/>
        </p:blipFill>
        <p:spPr>
          <a:xfrm flipH="1" rot="1132800">
            <a:off x="1628280" y="603000"/>
            <a:ext cx="1238400" cy="1323720"/>
          </a:xfrm>
          <a:prstGeom prst="rect">
            <a:avLst/>
          </a:prstGeom>
          <a:ln w="0">
            <a:noFill/>
          </a:ln>
        </p:spPr>
      </p:pic>
      <p:sp>
        <p:nvSpPr>
          <p:cNvPr id="1087" name="TextBox 2"/>
          <p:cNvSpPr/>
          <p:nvPr/>
        </p:nvSpPr>
        <p:spPr>
          <a:xfrm>
            <a:off x="7109640" y="572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还是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TextBox 3"/>
          <p:cNvSpPr/>
          <p:nvPr/>
        </p:nvSpPr>
        <p:spPr>
          <a:xfrm>
            <a:off x="3484800" y="100332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、内容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9" name="Picture 6" descr=""/>
          <p:cNvPicPr/>
          <p:nvPr/>
        </p:nvPicPr>
        <p:blipFill>
          <a:blip r:embed="rId3"/>
          <a:stretch/>
        </p:blipFill>
        <p:spPr>
          <a:xfrm>
            <a:off x="-988920" y="-77760"/>
            <a:ext cx="3274920" cy="5240160"/>
          </a:xfrm>
          <a:prstGeom prst="rect">
            <a:avLst/>
          </a:prstGeom>
          <a:ln w="0">
            <a:noFill/>
          </a:ln>
        </p:spPr>
      </p:pic>
      <p:pic>
        <p:nvPicPr>
          <p:cNvPr id="1090" name="图片 16" descr=""/>
          <p:cNvPicPr/>
          <p:nvPr/>
        </p:nvPicPr>
        <p:blipFill>
          <a:blip r:embed="rId4"/>
          <a:srcRect l="31741" t="4400" r="9485" b="52681"/>
          <a:stretch/>
        </p:blipFill>
        <p:spPr>
          <a:xfrm rot="19065000">
            <a:off x="7938720" y="3835080"/>
            <a:ext cx="950760" cy="1352520"/>
          </a:xfrm>
          <a:prstGeom prst="rect">
            <a:avLst/>
          </a:prstGeom>
          <a:ln w="0">
            <a:noFill/>
          </a:ln>
        </p:spPr>
      </p:pic>
      <p:pic>
        <p:nvPicPr>
          <p:cNvPr id="1091" name="图片 10" descr=""/>
          <p:cNvPicPr/>
          <p:nvPr/>
        </p:nvPicPr>
        <p:blipFill>
          <a:blip r:embed="rId5"/>
          <a:srcRect l="18571" t="24553" r="18117" b="9158"/>
          <a:stretch/>
        </p:blipFill>
        <p:spPr>
          <a:xfrm>
            <a:off x="2004840" y="1733400"/>
            <a:ext cx="804960" cy="841680"/>
          </a:xfrm>
          <a:prstGeom prst="rect">
            <a:avLst/>
          </a:prstGeom>
          <a:ln w="0">
            <a:noFill/>
          </a:ln>
        </p:spPr>
      </p:pic>
      <p:sp>
        <p:nvSpPr>
          <p:cNvPr id="1092" name="TextBox 11"/>
          <p:cNvSpPr/>
          <p:nvPr/>
        </p:nvSpPr>
        <p:spPr>
          <a:xfrm>
            <a:off x="2509920" y="188604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  523464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3" name="图片 12" descr=""/>
          <p:cNvPicPr/>
          <p:nvPr/>
        </p:nvPicPr>
        <p:blipFill>
          <a:blip r:embed="rId6"/>
          <a:srcRect l="18571" t="24553" r="18117" b="9158"/>
          <a:stretch/>
        </p:blipFill>
        <p:spPr>
          <a:xfrm>
            <a:off x="1981080" y="2419200"/>
            <a:ext cx="803520" cy="841680"/>
          </a:xfrm>
          <a:prstGeom prst="rect">
            <a:avLst/>
          </a:prstGeom>
          <a:ln w="0">
            <a:noFill/>
          </a:ln>
        </p:spPr>
      </p:pic>
      <p:sp>
        <p:nvSpPr>
          <p:cNvPr id="1094" name="TextBox 17"/>
          <p:cNvSpPr/>
          <p:nvPr/>
        </p:nvSpPr>
        <p:spPr>
          <a:xfrm>
            <a:off x="2497680" y="2570040"/>
            <a:ext cx="26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6765568564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5" name="图片 18" descr=""/>
          <p:cNvPicPr/>
          <p:nvPr/>
        </p:nvPicPr>
        <p:blipFill>
          <a:blip r:embed="rId7"/>
          <a:srcRect l="18571" t="24553" r="18117" b="9158"/>
          <a:stretch/>
        </p:blipFill>
        <p:spPr>
          <a:xfrm>
            <a:off x="1981080" y="3105000"/>
            <a:ext cx="803520" cy="841680"/>
          </a:xfrm>
          <a:prstGeom prst="rect">
            <a:avLst/>
          </a:prstGeom>
          <a:ln w="0">
            <a:noFill/>
          </a:ln>
        </p:spPr>
      </p:pic>
      <p:sp>
        <p:nvSpPr>
          <p:cNvPr id="1096" name="TextBox 19"/>
          <p:cNvSpPr/>
          <p:nvPr/>
        </p:nvSpPr>
        <p:spPr>
          <a:xfrm>
            <a:off x="2497680" y="3257640"/>
            <a:ext cx="26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87698767897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7" name="图片 20" descr=""/>
          <p:cNvPicPr/>
          <p:nvPr/>
        </p:nvPicPr>
        <p:blipFill>
          <a:blip r:embed="rId8"/>
          <a:srcRect l="18571" t="24553" r="18117" b="9158"/>
          <a:stretch/>
        </p:blipFill>
        <p:spPr>
          <a:xfrm>
            <a:off x="1981080" y="3787920"/>
            <a:ext cx="803520" cy="841320"/>
          </a:xfrm>
          <a:prstGeom prst="rect">
            <a:avLst/>
          </a:prstGeom>
          <a:ln w="0">
            <a:noFill/>
          </a:ln>
        </p:spPr>
      </p:pic>
      <p:sp>
        <p:nvSpPr>
          <p:cNvPr id="1098" name="TextBox 21"/>
          <p:cNvSpPr/>
          <p:nvPr/>
        </p:nvSpPr>
        <p:spPr>
          <a:xfrm>
            <a:off x="2495520" y="394344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56796/967865466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TextBox 22"/>
          <p:cNvSpPr/>
          <p:nvPr/>
        </p:nvSpPr>
        <p:spPr>
          <a:xfrm>
            <a:off x="1360800" y="572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导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0" name="图片 1" descr=""/>
          <p:cNvPicPr/>
          <p:nvPr/>
        </p:nvPicPr>
        <p:blipFill>
          <a:blip r:embed="rId9"/>
          <a:stretch/>
        </p:blipFill>
        <p:spPr>
          <a:xfrm>
            <a:off x="2274840" y="0"/>
            <a:ext cx="4594320" cy="514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9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9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8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9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灯片编号占位符 4"/>
          <p:cNvSpPr/>
          <p:nvPr/>
        </p:nvSpPr>
        <p:spPr>
          <a:xfrm>
            <a:off x="655308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CDA26-49F9-46FF-9A04-E047C16DF86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2" name="图片 3" descr=""/>
          <p:cNvPicPr/>
          <p:nvPr/>
        </p:nvPicPr>
        <p:blipFill>
          <a:blip r:embed="rId2"/>
          <a:srcRect l="9158" t="18571" r="24553" b="18117"/>
          <a:stretch/>
        </p:blipFill>
        <p:spPr>
          <a:xfrm>
            <a:off x="9217080" y="-592200"/>
            <a:ext cx="841320" cy="801720"/>
          </a:xfrm>
          <a:prstGeom prst="rect">
            <a:avLst/>
          </a:prstGeom>
          <a:ln w="0">
            <a:noFill/>
          </a:ln>
        </p:spPr>
      </p:pic>
      <p:pic>
        <p:nvPicPr>
          <p:cNvPr id="1103" name="图片 4" descr=""/>
          <p:cNvPicPr/>
          <p:nvPr/>
        </p:nvPicPr>
        <p:blipFill>
          <a:blip r:embed="rId3"/>
          <a:srcRect l="0" t="33314" r="23930" b="31046"/>
          <a:stretch/>
        </p:blipFill>
        <p:spPr>
          <a:xfrm flipH="1" rot="20297400">
            <a:off x="9559440" y="-160560"/>
            <a:ext cx="963720" cy="450720"/>
          </a:xfrm>
          <a:prstGeom prst="rect">
            <a:avLst/>
          </a:prstGeom>
          <a:ln w="0">
            <a:noFill/>
          </a:ln>
        </p:spPr>
      </p:pic>
      <p:pic>
        <p:nvPicPr>
          <p:cNvPr id="1104" name="图片 5" descr=""/>
          <p:cNvPicPr/>
          <p:nvPr/>
        </p:nvPicPr>
        <p:blipFill>
          <a:blip r:embed="rId4"/>
          <a:srcRect l="0" t="33229" r="28381" b="17607"/>
          <a:stretch/>
        </p:blipFill>
        <p:spPr>
          <a:xfrm rot="10518600">
            <a:off x="8570160" y="-593640"/>
            <a:ext cx="827280" cy="568080"/>
          </a:xfrm>
          <a:prstGeom prst="rect">
            <a:avLst/>
          </a:prstGeom>
          <a:ln w="0">
            <a:noFill/>
          </a:ln>
        </p:spPr>
      </p:pic>
      <p:pic>
        <p:nvPicPr>
          <p:cNvPr id="1105" name="图片 7" descr=""/>
          <p:cNvPicPr/>
          <p:nvPr/>
        </p:nvPicPr>
        <p:blipFill>
          <a:blip r:embed="rId5"/>
          <a:srcRect l="0" t="33314" r="23930" b="31046"/>
          <a:stretch/>
        </p:blipFill>
        <p:spPr>
          <a:xfrm flipH="1" rot="20298600">
            <a:off x="9274320" y="143640"/>
            <a:ext cx="963360" cy="451440"/>
          </a:xfrm>
          <a:prstGeom prst="rect">
            <a:avLst/>
          </a:prstGeom>
          <a:ln w="0">
            <a:noFill/>
          </a:ln>
        </p:spPr>
      </p:pic>
      <p:pic>
        <p:nvPicPr>
          <p:cNvPr id="1106" name="图片 8" descr=""/>
          <p:cNvPicPr/>
          <p:nvPr/>
        </p:nvPicPr>
        <p:blipFill>
          <a:blip r:embed="rId6"/>
          <a:srcRect l="0" t="33314" r="23930" b="31046"/>
          <a:stretch/>
        </p:blipFill>
        <p:spPr>
          <a:xfrm flipH="1" rot="20297400">
            <a:off x="7517880" y="-464760"/>
            <a:ext cx="963720" cy="452520"/>
          </a:xfrm>
          <a:prstGeom prst="rect">
            <a:avLst/>
          </a:prstGeom>
          <a:ln w="0">
            <a:noFill/>
          </a:ln>
        </p:spPr>
      </p:pic>
      <p:pic>
        <p:nvPicPr>
          <p:cNvPr id="1107" name="图片 9" descr=""/>
          <p:cNvPicPr/>
          <p:nvPr/>
        </p:nvPicPr>
        <p:blipFill>
          <a:blip r:embed="rId7"/>
          <a:srcRect l="9158" t="18571" r="24553" b="18117"/>
          <a:stretch/>
        </p:blipFill>
        <p:spPr>
          <a:xfrm>
            <a:off x="9750600" y="757080"/>
            <a:ext cx="841320" cy="804960"/>
          </a:xfrm>
          <a:prstGeom prst="rect">
            <a:avLst/>
          </a:prstGeom>
          <a:ln w="0">
            <a:noFill/>
          </a:ln>
        </p:spPr>
      </p:pic>
      <p:pic>
        <p:nvPicPr>
          <p:cNvPr id="1108" name="图片 10" descr=""/>
          <p:cNvPicPr/>
          <p:nvPr/>
        </p:nvPicPr>
        <p:blipFill>
          <a:blip r:embed="rId8"/>
          <a:srcRect l="0" t="33314" r="23930" b="31046"/>
          <a:stretch/>
        </p:blipFill>
        <p:spPr>
          <a:xfrm flipH="1" rot="20297400">
            <a:off x="9349920" y="-312480"/>
            <a:ext cx="963720" cy="452520"/>
          </a:xfrm>
          <a:prstGeom prst="rect">
            <a:avLst/>
          </a:prstGeom>
          <a:ln w="0">
            <a:noFill/>
          </a:ln>
        </p:spPr>
      </p:pic>
      <p:pic>
        <p:nvPicPr>
          <p:cNvPr id="1109" name="图片 1" descr=""/>
          <p:cNvPicPr/>
          <p:nvPr/>
        </p:nvPicPr>
        <p:blipFill>
          <a:blip r:embed="rId9"/>
          <a:stretch/>
        </p:blipFill>
        <p:spPr>
          <a:xfrm>
            <a:off x="6310440" y="-522360"/>
            <a:ext cx="3058920" cy="5799240"/>
          </a:xfrm>
          <a:prstGeom prst="rect">
            <a:avLst/>
          </a:prstGeom>
          <a:ln w="0">
            <a:noFill/>
          </a:ln>
        </p:spPr>
      </p:pic>
      <p:pic>
        <p:nvPicPr>
          <p:cNvPr id="1110" name="图片 6" descr=""/>
          <p:cNvPicPr/>
          <p:nvPr/>
        </p:nvPicPr>
        <p:blipFill>
          <a:blip r:embed="rId10"/>
          <a:srcRect l="31725" t="4394" r="9492" b="52673"/>
          <a:stretch/>
        </p:blipFill>
        <p:spPr>
          <a:xfrm rot="20135400">
            <a:off x="-338040" y="1574280"/>
            <a:ext cx="1550880" cy="2208240"/>
          </a:xfrm>
          <a:prstGeom prst="rect">
            <a:avLst/>
          </a:prstGeom>
          <a:ln w="0">
            <a:noFill/>
          </a:ln>
        </p:spPr>
      </p:pic>
      <p:pic>
        <p:nvPicPr>
          <p:cNvPr id="1111" name="图片 11" descr=""/>
          <p:cNvPicPr/>
          <p:nvPr/>
        </p:nvPicPr>
        <p:blipFill>
          <a:blip r:embed="rId11"/>
          <a:stretch/>
        </p:blipFill>
        <p:spPr>
          <a:xfrm>
            <a:off x="-246240" y="2112840"/>
            <a:ext cx="3732480" cy="3030840"/>
          </a:xfrm>
          <a:prstGeom prst="rect">
            <a:avLst/>
          </a:prstGeom>
          <a:ln w="0">
            <a:noFill/>
          </a:ln>
        </p:spPr>
      </p:pic>
      <p:pic>
        <p:nvPicPr>
          <p:cNvPr id="1112" name="图片 13" descr=""/>
          <p:cNvPicPr/>
          <p:nvPr/>
        </p:nvPicPr>
        <p:blipFill>
          <a:blip r:embed="rId12"/>
          <a:srcRect l="6833" t="0" r="45140" b="37834"/>
          <a:stretch/>
        </p:blipFill>
        <p:spPr>
          <a:xfrm>
            <a:off x="1344600" y="3844800"/>
            <a:ext cx="179280" cy="174600"/>
          </a:xfrm>
          <a:prstGeom prst="rect">
            <a:avLst/>
          </a:prstGeom>
          <a:ln w="0">
            <a:noFill/>
          </a:ln>
        </p:spPr>
      </p:pic>
      <p:pic>
        <p:nvPicPr>
          <p:cNvPr id="1113" name="图片 15" descr=""/>
          <p:cNvPicPr/>
          <p:nvPr/>
        </p:nvPicPr>
        <p:blipFill>
          <a:blip r:embed="rId13"/>
          <a:srcRect l="6833" t="0" r="45140" b="37834"/>
          <a:stretch/>
        </p:blipFill>
        <p:spPr>
          <a:xfrm>
            <a:off x="1344600" y="3817800"/>
            <a:ext cx="179280" cy="174600"/>
          </a:xfrm>
          <a:prstGeom prst="rect">
            <a:avLst/>
          </a:prstGeom>
          <a:ln w="0">
            <a:noFill/>
          </a:ln>
        </p:spPr>
      </p:pic>
      <p:pic>
        <p:nvPicPr>
          <p:cNvPr id="1114" name="图片 16" descr=""/>
          <p:cNvPicPr/>
          <p:nvPr/>
        </p:nvPicPr>
        <p:blipFill>
          <a:blip r:embed="rId14"/>
          <a:srcRect l="6833" t="0" r="45140" b="37834"/>
          <a:stretch/>
        </p:blipFill>
        <p:spPr>
          <a:xfrm>
            <a:off x="811080" y="3029040"/>
            <a:ext cx="179640" cy="174600"/>
          </a:xfrm>
          <a:prstGeom prst="rect">
            <a:avLst/>
          </a:prstGeom>
          <a:ln w="0">
            <a:noFill/>
          </a:ln>
        </p:spPr>
      </p:pic>
      <p:pic>
        <p:nvPicPr>
          <p:cNvPr id="1115" name="图片 17" descr=""/>
          <p:cNvPicPr/>
          <p:nvPr/>
        </p:nvPicPr>
        <p:blipFill>
          <a:blip r:embed="rId15"/>
          <a:srcRect l="6833" t="0" r="45140" b="37834"/>
          <a:stretch/>
        </p:blipFill>
        <p:spPr>
          <a:xfrm>
            <a:off x="811080" y="3083040"/>
            <a:ext cx="179640" cy="174600"/>
          </a:xfrm>
          <a:prstGeom prst="rect">
            <a:avLst/>
          </a:prstGeom>
          <a:ln w="0">
            <a:noFill/>
          </a:ln>
        </p:spPr>
      </p:pic>
      <p:sp>
        <p:nvSpPr>
          <p:cNvPr id="1116" name="TextBox 2"/>
          <p:cNvSpPr/>
          <p:nvPr/>
        </p:nvSpPr>
        <p:spPr>
          <a:xfrm>
            <a:off x="2588040" y="99072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书体坊米芾体"/>
                <a:ea typeface="书体坊米芾体"/>
              </a:rPr>
              <a:t>谢谢大家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TextBox 12"/>
          <p:cNvSpPr/>
          <p:nvPr/>
        </p:nvSpPr>
        <p:spPr>
          <a:xfrm>
            <a:off x="4862520" y="23432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书体坊米芾体"/>
                <a:ea typeface="书体坊米芾体"/>
              </a:rPr>
              <a:t>作者日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8" name="Picture 6" descr=""/>
          <p:cNvPicPr/>
          <p:nvPr/>
        </p:nvPicPr>
        <p:blipFill>
          <a:blip r:embed="rId16"/>
          <a:stretch/>
        </p:blipFill>
        <p:spPr>
          <a:xfrm>
            <a:off x="8153280" y="-77760"/>
            <a:ext cx="3276720" cy="5240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9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9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9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247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1545 C -0.00086 0.03275 0.00226 0.0482 0.004 0.0658 C 0.004 0.07198 0.00365 0.17486 0.00087 0.21038 C -3.61111000000004E-006 0.2215 -0.00295 0.23263 -0.00399 0.24406 C -0.00625 0.26877 -0.00694 0.29441 -0.0151 0.31573 C -0.01666 0.33025 -0.01701 0.34507 -0.02309 0.35527 C -0.025 0.36824 -0.02656 0.38029 -0.03073 0.39141 C -0.03333 0.40562 -0.03541 0.42045 -0.04027 0.43312 C -0.04236 0.44486 -0.04739 0.45351 -0.05139 0.46401 C -0.05764 0.481 -0.05208 0.47822 -0.06076 0.4949 C -0.06389 0.51159 -0.0618 0.51777 -0.07031 0.5224 C -0.07465 0.54557 -0.08229 0.56997 -0.09392 0.58388 C -0.0967 0.5984 -0.10225 0.60859 -0.10972 0.61693 C -0.11319 0.63361 -0.12014 0.64937 -0.12864 0.65864 C -0.13229 0.66821 -0.13507 0.67099 -0.13975 0.67872 C -0.14878 0.69231 -0.15798 0.7059 -0.16666 0.72042 C -0.16909 0.7334 -0.17135 0.72969 -0.17777 0.7368 C -0.18454 0.75502 -0.18541 0.74545 -0.19496 0.75657 C -0.20156 0.7646 -0.20659 0.7714 -0.21389 0.77603 C -0.22118 0.78468 -0.22951 0.79611 -0.23767 0.80105 C -0.24357 0.80847 -0.24791 0.81681 -0.25503 0.82052 C -0.25607 0.82206 -0.25677 0.82484 -0.25816 0.82638 C -0.26111 0.82917 -0.2677 0.83195 -0.2677 0.83225 C -0.27343 0.83874 -0.28003 0.84616 -0.28645 0.8511 C -0.28958 0.85388 -0.29288 0.85512 -0.296 0.85697 C -0.29757 0.8579 -0.30086 0.85975 -0.30086 0.86006 C -0.30659 0.86655 -0.31284 0.86933 -0.31961 0.87365 C -0.32118 0.87427 -0.32291 0.8755 -0.32448 0.87643 C -0.32604 0.87705 -0.32916 0.87921 -0.32916 0.87952 C -0.33073 0.88106 -0.33229 0.88323 -0.33402 0.88477 C -0.33524 0.8857 -0.33715 0.8857 -0.33854 0.88724 C -0.34079 0.88971 -0.34253 0.89342 -0.34496 0.89589 C -0.34791 0.89836 -0.35451 0.90145 -0.35451 0.90176 C -0.35555 0.903 -0.35625 0.90578 -0.35764 0.90732 C -0.36059 0.9098 -0.36701 0.91258 -0.36701 0.91288 C -0.36857 0.91443 -0.36996 0.91659 -0.3717 0.91814 C -0.37326 0.91937 -0.37517 0.91937 -0.37656 0.92092 C -0.37777 0.92215 -0.37847 0.92493 -0.37968 0.92648 C -0.38125 0.92833 -0.38975 0.93142 -0.39079 0.93204 C -0.39357 0.93513 -0.39566 0.94069 -0.39861 0.94347 C -0.40555 0.94965 -0.41753 0.95397 -0.42552 0.95984 C -0.43611 0.96818 -0.44566 0.97714 -0.45711 0.98239 C -0.46788 0.99475 -0.46284 0.99135 -0.47118 0.9963 C -0.48767 1.01607 -0.46336 0.98795 -0.48229 1.00433 C -0.48576 1.00773 -0.48854 1.01174 -0.49166 1.01576 C -0.49444 1.01885 -0.49826 1.01885 -0.50121 1.02163 C -0.50659 1.02595 -0.50989 1.03151 -0.51545 1.03522 C -0.5276 1.04943 -0.53177 1.05561 -0.54548 1.06333 C -0.54704 1.06519 -0.54843 1.06735 -0.55 1.06889 C -0.55312 1.07106 -0.55954 1.07415 -0.55954 1.07445 C -0.56527 1.08094 -0.57066 1.08156 -0.57708 1.08527 C -0.58385 1.09361 -0.59149 1.09392 -0.59913 1.09948 C -0.60347 1.10226 -0.60764 1.10689 -0.61163 1.1106 C -0.61371 1.11245 -0.61632 1.11338 -0.61788 1.11585 C -0.61892 1.1177 -0.61979 1.12048 -0.62118 1.12141 C -0.62604 1.12604 -0.63177 1.12666 -0.63698 1.13006 C -0.63889 1.13099 -0.6401 1.13377 -0.64166 1.13562 C -0.65659 1.14736 -0.67291 1.1523 -0.68906 1.1523 L -0.70312 1.16064 E">
                                      <p:cBhvr>
                                        <p:cTn id="248" dur="2300" fill="hold"/>
                                        <p:tgtEl>
                                          <p:spTgt spid="1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9" nodeType="withEffect" fill="hold" presetClass="path" presetID="0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5E-006 1.4396E-006 C 0.00382 0.02008 0.00816 0.04109 0.00955 0.0621 C 0.01059 0.07723 0.01268 0.1072 0.01268 0.1072 C 0.01233 0.14581 0.02743 0.25826 0.00643 0.31603 C 0.00521 0.34693 0.00538 0.39079 -5E-006 0.42045 C -0.00192 0.46834 -0.00782 0.51776 -0.01424 0.56472 C -0.01702 0.58542 -0.01876 0.6089 -0.02536 0.62651 C -0.02796 0.64072 -0.02883 0.65369 -0.03334 0.66636 C -0.03525 0.68057 -0.0382 0.69262 -0.04133 0.70559 C -0.04515 0.72258 -0.04671 0.74112 -0.054 0.75409 C -0.0573 0.77139 -0.06043 0.78282 -0.06511 0.7992 C -0.0672 0.81403 -0.07206 0.83534 -0.07935 0.84399 C -0.08126 0.8548 -0.08473 0.86963 -0.0889 0.87828 C -0.09133 0.88323 -0.09428 0.88755 -0.09688 0.89249 C -0.09845 0.89527 -0.10157 0.90053 -0.10157 0.90053 C -0.10261 0.90454 -0.10331 0.90887 -0.1047 0.91196 C -0.10695 0.91752 -0.11268 0.92617 -0.11268 0.92617 C -0.11442 0.93605 -0.11668 0.94161 -0.12067 0.94903 C -0.12327 0.96231 -0.12501 0.95613 -0.13022 0.9654 C -0.13265 0.96973 -0.13386 0.9759 -0.13647 0.97961 C -0.13942 0.98455 -0.14602 0.99104 -0.14602 0.99104 C -0.15122 1.00525 -0.14775 0.99815 -0.15869 1.01081 C -0.16025 1.01267 -0.16355 1.01668 -0.16355 1.01668 C -0.1698 1.03151 -0.17015 1.02657 -0.17779 1.03615 C -0.18126 1.04047 -0.18386 1.04665 -0.18733 1.05036 C -0.18872 1.0519 -0.19063 1.05159 -0.19202 1.05314 C -0.19532 1.05653 -0.20157 1.06457 -0.20157 1.06457 C -0.20782 1.08156 -0.2007 1.06518 -0.21112 1.07878 C -0.22622 1.09793 -0.20452 1.07754 -0.22223 1.09299 C -0.22848 1.10751 -0.22935 1.10226 -0.23647 1.11245 C -0.24775 1.12882 -0.26164 1.14859 -0.27622 1.15508 C -0.29341 1.18598 -0.2757 1.15941 -0.29046 1.17176 C -0.31025 1.18937 -0.29133 1.1764 -0.30626 1.19154 C -0.31147 1.19679 -0.3198 1.19864 -0.32536 1.20266 C -0.3297 1.21069 -0.33681 1.21625 -0.34289 1.21965 C -0.34845 1.22644 -0.34567 1.22552 -0.3507 1.22552 E">
                                      <p:cBhvr>
                                        <p:cTn id="250" dur="2400" fill="hold"/>
                                        <p:tgtEl>
                                          <p:spTgt spid="1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1" nodeType="withEffect" fill="hold" presetClass="path" presetID="0" repeatCount="indefinite">
                                  <p:stCondLst>
                                    <p:cond delay="2900"/>
                                  </p:stCondLst>
                                  <p:childTnLst>
                                    <p:animMotion origin="layout" path="M 1.66667E-006 -3.21594E-006 C 0.00434 0.02317 0.00261 0.01112 0.00469 0.03677 C 0.00382 0.12975 0.00816 0.17764 1.66667E-006 0.25147 C -0.00191 0.28792 -0.00451 0.32376 -0.01111 0.35867 C -0.01267 0.37473 -0.01406 0.3874 -0.0191 0.40099 C -0.02326 0.42323 -0.02552 0.44857 -0.03489 0.46618 C -0.03646 0.47483 -0.03559 0.47452 -0.03976 0.48008 C -0.04288 0.48409 -0.0493 0.49151 -0.0493 0.49151 C -0.0559 0.50912 -0.06493 0.51375 -0.07465 0.52549 C -0.07882 0.53043 -0.0842 0.53105 -0.08889 0.53383 C -0.09045 0.53476 -0.09375 0.53661 -0.09375 0.53661 C -0.09479 0.53846 -0.09549 0.54125 -0.09687 0.54248 C -0.09983 0.54526 -0.10642 0.54804 -0.10642 0.54804 C -0.11788 0.54526 -0.12118 0.5502 -0.12378 0.53105 C -0.12309 0.50757 -0.12396 0.45197 -0.10955 0.43497 C -0.1066 0.41922 -0.10625 0.41335 -0.09844 0.40408 C -0.09444 0.38215 -0.10035 0.40841 -0.09201 0.38987 C -0.08576 0.37597 -0.09618 0.38462 -0.08576 0.37844 C -0.07934 0.36114 -0.08663 0.3769 -0.07778 0.36732 C -0.06684 0.35558 -0.08368 0.3667 -0.06979 0.35867 C -0.06233 0.34971 -0.06701 0.35434 -0.05555 0.34755 C -0.05399 0.34662 -0.05243 0.34569 -0.05087 0.34477 C -0.0493 0.34384 -0.04601 0.34168 -0.04601 0.34168 C -0.04184 0.3426 -0.0375 0.34322 -0.03333 0.34477 C -0.03003 0.346 -0.02378 0.35033 -0.02378 0.35033 C -0.02222 0.35218 -0.02014 0.35311 -0.0191 0.35589 C -0.01424 0.36979 -0.01476 0.38709 -0.00955 0.40099 C -0.01111 0.44733 -0.01094 0.4498 -0.0191 0.48317 C -0.02483 0.50634 -0.01892 0.49367 -0.02535 0.50572 C -0.0283 0.52024 -0.02621 0.5119 -0.03333 0.53105 C -0.03437 0.53383 -0.03542 0.53661 -0.03646 0.53939 C -0.0375 0.54217 -0.03976 0.54804 -0.03976 0.54804 C -0.04201 0.55978 -0.04687 0.56812 -0.05087 0.57863 C -0.05885 0.59994 -0.06389 0.61786 -0.07621 0.63269 C -0.08073 0.64505 -0.08819 0.65493 -0.09375 0.66667 C -0.09878 0.67717 -0.1026 0.69077 -0.10799 0.70065 C -0.11528 0.71394 -0.12361 0.72506 -0.13177 0.73711 C -0.14739 0.75997 -0.15937 0.79055 -0.17621 0.81063 C -0.18264 0.82855 -0.17552 0.81125 -0.1842 0.82484 C -0.20121 0.85141 -0.1875 0.83442 -0.19844 0.84739 C -0.20521 0.86531 -0.22795 0.88848 -0.23976 0.89528 C -0.24635 0.90763 -0.25503 0.91134 -0.26354 0.91814 C -0.2691 0.92246 -0.27205 0.92864 -0.27778 0.93204 C -0.28524 0.94594 -0.27587 0.93049 -0.28576 0.94069 C -0.29358 0.94903 -0.29809 0.95861 -0.30642 0.96324 C -0.31163 0.96911 -0.31788 0.97961 -0.32378 0.98301 C -0.32778 0.98981 -0.33125 0.99382 -0.33646 0.99722 C -0.34167 1.00618 -0.34722 1.01267 -0.35399 1.01699 C -0.35451 1.01977 -0.35434 1.02317 -0.35555 1.02534 C -0.35677 1.0275 -0.35885 1.02688 -0.36042 1.02812 C -0.37535 1.04109 -0.35555 1.02719 -0.36979 1.03677 C -0.37083 1.03862 -0.3717 1.04109 -0.37309 1.04233 C -0.37604 1.0448 -0.38264 1.04789 -0.38264 1.04789 C -0.38698 1.05314 -0.3908 1.06024 -0.39531 1.06488 C -0.40538 1.07538 -0.39444 1.05808 -0.40486 1.07322 C -0.41146 1.0828 -0.41701 1.09392 -0.42535 1.09886 C -0.42639 1.10071 -0.42726 1.10319 -0.42864 1.10442 C -0.43212 1.10813 -0.4375 1.1072 -0.42864 1.1072 E">
                                      <p:cBhvr>
                                        <p:cTn id="252" dur="4600" fill="hold"/>
                                        <p:tgtEl>
                                          <p:spTgt spid="1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7.19802E-007 C 0.00642 0.01082 0.00451 0.0275 0.00642 0.04233 C 0.00712 0.0482 0.00955 0.05963 0.00955 0.05963 C 0.01076 0.10875 0.0125 0.13408 0.00955 0.18351 C 0.0092 0.18938 0.00729 0.19463 0.00642 0.2005 C 0.0033 0.22305 -0.0007 0.24591 -0.00469 0.26815 C -0.00573 0.27433 -0.00834 0.27928 -0.00955 0.28515 C -0.01372 0.30646 -0.01511 0.33921 -0.02379 0.35589 C -0.02552 0.36516 -0.03177 0.38122 -0.03177 0.38122 C -0.03472 0.39729 -0.0375 0.41737 -0.04445 0.42911 C -0.0467 0.44023 -0.04879 0.4532 -0.05243 0.46309 C -0.05677 0.47575 -0.06337 0.48564 -0.06823 0.49707 C -0.06962 0.49985 -0.06997 0.50294 -0.07136 0.50541 C -0.07622 0.51406 -0.08264 0.51962 -0.0875 0.52796 C -0.09063 0.54681 -0.08594 0.52858 -0.09358 0.53939 C -0.09514 0.54156 -0.09549 0.54526 -0.09688 0.54773 C -0.10018 0.5536 -0.10226 0.55391 -0.10625 0.55638 C -0.11111 0.56442 -0.11754 0.57523 -0.12379 0.57894 C -0.12709 0.58079 -0.13038 0.58233 -0.13334 0.5845 C -0.13507 0.58542 -0.13802 0.58728 -0.13802 0.58728 C -0.14202 0.59438 -0.14705 0.59778 -0.15226 0.60118 C -0.15538 0.60365 -0.15868 0.60519 -0.16198 0.60705 C -0.16337 0.60798 -0.16667 0.60983 -0.16667 0.60983 C -0.17917 0.62528 -0.19341 0.62744 -0.20782 0.6296 C -0.2217 0.62744 -0.23837 0.63671 -0.24913 0.62126 C -0.25243 0.61663 -0.25469 0.60056 -0.25556 0.59593 C -0.25608 0.59315 -0.25712 0.58728 -0.25712 0.58728 C -0.25643 0.56256 -0.26007 0.52858 -0.24913 0.50819 C -0.24566 0.48935 -0.23629 0.4668 -0.22535 0.46031 C -0.21476 0.44115 -0.22014 0.44579 -0.21111 0.44054 C -0.20521 0.43065 -0.19983 0.41984 -0.19219 0.4152 C -0.18716 0.40594 -0.17847 0.39358 -0.17153 0.38956 C -0.16389 0.3806 -0.1566 0.37813 -0.14775 0.37566 C -0.14462 0.37381 -0.14271 0.36886 -0.13976 0.36701 C -0.13611 0.36454 -0.11511 0.36145 -0.11441 0.36145 C -0.09688 0.35095 -0.07622 0.35743 -0.05868 0.35867 C -0.054 0.36145 -0.04931 0.36423 -0.04445 0.36701 C -0.04306 0.36794 -0.03976 0.36979 -0.03976 0.36979 C -0.0375 0.37412 -0.03386 0.37659 -0.03177 0.38122 C -0.03073 0.38338 -0.03108 0.38709 -0.03021 0.38956 C -0.02674 0.39945 -0.02222 0.40964 -0.01754 0.41798 C -0.01459 0.43436 -0.01302 0.43837 -0.00955 0.45166 C -0.00816 0.45722 -0.00729 0.46309 -0.00625 0.46865 C -0.00573 0.47143 -0.00469 0.4773 -0.00469 0.4773 C -0.00521 0.49954 -0.00052 0.56998 -0.01424 0.59593 C -0.01788 0.61446 -0.02084 0.63794 -0.02847 0.65246 C -0.03073 0.66451 -0.03681 0.67872 -0.04115 0.68891 C -0.04306 0.69849 -0.04549 0.70467 -0.04931 0.71177 C -0.05278 0.73155 -0.0474 0.70807 -0.05729 0.72568 C -0.05972 0.73031 -0.06094 0.73803 -0.06337 0.74267 C -0.06771 0.75039 -0.07292 0.75626 -0.07622 0.76522 C -0.07726 0.768 -0.07795 0.77171 -0.07934 0.77387 C -0.08056 0.77572 -0.08264 0.77572 -0.0842 0.77665 C -0.09358 0.79302 -0.10313 0.80723 -0.11285 0.82453 C -0.1191 0.83596 -0.12639 0.85079 -0.13507 0.85574 C -0.14427 0.86686 -0.154 0.87551 -0.16337 0.88663 C -0.16632 0.89003 -0.17032 0.88941 -0.17292 0.8925 C -0.1849 0.9064 -0.20087 0.91196 -0.21441 0.92061 C -0.2217 0.92555 -0.229 0.93235 -0.23663 0.9376 C -0.24532 0.94378 -0.25452 0.94625 -0.26337 0.95181 C -0.26511 0.95305 -0.2665 0.95614 -0.26823 0.95737 C -0.28004 0.96479 -0.29271 0.96571 -0.30469 0.97158 C -0.31545 0.97684 -0.32535 0.9827 -0.33646 0.98549 C -0.34479 0.99105 -0.35313 0.99599 -0.36181 0.9997 C -0.37587 1.01545 -0.39375 1.02194 -0.40972 1.0309 C -0.41806 1.04078 -0.42847 1.04511 -0.43802 1.05067 C -0.4507 1.05808 -0.43525 1.04882 -0.44757 1.05623 C -0.44913 1.05716 -0.45226 1.05901 -0.45226 1.05901 C -0.45764 1.06797 -0.46597 1.0692 -0.47292 1.07322 C -0.47448 1.07415 -0.47622 1.07507 -0.47778 1.076 C -0.47934 1.07693 -0.48091 1.07785 -0.48247 1.07878 C -0.48403 1.07971 -0.48733 1.08156 -0.48733 1.08156 C -0.49202 1.09052 -0.49827 1.09207 -0.50469 1.09577 C -0.51893 1.10411 -0.53282 1.114 -0.54757 1.11832 C -0.56059 1.12605 -0.57431 1.12759 -0.58733 1.13532 C -0.59045 1.13717 -0.59358 1.13902 -0.5967 1.14088 C -0.59827 1.1418 -0.60157 1.14366 -0.60157 1.14366 E">
                                      <p:cBhvr>
                                        <p:cTn id="254" dur="5000" fill="hold"/>
                                        <p:tgtEl>
                                          <p:spTgt spid="1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5" nodeType="withEffect" fill="hold" presetClass="path" presetID="0" repeatCount="indefinite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5.55556E-006 1.82268E-006 C 0.0026 0.0139 0.00485 0.02533 0.00642 0.03954 C 0.0059 0.05993 0.00919 0.10534 -0.00157 0.12449 C -0.00244 0.13067 -0.00487 0.1489 -0.00626 0.15261 C -0.00973 0.16187 -0.01442 0.17361 -0.01581 0.18381 C -0.01772 0.19709 -0.01928 0.20914 -0.02379 0.22026 C -0.02831 0.25363 -0.02188 0.21254 -0.02848 0.24003 C -0.02935 0.24374 -0.029 0.24806 -0.03004 0.25146 C -0.0323 0.25857 -0.03542 0.26475 -0.03803 0.27123 C -0.03907 0.27401 -0.04115 0.27957 -0.04115 0.27957 C -0.04289 0.28915 -0.04515 0.29502 -0.04914 0.30244 C -0.05105 0.31232 -0.05365 0.31696 -0.05712 0.32499 C -0.06129 0.33518 -0.06494 0.34692 -0.0698 0.35588 C -0.07119 0.35835 -0.0731 0.35928 -0.07449 0.36175 C -0.08004 0.37164 -0.08369 0.38214 -0.09046 0.38986 C -0.09983 0.41272 -0.11355 0.42817 -0.12535 0.4464 C -0.13351 0.45906 -0.13403 0.46431 -0.14445 0.46895 C -0.15469 0.48748 -0.16528 0.50324 -0.17935 0.51127 C -0.19775 0.54525 -0.16928 0.49459 -0.19046 0.52548 C -0.19185 0.52764 -0.19219 0.53166 -0.19358 0.53382 C -0.19792 0.54031 -0.20261 0.54062 -0.20782 0.54247 C -0.21372 0.55267 -0.21997 0.55761 -0.22692 0.56502 C -0.23542 0.57398 -0.24237 0.58727 -0.2507 0.59592 C -0.25817 0.60364 -0.26667 0.60889 -0.27449 0.61569 C -0.279 0.62372 -0.28438 0.62619 -0.29046 0.6299 C -0.29671 0.64164 -0.29653 0.64318 -0.30782 0.64967 C -0.31094 0.65152 -0.31737 0.65523 -0.31737 0.65523 C -0.32483 0.66419 -0.33733 0.67593 -0.34601 0.68087 C -0.35765 0.69477 -0.34289 0.6784 -0.35712 0.68921 C -0.36702 0.69663 -0.35643 0.69292 -0.36667 0.70342 C -0.36997 0.70682 -0.37431 0.7059 -0.37778 0.70898 C -0.39167 0.72165 -0.37952 0.71516 -0.39202 0.72042 C -0.39792 0.73092 -0.40626 0.74111 -0.41424 0.74575 C -0.42535 0.75872 -0.43733 0.7683 -0.44914 0.77973 C -0.45903 0.78931 -0.46841 0.80444 -0.47935 0.81062 C -0.48091 0.81248 -0.4823 0.81526 -0.48403 0.81649 C -0.48612 0.81804 -0.48855 0.81742 -0.49046 0.81927 C -0.49237 0.82113 -0.49324 0.82545 -0.49515 0.82761 C -0.49758 0.83039 -0.50053 0.83132 -0.50313 0.83317 C -0.50903 0.84399 -0.51407 0.84955 -0.52223 0.85295 C -0.52431 0.85573 -0.52622 0.85943 -0.52848 0.8616 C -0.53091 0.86407 -0.53403 0.86438 -0.53647 0.86716 C -0.54671 0.87951 -0.54219 0.88229 -0.55556 0.88693 C -0.56147 0.89774 -0.5698 0.90485 -0.57778 0.90948 C -0.58265 0.91844 -0.58872 0.91998 -0.59515 0.92369 C -0.60226 0.92801 -0.60886 0.93821 -0.61581 0.94346 C -0.61928 0.94624 -0.62327 0.94686 -0.62692 0.94902 C -0.63143 0.95736 -0.63664 0.95891 -0.64272 0.96323 C -0.64688 0.97034 -0.65747 0.97775 -0.66337 0.98022 C -0.67969 0.99907 -0.69879 1.00834 -0.71581 1.02533 C -0.71737 1.02687 -0.71893 1.02934 -0.72049 1.03089 C -0.72466 1.0349 -0.729 1.03861 -0.73334 1.04232 C -0.73733 1.04603 -0.74011 1.05406 -0.74445 1.05653 C -0.74966 1.05962 -0.75035 1.05962 -0.75556 1.06487 C -0.76303 1.07228 -0.7691 1.07877 -0.77778 1.08186 C -0.78664 1.09762 -0.77761 1.08464 -0.79046 1.09329 C -0.79219 1.09453 -0.79341 1.09762 -0.79515 1.09885 C -0.80452 1.10627 -0.8132 1.11244 -0.82223 1.1214 C -0.82883 1.12789 -0.83664 1.14118 -0.84445 1.14118 E">
                                      <p:cBhvr>
                                        <p:cTn id="256" dur="4000" fill="hold"/>
                                        <p:tgtEl>
                                          <p:spTgt spid="1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7" nodeType="withEffect" fill="hold" presetClass="path" presetID="0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00399 0.01545 C -0.00086 0.03275 0.00226 0.0482 0.004 0.0658 C 0.004 0.07198 0.00365 0.17486 0.00087 0.21038 C -3.61111000000004E-006 0.2215 -0.00295 0.23263 -0.00399 0.24406 C -0.00625 0.26877 -0.00694 0.29441 -0.0151 0.31573 C -0.01666 0.33025 -0.01701 0.34507 -0.02309 0.35527 C -0.025 0.36824 -0.02656 0.38029 -0.03073 0.39141 C -0.03333 0.40562 -0.03541 0.42045 -0.04027 0.43312 C -0.04236 0.44486 -0.04739 0.45351 -0.05139 0.46401 C -0.05764 0.481 -0.05208 0.47822 -0.06076 0.4949 C -0.06389 0.51159 -0.0618 0.51777 -0.07031 0.5224 C -0.07465 0.54557 -0.08229 0.56997 -0.09392 0.58388 C -0.0967 0.5984 -0.10225 0.60859 -0.10972 0.61693 C -0.11319 0.63361 -0.12014 0.64937 -0.12864 0.65864 C -0.13229 0.66821 -0.13507 0.67099 -0.13975 0.67872 C -0.14878 0.69231 -0.15798 0.7059 -0.16666 0.72042 C -0.16909 0.7334 -0.17135 0.72969 -0.17777 0.7368 C -0.18454 0.75502 -0.18541 0.74545 -0.19496 0.75657 C -0.20156 0.7646 -0.20659 0.7714 -0.21389 0.77603 C -0.22118 0.78468 -0.22951 0.79611 -0.23767 0.80105 C -0.24357 0.80847 -0.24791 0.81681 -0.25503 0.82052 C -0.25607 0.82206 -0.25677 0.82484 -0.25816 0.82638 C -0.26111 0.82917 -0.2677 0.83195 -0.2677 0.83225 C -0.27343 0.83874 -0.28003 0.84616 -0.28645 0.8511 C -0.28958 0.85388 -0.29288 0.85512 -0.296 0.85697 C -0.29757 0.8579 -0.30086 0.85975 -0.30086 0.86006 C -0.30659 0.86655 -0.31284 0.86933 -0.31961 0.87365 C -0.32118 0.87427 -0.32291 0.8755 -0.32448 0.87643 C -0.32604 0.87705 -0.32916 0.87921 -0.32916 0.87952 C -0.33073 0.88106 -0.33229 0.88323 -0.33402 0.88477 C -0.33524 0.8857 -0.33715 0.8857 -0.33854 0.88724 C -0.34079 0.88971 -0.34253 0.89342 -0.34496 0.89589 C -0.34791 0.89836 -0.35451 0.90145 -0.35451 0.90176 C -0.35555 0.903 -0.35625 0.90578 -0.35764 0.90732 C -0.36059 0.9098 -0.36701 0.91258 -0.36701 0.91288 C -0.36857 0.91443 -0.36996 0.91659 -0.3717 0.91814 C -0.37326 0.91937 -0.37517 0.91937 -0.37656 0.92092 C -0.37777 0.92215 -0.37847 0.92493 -0.37968 0.92648 C -0.38125 0.92833 -0.38975 0.93142 -0.39079 0.93204 C -0.39357 0.93513 -0.39566 0.94069 -0.39861 0.94347 C -0.40555 0.94965 -0.41753 0.95397 -0.42552 0.95984 C -0.43611 0.96818 -0.44566 0.97714 -0.45711 0.98239 C -0.46788 0.99475 -0.46284 0.99135 -0.47118 0.9963 C -0.48767 1.01607 -0.46336 0.98795 -0.48229 1.00433 C -0.48576 1.00773 -0.48854 1.01174 -0.49166 1.01576 C -0.49444 1.01885 -0.49826 1.01885 -0.50121 1.02163 C -0.50659 1.02595 -0.50989 1.03151 -0.51545 1.03522 C -0.5276 1.04943 -0.53177 1.05561 -0.54548 1.06333 C -0.54704 1.06519 -0.54843 1.06735 -0.55 1.06889 C -0.55312 1.07106 -0.55954 1.07415 -0.55954 1.07445 C -0.56527 1.08094 -0.57066 1.08156 -0.57708 1.08527 C -0.58385 1.09361 -0.59149 1.09392 -0.59913 1.09948 C -0.60347 1.10226 -0.60764 1.10689 -0.61163 1.1106 C -0.61371 1.11245 -0.61632 1.11338 -0.61788 1.11585 C -0.61892 1.1177 -0.61979 1.12048 -0.62118 1.12141 C -0.62604 1.12604 -0.63177 1.12666 -0.63698 1.13006 C -0.63889 1.13099 -0.6401 1.13377 -0.64166 1.13562 C -0.65659 1.14736 -0.67291 1.1523 -0.68906 1.1523 L -0.70312 1.16064 E">
                                      <p:cBhvr>
                                        <p:cTn id="258" dur="4200" fill="hold"/>
                                        <p:tgtEl>
                                          <p:spTgt spid="1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9" nodeType="withEffect" fill="hold" presetClass="path" presetID="0" repeatCount="indefinite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-5.55556E-006 1.82268E-006 C 0.0026 0.0139 0.00485 0.02533 0.00642 0.03954 C 0.0059 0.05993 0.00919 0.10534 -0.00157 0.12449 C -0.00244 0.13067 -0.00487 0.1489 -0.00626 0.15261 C -0.00973 0.16187 -0.01442 0.17361 -0.01581 0.18381 C -0.01772 0.19709 -0.01928 0.20914 -0.02379 0.22026 C -0.02831 0.25363 -0.02188 0.21254 -0.02848 0.24003 C -0.02935 0.24374 -0.029 0.24806 -0.03004 0.25146 C -0.0323 0.25857 -0.03542 0.26475 -0.03803 0.27123 C -0.03907 0.27401 -0.04115 0.27957 -0.04115 0.27957 C -0.04289 0.28915 -0.04515 0.29502 -0.04914 0.30244 C -0.05105 0.31232 -0.05365 0.31696 -0.05712 0.32499 C -0.06129 0.33518 -0.06494 0.34692 -0.0698 0.35588 C -0.07119 0.35835 -0.0731 0.35928 -0.07449 0.36175 C -0.08004 0.37164 -0.08369 0.38214 -0.09046 0.38986 C -0.09983 0.41272 -0.11355 0.42817 -0.12535 0.4464 C -0.13351 0.45906 -0.13403 0.46431 -0.14445 0.46895 C -0.15469 0.48748 -0.16528 0.50324 -0.17935 0.51127 C -0.19775 0.54525 -0.16928 0.49459 -0.19046 0.52548 C -0.19185 0.52764 -0.19219 0.53166 -0.19358 0.53382 C -0.19792 0.54031 -0.20261 0.54062 -0.20782 0.54247 C -0.21372 0.55267 -0.21997 0.55761 -0.22692 0.56502 C -0.23542 0.57398 -0.24237 0.58727 -0.2507 0.59592 C -0.25817 0.60364 -0.26667 0.60889 -0.27449 0.61569 C -0.279 0.62372 -0.28438 0.62619 -0.29046 0.6299 C -0.29671 0.64164 -0.29653 0.64318 -0.30782 0.64967 C -0.31094 0.65152 -0.31737 0.65523 -0.31737 0.65523 C -0.32483 0.66419 -0.33733 0.67593 -0.34601 0.68087 C -0.35765 0.69477 -0.34289 0.6784 -0.35712 0.68921 C -0.36702 0.69663 -0.35643 0.69292 -0.36667 0.70342 C -0.36997 0.70682 -0.37431 0.7059 -0.37778 0.70898 C -0.39167 0.72165 -0.37952 0.71516 -0.39202 0.72042 C -0.39792 0.73092 -0.40626 0.74111 -0.41424 0.74575 C -0.42535 0.75872 -0.43733 0.7683 -0.44914 0.77973 C -0.45903 0.78931 -0.46841 0.80444 -0.47935 0.81062 C -0.48091 0.81248 -0.4823 0.81526 -0.48403 0.81649 C -0.48612 0.81804 -0.48855 0.81742 -0.49046 0.81927 C -0.49237 0.82113 -0.49324 0.82545 -0.49515 0.82761 C -0.49758 0.83039 -0.50053 0.83132 -0.50313 0.83317 C -0.50903 0.84399 -0.51407 0.84955 -0.52223 0.85295 C -0.52431 0.85573 -0.52622 0.85943 -0.52848 0.8616 C -0.53091 0.86407 -0.53403 0.86438 -0.53647 0.86716 C -0.54671 0.87951 -0.54219 0.88229 -0.55556 0.88693 C -0.56147 0.89774 -0.5698 0.90485 -0.57778 0.90948 C -0.58265 0.91844 -0.58872 0.91998 -0.59515 0.92369 C -0.60226 0.92801 -0.60886 0.93821 -0.61581 0.94346 C -0.61928 0.94624 -0.62327 0.94686 -0.62692 0.94902 C -0.63143 0.95736 -0.63664 0.95891 -0.64272 0.96323 C -0.64688 0.97034 -0.65747 0.97775 -0.66337 0.98022 C -0.67969 0.99907 -0.69879 1.00834 -0.71581 1.02533 C -0.71737 1.02687 -0.71893 1.02934 -0.72049 1.03089 C -0.72466 1.0349 -0.729 1.03861 -0.73334 1.04232 C -0.73733 1.04603 -0.74011 1.05406 -0.74445 1.05653 C -0.74966 1.05962 -0.75035 1.05962 -0.75556 1.06487 C -0.76303 1.07228 -0.7691 1.07877 -0.77778 1.08186 C -0.78664 1.09762 -0.77761 1.08464 -0.79046 1.09329 C -0.79219 1.09453 -0.79341 1.09762 -0.79515 1.09885 C -0.80452 1.10627 -0.8132 1.11244 -0.82223 1.1214 C -0.82883 1.12789 -0.83664 1.14118 -0.84445 1.14118 E">
                                      <p:cBhvr>
                                        <p:cTn id="260" dur="3800" fill="hold"/>
                                        <p:tgtEl>
                                          <p:spTgt spid="1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2" presetSubtype="2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800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4" dur="8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2" presetSubtype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800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8" dur="8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 repeatCount="indefinite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20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path" presetID="42" repeatCount="indefinite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-1.11111E-006 2.40037E-006 L 0.00347 -0.80723 E">
                                      <p:cBhvr>
                                        <p:cTn id="273" dur="3000" fill="hold"/>
                                        <p:tgtEl>
                                          <p:spTgt spid="1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4" nodeType="withEffect" fill="hold" presetClass="emph" presetID="6" repeatCount="indefinite">
                                  <p:stCondLst>
                                    <p:cond delay="2100"/>
                                  </p:stCondLst>
                                  <p:childTnLst>
                                    <p:animScale>
                                      <p:cBhvr>
                                        <p:cTn id="275" dur="3000" fill="hold"/>
                                        <p:tgtEl>
                                          <p:spTgt spid="111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30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path" presetID="42" repeatCount="indefinite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-1.11111E-006 2.40037E-006 L 0.00347 -0.80723 E">
                                      <p:cBhvr>
                                        <p:cTn id="280" dur="3000" fill="hold"/>
                                        <p:tgtEl>
                                          <p:spTgt spid="1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6" repeatCount="indefinite">
                                  <p:stCondLst>
                                    <p:cond delay="3500"/>
                                  </p:stCondLst>
                                  <p:childTnLst>
                                    <p:animScale>
                                      <p:cBhvr>
                                        <p:cTn id="282" dur="3000" fill="hold"/>
                                        <p:tgtEl>
                                          <p:spTgt spid="1113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 repeatCount="indefinite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30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path" presetID="42" repeatCount="indefinite">
                                  <p:stCondLst>
                                    <p:cond delay="3700"/>
                                  </p:stCondLst>
                                  <p:childTnLst>
                                    <p:animMotion origin="layout" path="M -1.11111E-006 2.40037E-006 L 0.00347 -0.80723 E">
                                      <p:cBhvr>
                                        <p:cTn id="287" dur="3000" fill="hold"/>
                                        <p:tgtEl>
                                          <p:spTgt spid="1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8" nodeType="withEffect" fill="hold" presetClass="emph" presetID="6" repeatCount="indefinite">
                                  <p:stCondLst>
                                    <p:cond delay="3700"/>
                                  </p:stCondLst>
                                  <p:childTnLst>
                                    <p:animScale>
                                      <p:cBhvr>
                                        <p:cTn id="289" dur="3000" fill="hold"/>
                                        <p:tgtEl>
                                          <p:spTgt spid="1114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 repeatCount="indefinite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30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path" presetID="42" repeatCount="indefinite">
                                  <p:stCondLst>
                                    <p:cond delay="4100"/>
                                  </p:stCondLst>
                                  <p:childTnLst>
                                    <p:animMotion origin="layout" path="M -1.11111E-006 2.40037E-006 L 0.00347 -0.80723 E">
                                      <p:cBhvr>
                                        <p:cTn id="294" dur="3000" fill="hold"/>
                                        <p:tgtEl>
                                          <p:spTgt spid="1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5" nodeType="withEffect" fill="hold" presetClass="emph" presetID="6" repeatCount="indefinite">
                                  <p:stCondLst>
                                    <p:cond delay="4100"/>
                                  </p:stCondLst>
                                  <p:childTnLst>
                                    <p:animScale>
                                      <p:cBhvr>
                                        <p:cTn id="296" dur="3000" fill="hold"/>
                                        <p:tgtEl>
                                          <p:spTgt spid="1115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1494000" y="141120"/>
            <a:ext cx="61560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1224000" y="95256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华文行楷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华文行楷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华文行楷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华文行楷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华文行楷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华文行楷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华文行楷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华文行楷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华文行楷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华文行楷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华文行楷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华文行楷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华文行楷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华文行楷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华文行楷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华文行楷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华文行楷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华文行楷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华文行楷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华文行楷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华文行楷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华文行楷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华文行楷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华文行楷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华文行楷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华文行楷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华文行楷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华文行楷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华文行楷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华文行楷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华文行楷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华文行楷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华文行楷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华文行楷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华文行楷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华文行楷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华文行楷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华文行楷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华文行楷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华文行楷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华文行楷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华文行楷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华文行楷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华文行楷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华文行楷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华文行楷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华文行楷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华文行楷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华文行楷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http://www.eeppt.com/tubiao/                                    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自然风景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国外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模板下载  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http://www.eeppt.com/moban/guowai/            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简洁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121" name="Rectangle 7"/>
          <p:cNvSpPr/>
          <p:nvPr/>
        </p:nvSpPr>
        <p:spPr>
          <a:xfrm>
            <a:off x="6608880" y="24912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113-01-01T00:00:00Z</dcterms:created>
  <dc:creator>Sean</dc:creator>
  <dc:description/>
  <dc:language>en-US</dc:language>
  <cp:lastModifiedBy>yu wang</cp:lastModifiedBy>
  <cp:lastPrinted>1899-12-30T00:00:00Z</cp:lastPrinted>
  <dcterms:modified xsi:type="dcterms:W3CDTF">2015-08-12T14:51:42Z</dcterms:modified>
  <cp:revision>36</cp:revision>
  <dc:subject/>
  <dc:title>中国风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  <property fmtid="{D5CDD505-2E9C-101B-9397-08002B2CF9AE}" pid="3" name="Version">
    <vt:r8>1</vt:r8>
  </property>
</Properties>
</file>