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463-8907-4BB0-B52D-E50E7D3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734-8D4A-40A5-81F8-54EBF47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29C-8E21-4E66-8D62-08DBA0A3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D65-7365-4DF4-AC33-668A706C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33E1-AFEE-4AD6-8D63-D6842213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1B75-11EA-4E18-AC79-84421B0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B3A9-5571-46E3-AD01-BDD63F1C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09CE-791F-470C-9EF0-600BDF35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18B-1CAC-499F-BF47-AB63169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6631-22CC-4F40-B661-0831E8D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E63B-5B01-41A6-87F6-D1A2BA1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91C-C46B-49D6-8FD1-C14A9E3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88F-A745-4C30-9762-F7B96350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442E-3CC5-4377-AE96-DF798FF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0F1-8C6F-4F5E-BDC5-90C76AC9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6F03-14F2-4943-B539-20DC2159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0637-8C86-4CCD-8CF5-D9B417B3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325-B276-46DD-8337-4E8FD7B0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19D-4D3F-48DD-AB2B-9B7F6821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6EB-C89F-4539-8B94-0964606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602-CD45-467E-A2CC-09FEF950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E73-CD2F-4538-8BEF-91B4CEA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33A-DE19-480A-861E-1289170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377-5C7F-49D9-B23D-9A5DDFB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1C438A-0EFC-47BA-BD7C-40A2BF50A24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7AB551-A617-4049-B179-E970F303E6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357200" y="2214720"/>
            <a:ext cx="4142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5"/>
          <p:cNvCxnSpPr/>
          <p:nvPr/>
        </p:nvCxnSpPr>
        <p:spPr>
          <a:xfrm>
            <a:off x="1428480" y="2230200"/>
            <a:ext cx="242928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84" name="TextBox 7"/>
          <p:cNvSpPr/>
          <p:nvPr/>
        </p:nvSpPr>
        <p:spPr>
          <a:xfrm>
            <a:off x="755640" y="1631160"/>
            <a:ext cx="5616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蒲公英清爽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2639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926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26398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071720" y="50004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3545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9258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282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7828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1090800" y="6429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1402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4258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71176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46404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2354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9258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55688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578340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7828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425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20" y="66657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8546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335448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0686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14044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4257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6203880" y="3121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42832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30686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7117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45687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2497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59263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44974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44258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  <Words>295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5:26Z</dcterms:modified>
  <cp:revision>1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