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184-F768-4DF7-B27B-89DF8B66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0C6-95AE-4007-916B-36A628EA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48B-1B23-4C5D-BE4E-27709672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118-D9B7-4A9E-B226-CEC72037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B36B-947E-4F71-80D9-9A0EE9B4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5195-5161-456A-946E-8B893287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C5BA-5C61-4340-8671-C50D2B38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B048-BC1F-42BD-917A-25AD5889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37A2-1B4C-4905-BBD1-113257F8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8442-D9F1-42A7-BA38-63B4EACA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A9C7-BACC-46A0-ABA3-A78A3E03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5CC-B598-4FF3-A3C7-B6CC8FE0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87B4-C359-49A6-AEDE-22A9AAF9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77E8-4543-4865-A71F-A7D69709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83FD-5EC1-4BC1-8E88-EEEC3D71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62CF-687D-478E-A357-210176FB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6C21-DC1E-4F05-B942-15A7494F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930C-F5D0-426F-B6D4-7D60E686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1F9-0F57-46B1-B82E-319A5F48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A87-805A-4F67-A277-9C50E249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D7B-5D19-445D-85A9-28C55D31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8A3-4CD4-46CC-A653-F978E738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A26-4469-4298-857F-FAEFE3FA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D1D6-43ED-4CC4-BC79-848C0F8C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7B1C14-779E-4271-9B0B-4E6650C644C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5F3D88-ECBB-4225-B977-B1BDB919AF8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3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3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450720" y="6637320"/>
            <a:ext cx="8333280" cy="25200"/>
          </a:xfrm>
          <a:custGeom>
            <a:avLst/>
            <a:gdLst>
              <a:gd name="textAreaLeft" fmla="*/ 0 w 8333280"/>
              <a:gd name="textAreaRight" fmla="*/ 8333640 w 83332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8333740" h="25400">
                <a:moveTo>
                  <a:pt x="6350" y="6350"/>
                </a:moveTo>
                <a:lnTo>
                  <a:pt x="8327390" y="6350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903240" y="1028880"/>
            <a:ext cx="1513080" cy="4814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4814640"/>
              <a:gd name="textAreaBottom" fmla="*/ 4815000 h 4814640"/>
            </a:gdLst>
            <a:ahLst/>
            <a:rect l="textAreaLeft" t="textAreaTop" r="textAreaRight" b="textAreaBottom"/>
            <a:pathLst>
              <a:path w="1513427" h="4814887">
                <a:moveTo>
                  <a:pt x="728662" y="4814887"/>
                </a:moveTo>
                <a:lnTo>
                  <a:pt x="471487" y="4629150"/>
                </a:lnTo>
                <a:lnTo>
                  <a:pt x="442912" y="4129023"/>
                </a:lnTo>
                <a:lnTo>
                  <a:pt x="285750" y="3771900"/>
                </a:lnTo>
                <a:lnTo>
                  <a:pt x="457136" y="3386073"/>
                </a:lnTo>
                <a:cubicBezTo>
                  <a:pt x="308533" y="3073908"/>
                  <a:pt x="392620" y="3164459"/>
                  <a:pt x="285750" y="3057525"/>
                </a:cubicBezTo>
                <a:cubicBezTo>
                  <a:pt x="190500" y="2933700"/>
                  <a:pt x="76580" y="2822194"/>
                  <a:pt x="0" y="2686050"/>
                </a:cubicBezTo>
                <a:cubicBezTo>
                  <a:pt x="-14770" y="2659760"/>
                  <a:pt x="19050" y="2628900"/>
                  <a:pt x="28575" y="2600325"/>
                </a:cubicBezTo>
                <a:cubicBezTo>
                  <a:pt x="45872" y="2548382"/>
                  <a:pt x="42862" y="2572511"/>
                  <a:pt x="42862" y="2528951"/>
                </a:cubicBezTo>
                <a:lnTo>
                  <a:pt x="185737" y="1885950"/>
                </a:lnTo>
                <a:lnTo>
                  <a:pt x="128587" y="1443101"/>
                </a:lnTo>
                <a:lnTo>
                  <a:pt x="128587" y="1100201"/>
                </a:lnTo>
                <a:lnTo>
                  <a:pt x="500062" y="1085850"/>
                </a:lnTo>
                <a:lnTo>
                  <a:pt x="200025" y="885825"/>
                </a:lnTo>
                <a:cubicBezTo>
                  <a:pt x="67957" y="548386"/>
                  <a:pt x="-46189" y="557275"/>
                  <a:pt x="100012" y="557275"/>
                </a:cubicBezTo>
                <a:lnTo>
                  <a:pt x="328612" y="357250"/>
                </a:lnTo>
                <a:cubicBezTo>
                  <a:pt x="444436" y="9778"/>
                  <a:pt x="322427" y="14350"/>
                  <a:pt x="457136" y="14350"/>
                </a:cubicBezTo>
                <a:lnTo>
                  <a:pt x="814387" y="0"/>
                </a:lnTo>
                <a:cubicBezTo>
                  <a:pt x="1100010" y="30099"/>
                  <a:pt x="994854" y="28575"/>
                  <a:pt x="1128712" y="28575"/>
                </a:cubicBezTo>
                <a:lnTo>
                  <a:pt x="1271587" y="314325"/>
                </a:lnTo>
                <a:lnTo>
                  <a:pt x="1400111" y="528700"/>
                </a:lnTo>
                <a:cubicBezTo>
                  <a:pt x="1443545" y="890523"/>
                  <a:pt x="1562925" y="885825"/>
                  <a:pt x="1428686" y="885825"/>
                </a:cubicBezTo>
                <a:cubicBezTo>
                  <a:pt x="1333436" y="938276"/>
                  <a:pt x="1227391" y="974470"/>
                  <a:pt x="1142936" y="1043051"/>
                </a:cubicBezTo>
                <a:cubicBezTo>
                  <a:pt x="1105217" y="1073657"/>
                  <a:pt x="1200975" y="1071626"/>
                  <a:pt x="1214437" y="1071626"/>
                </a:cubicBezTo>
                <a:lnTo>
                  <a:pt x="1414462" y="1485900"/>
                </a:lnTo>
                <a:lnTo>
                  <a:pt x="1385887" y="1900173"/>
                </a:lnTo>
                <a:lnTo>
                  <a:pt x="1328737" y="2386076"/>
                </a:lnTo>
                <a:lnTo>
                  <a:pt x="1414462" y="2700401"/>
                </a:lnTo>
                <a:cubicBezTo>
                  <a:pt x="1521269" y="3056382"/>
                  <a:pt x="1552511" y="2894076"/>
                  <a:pt x="1471612" y="3028950"/>
                </a:cubicBezTo>
                <a:cubicBezTo>
                  <a:pt x="1466151" y="3038094"/>
                  <a:pt x="1462087" y="3048000"/>
                  <a:pt x="1457261" y="3057525"/>
                </a:cubicBezTo>
                <a:cubicBezTo>
                  <a:pt x="1171130" y="3419094"/>
                  <a:pt x="1185862" y="3254628"/>
                  <a:pt x="1185862" y="3471798"/>
                </a:cubicBezTo>
                <a:cubicBezTo>
                  <a:pt x="1291018" y="3847338"/>
                  <a:pt x="1285811" y="3705352"/>
                  <a:pt x="1285811" y="3886200"/>
                </a:cubicBezTo>
                <a:cubicBezTo>
                  <a:pt x="1141666" y="4390897"/>
                  <a:pt x="1142936" y="4212844"/>
                  <a:pt x="1142936" y="4400550"/>
                </a:cubicBezTo>
                <a:lnTo>
                  <a:pt x="1185862" y="4700587"/>
                </a:lnTo>
                <a:lnTo>
                  <a:pt x="985837" y="4814887"/>
                </a:lnTo>
                <a:lnTo>
                  <a:pt x="728662" y="4814887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2428920" y="3357360"/>
            <a:ext cx="3205080" cy="63900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639000"/>
              <a:gd name="textAreaBottom" fmla="*/ 639360 h 639000"/>
            </a:gdLst>
            <a:ahLst/>
            <a:rect l="textAreaLeft" t="textAreaTop" r="textAreaRight" b="textAreaBottom"/>
            <a:pathLst>
              <a:path w="3205353" h="639191">
                <a:moveTo>
                  <a:pt x="31369" y="0"/>
                </a:moveTo>
                <a:lnTo>
                  <a:pt x="3205353" y="271145"/>
                </a:lnTo>
                <a:lnTo>
                  <a:pt x="3173857" y="639191"/>
                </a:lnTo>
                <a:lnTo>
                  <a:pt x="0" y="368046"/>
                </a:lnTo>
                <a:lnTo>
                  <a:pt x="31369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43080" y="6197760"/>
            <a:ext cx="380520" cy="456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863640" y="990720"/>
            <a:ext cx="8076960" cy="4939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7950240" y="6299280"/>
            <a:ext cx="837720" cy="329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450720" y="6637320"/>
            <a:ext cx="8333280" cy="25200"/>
          </a:xfrm>
          <a:custGeom>
            <a:avLst/>
            <a:gdLst>
              <a:gd name="textAreaLeft" fmla="*/ 0 w 8333280"/>
              <a:gd name="textAreaRight" fmla="*/ 8333640 w 83332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8333740" h="25400">
                <a:moveTo>
                  <a:pt x="6350" y="6350"/>
                </a:moveTo>
                <a:lnTo>
                  <a:pt x="8327390" y="6350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1528920" y="3657600"/>
            <a:ext cx="3871440" cy="1271160"/>
          </a:xfrm>
          <a:custGeom>
            <a:avLst/>
            <a:gdLst>
              <a:gd name="textAreaLeft" fmla="*/ 0 w 3871440"/>
              <a:gd name="textAreaRight" fmla="*/ 3871800 w 3871440"/>
              <a:gd name="textAreaTop" fmla="*/ 0 h 1271160"/>
              <a:gd name="textAreaBottom" fmla="*/ 1271520 h 1271160"/>
            </a:gdLst>
            <a:ahLst/>
            <a:rect l="textAreaLeft" t="textAreaTop" r="textAreaRight" b="textAreaBottom"/>
            <a:pathLst>
              <a:path w="3871848" h="1271523">
                <a:moveTo>
                  <a:pt x="742950" y="0"/>
                </a:moveTo>
                <a:lnTo>
                  <a:pt x="1000125" y="42926"/>
                </a:lnTo>
                <a:lnTo>
                  <a:pt x="3871849" y="1057275"/>
                </a:lnTo>
                <a:lnTo>
                  <a:pt x="0" y="1271523"/>
                </a:lnTo>
                <a:lnTo>
                  <a:pt x="74295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1971720" y="843120"/>
            <a:ext cx="3414240" cy="3814200"/>
          </a:xfrm>
          <a:custGeom>
            <a:avLst/>
            <a:gdLst>
              <a:gd name="textAreaLeft" fmla="*/ 0 w 3414240"/>
              <a:gd name="textAreaRight" fmla="*/ 3414600 w 3414240"/>
              <a:gd name="textAreaTop" fmla="*/ 0 h 3814200"/>
              <a:gd name="textAreaBottom" fmla="*/ 3814560 h 3814200"/>
            </a:gdLst>
            <a:ahLst/>
            <a:rect l="textAreaLeft" t="textAreaTop" r="textAreaRight" b="textAreaBottom"/>
            <a:pathLst>
              <a:path w="3414776" h="3814698">
                <a:moveTo>
                  <a:pt x="3414776" y="3814699"/>
                </a:moveTo>
                <a:lnTo>
                  <a:pt x="3414776" y="3814699"/>
                </a:lnTo>
                <a:lnTo>
                  <a:pt x="0" y="1114425"/>
                </a:lnTo>
                <a:lnTo>
                  <a:pt x="1171575" y="0"/>
                </a:lnTo>
                <a:lnTo>
                  <a:pt x="3414776" y="381469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5386320" y="957240"/>
            <a:ext cx="1528200" cy="3671640"/>
          </a:xfrm>
          <a:custGeom>
            <a:avLst/>
            <a:gdLst>
              <a:gd name="textAreaLeft" fmla="*/ 0 w 1528200"/>
              <a:gd name="textAreaRight" fmla="*/ 1528560 w 1528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1528698" h="3671823">
                <a:moveTo>
                  <a:pt x="0" y="3671824"/>
                </a:moveTo>
                <a:lnTo>
                  <a:pt x="342900" y="0"/>
                </a:lnTo>
                <a:lnTo>
                  <a:pt x="1528698" y="1071499"/>
                </a:lnTo>
                <a:lnTo>
                  <a:pt x="0" y="3671824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5415120" y="3800520"/>
            <a:ext cx="1499760" cy="1271160"/>
          </a:xfrm>
          <a:custGeom>
            <a:avLst/>
            <a:gdLst>
              <a:gd name="textAreaLeft" fmla="*/ 0 w 1499760"/>
              <a:gd name="textAreaRight" fmla="*/ 1500120 w 1499760"/>
              <a:gd name="textAreaTop" fmla="*/ 0 h 1271160"/>
              <a:gd name="textAreaBottom" fmla="*/ 1271520 h 1271160"/>
            </a:gdLst>
            <a:ahLst/>
            <a:rect l="textAreaLeft" t="textAreaTop" r="textAreaRight" b="textAreaBottom"/>
            <a:pathLst>
              <a:path w="1500123" h="1271523">
                <a:moveTo>
                  <a:pt x="0" y="842898"/>
                </a:moveTo>
                <a:lnTo>
                  <a:pt x="1428750" y="0"/>
                </a:lnTo>
                <a:lnTo>
                  <a:pt x="1500123" y="1271523"/>
                </a:lnTo>
                <a:lnTo>
                  <a:pt x="0" y="84289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407880" y="1065240"/>
            <a:ext cx="1398240" cy="2520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398587" h="25400">
                <a:moveTo>
                  <a:pt x="6350" y="6350"/>
                </a:moveTo>
                <a:lnTo>
                  <a:pt x="1392237" y="6350"/>
                </a:lnTo>
              </a:path>
            </a:pathLst>
          </a:custGeom>
          <a:noFill/>
          <a:ln w="12700">
            <a:solidFill>
              <a:srgbClr val="fffff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7066080" y="1136520"/>
            <a:ext cx="1398240" cy="2520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398524" h="25400">
                <a:moveTo>
                  <a:pt x="6350" y="6350"/>
                </a:moveTo>
                <a:lnTo>
                  <a:pt x="1392173" y="6350"/>
                </a:lnTo>
              </a:path>
            </a:pathLst>
          </a:custGeom>
          <a:noFill/>
          <a:ln w="12700">
            <a:solidFill>
              <a:srgbClr val="fffff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1208160" y="5351400"/>
            <a:ext cx="1869840" cy="25200"/>
          </a:xfrm>
          <a:custGeom>
            <a:avLst/>
            <a:gdLst>
              <a:gd name="textAreaLeft" fmla="*/ 0 w 1869840"/>
              <a:gd name="textAreaRight" fmla="*/ 1870200 w 18698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870036" h="25400">
                <a:moveTo>
                  <a:pt x="6350" y="6350"/>
                </a:moveTo>
                <a:lnTo>
                  <a:pt x="1863686" y="6350"/>
                </a:lnTo>
              </a:path>
            </a:pathLst>
          </a:custGeom>
          <a:noFill/>
          <a:ln w="12700">
            <a:solidFill>
              <a:srgbClr val="fffff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5851440" y="5280120"/>
            <a:ext cx="2084040" cy="25200"/>
          </a:xfrm>
          <a:custGeom>
            <a:avLst/>
            <a:gdLst>
              <a:gd name="textAreaLeft" fmla="*/ 0 w 2084040"/>
              <a:gd name="textAreaRight" fmla="*/ 2084400 w 20840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084451" h="25400">
                <a:moveTo>
                  <a:pt x="6350" y="6350"/>
                </a:moveTo>
                <a:lnTo>
                  <a:pt x="2078101" y="6350"/>
                </a:lnTo>
              </a:path>
            </a:pathLst>
          </a:custGeom>
          <a:noFill/>
          <a:ln w="12700">
            <a:solidFill>
              <a:srgbClr val="fffff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43080" y="6197760"/>
            <a:ext cx="380520" cy="45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1905120" y="762120"/>
            <a:ext cx="1333080" cy="1333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tretch/>
        </p:blipFill>
        <p:spPr>
          <a:xfrm>
            <a:off x="5689440" y="825480"/>
            <a:ext cx="1333080" cy="133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1193760" y="3619440"/>
            <a:ext cx="1333080" cy="133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5"/>
          <a:stretch/>
        </p:blipFill>
        <p:spPr>
          <a:xfrm>
            <a:off x="3060720" y="2908440"/>
            <a:ext cx="2895120" cy="3746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6"/>
          <a:stretch/>
        </p:blipFill>
        <p:spPr>
          <a:xfrm>
            <a:off x="6692760" y="3759120"/>
            <a:ext cx="1320480" cy="133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7"/>
          <a:stretch/>
        </p:blipFill>
        <p:spPr>
          <a:xfrm>
            <a:off x="7950240" y="6299280"/>
            <a:ext cx="837720" cy="32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8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772200" y="774720"/>
            <a:ext cx="2038320" cy="54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600" spc="-1" strike="noStrike">
                <a:solidFill>
                  <a:srgbClr val="ffff00"/>
                </a:solidFill>
                <a:latin typeface="微软雅黑"/>
              </a:rPr>
              <a:t>性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特立独行、善良、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感性、时尚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的</a:t>
            </a:r>
            <a:r>
              <a:rPr b="0" lang="en-US" sz="1410" spc="-1" strike="noStrike">
                <a:solidFill>
                  <a:srgbClr val="ffffff"/>
                </a:solidFill>
                <a:latin typeface="微软雅黑"/>
              </a:rPr>
              <a:t>80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后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独立女性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600" spc="-1" strike="noStrike">
                <a:solidFill>
                  <a:srgbClr val="ffff00"/>
                </a:solidFill>
                <a:latin typeface="微软雅黑"/>
              </a:rPr>
              <a:t>朋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密友们同样是时尚美女，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一起分享事业、情感、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38160"/>
                <a:tab algn="l" pos="749160"/>
                <a:tab algn="l" pos="863640"/>
                <a:tab algn="l" pos="1054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生活中的小秘密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6200280" y="812880"/>
            <a:ext cx="2180520" cy="53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  <a:tabLst>
                <a:tab algn="l" pos="1219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600" spc="-1" strike="noStrike">
                <a:solidFill>
                  <a:srgbClr val="ffff00"/>
                </a:solidFill>
                <a:latin typeface="微软雅黑"/>
              </a:rPr>
              <a:t>梦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219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对自己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的职业生涯，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219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有着单纯的向往，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219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在现实中一次次经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219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受历练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19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21932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微软雅黑"/>
              </a:rPr>
              <a:t>情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21932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爱情是一次次认真的游戏。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21932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期待爱情的完美，永进在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21932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寻找真正的王子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930840" y="3556080"/>
            <a:ext cx="6717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700"/>
              </a:lnSpc>
            </a:pPr>
            <a:r>
              <a:rPr b="1" lang="zh-CN" sz="4410" spc="-1" strike="noStrike">
                <a:solidFill>
                  <a:srgbClr val="ffff00"/>
                </a:solidFill>
                <a:latin typeface="微软雅黑"/>
              </a:rPr>
              <a:t>爱情</a:t>
            </a:r>
            <a:endParaRPr b="0" lang="en-US" sz="4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5734440" y="5092560"/>
            <a:ext cx="7477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我向往自由，但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一直有个梦想，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指引着我向前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3184920" y="660240"/>
            <a:ext cx="2741760" cy="33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1600200"/>
                <a:tab algn="l" pos="199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我们一起购物、分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1600200"/>
                <a:tab algn="l" pos="199404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我有三个妖娆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的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享男人的点滴，互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600200"/>
                <a:tab algn="l" pos="199404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闺蜜，我从她们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相</a:t>
            </a:r>
            <a:r>
              <a:rPr b="0" lang="en-US" sz="1410" spc="-1" strike="noStrike">
                <a:solidFill>
                  <a:srgbClr val="ffffff"/>
                </a:solidFill>
                <a:latin typeface="微软雅黑"/>
              </a:rPr>
              <a:t>8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卦娱乐，她们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600200"/>
                <a:tab algn="l" pos="199404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的故事中汲取灵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是我的精神支柱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600200"/>
                <a:tab algn="l" pos="199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600200"/>
                <a:tab algn="l" pos="199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600200"/>
                <a:tab algn="l" pos="199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600200"/>
                <a:tab algn="l" pos="199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600200"/>
                <a:tab algn="l" pos="199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600200"/>
                <a:tab algn="l" pos="199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600200"/>
                <a:tab algn="l" pos="199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600200"/>
                <a:tab algn="l" pos="199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600200"/>
                <a:tab algn="l" pos="199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1600200"/>
                <a:tab algn="l" pos="199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我是爱情动物，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600200"/>
                <a:tab algn="l" pos="199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永远不放弃对理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600200"/>
                <a:tab algn="l" pos="199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想爱情的追逐。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6567480" y="800280"/>
            <a:ext cx="150228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76320"/>
                <a:tab algn="l" pos="64764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是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不是很像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76320"/>
                <a:tab algn="l" pos="64764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中国版欲望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76320"/>
                <a:tab algn="l" pos="647640"/>
              </a:tabLst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都市？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76320"/>
                <a:tab algn="l" pos="64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在生活中也会遭遇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76320"/>
                <a:tab algn="l" pos="64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错的感情。但我的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76320"/>
                <a:tab algn="l" pos="64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聪明独立，让身边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76320"/>
                <a:tab algn="l" pos="64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的男人倍感压力。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320"/>
                <a:tab algn="l" pos="64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76320"/>
                <a:tab algn="l" pos="64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随着生活经历的增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7211880" y="5054760"/>
            <a:ext cx="8546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加，这个隐约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的梦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想变得越来越清晰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2646000" y="1981080"/>
            <a:ext cx="113652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95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感，</a:t>
            </a:r>
            <a:r>
              <a:rPr b="0" lang="zh-CN" sz="1410" spc="-1" strike="noStrike">
                <a:solidFill>
                  <a:srgbClr val="ffffff"/>
                </a:solidFill>
                <a:latin typeface="微软雅黑"/>
              </a:rPr>
              <a:t>进行写作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95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301"/>
              </a:lnSpc>
              <a:tabLst>
                <a:tab algn="l" pos="495360"/>
              </a:tabLst>
            </a:pPr>
            <a:r>
              <a:rPr b="1" lang="zh-CN" sz="4410" spc="-1" strike="noStrike">
                <a:solidFill>
                  <a:srgbClr val="ffff00"/>
                </a:solidFill>
                <a:latin typeface="微软雅黑"/>
              </a:rPr>
              <a:t>友情</a:t>
            </a:r>
            <a:endParaRPr b="0" lang="en-US" sz="4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4426200" y="5079960"/>
            <a:ext cx="6717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5700"/>
              </a:lnSpc>
            </a:pPr>
            <a:r>
              <a:rPr b="1" lang="zh-CN" sz="4410" spc="-1" strike="noStrike">
                <a:solidFill>
                  <a:srgbClr val="ffff00"/>
                </a:solidFill>
                <a:latin typeface="微软雅黑"/>
              </a:rPr>
              <a:t>理想</a:t>
            </a:r>
            <a:endParaRPr b="0" lang="en-US" sz="4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804600" y="1790640"/>
            <a:ext cx="24480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201"/>
              </a:lnSpc>
            </a:pPr>
            <a:r>
              <a:rPr b="0" lang="zh-CN" sz="3209" spc="-1" strike="noStrike">
                <a:solidFill>
                  <a:srgbClr val="ffffff"/>
                </a:solidFill>
                <a:latin typeface="微软雅黑"/>
              </a:rPr>
              <a:t>更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</a:pPr>
            <a:r>
              <a:rPr b="0" lang="zh-CN" sz="3209" spc="-1" strike="noStrike">
                <a:solidFill>
                  <a:srgbClr val="ffffff"/>
                </a:solidFill>
                <a:latin typeface="微软雅黑"/>
              </a:rPr>
              <a:t>是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</a:pPr>
            <a:r>
              <a:rPr b="0" lang="zh-CN" sz="3209" spc="-1" strike="noStrike">
                <a:solidFill>
                  <a:srgbClr val="ffffff"/>
                </a:solidFill>
                <a:latin typeface="微软雅黑"/>
              </a:rPr>
              <a:t>情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</a:pPr>
            <a:r>
              <a:rPr b="0" lang="zh-CN" sz="3209" spc="-1" strike="noStrike">
                <a:solidFill>
                  <a:srgbClr val="ffffff"/>
                </a:solidFill>
                <a:latin typeface="微软雅黑"/>
              </a:rPr>
              <a:t>感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</a:pPr>
            <a:r>
              <a:rPr b="0" lang="zh-CN" sz="3209" spc="-1" strike="noStrike">
                <a:solidFill>
                  <a:srgbClr val="ffffff"/>
                </a:solidFill>
                <a:latin typeface="微软雅黑"/>
              </a:rPr>
              <a:t>动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</a:pPr>
            <a:r>
              <a:rPr b="0" lang="zh-CN" sz="3209" spc="-1" strike="noStrike">
                <a:solidFill>
                  <a:srgbClr val="ffffff"/>
                </a:solidFill>
                <a:latin typeface="微软雅黑"/>
              </a:rPr>
              <a:t>物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450720" y="6637320"/>
            <a:ext cx="8333280" cy="25200"/>
          </a:xfrm>
          <a:custGeom>
            <a:avLst/>
            <a:gdLst>
              <a:gd name="textAreaLeft" fmla="*/ 0 w 8333280"/>
              <a:gd name="textAreaRight" fmla="*/ 8333640 w 83332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8333740" h="25400">
                <a:moveTo>
                  <a:pt x="6350" y="6350"/>
                </a:moveTo>
                <a:lnTo>
                  <a:pt x="8327390" y="6350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2279160" y="2279160"/>
            <a:ext cx="1068840" cy="4304160"/>
          </a:xfrm>
          <a:custGeom>
            <a:avLst/>
            <a:gdLst>
              <a:gd name="textAreaLeft" fmla="*/ 0 w 1068840"/>
              <a:gd name="textAreaRight" fmla="*/ 1069200 w 1068840"/>
              <a:gd name="textAreaTop" fmla="*/ 0 h 4304160"/>
              <a:gd name="textAreaBottom" fmla="*/ 4304520 h 4304160"/>
            </a:gdLst>
            <a:ahLst/>
            <a:rect l="textAreaLeft" t="textAreaTop" r="textAreaRight" b="textAreaBottom"/>
            <a:pathLst>
              <a:path w="1069086" h="4304665">
                <a:moveTo>
                  <a:pt x="323469" y="914400"/>
                </a:moveTo>
                <a:lnTo>
                  <a:pt x="182880" y="745489"/>
                </a:lnTo>
                <a:lnTo>
                  <a:pt x="0" y="661161"/>
                </a:lnTo>
                <a:cubicBezTo>
                  <a:pt x="87376" y="486410"/>
                  <a:pt x="39877" y="447802"/>
                  <a:pt x="98425" y="506349"/>
                </a:cubicBezTo>
                <a:cubicBezTo>
                  <a:pt x="241554" y="277367"/>
                  <a:pt x="239141" y="369824"/>
                  <a:pt x="239141" y="267208"/>
                </a:cubicBezTo>
                <a:lnTo>
                  <a:pt x="435991" y="0"/>
                </a:lnTo>
                <a:lnTo>
                  <a:pt x="632967" y="98425"/>
                </a:lnTo>
                <a:lnTo>
                  <a:pt x="886205" y="98425"/>
                </a:lnTo>
                <a:lnTo>
                  <a:pt x="1012825" y="435991"/>
                </a:lnTo>
                <a:lnTo>
                  <a:pt x="956564" y="590804"/>
                </a:lnTo>
                <a:lnTo>
                  <a:pt x="1069086" y="731520"/>
                </a:lnTo>
                <a:cubicBezTo>
                  <a:pt x="753872" y="917702"/>
                  <a:pt x="674877" y="829564"/>
                  <a:pt x="773683" y="928370"/>
                </a:cubicBezTo>
                <a:lnTo>
                  <a:pt x="928370" y="1054988"/>
                </a:lnTo>
                <a:cubicBezTo>
                  <a:pt x="885698" y="1553972"/>
                  <a:pt x="769747" y="1430908"/>
                  <a:pt x="900302" y="1561464"/>
                </a:cubicBezTo>
                <a:lnTo>
                  <a:pt x="942467" y="2025650"/>
                </a:lnTo>
                <a:lnTo>
                  <a:pt x="928370" y="2489962"/>
                </a:lnTo>
                <a:lnTo>
                  <a:pt x="858139" y="2883788"/>
                </a:lnTo>
                <a:lnTo>
                  <a:pt x="942467" y="3291839"/>
                </a:lnTo>
                <a:lnTo>
                  <a:pt x="942467" y="3671620"/>
                </a:lnTo>
                <a:lnTo>
                  <a:pt x="1012825" y="4065511"/>
                </a:lnTo>
                <a:lnTo>
                  <a:pt x="928370" y="4276534"/>
                </a:lnTo>
                <a:cubicBezTo>
                  <a:pt x="678814" y="4247171"/>
                  <a:pt x="725170" y="4320184"/>
                  <a:pt x="675258" y="4220260"/>
                </a:cubicBezTo>
                <a:lnTo>
                  <a:pt x="689229" y="3713823"/>
                </a:lnTo>
                <a:lnTo>
                  <a:pt x="618870" y="3151124"/>
                </a:lnTo>
                <a:lnTo>
                  <a:pt x="506349" y="2827527"/>
                </a:lnTo>
                <a:cubicBezTo>
                  <a:pt x="407035" y="3324529"/>
                  <a:pt x="407924" y="3152520"/>
                  <a:pt x="407924" y="3333991"/>
                </a:cubicBezTo>
                <a:lnTo>
                  <a:pt x="379730" y="3826357"/>
                </a:lnTo>
                <a:lnTo>
                  <a:pt x="435991" y="4178058"/>
                </a:lnTo>
                <a:lnTo>
                  <a:pt x="351663" y="4304665"/>
                </a:lnTo>
                <a:cubicBezTo>
                  <a:pt x="49783" y="4232796"/>
                  <a:pt x="-15366" y="4305909"/>
                  <a:pt x="70230" y="4220260"/>
                </a:cubicBezTo>
                <a:lnTo>
                  <a:pt x="140589" y="3643477"/>
                </a:lnTo>
                <a:lnTo>
                  <a:pt x="168783" y="2954147"/>
                </a:lnTo>
                <a:lnTo>
                  <a:pt x="112522" y="2447670"/>
                </a:lnTo>
                <a:lnTo>
                  <a:pt x="13970" y="2039747"/>
                </a:lnTo>
                <a:lnTo>
                  <a:pt x="154686" y="1603629"/>
                </a:lnTo>
                <a:lnTo>
                  <a:pt x="98425" y="1097280"/>
                </a:lnTo>
                <a:lnTo>
                  <a:pt x="323469" y="9144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457440" y="1028880"/>
            <a:ext cx="5257440" cy="2693520"/>
          </a:xfrm>
          <a:custGeom>
            <a:avLst/>
            <a:gdLst>
              <a:gd name="textAreaLeft" fmla="*/ 0 w 5257440"/>
              <a:gd name="textAreaRight" fmla="*/ 5257800 w 5257440"/>
              <a:gd name="textAreaTop" fmla="*/ 0 h 2693520"/>
              <a:gd name="textAreaBottom" fmla="*/ 2693880 h 2693520"/>
            </a:gdLst>
            <a:ahLst/>
            <a:rect l="textAreaLeft" t="textAreaTop" r="textAreaRight" b="textAreaBottom"/>
            <a:pathLst>
              <a:path w="5257800" h="2693711">
                <a:moveTo>
                  <a:pt x="0" y="2500376"/>
                </a:moveTo>
                <a:lnTo>
                  <a:pt x="485775" y="2243201"/>
                </a:lnTo>
                <a:cubicBezTo>
                  <a:pt x="476250" y="2124075"/>
                  <a:pt x="478916" y="2003425"/>
                  <a:pt x="457200" y="1885950"/>
                </a:cubicBezTo>
                <a:cubicBezTo>
                  <a:pt x="454025" y="1869058"/>
                  <a:pt x="425069" y="1870836"/>
                  <a:pt x="414401" y="1857375"/>
                </a:cubicBezTo>
                <a:cubicBezTo>
                  <a:pt x="404876" y="1845564"/>
                  <a:pt x="400050" y="1814448"/>
                  <a:pt x="400050" y="1814448"/>
                </a:cubicBezTo>
                <a:lnTo>
                  <a:pt x="385826" y="1200150"/>
                </a:lnTo>
                <a:cubicBezTo>
                  <a:pt x="163576" y="711326"/>
                  <a:pt x="171450" y="901319"/>
                  <a:pt x="171450" y="671576"/>
                </a:cubicBezTo>
                <a:cubicBezTo>
                  <a:pt x="820928" y="-6858"/>
                  <a:pt x="504444" y="0"/>
                  <a:pt x="843026" y="0"/>
                </a:cubicBezTo>
                <a:cubicBezTo>
                  <a:pt x="2154809" y="361950"/>
                  <a:pt x="1656207" y="342900"/>
                  <a:pt x="2300351" y="342900"/>
                </a:cubicBezTo>
                <a:lnTo>
                  <a:pt x="3600450" y="128650"/>
                </a:lnTo>
                <a:cubicBezTo>
                  <a:pt x="3833876" y="85725"/>
                  <a:pt x="4064889" y="27177"/>
                  <a:pt x="4300601" y="0"/>
                </a:cubicBezTo>
                <a:cubicBezTo>
                  <a:pt x="4320667" y="-2286"/>
                  <a:pt x="4328159" y="29591"/>
                  <a:pt x="4343400" y="42925"/>
                </a:cubicBezTo>
                <a:cubicBezTo>
                  <a:pt x="4366386" y="62991"/>
                  <a:pt x="4390390" y="81661"/>
                  <a:pt x="4414901" y="100075"/>
                </a:cubicBezTo>
                <a:cubicBezTo>
                  <a:pt x="4428617" y="110363"/>
                  <a:pt x="4457700" y="128650"/>
                  <a:pt x="4457700" y="128650"/>
                </a:cubicBezTo>
                <a:cubicBezTo>
                  <a:pt x="5164073" y="570102"/>
                  <a:pt x="4879213" y="504316"/>
                  <a:pt x="5215001" y="571500"/>
                </a:cubicBezTo>
                <a:lnTo>
                  <a:pt x="5257800" y="600075"/>
                </a:lnTo>
                <a:cubicBezTo>
                  <a:pt x="5228335" y="1085850"/>
                  <a:pt x="5229225" y="914145"/>
                  <a:pt x="5229225" y="1114425"/>
                </a:cubicBezTo>
                <a:cubicBezTo>
                  <a:pt x="4603115" y="1551177"/>
                  <a:pt x="4614926" y="1293367"/>
                  <a:pt x="4614926" y="1585976"/>
                </a:cubicBezTo>
                <a:cubicBezTo>
                  <a:pt x="4619625" y="1762125"/>
                  <a:pt x="4638167" y="1938527"/>
                  <a:pt x="4629150" y="2114550"/>
                </a:cubicBezTo>
                <a:cubicBezTo>
                  <a:pt x="4628260" y="2131695"/>
                  <a:pt x="4586351" y="2143125"/>
                  <a:pt x="4586351" y="2143125"/>
                </a:cubicBezTo>
                <a:cubicBezTo>
                  <a:pt x="4046728" y="2476627"/>
                  <a:pt x="3956684" y="2894076"/>
                  <a:pt x="3771900" y="2586101"/>
                </a:cubicBezTo>
                <a:cubicBezTo>
                  <a:pt x="3766439" y="2576957"/>
                  <a:pt x="3762375" y="2567051"/>
                  <a:pt x="3757676" y="2557526"/>
                </a:cubicBezTo>
                <a:lnTo>
                  <a:pt x="2614676" y="2271776"/>
                </a:lnTo>
                <a:cubicBezTo>
                  <a:pt x="1876425" y="2344039"/>
                  <a:pt x="2130044" y="2343150"/>
                  <a:pt x="1857375" y="2343150"/>
                </a:cubicBezTo>
                <a:lnTo>
                  <a:pt x="1185926" y="2243201"/>
                </a:lnTo>
                <a:lnTo>
                  <a:pt x="571500" y="2486025"/>
                </a:lnTo>
                <a:lnTo>
                  <a:pt x="0" y="2500376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343080" y="6197760"/>
            <a:ext cx="380520" cy="456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2235240" y="990720"/>
            <a:ext cx="6578280" cy="5689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"/>
          <p:cNvSpPr/>
          <p:nvPr/>
        </p:nvSpPr>
        <p:spPr>
          <a:xfrm>
            <a:off x="4835520" y="1397160"/>
            <a:ext cx="2469960" cy="17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999"/>
              </a:lnSpc>
            </a:pPr>
            <a:r>
              <a:rPr b="1" lang="zh-CN" sz="5400" spc="-1" strike="noStrike">
                <a:solidFill>
                  <a:srgbClr val="ff3399"/>
                </a:solidFill>
                <a:latin typeface="微软雅黑"/>
              </a:rPr>
              <a:t>我的魅力如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401"/>
              </a:lnSpc>
            </a:pPr>
            <a:r>
              <a:rPr b="1" lang="zh-CN" sz="5400" spc="-1" strike="noStrike">
                <a:solidFill>
                  <a:srgbClr val="ff3399"/>
                </a:solidFill>
                <a:latin typeface="微软雅黑"/>
              </a:rPr>
              <a:t>修炼而成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450720" y="6637320"/>
            <a:ext cx="8333280" cy="25200"/>
          </a:xfrm>
          <a:custGeom>
            <a:avLst/>
            <a:gdLst>
              <a:gd name="textAreaLeft" fmla="*/ 0 w 8333280"/>
              <a:gd name="textAreaRight" fmla="*/ 8333640 w 83332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8333740" h="25400">
                <a:moveTo>
                  <a:pt x="6350" y="6350"/>
                </a:moveTo>
                <a:lnTo>
                  <a:pt x="8327390" y="6350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4409280" y="0"/>
            <a:ext cx="4734360" cy="1202400"/>
          </a:xfrm>
          <a:custGeom>
            <a:avLst/>
            <a:gdLst>
              <a:gd name="textAreaLeft" fmla="*/ 0 w 4734360"/>
              <a:gd name="textAreaRight" fmla="*/ 4734720 w 4734360"/>
              <a:gd name="textAreaTop" fmla="*/ 0 h 1202400"/>
              <a:gd name="textAreaBottom" fmla="*/ 1202760 h 1202400"/>
            </a:gdLst>
            <a:ahLst/>
            <a:rect l="textAreaLeft" t="textAreaTop" r="textAreaRight" b="textAreaBottom"/>
            <a:pathLst>
              <a:path w="4734814" h="1202816">
                <a:moveTo>
                  <a:pt x="77597" y="0"/>
                </a:moveTo>
                <a:lnTo>
                  <a:pt x="4734814" y="623188"/>
                </a:lnTo>
                <a:lnTo>
                  <a:pt x="4657217" y="1202816"/>
                </a:lnTo>
                <a:lnTo>
                  <a:pt x="0" y="579627"/>
                </a:lnTo>
                <a:lnTo>
                  <a:pt x="77597" y="0"/>
                </a:lnTo>
              </a:path>
            </a:pathLst>
          </a:custGeom>
          <a:solidFill>
            <a:srgbClr val="ff33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4390200" y="-19080"/>
            <a:ext cx="4772520" cy="1240560"/>
          </a:xfrm>
          <a:custGeom>
            <a:avLst/>
            <a:gdLst>
              <a:gd name="textAreaLeft" fmla="*/ 0 w 4772520"/>
              <a:gd name="textAreaRight" fmla="*/ 4772880 w 4772520"/>
              <a:gd name="textAreaTop" fmla="*/ 0 h 1240560"/>
              <a:gd name="textAreaBottom" fmla="*/ 1240920 h 1240560"/>
            </a:gdLst>
            <a:ahLst/>
            <a:rect l="textAreaLeft" t="textAreaTop" r="textAreaRight" b="textAreaBottom"/>
            <a:pathLst>
              <a:path w="4772914" h="1240916">
                <a:moveTo>
                  <a:pt x="96647" y="19050"/>
                </a:moveTo>
                <a:lnTo>
                  <a:pt x="4753864" y="642238"/>
                </a:lnTo>
                <a:lnTo>
                  <a:pt x="4676267" y="1221866"/>
                </a:lnTo>
                <a:lnTo>
                  <a:pt x="19050" y="598677"/>
                </a:lnTo>
                <a:lnTo>
                  <a:pt x="96647" y="19050"/>
                </a:lnTo>
              </a:path>
            </a:pathLst>
          </a:custGeom>
          <a:noFill/>
          <a:ln w="381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4005000" y="714240"/>
            <a:ext cx="1195200" cy="385200"/>
          </a:xfrm>
          <a:custGeom>
            <a:avLst/>
            <a:gdLst>
              <a:gd name="textAreaLeft" fmla="*/ 0 w 1195200"/>
              <a:gd name="textAreaRight" fmla="*/ 1195560 w 1195200"/>
              <a:gd name="textAreaTop" fmla="*/ 0 h 385200"/>
              <a:gd name="textAreaBottom" fmla="*/ 385560 h 385200"/>
            </a:gdLst>
            <a:ahLst/>
            <a:rect l="textAreaLeft" t="textAreaTop" r="textAreaRight" b="textAreaBottom"/>
            <a:pathLst>
              <a:path w="1195704" h="385699">
                <a:moveTo>
                  <a:pt x="1148333" y="385699"/>
                </a:moveTo>
                <a:lnTo>
                  <a:pt x="0" y="199516"/>
                </a:lnTo>
                <a:cubicBezTo>
                  <a:pt x="36702" y="7112"/>
                  <a:pt x="-4445" y="58166"/>
                  <a:pt x="47370" y="0"/>
                </a:cubicBezTo>
                <a:lnTo>
                  <a:pt x="1195704" y="385699"/>
                </a:lnTo>
                <a:lnTo>
                  <a:pt x="1195704" y="385699"/>
                </a:lnTo>
                <a:lnTo>
                  <a:pt x="1148333" y="38569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3743640" y="364680"/>
            <a:ext cx="883080" cy="445680"/>
          </a:xfrm>
          <a:custGeom>
            <a:avLst/>
            <a:gdLst>
              <a:gd name="textAreaLeft" fmla="*/ 0 w 883080"/>
              <a:gd name="textAreaRight" fmla="*/ 883440 w 883080"/>
              <a:gd name="textAreaTop" fmla="*/ 0 h 445680"/>
              <a:gd name="textAreaBottom" fmla="*/ 446040 h 445680"/>
            </a:gdLst>
            <a:ahLst/>
            <a:rect l="textAreaLeft" t="textAreaTop" r="textAreaRight" b="textAreaBottom"/>
            <a:pathLst>
              <a:path w="883539" h="445897">
                <a:moveTo>
                  <a:pt x="847597" y="439038"/>
                </a:moveTo>
                <a:lnTo>
                  <a:pt x="0" y="138430"/>
                </a:lnTo>
                <a:cubicBezTo>
                  <a:pt x="54355" y="3683"/>
                  <a:pt x="16128" y="34925"/>
                  <a:pt x="63500" y="0"/>
                </a:cubicBezTo>
                <a:lnTo>
                  <a:pt x="883539" y="445897"/>
                </a:lnTo>
                <a:lnTo>
                  <a:pt x="883539" y="445897"/>
                </a:lnTo>
                <a:lnTo>
                  <a:pt x="847597" y="43903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43080" y="6197760"/>
            <a:ext cx="380520" cy="456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4229280" y="0"/>
            <a:ext cx="4914720" cy="129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838080" y="1701720"/>
            <a:ext cx="7949880" cy="502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2605320" y="2806560"/>
            <a:ext cx="275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睿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语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1379520" y="4089240"/>
            <a:ext cx="4276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152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聪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152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处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1522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诱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1522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身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4251240" y="2019240"/>
            <a:ext cx="412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个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1144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价值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7031160" y="4165560"/>
            <a:ext cx="49140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216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独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16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21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时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1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装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6250320" y="2870280"/>
            <a:ext cx="275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精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自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32440" y="63831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450720" y="6637320"/>
            <a:ext cx="8333280" cy="25200"/>
          </a:xfrm>
          <a:custGeom>
            <a:avLst/>
            <a:gdLst>
              <a:gd name="textAreaLeft" fmla="*/ 0 w 8333280"/>
              <a:gd name="textAreaRight" fmla="*/ 8333640 w 83332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8333740" h="25400">
                <a:moveTo>
                  <a:pt x="6350" y="6350"/>
                </a:moveTo>
                <a:lnTo>
                  <a:pt x="8327390" y="6350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1204920" y="4348080"/>
            <a:ext cx="37800" cy="1590120"/>
          </a:xfrm>
          <a:custGeom>
            <a:avLst/>
            <a:gdLst>
              <a:gd name="textAreaLeft" fmla="*/ 0 w 37800"/>
              <a:gd name="textAreaRight" fmla="*/ 38160 w 37800"/>
              <a:gd name="textAreaTop" fmla="*/ 0 h 1590120"/>
              <a:gd name="textAreaBottom" fmla="*/ 1590480 h 1590120"/>
            </a:gdLst>
            <a:ahLst/>
            <a:rect l="textAreaLeft" t="textAreaTop" r="textAreaRight" b="textAreaBottom"/>
            <a:pathLst>
              <a:path w="38100" h="1590624">
                <a:moveTo>
                  <a:pt x="9525" y="9525"/>
                </a:moveTo>
                <a:lnTo>
                  <a:pt x="9525" y="1581099"/>
                </a:lnTo>
              </a:path>
            </a:pathLst>
          </a:custGeom>
          <a:noFill/>
          <a:ln w="12700">
            <a:solidFill>
              <a:srgbClr val="fffff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2919240" y="4348080"/>
            <a:ext cx="37800" cy="1590120"/>
          </a:xfrm>
          <a:custGeom>
            <a:avLst/>
            <a:gdLst>
              <a:gd name="textAreaLeft" fmla="*/ 0 w 37800"/>
              <a:gd name="textAreaRight" fmla="*/ 38160 w 37800"/>
              <a:gd name="textAreaTop" fmla="*/ 0 h 1590120"/>
              <a:gd name="textAreaBottom" fmla="*/ 1590480 h 1590120"/>
            </a:gdLst>
            <a:ahLst/>
            <a:rect l="textAreaLeft" t="textAreaTop" r="textAreaRight" b="textAreaBottom"/>
            <a:pathLst>
              <a:path w="38100" h="1590624">
                <a:moveTo>
                  <a:pt x="9525" y="9525"/>
                </a:moveTo>
                <a:lnTo>
                  <a:pt x="9525" y="1581099"/>
                </a:lnTo>
              </a:path>
            </a:pathLst>
          </a:custGeom>
          <a:noFill/>
          <a:ln w="12700">
            <a:solidFill>
              <a:srgbClr val="fffff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4562640" y="4348080"/>
            <a:ext cx="37800" cy="1590120"/>
          </a:xfrm>
          <a:custGeom>
            <a:avLst/>
            <a:gdLst>
              <a:gd name="textAreaLeft" fmla="*/ 0 w 37800"/>
              <a:gd name="textAreaRight" fmla="*/ 38160 w 37800"/>
              <a:gd name="textAreaTop" fmla="*/ 0 h 1590120"/>
              <a:gd name="textAreaBottom" fmla="*/ 1590480 h 1590120"/>
            </a:gdLst>
            <a:ahLst/>
            <a:rect l="textAreaLeft" t="textAreaTop" r="textAreaRight" b="textAreaBottom"/>
            <a:pathLst>
              <a:path w="38100" h="1590624">
                <a:moveTo>
                  <a:pt x="9525" y="9525"/>
                </a:moveTo>
                <a:lnTo>
                  <a:pt x="9525" y="1581099"/>
                </a:lnTo>
              </a:path>
            </a:pathLst>
          </a:custGeom>
          <a:noFill/>
          <a:ln w="12700">
            <a:solidFill>
              <a:srgbClr val="fffff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6276960" y="4348080"/>
            <a:ext cx="37800" cy="1590120"/>
          </a:xfrm>
          <a:custGeom>
            <a:avLst/>
            <a:gdLst>
              <a:gd name="textAreaLeft" fmla="*/ 0 w 37800"/>
              <a:gd name="textAreaRight" fmla="*/ 38160 w 37800"/>
              <a:gd name="textAreaTop" fmla="*/ 0 h 1590120"/>
              <a:gd name="textAreaBottom" fmla="*/ 1590480 h 1590120"/>
            </a:gdLst>
            <a:ahLst/>
            <a:rect l="textAreaLeft" t="textAreaTop" r="textAreaRight" b="textAreaBottom"/>
            <a:pathLst>
              <a:path w="38100" h="1590624">
                <a:moveTo>
                  <a:pt x="9525" y="9525"/>
                </a:moveTo>
                <a:lnTo>
                  <a:pt x="9525" y="1581099"/>
                </a:lnTo>
              </a:path>
            </a:pathLst>
          </a:custGeom>
          <a:noFill/>
          <a:ln w="12700">
            <a:solidFill>
              <a:srgbClr val="fffff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8062920" y="4348080"/>
            <a:ext cx="37800" cy="1590120"/>
          </a:xfrm>
          <a:custGeom>
            <a:avLst/>
            <a:gdLst>
              <a:gd name="textAreaLeft" fmla="*/ 0 w 37800"/>
              <a:gd name="textAreaRight" fmla="*/ 38160 w 37800"/>
              <a:gd name="textAreaTop" fmla="*/ 0 h 1590120"/>
              <a:gd name="textAreaBottom" fmla="*/ 1590480 h 1590120"/>
            </a:gdLst>
            <a:ahLst/>
            <a:rect l="textAreaLeft" t="textAreaTop" r="textAreaRight" b="textAreaBottom"/>
            <a:pathLst>
              <a:path w="38100" h="1590624">
                <a:moveTo>
                  <a:pt x="9525" y="9525"/>
                </a:moveTo>
                <a:lnTo>
                  <a:pt x="9525" y="1581099"/>
                </a:lnTo>
              </a:path>
            </a:pathLst>
          </a:custGeom>
          <a:noFill/>
          <a:ln w="12700">
            <a:solidFill>
              <a:srgbClr val="fffff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500040" y="1785960"/>
            <a:ext cx="1356840" cy="3357360"/>
          </a:xfrm>
          <a:custGeom>
            <a:avLst/>
            <a:gdLst>
              <a:gd name="textAreaLeft" fmla="*/ 0 w 1356840"/>
              <a:gd name="textAreaRight" fmla="*/ 1357200 w 1356840"/>
              <a:gd name="textAreaTop" fmla="*/ 0 h 3357360"/>
              <a:gd name="textAreaBottom" fmla="*/ 3357720 h 3357360"/>
            </a:gdLst>
            <a:ahLst/>
            <a:rect l="textAreaLeft" t="textAreaTop" r="textAreaRight" b="textAreaBottom"/>
            <a:pathLst>
              <a:path w="1357376" h="3357626">
                <a:moveTo>
                  <a:pt x="0" y="3357626"/>
                </a:moveTo>
                <a:lnTo>
                  <a:pt x="1357376" y="3357626"/>
                </a:lnTo>
                <a:lnTo>
                  <a:pt x="1357376" y="0"/>
                </a:lnTo>
                <a:lnTo>
                  <a:pt x="0" y="0"/>
                </a:lnTo>
                <a:lnTo>
                  <a:pt x="0" y="3357626"/>
                </a:ln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428760" y="1143000"/>
            <a:ext cx="1499760" cy="1499760"/>
          </a:xfrm>
          <a:custGeom>
            <a:avLst/>
            <a:gdLst>
              <a:gd name="textAreaLeft" fmla="*/ 0 w 1499760"/>
              <a:gd name="textAreaRight" fmla="*/ 1500120 w 1499760"/>
              <a:gd name="textAreaTop" fmla="*/ 0 h 1499760"/>
              <a:gd name="textAreaBottom" fmla="*/ 1500120 h 1499760"/>
            </a:gdLst>
            <a:ahLst/>
            <a:rect l="textAreaLeft" t="textAreaTop" r="textAreaRight" b="textAreaBottom"/>
            <a:pathLst>
              <a:path w="1500149" h="1500123">
                <a:moveTo>
                  <a:pt x="0" y="750061"/>
                </a:moveTo>
                <a:cubicBezTo>
                  <a:pt x="0" y="335788"/>
                  <a:pt x="335826" y="0"/>
                  <a:pt x="750100" y="0"/>
                </a:cubicBezTo>
                <a:cubicBezTo>
                  <a:pt x="750100" y="0"/>
                  <a:pt x="750100" y="0"/>
                  <a:pt x="750100" y="0"/>
                </a:cubicBezTo>
                <a:lnTo>
                  <a:pt x="750100" y="0"/>
                </a:lnTo>
                <a:cubicBezTo>
                  <a:pt x="1164361" y="0"/>
                  <a:pt x="1500149" y="335788"/>
                  <a:pt x="1500149" y="750061"/>
                </a:cubicBezTo>
                <a:cubicBezTo>
                  <a:pt x="1500149" y="750061"/>
                  <a:pt x="1500149" y="750061"/>
                  <a:pt x="1500149" y="750061"/>
                </a:cubicBezTo>
                <a:lnTo>
                  <a:pt x="1500149" y="750061"/>
                </a:lnTo>
                <a:cubicBezTo>
                  <a:pt x="1500149" y="1164335"/>
                  <a:pt x="1164361" y="1500123"/>
                  <a:pt x="750100" y="1500123"/>
                </a:cubicBezTo>
                <a:cubicBezTo>
                  <a:pt x="750100" y="1500123"/>
                  <a:pt x="750100" y="1500123"/>
                  <a:pt x="750100" y="1500123"/>
                </a:cubicBezTo>
                <a:lnTo>
                  <a:pt x="750100" y="1500123"/>
                </a:lnTo>
                <a:cubicBezTo>
                  <a:pt x="335826" y="1500123"/>
                  <a:pt x="0" y="1164335"/>
                  <a:pt x="0" y="750061"/>
                </a:cubicBezTo>
                <a:cubicBezTo>
                  <a:pt x="0" y="750061"/>
                  <a:pt x="0" y="750061"/>
                  <a:pt x="0" y="750061"/>
                </a:cubicBez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495000" y="1209240"/>
            <a:ext cx="1367280" cy="1367280"/>
          </a:xfrm>
          <a:custGeom>
            <a:avLst/>
            <a:gdLst>
              <a:gd name="textAreaLeft" fmla="*/ 0 w 1367280"/>
              <a:gd name="textAreaRight" fmla="*/ 1367640 w 1367280"/>
              <a:gd name="textAreaTop" fmla="*/ 0 h 1367280"/>
              <a:gd name="textAreaBottom" fmla="*/ 1367640 h 1367280"/>
            </a:gdLst>
            <a:ahLst/>
            <a:rect l="textAreaLeft" t="textAreaTop" r="textAreaRight" b="textAreaBottom"/>
            <a:pathLst>
              <a:path w="1367726" h="1367663">
                <a:moveTo>
                  <a:pt x="12700" y="683767"/>
                </a:moveTo>
                <a:cubicBezTo>
                  <a:pt x="12700" y="313181"/>
                  <a:pt x="313181" y="12700"/>
                  <a:pt x="683844" y="12700"/>
                </a:cubicBezTo>
                <a:cubicBezTo>
                  <a:pt x="683844" y="12700"/>
                  <a:pt x="683844" y="12700"/>
                  <a:pt x="683844" y="12700"/>
                </a:cubicBezTo>
                <a:lnTo>
                  <a:pt x="683844" y="12700"/>
                </a:lnTo>
                <a:cubicBezTo>
                  <a:pt x="1054544" y="12700"/>
                  <a:pt x="1355026" y="313181"/>
                  <a:pt x="1355026" y="683767"/>
                </a:cubicBezTo>
                <a:cubicBezTo>
                  <a:pt x="1355026" y="683767"/>
                  <a:pt x="1355026" y="683767"/>
                  <a:pt x="1355026" y="683767"/>
                </a:cubicBezTo>
                <a:lnTo>
                  <a:pt x="1355026" y="683767"/>
                </a:lnTo>
                <a:cubicBezTo>
                  <a:pt x="1355026" y="1054480"/>
                  <a:pt x="1054544" y="1354963"/>
                  <a:pt x="683844" y="1354963"/>
                </a:cubicBezTo>
                <a:cubicBezTo>
                  <a:pt x="683844" y="1354963"/>
                  <a:pt x="683844" y="1354963"/>
                  <a:pt x="683844" y="1354963"/>
                </a:cubicBezTo>
                <a:lnTo>
                  <a:pt x="683844" y="1354963"/>
                </a:lnTo>
                <a:cubicBezTo>
                  <a:pt x="313181" y="1354963"/>
                  <a:pt x="12700" y="1054480"/>
                  <a:pt x="12700" y="683767"/>
                </a:cubicBezTo>
                <a:cubicBezTo>
                  <a:pt x="12700" y="683767"/>
                  <a:pt x="12700" y="683767"/>
                  <a:pt x="12700" y="683767"/>
                </a:cubicBezTo>
              </a:path>
            </a:pathLst>
          </a:custGeom>
          <a:noFill/>
          <a:ln>
            <a:solidFill>
              <a:srgbClr val="ff3399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928800" y="928800"/>
            <a:ext cx="499680" cy="499680"/>
          </a:xfrm>
          <a:custGeom>
            <a:avLst/>
            <a:gdLst>
              <a:gd name="textAreaLeft" fmla="*/ 0 w 499680"/>
              <a:gd name="textAreaRight" fmla="*/ 500040 w 499680"/>
              <a:gd name="textAreaTop" fmla="*/ 0 h 499680"/>
              <a:gd name="textAreaBottom" fmla="*/ 500040 h 499680"/>
            </a:gdLst>
            <a:ahLst/>
            <a:rect l="textAreaLeft" t="textAreaTop" r="textAreaRight" b="textAreaBottom"/>
            <a:pathLst>
              <a:path w="500062" h="500062">
                <a:moveTo>
                  <a:pt x="0" y="500062"/>
                </a:moveTo>
                <a:lnTo>
                  <a:pt x="500062" y="500062"/>
                </a:lnTo>
                <a:lnTo>
                  <a:pt x="500062" y="0"/>
                </a:lnTo>
                <a:lnTo>
                  <a:pt x="0" y="0"/>
                </a:lnTo>
                <a:lnTo>
                  <a:pt x="0" y="500062"/>
                </a:lnTo>
              </a:path>
            </a:pathLst>
          </a:custGeom>
          <a:solidFill>
            <a:srgbClr val="ff33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915840" y="915840"/>
            <a:ext cx="525240" cy="525240"/>
          </a:xfrm>
          <a:custGeom>
            <a:avLst/>
            <a:gdLst>
              <a:gd name="textAreaLeft" fmla="*/ 0 w 525240"/>
              <a:gd name="textAreaRight" fmla="*/ 525600 w 52524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525462" h="525462">
                <a:moveTo>
                  <a:pt x="12700" y="512762"/>
                </a:moveTo>
                <a:lnTo>
                  <a:pt x="512762" y="512762"/>
                </a:lnTo>
                <a:lnTo>
                  <a:pt x="512762" y="12700"/>
                </a:lnTo>
                <a:lnTo>
                  <a:pt x="12700" y="12700"/>
                </a:lnTo>
                <a:lnTo>
                  <a:pt x="12700" y="512762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2214360" y="2143080"/>
            <a:ext cx="1356840" cy="2999880"/>
          </a:xfrm>
          <a:custGeom>
            <a:avLst/>
            <a:gdLst>
              <a:gd name="textAreaLeft" fmla="*/ 0 w 1356840"/>
              <a:gd name="textAreaRight" fmla="*/ 1357200 w 1356840"/>
              <a:gd name="textAreaTop" fmla="*/ 0 h 2999880"/>
              <a:gd name="textAreaBottom" fmla="*/ 3000240 h 2999880"/>
            </a:gdLst>
            <a:ahLst/>
            <a:rect l="textAreaLeft" t="textAreaTop" r="textAreaRight" b="textAreaBottom"/>
            <a:pathLst>
              <a:path w="1357376" h="3000375">
                <a:moveTo>
                  <a:pt x="0" y="3000375"/>
                </a:moveTo>
                <a:lnTo>
                  <a:pt x="1357376" y="3000375"/>
                </a:lnTo>
                <a:lnTo>
                  <a:pt x="1357376" y="0"/>
                </a:lnTo>
                <a:lnTo>
                  <a:pt x="0" y="0"/>
                </a:lnTo>
                <a:lnTo>
                  <a:pt x="0" y="3000375"/>
                </a:ln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2143080" y="1500120"/>
            <a:ext cx="1499760" cy="1499760"/>
          </a:xfrm>
          <a:custGeom>
            <a:avLst/>
            <a:gdLst>
              <a:gd name="textAreaLeft" fmla="*/ 0 w 1499760"/>
              <a:gd name="textAreaRight" fmla="*/ 1500120 w 1499760"/>
              <a:gd name="textAreaTop" fmla="*/ 0 h 1499760"/>
              <a:gd name="textAreaBottom" fmla="*/ 1500120 h 1499760"/>
            </a:gdLst>
            <a:ahLst/>
            <a:rect l="textAreaLeft" t="textAreaTop" r="textAreaRight" b="textAreaBottom"/>
            <a:pathLst>
              <a:path w="1500123" h="1500250">
                <a:moveTo>
                  <a:pt x="0" y="750188"/>
                </a:moveTo>
                <a:cubicBezTo>
                  <a:pt x="0" y="335915"/>
                  <a:pt x="335788" y="0"/>
                  <a:pt x="750061" y="0"/>
                </a:cubicBezTo>
                <a:cubicBezTo>
                  <a:pt x="750061" y="0"/>
                  <a:pt x="750061" y="0"/>
                  <a:pt x="750061" y="0"/>
                </a:cubicBezTo>
                <a:lnTo>
                  <a:pt x="750061" y="0"/>
                </a:lnTo>
                <a:cubicBezTo>
                  <a:pt x="1164335" y="0"/>
                  <a:pt x="1500123" y="335915"/>
                  <a:pt x="1500123" y="750188"/>
                </a:cubicBezTo>
                <a:cubicBezTo>
                  <a:pt x="1500123" y="750188"/>
                  <a:pt x="1500123" y="750188"/>
                  <a:pt x="1500123" y="750188"/>
                </a:cubicBezTo>
                <a:lnTo>
                  <a:pt x="1500123" y="750188"/>
                </a:lnTo>
                <a:cubicBezTo>
                  <a:pt x="1500123" y="1164462"/>
                  <a:pt x="1164335" y="1500250"/>
                  <a:pt x="750061" y="1500250"/>
                </a:cubicBezTo>
                <a:cubicBezTo>
                  <a:pt x="750061" y="1500250"/>
                  <a:pt x="750061" y="1500250"/>
                  <a:pt x="750061" y="1500250"/>
                </a:cubicBezTo>
                <a:lnTo>
                  <a:pt x="750061" y="1500250"/>
                </a:lnTo>
                <a:cubicBezTo>
                  <a:pt x="335788" y="1500250"/>
                  <a:pt x="0" y="1164462"/>
                  <a:pt x="0" y="750188"/>
                </a:cubicBezTo>
                <a:cubicBezTo>
                  <a:pt x="0" y="750188"/>
                  <a:pt x="0" y="750188"/>
                  <a:pt x="0" y="750188"/>
                </a:cubicBez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2209320" y="1566360"/>
            <a:ext cx="1367280" cy="1367280"/>
          </a:xfrm>
          <a:custGeom>
            <a:avLst/>
            <a:gdLst>
              <a:gd name="textAreaLeft" fmla="*/ 0 w 1367280"/>
              <a:gd name="textAreaRight" fmla="*/ 1367640 w 1367280"/>
              <a:gd name="textAreaTop" fmla="*/ 0 h 1367280"/>
              <a:gd name="textAreaBottom" fmla="*/ 1367640 h 1367280"/>
            </a:gdLst>
            <a:ahLst/>
            <a:rect l="textAreaLeft" t="textAreaTop" r="textAreaRight" b="textAreaBottom"/>
            <a:pathLst>
              <a:path w="1367663" h="1367663">
                <a:moveTo>
                  <a:pt x="12700" y="683895"/>
                </a:moveTo>
                <a:cubicBezTo>
                  <a:pt x="12700" y="313182"/>
                  <a:pt x="313182" y="12700"/>
                  <a:pt x="683767" y="12700"/>
                </a:cubicBezTo>
                <a:cubicBezTo>
                  <a:pt x="683767" y="12700"/>
                  <a:pt x="683767" y="12700"/>
                  <a:pt x="683767" y="12700"/>
                </a:cubicBezTo>
                <a:lnTo>
                  <a:pt x="683767" y="12700"/>
                </a:lnTo>
                <a:cubicBezTo>
                  <a:pt x="1054480" y="12700"/>
                  <a:pt x="1354963" y="313182"/>
                  <a:pt x="1354963" y="683895"/>
                </a:cubicBezTo>
                <a:cubicBezTo>
                  <a:pt x="1354963" y="683895"/>
                  <a:pt x="1354963" y="683895"/>
                  <a:pt x="1354963" y="683895"/>
                </a:cubicBezTo>
                <a:lnTo>
                  <a:pt x="1354963" y="683895"/>
                </a:lnTo>
                <a:cubicBezTo>
                  <a:pt x="1354963" y="1054480"/>
                  <a:pt x="1054480" y="1354963"/>
                  <a:pt x="683767" y="1354963"/>
                </a:cubicBezTo>
                <a:cubicBezTo>
                  <a:pt x="683767" y="1354963"/>
                  <a:pt x="683767" y="1354963"/>
                  <a:pt x="683767" y="1354963"/>
                </a:cubicBezTo>
                <a:lnTo>
                  <a:pt x="683767" y="1354963"/>
                </a:lnTo>
                <a:cubicBezTo>
                  <a:pt x="313182" y="1354963"/>
                  <a:pt x="12700" y="1054480"/>
                  <a:pt x="12700" y="683895"/>
                </a:cubicBezTo>
                <a:cubicBezTo>
                  <a:pt x="12700" y="683895"/>
                  <a:pt x="12700" y="683895"/>
                  <a:pt x="12700" y="683895"/>
                </a:cubicBezTo>
              </a:path>
            </a:pathLst>
          </a:custGeom>
          <a:noFill/>
          <a:ln>
            <a:solidFill>
              <a:srgbClr val="ff3399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2643120" y="1285920"/>
            <a:ext cx="499680" cy="499680"/>
          </a:xfrm>
          <a:custGeom>
            <a:avLst/>
            <a:gdLst>
              <a:gd name="textAreaLeft" fmla="*/ 0 w 499680"/>
              <a:gd name="textAreaRight" fmla="*/ 500040 w 499680"/>
              <a:gd name="textAreaTop" fmla="*/ 0 h 499680"/>
              <a:gd name="textAreaBottom" fmla="*/ 500040 h 499680"/>
            </a:gdLst>
            <a:ahLst/>
            <a:rect l="textAreaLeft" t="textAreaTop" r="textAreaRight" b="textAreaBottom"/>
            <a:pathLst>
              <a:path w="500062" h="500062">
                <a:moveTo>
                  <a:pt x="0" y="500062"/>
                </a:moveTo>
                <a:lnTo>
                  <a:pt x="500062" y="500062"/>
                </a:lnTo>
                <a:lnTo>
                  <a:pt x="500062" y="0"/>
                </a:lnTo>
                <a:lnTo>
                  <a:pt x="0" y="0"/>
                </a:lnTo>
                <a:lnTo>
                  <a:pt x="0" y="500062"/>
                </a:lnTo>
              </a:path>
            </a:pathLst>
          </a:custGeom>
          <a:solidFill>
            <a:srgbClr val="ff33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2630520" y="1272960"/>
            <a:ext cx="525240" cy="525240"/>
          </a:xfrm>
          <a:custGeom>
            <a:avLst/>
            <a:gdLst>
              <a:gd name="textAreaLeft" fmla="*/ 0 w 525240"/>
              <a:gd name="textAreaRight" fmla="*/ 525600 w 52524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525462" h="525462">
                <a:moveTo>
                  <a:pt x="12700" y="512762"/>
                </a:moveTo>
                <a:lnTo>
                  <a:pt x="512762" y="512762"/>
                </a:lnTo>
                <a:lnTo>
                  <a:pt x="512762" y="12700"/>
                </a:lnTo>
                <a:lnTo>
                  <a:pt x="12700" y="12700"/>
                </a:lnTo>
                <a:lnTo>
                  <a:pt x="12700" y="512762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3929040" y="2500200"/>
            <a:ext cx="1356840" cy="2642760"/>
          </a:xfrm>
          <a:custGeom>
            <a:avLst/>
            <a:gdLst>
              <a:gd name="textAreaLeft" fmla="*/ 0 w 1356840"/>
              <a:gd name="textAreaRight" fmla="*/ 1357200 w 1356840"/>
              <a:gd name="textAreaTop" fmla="*/ 0 h 2642760"/>
              <a:gd name="textAreaBottom" fmla="*/ 2643120 h 2642760"/>
            </a:gdLst>
            <a:ahLst/>
            <a:rect l="textAreaLeft" t="textAreaTop" r="textAreaRight" b="textAreaBottom"/>
            <a:pathLst>
              <a:path w="1357376" h="2643251">
                <a:moveTo>
                  <a:pt x="0" y="2643251"/>
                </a:moveTo>
                <a:lnTo>
                  <a:pt x="1357376" y="2643251"/>
                </a:lnTo>
                <a:lnTo>
                  <a:pt x="1357376" y="0"/>
                </a:lnTo>
                <a:lnTo>
                  <a:pt x="0" y="0"/>
                </a:lnTo>
                <a:lnTo>
                  <a:pt x="0" y="2643251"/>
                </a:ln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3857760" y="1857240"/>
            <a:ext cx="1499760" cy="1499760"/>
          </a:xfrm>
          <a:custGeom>
            <a:avLst/>
            <a:gdLst>
              <a:gd name="textAreaLeft" fmla="*/ 0 w 1499760"/>
              <a:gd name="textAreaRight" fmla="*/ 1500120 w 1499760"/>
              <a:gd name="textAreaTop" fmla="*/ 0 h 1499760"/>
              <a:gd name="textAreaBottom" fmla="*/ 1500120 h 1499760"/>
            </a:gdLst>
            <a:ahLst/>
            <a:rect l="textAreaLeft" t="textAreaTop" r="textAreaRight" b="textAreaBottom"/>
            <a:pathLst>
              <a:path w="1500251" h="1500251">
                <a:moveTo>
                  <a:pt x="0" y="750061"/>
                </a:moveTo>
                <a:cubicBezTo>
                  <a:pt x="0" y="335788"/>
                  <a:pt x="335788" y="0"/>
                  <a:pt x="750061" y="0"/>
                </a:cubicBezTo>
                <a:cubicBezTo>
                  <a:pt x="750061" y="0"/>
                  <a:pt x="750061" y="0"/>
                  <a:pt x="750061" y="0"/>
                </a:cubicBezTo>
                <a:lnTo>
                  <a:pt x="750061" y="0"/>
                </a:lnTo>
                <a:cubicBezTo>
                  <a:pt x="1164335" y="0"/>
                  <a:pt x="1500251" y="335788"/>
                  <a:pt x="1500251" y="750061"/>
                </a:cubicBezTo>
                <a:cubicBezTo>
                  <a:pt x="1500251" y="750061"/>
                  <a:pt x="1500251" y="750061"/>
                  <a:pt x="1500251" y="750061"/>
                </a:cubicBezTo>
                <a:lnTo>
                  <a:pt x="1500251" y="750061"/>
                </a:lnTo>
                <a:cubicBezTo>
                  <a:pt x="1500251" y="1164335"/>
                  <a:pt x="1164335" y="1500251"/>
                  <a:pt x="750061" y="1500251"/>
                </a:cubicBezTo>
                <a:cubicBezTo>
                  <a:pt x="750061" y="1500251"/>
                  <a:pt x="750061" y="1500251"/>
                  <a:pt x="750061" y="1500251"/>
                </a:cubicBezTo>
                <a:lnTo>
                  <a:pt x="750061" y="1500251"/>
                </a:lnTo>
                <a:cubicBezTo>
                  <a:pt x="335788" y="1500251"/>
                  <a:pt x="0" y="1164335"/>
                  <a:pt x="0" y="750061"/>
                </a:cubicBezTo>
                <a:cubicBezTo>
                  <a:pt x="0" y="750061"/>
                  <a:pt x="0" y="750061"/>
                  <a:pt x="0" y="750061"/>
                </a:cubicBez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3924000" y="1923840"/>
            <a:ext cx="1367280" cy="1367280"/>
          </a:xfrm>
          <a:custGeom>
            <a:avLst/>
            <a:gdLst>
              <a:gd name="textAreaLeft" fmla="*/ 0 w 1367280"/>
              <a:gd name="textAreaRight" fmla="*/ 1367640 w 1367280"/>
              <a:gd name="textAreaTop" fmla="*/ 0 h 1367280"/>
              <a:gd name="textAreaBottom" fmla="*/ 1367640 h 1367280"/>
            </a:gdLst>
            <a:ahLst/>
            <a:rect l="textAreaLeft" t="textAreaTop" r="textAreaRight" b="textAreaBottom"/>
            <a:pathLst>
              <a:path w="1367663" h="1367663">
                <a:moveTo>
                  <a:pt x="12700" y="683767"/>
                </a:moveTo>
                <a:cubicBezTo>
                  <a:pt x="12700" y="313182"/>
                  <a:pt x="313182" y="12700"/>
                  <a:pt x="683767" y="12700"/>
                </a:cubicBezTo>
                <a:cubicBezTo>
                  <a:pt x="683767" y="12700"/>
                  <a:pt x="683767" y="12700"/>
                  <a:pt x="683767" y="12700"/>
                </a:cubicBezTo>
                <a:lnTo>
                  <a:pt x="683767" y="12700"/>
                </a:lnTo>
                <a:cubicBezTo>
                  <a:pt x="1054480" y="12700"/>
                  <a:pt x="1354963" y="313182"/>
                  <a:pt x="1354963" y="683767"/>
                </a:cubicBezTo>
                <a:cubicBezTo>
                  <a:pt x="1354963" y="683767"/>
                  <a:pt x="1354963" y="683767"/>
                  <a:pt x="1354963" y="683767"/>
                </a:cubicBezTo>
                <a:lnTo>
                  <a:pt x="1354963" y="683767"/>
                </a:lnTo>
                <a:cubicBezTo>
                  <a:pt x="1354963" y="1054480"/>
                  <a:pt x="1054480" y="1354963"/>
                  <a:pt x="683767" y="1354963"/>
                </a:cubicBezTo>
                <a:cubicBezTo>
                  <a:pt x="683767" y="1354963"/>
                  <a:pt x="683767" y="1354963"/>
                  <a:pt x="683767" y="1354963"/>
                </a:cubicBezTo>
                <a:lnTo>
                  <a:pt x="683767" y="1354963"/>
                </a:lnTo>
                <a:cubicBezTo>
                  <a:pt x="313182" y="1354963"/>
                  <a:pt x="12700" y="1054480"/>
                  <a:pt x="12700" y="683767"/>
                </a:cubicBezTo>
                <a:cubicBezTo>
                  <a:pt x="12700" y="683767"/>
                  <a:pt x="12700" y="683767"/>
                  <a:pt x="12700" y="683767"/>
                </a:cubicBezTo>
              </a:path>
            </a:pathLst>
          </a:custGeom>
          <a:noFill/>
          <a:ln>
            <a:solidFill>
              <a:srgbClr val="ff3399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4357800" y="1643040"/>
            <a:ext cx="499680" cy="499680"/>
          </a:xfrm>
          <a:custGeom>
            <a:avLst/>
            <a:gdLst>
              <a:gd name="textAreaLeft" fmla="*/ 0 w 499680"/>
              <a:gd name="textAreaRight" fmla="*/ 500040 w 499680"/>
              <a:gd name="textAreaTop" fmla="*/ 0 h 499680"/>
              <a:gd name="textAreaBottom" fmla="*/ 500040 h 499680"/>
            </a:gdLst>
            <a:ahLst/>
            <a:rect l="textAreaLeft" t="textAreaTop" r="textAreaRight" b="textAreaBottom"/>
            <a:pathLst>
              <a:path w="500062" h="500062">
                <a:moveTo>
                  <a:pt x="0" y="500062"/>
                </a:moveTo>
                <a:lnTo>
                  <a:pt x="500062" y="500062"/>
                </a:lnTo>
                <a:lnTo>
                  <a:pt x="500062" y="0"/>
                </a:lnTo>
                <a:lnTo>
                  <a:pt x="0" y="0"/>
                </a:lnTo>
                <a:lnTo>
                  <a:pt x="0" y="500062"/>
                </a:lnTo>
              </a:path>
            </a:pathLst>
          </a:custGeom>
          <a:solidFill>
            <a:srgbClr val="ff33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4344840" y="1630440"/>
            <a:ext cx="525240" cy="525240"/>
          </a:xfrm>
          <a:custGeom>
            <a:avLst/>
            <a:gdLst>
              <a:gd name="textAreaLeft" fmla="*/ 0 w 525240"/>
              <a:gd name="textAreaRight" fmla="*/ 525600 w 52524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525462" h="525462">
                <a:moveTo>
                  <a:pt x="12700" y="512762"/>
                </a:moveTo>
                <a:lnTo>
                  <a:pt x="512762" y="512762"/>
                </a:lnTo>
                <a:lnTo>
                  <a:pt x="512762" y="12700"/>
                </a:lnTo>
                <a:lnTo>
                  <a:pt x="12700" y="12700"/>
                </a:lnTo>
                <a:lnTo>
                  <a:pt x="12700" y="512762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5643720" y="2857680"/>
            <a:ext cx="1356840" cy="2285640"/>
          </a:xfrm>
          <a:custGeom>
            <a:avLst/>
            <a:gdLst>
              <a:gd name="textAreaLeft" fmla="*/ 0 w 1356840"/>
              <a:gd name="textAreaRight" fmla="*/ 1357200 w 1356840"/>
              <a:gd name="textAreaTop" fmla="*/ 0 h 2285640"/>
              <a:gd name="textAreaBottom" fmla="*/ 2286000 h 2285640"/>
            </a:gdLst>
            <a:ahLst/>
            <a:rect l="textAreaLeft" t="textAreaTop" r="textAreaRight" b="textAreaBottom"/>
            <a:pathLst>
              <a:path w="1357376" h="2286000">
                <a:moveTo>
                  <a:pt x="0" y="2286000"/>
                </a:moveTo>
                <a:lnTo>
                  <a:pt x="1357376" y="2286000"/>
                </a:lnTo>
                <a:lnTo>
                  <a:pt x="1357376" y="0"/>
                </a:lnTo>
                <a:lnTo>
                  <a:pt x="0" y="0"/>
                </a:lnTo>
                <a:lnTo>
                  <a:pt x="0" y="2286000"/>
                </a:ln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5572080" y="2214360"/>
            <a:ext cx="1499760" cy="1499760"/>
          </a:xfrm>
          <a:custGeom>
            <a:avLst/>
            <a:gdLst>
              <a:gd name="textAreaLeft" fmla="*/ 0 w 1499760"/>
              <a:gd name="textAreaRight" fmla="*/ 1500120 w 1499760"/>
              <a:gd name="textAreaTop" fmla="*/ 0 h 1499760"/>
              <a:gd name="textAreaBottom" fmla="*/ 1500120 h 1499760"/>
            </a:gdLst>
            <a:ahLst/>
            <a:rect l="textAreaLeft" t="textAreaTop" r="textAreaRight" b="textAreaBottom"/>
            <a:pathLst>
              <a:path w="1500251" h="1500251">
                <a:moveTo>
                  <a:pt x="0" y="750189"/>
                </a:moveTo>
                <a:cubicBezTo>
                  <a:pt x="0" y="335915"/>
                  <a:pt x="335788" y="0"/>
                  <a:pt x="750061" y="0"/>
                </a:cubicBezTo>
                <a:cubicBezTo>
                  <a:pt x="750061" y="0"/>
                  <a:pt x="750061" y="0"/>
                  <a:pt x="750061" y="0"/>
                </a:cubicBezTo>
                <a:lnTo>
                  <a:pt x="750061" y="0"/>
                </a:lnTo>
                <a:cubicBezTo>
                  <a:pt x="1164335" y="0"/>
                  <a:pt x="1500251" y="335915"/>
                  <a:pt x="1500251" y="750189"/>
                </a:cubicBezTo>
                <a:cubicBezTo>
                  <a:pt x="1500251" y="750189"/>
                  <a:pt x="1500251" y="750189"/>
                  <a:pt x="1500251" y="750189"/>
                </a:cubicBezTo>
                <a:lnTo>
                  <a:pt x="1500251" y="750189"/>
                </a:lnTo>
                <a:cubicBezTo>
                  <a:pt x="1500251" y="1164463"/>
                  <a:pt x="1164335" y="1500251"/>
                  <a:pt x="750061" y="1500251"/>
                </a:cubicBezTo>
                <a:cubicBezTo>
                  <a:pt x="750061" y="1500251"/>
                  <a:pt x="750061" y="1500251"/>
                  <a:pt x="750061" y="1500251"/>
                </a:cubicBezTo>
                <a:lnTo>
                  <a:pt x="750061" y="1500251"/>
                </a:lnTo>
                <a:cubicBezTo>
                  <a:pt x="335788" y="1500251"/>
                  <a:pt x="0" y="1164463"/>
                  <a:pt x="0" y="750189"/>
                </a:cubicBezTo>
                <a:cubicBezTo>
                  <a:pt x="0" y="750189"/>
                  <a:pt x="0" y="750189"/>
                  <a:pt x="0" y="750189"/>
                </a:cubicBez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5638320" y="2280960"/>
            <a:ext cx="1367280" cy="1367280"/>
          </a:xfrm>
          <a:custGeom>
            <a:avLst/>
            <a:gdLst>
              <a:gd name="textAreaLeft" fmla="*/ 0 w 1367280"/>
              <a:gd name="textAreaRight" fmla="*/ 1367640 w 1367280"/>
              <a:gd name="textAreaTop" fmla="*/ 0 h 1367280"/>
              <a:gd name="textAreaBottom" fmla="*/ 1367640 h 1367280"/>
            </a:gdLst>
            <a:ahLst/>
            <a:rect l="textAreaLeft" t="textAreaTop" r="textAreaRight" b="textAreaBottom"/>
            <a:pathLst>
              <a:path w="1367662" h="1367663">
                <a:moveTo>
                  <a:pt x="12700" y="683895"/>
                </a:moveTo>
                <a:cubicBezTo>
                  <a:pt x="12700" y="313182"/>
                  <a:pt x="313182" y="12700"/>
                  <a:pt x="683767" y="12700"/>
                </a:cubicBezTo>
                <a:cubicBezTo>
                  <a:pt x="683767" y="12700"/>
                  <a:pt x="683767" y="12700"/>
                  <a:pt x="683767" y="12700"/>
                </a:cubicBezTo>
                <a:lnTo>
                  <a:pt x="683767" y="12700"/>
                </a:lnTo>
                <a:cubicBezTo>
                  <a:pt x="1054480" y="12700"/>
                  <a:pt x="1354962" y="313182"/>
                  <a:pt x="1354962" y="683895"/>
                </a:cubicBezTo>
                <a:cubicBezTo>
                  <a:pt x="1354962" y="683895"/>
                  <a:pt x="1354962" y="683895"/>
                  <a:pt x="1354962" y="683895"/>
                </a:cubicBezTo>
                <a:lnTo>
                  <a:pt x="1354962" y="683895"/>
                </a:lnTo>
                <a:cubicBezTo>
                  <a:pt x="1354962" y="1054480"/>
                  <a:pt x="1054480" y="1354963"/>
                  <a:pt x="683767" y="1354963"/>
                </a:cubicBezTo>
                <a:cubicBezTo>
                  <a:pt x="683767" y="1354963"/>
                  <a:pt x="683767" y="1354963"/>
                  <a:pt x="683767" y="1354963"/>
                </a:cubicBezTo>
                <a:lnTo>
                  <a:pt x="683767" y="1354963"/>
                </a:lnTo>
                <a:cubicBezTo>
                  <a:pt x="313182" y="1354963"/>
                  <a:pt x="12700" y="1054480"/>
                  <a:pt x="12700" y="683895"/>
                </a:cubicBezTo>
                <a:cubicBezTo>
                  <a:pt x="12700" y="683895"/>
                  <a:pt x="12700" y="683895"/>
                  <a:pt x="12700" y="683895"/>
                </a:cubicBezTo>
              </a:path>
            </a:pathLst>
          </a:custGeom>
          <a:noFill/>
          <a:ln>
            <a:solidFill>
              <a:srgbClr val="ff3399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6072120" y="2000160"/>
            <a:ext cx="499680" cy="499680"/>
          </a:xfrm>
          <a:custGeom>
            <a:avLst/>
            <a:gdLst>
              <a:gd name="textAreaLeft" fmla="*/ 0 w 499680"/>
              <a:gd name="textAreaRight" fmla="*/ 500040 w 499680"/>
              <a:gd name="textAreaTop" fmla="*/ 0 h 499680"/>
              <a:gd name="textAreaBottom" fmla="*/ 500040 h 499680"/>
            </a:gdLst>
            <a:ahLst/>
            <a:rect l="textAreaLeft" t="textAreaTop" r="textAreaRight" b="textAreaBottom"/>
            <a:pathLst>
              <a:path w="500062" h="500062">
                <a:moveTo>
                  <a:pt x="0" y="500062"/>
                </a:moveTo>
                <a:lnTo>
                  <a:pt x="500062" y="500062"/>
                </a:lnTo>
                <a:lnTo>
                  <a:pt x="500062" y="0"/>
                </a:lnTo>
                <a:lnTo>
                  <a:pt x="0" y="0"/>
                </a:lnTo>
                <a:lnTo>
                  <a:pt x="0" y="500062"/>
                </a:lnTo>
              </a:path>
            </a:pathLst>
          </a:custGeom>
          <a:solidFill>
            <a:srgbClr val="ff33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6059520" y="1987560"/>
            <a:ext cx="525240" cy="525240"/>
          </a:xfrm>
          <a:custGeom>
            <a:avLst/>
            <a:gdLst>
              <a:gd name="textAreaLeft" fmla="*/ 0 w 525240"/>
              <a:gd name="textAreaRight" fmla="*/ 525600 w 52524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525462" h="525462">
                <a:moveTo>
                  <a:pt x="12700" y="512762"/>
                </a:moveTo>
                <a:lnTo>
                  <a:pt x="512762" y="512762"/>
                </a:lnTo>
                <a:lnTo>
                  <a:pt x="512762" y="12700"/>
                </a:lnTo>
                <a:lnTo>
                  <a:pt x="12700" y="12700"/>
                </a:lnTo>
                <a:lnTo>
                  <a:pt x="12700" y="512762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7429680" y="3143160"/>
            <a:ext cx="1356840" cy="1999800"/>
          </a:xfrm>
          <a:custGeom>
            <a:avLst/>
            <a:gdLst>
              <a:gd name="textAreaLeft" fmla="*/ 0 w 1356840"/>
              <a:gd name="textAreaRight" fmla="*/ 1357200 w 1356840"/>
              <a:gd name="textAreaTop" fmla="*/ 0 h 1999800"/>
              <a:gd name="textAreaBottom" fmla="*/ 2000160 h 1999800"/>
            </a:gdLst>
            <a:ahLst/>
            <a:rect l="textAreaLeft" t="textAreaTop" r="textAreaRight" b="textAreaBottom"/>
            <a:pathLst>
              <a:path w="1357376" h="2000250">
                <a:moveTo>
                  <a:pt x="0" y="2000250"/>
                </a:moveTo>
                <a:lnTo>
                  <a:pt x="1357376" y="2000250"/>
                </a:lnTo>
                <a:lnTo>
                  <a:pt x="1357376" y="0"/>
                </a:lnTo>
                <a:lnTo>
                  <a:pt x="0" y="0"/>
                </a:lnTo>
                <a:lnTo>
                  <a:pt x="0" y="2000250"/>
                </a:ln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7358040" y="2500200"/>
            <a:ext cx="1499760" cy="1499760"/>
          </a:xfrm>
          <a:custGeom>
            <a:avLst/>
            <a:gdLst>
              <a:gd name="textAreaLeft" fmla="*/ 0 w 1499760"/>
              <a:gd name="textAreaRight" fmla="*/ 1500120 w 1499760"/>
              <a:gd name="textAreaTop" fmla="*/ 0 h 1499760"/>
              <a:gd name="textAreaBottom" fmla="*/ 1500120 h 1499760"/>
            </a:gdLst>
            <a:ahLst/>
            <a:rect l="textAreaLeft" t="textAreaTop" r="textAreaRight" b="textAreaBottom"/>
            <a:pathLst>
              <a:path w="1500123" h="1500251">
                <a:moveTo>
                  <a:pt x="0" y="750189"/>
                </a:moveTo>
                <a:cubicBezTo>
                  <a:pt x="0" y="335915"/>
                  <a:pt x="335788" y="0"/>
                  <a:pt x="750061" y="0"/>
                </a:cubicBezTo>
                <a:cubicBezTo>
                  <a:pt x="750061" y="0"/>
                  <a:pt x="750061" y="0"/>
                  <a:pt x="750061" y="0"/>
                </a:cubicBezTo>
                <a:lnTo>
                  <a:pt x="750061" y="0"/>
                </a:lnTo>
                <a:cubicBezTo>
                  <a:pt x="1164335" y="0"/>
                  <a:pt x="1500123" y="335915"/>
                  <a:pt x="1500123" y="750189"/>
                </a:cubicBezTo>
                <a:cubicBezTo>
                  <a:pt x="1500123" y="750189"/>
                  <a:pt x="1500123" y="750189"/>
                  <a:pt x="1500123" y="750189"/>
                </a:cubicBezTo>
                <a:lnTo>
                  <a:pt x="1500123" y="750189"/>
                </a:lnTo>
                <a:cubicBezTo>
                  <a:pt x="1500123" y="1164463"/>
                  <a:pt x="1164335" y="1500251"/>
                  <a:pt x="750061" y="1500251"/>
                </a:cubicBezTo>
                <a:cubicBezTo>
                  <a:pt x="750061" y="1500251"/>
                  <a:pt x="750061" y="1500251"/>
                  <a:pt x="750061" y="1500251"/>
                </a:cubicBezTo>
                <a:lnTo>
                  <a:pt x="750061" y="1500251"/>
                </a:lnTo>
                <a:cubicBezTo>
                  <a:pt x="335788" y="1500251"/>
                  <a:pt x="0" y="1164463"/>
                  <a:pt x="0" y="750189"/>
                </a:cubicBezTo>
                <a:cubicBezTo>
                  <a:pt x="0" y="750189"/>
                  <a:pt x="0" y="750189"/>
                  <a:pt x="0" y="750189"/>
                </a:cubicBez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7424280" y="2566440"/>
            <a:ext cx="1367280" cy="1367280"/>
          </a:xfrm>
          <a:custGeom>
            <a:avLst/>
            <a:gdLst>
              <a:gd name="textAreaLeft" fmla="*/ 0 w 1367280"/>
              <a:gd name="textAreaRight" fmla="*/ 1367640 w 1367280"/>
              <a:gd name="textAreaTop" fmla="*/ 0 h 1367280"/>
              <a:gd name="textAreaBottom" fmla="*/ 1367640 h 1367280"/>
            </a:gdLst>
            <a:ahLst/>
            <a:rect l="textAreaLeft" t="textAreaTop" r="textAreaRight" b="textAreaBottom"/>
            <a:pathLst>
              <a:path w="1367789" h="1367663">
                <a:moveTo>
                  <a:pt x="12700" y="683895"/>
                </a:moveTo>
                <a:cubicBezTo>
                  <a:pt x="12700" y="313182"/>
                  <a:pt x="313181" y="12700"/>
                  <a:pt x="683894" y="12700"/>
                </a:cubicBezTo>
                <a:cubicBezTo>
                  <a:pt x="683894" y="12700"/>
                  <a:pt x="683894" y="12700"/>
                  <a:pt x="683894" y="12700"/>
                </a:cubicBezTo>
                <a:lnTo>
                  <a:pt x="683894" y="12700"/>
                </a:lnTo>
                <a:cubicBezTo>
                  <a:pt x="1054607" y="12700"/>
                  <a:pt x="1355089" y="313182"/>
                  <a:pt x="1355089" y="683895"/>
                </a:cubicBezTo>
                <a:cubicBezTo>
                  <a:pt x="1355089" y="683895"/>
                  <a:pt x="1355089" y="683895"/>
                  <a:pt x="1355089" y="683895"/>
                </a:cubicBezTo>
                <a:lnTo>
                  <a:pt x="1355089" y="683895"/>
                </a:lnTo>
                <a:cubicBezTo>
                  <a:pt x="1355089" y="1054480"/>
                  <a:pt x="1054607" y="1354963"/>
                  <a:pt x="683894" y="1354963"/>
                </a:cubicBezTo>
                <a:cubicBezTo>
                  <a:pt x="683894" y="1354963"/>
                  <a:pt x="683894" y="1354963"/>
                  <a:pt x="683894" y="1354963"/>
                </a:cubicBezTo>
                <a:lnTo>
                  <a:pt x="683894" y="1354963"/>
                </a:lnTo>
                <a:cubicBezTo>
                  <a:pt x="313181" y="1354963"/>
                  <a:pt x="12700" y="1054480"/>
                  <a:pt x="12700" y="683895"/>
                </a:cubicBezTo>
                <a:cubicBezTo>
                  <a:pt x="12700" y="683895"/>
                  <a:pt x="12700" y="683895"/>
                  <a:pt x="12700" y="683895"/>
                </a:cubicBezTo>
              </a:path>
            </a:pathLst>
          </a:custGeom>
          <a:noFill/>
          <a:ln>
            <a:solidFill>
              <a:srgbClr val="ff3399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7858080" y="2286000"/>
            <a:ext cx="499680" cy="499680"/>
          </a:xfrm>
          <a:custGeom>
            <a:avLst/>
            <a:gdLst>
              <a:gd name="textAreaLeft" fmla="*/ 0 w 499680"/>
              <a:gd name="textAreaRight" fmla="*/ 500040 w 499680"/>
              <a:gd name="textAreaTop" fmla="*/ 0 h 499680"/>
              <a:gd name="textAreaBottom" fmla="*/ 500040 h 499680"/>
            </a:gdLst>
            <a:ahLst/>
            <a:rect l="textAreaLeft" t="textAreaTop" r="textAreaRight" b="textAreaBottom"/>
            <a:pathLst>
              <a:path w="500062" h="500062">
                <a:moveTo>
                  <a:pt x="0" y="500062"/>
                </a:moveTo>
                <a:lnTo>
                  <a:pt x="500062" y="500062"/>
                </a:lnTo>
                <a:lnTo>
                  <a:pt x="500062" y="0"/>
                </a:lnTo>
                <a:lnTo>
                  <a:pt x="0" y="0"/>
                </a:lnTo>
                <a:lnTo>
                  <a:pt x="0" y="500062"/>
                </a:lnTo>
              </a:path>
            </a:pathLst>
          </a:custGeom>
          <a:solidFill>
            <a:srgbClr val="ff33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7845480" y="2273400"/>
            <a:ext cx="525240" cy="525240"/>
          </a:xfrm>
          <a:custGeom>
            <a:avLst/>
            <a:gdLst>
              <a:gd name="textAreaLeft" fmla="*/ 0 w 525240"/>
              <a:gd name="textAreaRight" fmla="*/ 525600 w 52524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525462" h="525462">
                <a:moveTo>
                  <a:pt x="12700" y="512762"/>
                </a:moveTo>
                <a:lnTo>
                  <a:pt x="512762" y="512762"/>
                </a:lnTo>
                <a:lnTo>
                  <a:pt x="512762" y="12700"/>
                </a:lnTo>
                <a:lnTo>
                  <a:pt x="12700" y="12700"/>
                </a:lnTo>
                <a:lnTo>
                  <a:pt x="12700" y="512762"/>
                </a:lnTo>
              </a:path>
            </a:pathLst>
          </a:cu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500040" y="5345280"/>
            <a:ext cx="8286480" cy="369360"/>
          </a:xfrm>
          <a:custGeom>
            <a:avLst/>
            <a:gdLst>
              <a:gd name="textAreaLeft" fmla="*/ 0 w 8286480"/>
              <a:gd name="textAreaRight" fmla="*/ 8286840 w 8286480"/>
              <a:gd name="textAreaTop" fmla="*/ 0 h 369360"/>
              <a:gd name="textAreaBottom" fmla="*/ 369720 h 369360"/>
            </a:gdLst>
            <a:ahLst/>
            <a:rect l="textAreaLeft" t="textAreaTop" r="textAreaRight" b="textAreaBottom"/>
            <a:pathLst>
              <a:path w="8286750" h="369887">
                <a:moveTo>
                  <a:pt x="0" y="369887"/>
                </a:moveTo>
                <a:lnTo>
                  <a:pt x="8286749" y="369887"/>
                </a:lnTo>
                <a:lnTo>
                  <a:pt x="8286749" y="0"/>
                </a:lnTo>
                <a:lnTo>
                  <a:pt x="0" y="0"/>
                </a:lnTo>
                <a:lnTo>
                  <a:pt x="0" y="369887"/>
                </a:lnTo>
              </a:path>
            </a:pathLst>
          </a:custGeom>
          <a:solidFill>
            <a:srgbClr val="ff66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500040" y="5857920"/>
            <a:ext cx="8286480" cy="369360"/>
          </a:xfrm>
          <a:custGeom>
            <a:avLst/>
            <a:gdLst>
              <a:gd name="textAreaLeft" fmla="*/ 0 w 8286480"/>
              <a:gd name="textAreaRight" fmla="*/ 8286840 w 8286480"/>
              <a:gd name="textAreaTop" fmla="*/ 0 h 369360"/>
              <a:gd name="textAreaBottom" fmla="*/ 369720 h 369360"/>
            </a:gdLst>
            <a:ahLst/>
            <a:rect l="textAreaLeft" t="textAreaTop" r="textAreaRight" b="textAreaBottom"/>
            <a:pathLst>
              <a:path w="8286750" h="369887">
                <a:moveTo>
                  <a:pt x="0" y="369887"/>
                </a:moveTo>
                <a:lnTo>
                  <a:pt x="8286749" y="369887"/>
                </a:lnTo>
                <a:lnTo>
                  <a:pt x="8286749" y="0"/>
                </a:lnTo>
                <a:lnTo>
                  <a:pt x="0" y="0"/>
                </a:lnTo>
                <a:lnTo>
                  <a:pt x="0" y="369887"/>
                </a:lnTo>
              </a:path>
            </a:pathLst>
          </a:custGeom>
          <a:solidFill>
            <a:srgbClr val="ff66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43080" y="6197760"/>
            <a:ext cx="380520" cy="456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7950240" y="6299280"/>
            <a:ext cx="837720" cy="329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"/>
          <p:cNvSpPr/>
          <p:nvPr/>
        </p:nvSpPr>
        <p:spPr>
          <a:xfrm>
            <a:off x="692640" y="139680"/>
            <a:ext cx="9763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201"/>
              </a:lnSpc>
            </a:pPr>
            <a:r>
              <a:rPr b="1" lang="zh-CN" sz="3209" spc="-1" strike="noStrike">
                <a:solidFill>
                  <a:srgbClr val="ffffff"/>
                </a:solidFill>
                <a:latin typeface="微软雅黑"/>
              </a:rPr>
              <a:t>植入形式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2565720" y="1295280"/>
            <a:ext cx="671400" cy="30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  <a:tabLst>
                <a:tab algn="l" pos="25560"/>
                <a:tab algn="l" pos="279360"/>
                <a:tab algn="l" pos="41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  <a:tabLst>
                <a:tab algn="l" pos="25560"/>
                <a:tab algn="l" pos="279360"/>
                <a:tab algn="l" pos="41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190" spc="-1" strike="noStrike">
                <a:solidFill>
                  <a:srgbClr val="ffff00"/>
                </a:solidFill>
                <a:latin typeface="微软雅黑"/>
              </a:rPr>
              <a:t>剧情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25560"/>
                <a:tab algn="l" pos="279360"/>
                <a:tab algn="l" pos="419040"/>
              </a:tabLst>
            </a:pPr>
            <a:r>
              <a:rPr b="1" lang="zh-CN" sz="2190" spc="-1" strike="noStrike">
                <a:solidFill>
                  <a:srgbClr val="ffff00"/>
                </a:solidFill>
                <a:latin typeface="微软雅黑"/>
              </a:rPr>
              <a:t>深度</a:t>
            </a:r>
            <a:r>
              <a:rPr b="1" lang="zh-CN" sz="2190" spc="-1" strike="noStrike">
                <a:solidFill>
                  <a:srgbClr val="000000"/>
                </a:solidFill>
                <a:latin typeface="微软雅黑"/>
              </a:rPr>
              <a:t>植入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560"/>
                <a:tab algn="l" pos="279360"/>
                <a:tab algn="l" pos="41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560"/>
                <a:tab algn="l" pos="279360"/>
                <a:tab algn="l" pos="41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560"/>
                <a:tab algn="l" pos="279360"/>
                <a:tab algn="l" pos="41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560"/>
                <a:tab algn="l" pos="279360"/>
                <a:tab algn="l" pos="41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560"/>
                <a:tab algn="l" pos="279360"/>
                <a:tab algn="l" pos="41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560"/>
                <a:tab algn="l" pos="279360"/>
                <a:tab algn="l" pos="41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25560"/>
                <a:tab algn="l" pos="279360"/>
                <a:tab algn="l" pos="41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以产品为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25560"/>
                <a:tab algn="l" pos="279360"/>
                <a:tab algn="l" pos="41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题撰写剧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25560"/>
                <a:tab algn="l" pos="279360"/>
                <a:tab algn="l" pos="41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内容、题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6002280" y="2006640"/>
            <a:ext cx="73260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  <a:tabLst>
                <a:tab algn="l" pos="431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43164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微软雅黑"/>
              </a:rPr>
              <a:t>道具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</a:rPr>
              <a:t>植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4316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产品在剧集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316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以实物照片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316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式露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7754760" y="2298600"/>
            <a:ext cx="73260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190" spc="-1" strike="noStrike">
                <a:solidFill>
                  <a:srgbClr val="ffff00"/>
                </a:solidFill>
                <a:latin typeface="微软雅黑"/>
              </a:rPr>
              <a:t>赞助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190" spc="-1" strike="noStrike">
                <a:solidFill>
                  <a:srgbClr val="ffff00"/>
                </a:solidFill>
                <a:latin typeface="微软雅黑"/>
              </a:rPr>
              <a:t>标版</a:t>
            </a:r>
            <a:r>
              <a:rPr b="1" lang="zh-CN" sz="2190" spc="-1" strike="noStrike">
                <a:solidFill>
                  <a:srgbClr val="000000"/>
                </a:solidFill>
                <a:latin typeface="微软雅黑"/>
              </a:rPr>
              <a:t>体现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片尾出现产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鸣谢标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4262400" y="1650960"/>
            <a:ext cx="732600" cy="32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190" spc="-1" strike="noStrike">
                <a:solidFill>
                  <a:srgbClr val="ffff00"/>
                </a:solidFill>
                <a:latin typeface="微软雅黑"/>
              </a:rPr>
              <a:t>剧情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190" spc="-1" strike="noStrike">
                <a:solidFill>
                  <a:srgbClr val="ffff00"/>
                </a:solidFill>
                <a:latin typeface="微软雅黑"/>
              </a:rPr>
              <a:t>单场</a:t>
            </a:r>
            <a:r>
              <a:rPr b="1" lang="zh-CN" sz="2190" spc="-1" strike="noStrike">
                <a:solidFill>
                  <a:srgbClr val="000000"/>
                </a:solidFill>
                <a:latin typeface="微软雅黑"/>
              </a:rPr>
              <a:t>植入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330120"/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在一集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中植入产品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展现戒提及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50760"/>
                <a:tab algn="l" pos="330120"/>
                <a:tab algn="l" pos="4698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品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"/>
          <p:cNvSpPr/>
          <p:nvPr/>
        </p:nvSpPr>
        <p:spPr>
          <a:xfrm>
            <a:off x="888480" y="939960"/>
            <a:ext cx="671400" cy="40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  <a:tabLst>
                <a:tab algn="l" pos="39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93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93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393840"/>
              </a:tabLst>
            </a:pPr>
            <a:r>
              <a:rPr b="1" lang="zh-CN" sz="2190" spc="-1" strike="noStrike">
                <a:solidFill>
                  <a:srgbClr val="ffff00"/>
                </a:solidFill>
                <a:latin typeface="微软雅黑"/>
              </a:rPr>
              <a:t>情感</a:t>
            </a:r>
            <a:r>
              <a:rPr b="1" lang="zh-CN" sz="2190" spc="-1" strike="noStrike">
                <a:solidFill>
                  <a:srgbClr val="000000"/>
                </a:solidFill>
                <a:latin typeface="微软雅黑"/>
              </a:rPr>
              <a:t>植入</a:t>
            </a:r>
            <a:endParaRPr b="0" lang="en-US" sz="2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93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93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93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93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93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39384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</a:rPr>
              <a:t>泡芙系列最大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</a:rPr>
              <a:t>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39384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</a:rPr>
              <a:t>特点就是挖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39384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微软雅黑"/>
              </a:rPr>
              <a:t>“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</a:rPr>
              <a:t>物”的含义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39384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</a:rPr>
              <a:t>情感，结合品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39384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</a:rPr>
              <a:t>理念，赋予产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39384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</a:rPr>
              <a:t>情感寓意，</a:t>
            </a:r>
            <a:r>
              <a:rPr b="1" lang="zh-CN" sz="1200" spc="-1" strike="noStrike">
                <a:solidFill>
                  <a:srgbClr val="ff3399"/>
                </a:solidFill>
                <a:latin typeface="微软雅黑"/>
              </a:rPr>
              <a:t>产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393840"/>
              </a:tabLst>
            </a:pPr>
            <a:r>
              <a:rPr b="1" lang="zh-CN" sz="1200" spc="-1" strike="noStrike">
                <a:solidFill>
                  <a:srgbClr val="ff3399"/>
                </a:solidFill>
                <a:latin typeface="微软雅黑"/>
              </a:rPr>
              <a:t>作为整集的故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393840"/>
              </a:tabLst>
            </a:pPr>
            <a:r>
              <a:rPr b="1" lang="zh-CN" sz="1200" spc="-1" strike="noStrike">
                <a:solidFill>
                  <a:srgbClr val="ff3399"/>
                </a:solidFill>
                <a:latin typeface="微软雅黑"/>
              </a:rPr>
              <a:t>和情感载体，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393840"/>
              </a:tabLst>
            </a:pPr>
            <a:r>
              <a:rPr b="1" lang="zh-CN" sz="1200" spc="-1" strike="noStrike">
                <a:solidFill>
                  <a:srgbClr val="ff3399"/>
                </a:solidFill>
                <a:latin typeface="微软雅黑"/>
              </a:rPr>
              <a:t>动剧情发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3400200" y="5359320"/>
            <a:ext cx="24699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1028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配售页面和硬广资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28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0288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单独售卖其他衍生产品（衍生产品授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450720" y="6637320"/>
            <a:ext cx="8333280" cy="25200"/>
          </a:xfrm>
          <a:custGeom>
            <a:avLst/>
            <a:gdLst>
              <a:gd name="textAreaLeft" fmla="*/ 0 w 8333280"/>
              <a:gd name="textAreaRight" fmla="*/ 8333640 w 83332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8333740" h="25400">
                <a:moveTo>
                  <a:pt x="6350" y="6350"/>
                </a:moveTo>
                <a:lnTo>
                  <a:pt x="8327390" y="6350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343080" y="6197760"/>
            <a:ext cx="380520" cy="456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990720" y="1841400"/>
            <a:ext cx="7225920" cy="1536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3"/>
          <a:stretch/>
        </p:blipFill>
        <p:spPr>
          <a:xfrm>
            <a:off x="7950240" y="6299280"/>
            <a:ext cx="837720" cy="329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"/>
          <p:cNvSpPr/>
          <p:nvPr/>
        </p:nvSpPr>
        <p:spPr>
          <a:xfrm>
            <a:off x="3872880" y="4229280"/>
            <a:ext cx="13726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附件：故事脚本参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  <Words>203</Words>
  <Paragraphs>2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yu wang</cp:lastModifiedBy>
  <dcterms:modified xsi:type="dcterms:W3CDTF">2015-08-12T14:52:5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9</vt:r8>
  </property>
</Properties>
</file>