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First</c:v>
                </c:pt>
              </c:strCache>
            </c:strRef>
          </c:tx>
          <c:spPr>
            <a:solidFill>
              <a:srgbClr val="3891a7"/>
            </a:solidFill>
            <a:ln w="10080">
              <a:solidFill>
                <a:srgbClr val="296b7b"/>
              </a:solidFill>
              <a:round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Tw Cen MT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Test 1</c:v>
                </c:pt>
                <c:pt idx="1">
                  <c:v>Test 2</c:v>
                </c:pt>
                <c:pt idx="2">
                  <c:v>Test 3</c:v>
                </c:pt>
                <c:pt idx="3">
                  <c:v>Test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20.4</c:v>
                </c:pt>
                <c:pt idx="1">
                  <c:v>27.4</c:v>
                </c:pt>
                <c:pt idx="2">
                  <c:v>90</c:v>
                </c:pt>
                <c:pt idx="3">
                  <c:v>20.4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Second</c:v>
                </c:pt>
              </c:strCache>
            </c:strRef>
          </c:tx>
          <c:spPr>
            <a:solidFill>
              <a:srgbClr val="feb80a"/>
            </a:solidFill>
            <a:ln w="10080">
              <a:solidFill>
                <a:srgbClr val="bb8807"/>
              </a:solidFill>
              <a:round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Tw Cen MT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Test 1</c:v>
                </c:pt>
                <c:pt idx="1">
                  <c:v>Test 2</c:v>
                </c:pt>
                <c:pt idx="2">
                  <c:v>Test 3</c:v>
                </c:pt>
                <c:pt idx="3">
                  <c:v>Test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0.6</c:v>
                </c:pt>
                <c:pt idx="1">
                  <c:v>38.6</c:v>
                </c:pt>
                <c:pt idx="2">
                  <c:v>34.6</c:v>
                </c:pt>
                <c:pt idx="3">
                  <c:v>31.6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Third</c:v>
                </c:pt>
              </c:strCache>
            </c:strRef>
          </c:tx>
          <c:spPr>
            <a:solidFill>
              <a:srgbClr val="c32d2e"/>
            </a:solidFill>
            <a:ln w="10080">
              <a:solidFill>
                <a:srgbClr val="902122"/>
              </a:solidFill>
              <a:round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Tw Cen MT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Test 1</c:v>
                </c:pt>
                <c:pt idx="1">
                  <c:v>Test 2</c:v>
                </c:pt>
                <c:pt idx="2">
                  <c:v>Test 3</c:v>
                </c:pt>
                <c:pt idx="3">
                  <c:v>Test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5.9</c:v>
                </c:pt>
                <c:pt idx="1">
                  <c:v>46.9</c:v>
                </c:pt>
                <c:pt idx="2">
                  <c:v>45</c:v>
                </c:pt>
                <c:pt idx="3">
                  <c:v>43.9</c:v>
                </c:pt>
              </c:numCache>
            </c:numRef>
          </c:val>
        </c:ser>
        <c:gapWidth val="150"/>
        <c:overlap val="0"/>
        <c:axId val="69815582"/>
        <c:axId val="69817573"/>
      </c:barChart>
      <c:catAx>
        <c:axId val="69815582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1008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Tw Cen MT"/>
              </a:defRPr>
            </a:pPr>
          </a:p>
        </c:txPr>
        <c:crossAx val="69817573"/>
        <c:crosses val="autoZero"/>
        <c:auto val="1"/>
        <c:lblAlgn val="ctr"/>
        <c:lblOffset val="100"/>
        <c:noMultiLvlLbl val="0"/>
      </c:catAx>
      <c:valAx>
        <c:axId val="69817573"/>
        <c:scaling>
          <c:orientation val="minMax"/>
        </c:scaling>
        <c:delete val="0"/>
        <c:axPos val="l"/>
        <c:majorGridlines>
          <c:spPr>
            <a:ln w="10080">
              <a:solidFill>
                <a:srgbClr val="8b8b8b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1008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Tw Cen MT"/>
              </a:defRPr>
            </a:pPr>
          </a:p>
        </c:txPr>
        <c:crossAx val="69815582"/>
        <c:crosses val="autoZero"/>
        <c:crossBetween val="between"/>
      </c:valAx>
      <c:spPr>
        <a:noFill/>
        <a:ln w="0">
          <a:noFill/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800" spc="-1" strike="noStrike">
              <a:solidFill>
                <a:srgbClr val="000000"/>
              </a:solidFill>
              <a:latin typeface="Tw Cen MT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2160" spc="-1" strike="noStrike">
                <a:solidFill>
                  <a:srgbClr val="000000"/>
                </a:solidFill>
                <a:latin typeface="Tw Cen MT"/>
              </a:defRPr>
            </a:pPr>
            <a:r>
              <a:rPr b="1" sz="2160" spc="-1" strike="noStrike">
                <a:solidFill>
                  <a:srgbClr val="000000"/>
                </a:solidFill>
                <a:latin typeface="Tw Cen MT"/>
              </a:rPr>
              <a:t>Project</a:t>
            </a:r>
          </a:p>
        </c:rich>
      </c:tx>
      <c:overlay val="0"/>
      <c:spPr>
        <a:noFill/>
        <a:ln w="0">
          <a:noFill/>
        </a:ln>
      </c:spPr>
    </c:title>
    <c:autoTitleDeleted val="0"/>
    <c:view3D>
      <c:rotX val="30"/>
      <c:rotY val="0"/>
      <c:rAngAx val="0"/>
      <c:perspective val="30"/>
    </c:view3D>
    <c:floor>
      <c:spPr>
        <a:solidFill>
          <a:srgbClr val="d9d9d9"/>
        </a:solidFill>
        <a:ln w="0">
          <a:noFill/>
        </a:ln>
      </c:spPr>
    </c:floor>
    <c:sideWall>
      <c:spPr>
        <a:solidFill>
          <a:srgbClr val="d9d9d9"/>
        </a:solidFill>
        <a:ln w="0">
          <a:noFill/>
        </a:ln>
      </c:spPr>
    </c:sideWall>
    <c:backWall>
      <c:spPr>
        <a:solidFill>
          <a:srgbClr val="d9d9d9"/>
        </a:solidFill>
        <a:ln w="0">
          <a:noFill/>
        </a:ln>
      </c:spPr>
    </c:backWall>
    <c:plotArea>
      <c:pie3D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Project</c:v>
                </c:pt>
              </c:strCache>
            </c:strRef>
          </c:tx>
          <c:spPr>
            <a:solidFill>
              <a:srgbClr val="3891a7"/>
            </a:solidFill>
            <a:ln w="10080">
              <a:solidFill>
                <a:srgbClr val="296b7b"/>
              </a:solidFill>
              <a:round/>
            </a:ln>
          </c:spPr>
          <c:explosion val="0"/>
          <c:dPt>
            <c:idx val="0"/>
            <c:spPr>
              <a:solidFill>
                <a:srgbClr val="3891a7"/>
              </a:solidFill>
              <a:ln w="10080">
                <a:solidFill>
                  <a:srgbClr val="296b7b"/>
                </a:solidFill>
                <a:round/>
              </a:ln>
            </c:spPr>
          </c:dPt>
          <c:dPt>
            <c:idx val="1"/>
            <c:spPr>
              <a:solidFill>
                <a:srgbClr val="feb80a"/>
              </a:solidFill>
              <a:ln w="10080">
                <a:solidFill>
                  <a:srgbClr val="296b7b"/>
                </a:solidFill>
                <a:round/>
              </a:ln>
            </c:spPr>
          </c:dPt>
          <c:dPt>
            <c:idx val="2"/>
            <c:spPr>
              <a:solidFill>
                <a:srgbClr val="c32d2e"/>
              </a:solidFill>
              <a:ln w="10080">
                <a:solidFill>
                  <a:srgbClr val="296b7b"/>
                </a:solidFill>
                <a:round/>
              </a:ln>
            </c:spPr>
          </c:dPt>
          <c:dPt>
            <c:idx val="3"/>
            <c:spPr>
              <a:solidFill>
                <a:srgbClr val="84aa33"/>
              </a:solidFill>
              <a:ln w="10080">
                <a:solidFill>
                  <a:srgbClr val="296b7b"/>
                </a:solidFill>
                <a:round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Tw Cen MT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Tw Cen MT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Tw Cen MT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3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Tw Cen MT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Tw Cen MT"/>
                  </a:defRPr>
                </a:pPr>
              </a:p>
            </c:txPr>
            <c:dLblPos val="bestFit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4"/>
                <c:pt idx="0">
                  <c:v>Item 1</c:v>
                </c:pt>
                <c:pt idx="1">
                  <c:v>Item 2</c:v>
                </c:pt>
                <c:pt idx="2">
                  <c:v>Item 3</c:v>
                </c:pt>
                <c:pt idx="3">
                  <c:v>Item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8.2</c:v>
                </c:pt>
                <c:pt idx="1">
                  <c:v>3.2</c:v>
                </c:pt>
                <c:pt idx="2">
                  <c:v>1.4</c:v>
                </c:pt>
                <c:pt idx="3">
                  <c:v>1.2</c:v>
                </c:pt>
              </c:numCache>
            </c:numRef>
          </c:val>
        </c:ser>
      </c:pie3DChart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800" spc="-1" strike="noStrike">
              <a:solidFill>
                <a:srgbClr val="000000"/>
              </a:solidFill>
              <a:latin typeface="Tw Cen MT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dt" idx="1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ftr" idx="1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 type="sldNum" idx="1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CBDA563-EF5F-4EB7-A314-782AA8C7E3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A443642-8515-411A-A18D-E6940CD49C0E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lusion to course, lecture, et 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B52474A-C31F-4CB0-8EB2-776AD72D3AB1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opportunity for questions and discus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2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252046B-7386-4197-B5FE-B3A1F46E748F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ning course details and/or books/materials needed for a class/pro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3C6BBDC-2E39-4DFA-A77B-D716D9CFAFFE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2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chedule design for optional periods of time/objectiv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9D1D98C-C79F-419A-B2A5-F633E88A1718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3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tory no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33AF192-DA5D-4FD1-944B-893BE47383CE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4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s for instruction and expected results and/or skills developed from learn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FAEF487-F9D2-4C4F-9AD7-8C914C9F6CDA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ve vocabulary lis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A582A64-8551-4351-B5DC-90C260201A1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list of procedures and steps, or a lecture slide with med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2D0F83C-9D99-4E06-8CB0-494D18F72B46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 graph/cha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F5B3AE2-DC36-47D2-9F2C-FD655FF8AA20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 graph/cha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C9E1E05-3059-46E0-ACF4-E08EAE387EAD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5932-6A31-4E02-859F-3C21BA9F4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12720" y="3948480"/>
            <a:ext cx="81529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4AB3-8957-4672-A947-62CAC4870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720" y="394848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90520" y="394848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7012-ECF2-4396-816B-463B0DFC3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12720" y="394848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69600" y="394848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6120" y="394848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896A-3878-4279-91BF-24E0A55F0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2455D9-83A5-4C14-B248-97505AFC5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6F562B-9F22-4848-8559-52B9ADF6A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A8AC81-C0C7-403D-9996-3D6C43C93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5B86BD-34D5-474B-AFCF-9224D0C0B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6F3663-0340-43FA-BC3E-492CF83F7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12720" y="228600"/>
            <a:ext cx="8152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A9E41C-2ABA-47DF-A3A7-7E590AFFC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12720" y="394848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CA0579-6347-4C75-B526-3768AE3FF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1A6B-B5FD-4B75-96C3-C2A3D0ADD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90520" y="394848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7957C0-3D9F-461D-96DE-D51128F5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2720" y="3948480"/>
            <a:ext cx="81529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30238F-C2D1-43D8-83DF-3D12F26E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12720" y="3948480"/>
            <a:ext cx="81529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8A79D3-FDD5-4804-B140-E33DFFEE7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2720" y="394848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90520" y="394848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2B1820-A7E8-4ADE-A9CE-C4ECC5904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12720" y="394848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69600" y="394848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6120" y="394848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0F90A6-624D-4856-9DA9-FBDB6A1BF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52AFF-FB5C-47A7-9D36-6EB3A9ECB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6D6A6-30FC-4D6C-905A-409B5ECCB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89391-753F-4731-8E82-895C0528B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7D8DD-E63B-4174-B530-68FC0F362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52EC3-51DD-4E72-B41B-45214B6D1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C6BC-A550-46C1-BC3C-4B9A8DE48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12720" y="228600"/>
            <a:ext cx="8152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461D6-440A-4921-B678-DE81A8521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12720" y="394848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2BBD9-1AAC-43E3-96B5-2DC5C87C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790520" y="394848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E8D1E-A409-4433-8B0E-D54A9BD61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2720" y="3948480"/>
            <a:ext cx="81529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963D1-71C0-488E-8783-9268A41DE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12720" y="3948480"/>
            <a:ext cx="81529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FC2A5-9110-4749-A9D4-289ECEA5B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12720" y="394848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790520" y="394848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4963B-2D05-422F-B708-8368275C4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12720" y="394848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69600" y="394848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126120" y="394848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81ECD-F2DA-42FD-8C4D-E442321AC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A9C24-64F2-4EDE-8CCF-74CC95153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6D5B4-7692-4C70-B3C9-BF0B92780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B18E6-6D28-4359-B818-53EE9FA4B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13C5-081B-416C-8EDD-0001B3D61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161DC-67A3-4780-86D9-FAFC4DC10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0BDD5-74F5-45B2-AB57-D7BB9C97F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612720" y="228600"/>
            <a:ext cx="8152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A9B28-F917-4FFF-88CC-AD5F44C39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12720" y="394848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41DBF-4ACB-4628-B825-C1CC9EF55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790520" y="394848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4A168-4545-41C7-A3CF-B444271CE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12720" y="3948480"/>
            <a:ext cx="81529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3A398-34F1-40B2-BF3B-D4F0F5A1C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12720" y="3948480"/>
            <a:ext cx="81529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8BA29-C121-4644-8276-8B24F833A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720" y="394848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790520" y="394848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C4C49-EE45-41C7-B2E9-57CF9F050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612720" y="394848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369600" y="394848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126120" y="394848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72E7F-D2E7-48D6-B759-A2CB2D132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B2BE-5375-4C72-A746-DF9C95C56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12720" y="228600"/>
            <a:ext cx="8152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A596-ACA4-4555-866D-E33EE752E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12720" y="394848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5F2C-C325-42F7-9935-7AD452A4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90520" y="394848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D25F-B3EE-4DBE-9CCC-AEF36D807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12720" y="3948480"/>
            <a:ext cx="81529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38C9-A4D8-4E5C-A00D-B38CCC2EA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 hidden="1"/>
          <p:cNvSpPr/>
          <p:nvPr/>
        </p:nvSpPr>
        <p:spPr>
          <a:xfrm>
            <a:off x="0" y="1234440"/>
            <a:ext cx="9143640" cy="319680"/>
          </a:xfrm>
          <a:prstGeom prst="rect">
            <a:avLst/>
          </a:prstGeom>
          <a:solidFill>
            <a:srgbClr val="ffffff"/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1" name="Rectangle 7" hidden="1"/>
          <p:cNvSpPr/>
          <p:nvPr/>
        </p:nvSpPr>
        <p:spPr>
          <a:xfrm>
            <a:off x="0" y="1280160"/>
            <a:ext cx="533160" cy="22824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2" name="Rectangle 8" hidden="1"/>
          <p:cNvSpPr/>
          <p:nvPr/>
        </p:nvSpPr>
        <p:spPr>
          <a:xfrm>
            <a:off x="590400" y="1280160"/>
            <a:ext cx="8553240" cy="228240"/>
          </a:xfrm>
          <a:prstGeom prst="rect">
            <a:avLst/>
          </a:prstGeom>
          <a:solidFill>
            <a:schemeClr val="accent1">
              <a:alpha val="100000"/>
            </a:schemeClr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5970960"/>
            <a:ext cx="9143640" cy="886680"/>
          </a:xfrm>
          <a:prstGeom prst="rect">
            <a:avLst/>
          </a:prstGeom>
          <a:solidFill>
            <a:srgbClr val="ffffff"/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-9000" y="6053400"/>
            <a:ext cx="2248920" cy="71280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2359080" y="6044040"/>
            <a:ext cx="6784560" cy="712800"/>
          </a:xfrm>
          <a:prstGeom prst="rect">
            <a:avLst/>
          </a:prstGeom>
          <a:solidFill>
            <a:schemeClr val="accent1">
              <a:alpha val="100000"/>
            </a:schemeClr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62320" y="4038480"/>
            <a:ext cx="6476760" cy="18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 cap="all">
                <a:solidFill>
                  <a:srgbClr val="4f271c"/>
                </a:solidFill>
                <a:latin typeface="Tw Cen MT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76320" y="6068520"/>
            <a:ext cx="2057040" cy="68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2085480" y="236520"/>
            <a:ext cx="58669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001000" y="228600"/>
            <a:ext cx="837720" cy="3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4f271c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E6E2954-C522-46F2-B1AE-2B1ED2B6A112}" type="slidenum">
              <a:rPr b="1" lang="en-US" sz="1400" spc="-1" strike="noStrike">
                <a:solidFill>
                  <a:srgbClr val="4f271c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1234440"/>
            <a:ext cx="9143640" cy="319680"/>
          </a:xfrm>
          <a:prstGeom prst="rect">
            <a:avLst/>
          </a:prstGeom>
          <a:solidFill>
            <a:srgbClr val="ffffff"/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0" y="1280160"/>
            <a:ext cx="533160" cy="22824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590400" y="1280160"/>
            <a:ext cx="8553240" cy="228240"/>
          </a:xfrm>
          <a:prstGeom prst="rect">
            <a:avLst/>
          </a:prstGeom>
          <a:solidFill>
            <a:schemeClr val="accent1">
              <a:alpha val="100000"/>
            </a:schemeClr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4f271c"/>
                </a:solidFill>
                <a:latin typeface="Tw Cen MT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89400"/>
            <a:ext cx="38858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20040" indent="-32004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Master text styl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40080" indent="-2743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econd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feb80a"/>
              </a:buClr>
              <a:buSzPct val="75000"/>
              <a:buFont typeface="Wingdings" charset="2"/>
              <a:buChar char=""/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Third level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c32d2e"/>
              </a:buClr>
              <a:buSzPct val="75000"/>
              <a:buFont typeface="Wingdings" charset="2"/>
              <a:buChar char=""/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100000"/>
              </a:lnSpc>
              <a:spcBef>
                <a:spcPts val="400"/>
              </a:spcBef>
              <a:buClr>
                <a:srgbClr val="84aa33"/>
              </a:buClr>
              <a:buSzPct val="65000"/>
              <a:buFont typeface="Wingdings" charset="2"/>
              <a:buChar char=""/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844880" y="1589400"/>
            <a:ext cx="38858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20040" indent="-32004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Master text styl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40080" indent="-2743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econd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feb80a"/>
              </a:buClr>
              <a:buSzPct val="75000"/>
              <a:buFont typeface="Wingdings" charset="2"/>
              <a:buChar char=""/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Third level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c32d2e"/>
              </a:buClr>
              <a:buSzPct val="75000"/>
              <a:buFont typeface="Wingdings" charset="2"/>
              <a:buChar char=""/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100000"/>
              </a:lnSpc>
              <a:spcBef>
                <a:spcPts val="400"/>
              </a:spcBef>
              <a:buClr>
                <a:srgbClr val="84aa33"/>
              </a:buClr>
              <a:buSzPct val="65000"/>
              <a:buFont typeface="Wingdings" charset="2"/>
              <a:buChar char=""/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dt" idx="4"/>
          </p:nvPr>
        </p:nvSpPr>
        <p:spPr>
          <a:xfrm>
            <a:off x="6095880" y="6248520"/>
            <a:ext cx="26665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f271c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f271c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5"/>
          </p:nvPr>
        </p:nvSpPr>
        <p:spPr>
          <a:xfrm>
            <a:off x="0" y="1272240"/>
            <a:ext cx="533160" cy="2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353F242-2E21-4E23-8F5C-33F32195E6DD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 type="ftr" idx="6"/>
          </p:nvPr>
        </p:nvSpPr>
        <p:spPr>
          <a:xfrm>
            <a:off x="609480" y="6248160"/>
            <a:ext cx="54208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6"/>
          <p:cNvSpPr/>
          <p:nvPr/>
        </p:nvSpPr>
        <p:spPr>
          <a:xfrm>
            <a:off x="0" y="1234440"/>
            <a:ext cx="9143640" cy="319680"/>
          </a:xfrm>
          <a:prstGeom prst="rect">
            <a:avLst/>
          </a:prstGeom>
          <a:solidFill>
            <a:srgbClr val="ffffff"/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0" y="1280160"/>
            <a:ext cx="533160" cy="22824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590400" y="1280160"/>
            <a:ext cx="8553240" cy="228240"/>
          </a:xfrm>
          <a:prstGeom prst="rect">
            <a:avLst/>
          </a:prstGeom>
          <a:solidFill>
            <a:schemeClr val="accent1">
              <a:alpha val="100000"/>
            </a:schemeClr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4f271c"/>
                </a:solidFill>
                <a:latin typeface="Tw Cen MT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6095880" y="6248520"/>
            <a:ext cx="26665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f271c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f271c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8"/>
          </p:nvPr>
        </p:nvSpPr>
        <p:spPr>
          <a:xfrm>
            <a:off x="609480" y="6248160"/>
            <a:ext cx="54208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9"/>
          </p:nvPr>
        </p:nvSpPr>
        <p:spPr>
          <a:xfrm>
            <a:off x="0" y="1272240"/>
            <a:ext cx="533160" cy="2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0B7B21F-7337-4963-90E8-2D738E2FE587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20040" indent="-32004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Master text styl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40080" indent="-2743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econd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feb80a"/>
              </a:buClr>
              <a:buSzPct val="75000"/>
              <a:buFont typeface="Wingdings" charset="2"/>
              <a:buChar char=""/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Third level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c32d2e"/>
              </a:buClr>
              <a:buSzPct val="75000"/>
              <a:buFont typeface="Wingdings" charset="2"/>
              <a:buChar char=""/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100000"/>
              </a:lnSpc>
              <a:spcBef>
                <a:spcPts val="400"/>
              </a:spcBef>
              <a:buClr>
                <a:srgbClr val="84aa33"/>
              </a:buClr>
              <a:buSzPct val="65000"/>
              <a:buFont typeface="Wingdings" charset="2"/>
              <a:buChar char=""/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0" y="1234440"/>
            <a:ext cx="9143640" cy="319680"/>
          </a:xfrm>
          <a:prstGeom prst="rect">
            <a:avLst/>
          </a:prstGeom>
          <a:solidFill>
            <a:srgbClr val="ffffff"/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0" y="1280160"/>
            <a:ext cx="533160" cy="22824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590400" y="1280160"/>
            <a:ext cx="8553240" cy="228240"/>
          </a:xfrm>
          <a:prstGeom prst="rect">
            <a:avLst/>
          </a:prstGeom>
          <a:solidFill>
            <a:schemeClr val="accent1">
              <a:alpha val="100000"/>
            </a:schemeClr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807696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4f271c"/>
                </a:solidFill>
                <a:latin typeface="Tw Cen MT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dt" idx="10"/>
          </p:nvPr>
        </p:nvSpPr>
        <p:spPr>
          <a:xfrm>
            <a:off x="6095880" y="6248520"/>
            <a:ext cx="26665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f271c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f271c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ftr" idx="11"/>
          </p:nvPr>
        </p:nvSpPr>
        <p:spPr>
          <a:xfrm>
            <a:off x="609480" y="6248160"/>
            <a:ext cx="54208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sldNum" idx="12"/>
          </p:nvPr>
        </p:nvSpPr>
        <p:spPr>
          <a:xfrm>
            <a:off x="0" y="1272240"/>
            <a:ext cx="533160" cy="2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0D29B8F-F041-40C0-8E18-E9B801FD1D2D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body"/>
          </p:nvPr>
        </p:nvSpPr>
        <p:spPr>
          <a:xfrm>
            <a:off x="2362320" y="1752480"/>
            <a:ext cx="64004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20040" indent="-32004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Master text styl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40080" indent="-2743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econd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feb80a"/>
              </a:buClr>
              <a:buSzPct val="75000"/>
              <a:buFont typeface="Wingdings" charset="2"/>
              <a:buChar char=""/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Third level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c32d2e"/>
              </a:buClr>
              <a:buSzPct val="75000"/>
              <a:buFont typeface="Wingdings" charset="2"/>
              <a:buChar char=""/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100000"/>
              </a:lnSpc>
              <a:spcBef>
                <a:spcPts val="400"/>
              </a:spcBef>
              <a:buClr>
                <a:srgbClr val="84aa33"/>
              </a:buClr>
              <a:buSzPct val="65000"/>
              <a:buFont typeface="Wingdings" charset="2"/>
              <a:buChar char=""/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44" name="Picture 7" descr="sm_pencil.png"/>
          <p:cNvPicPr/>
          <p:nvPr/>
        </p:nvPicPr>
        <p:blipFill>
          <a:blip r:embed="rId3"/>
          <a:stretch/>
        </p:blipFill>
        <p:spPr>
          <a:xfrm>
            <a:off x="612720" y="1755720"/>
            <a:ext cx="1614960" cy="2145240"/>
          </a:xfrm>
          <a:prstGeom prst="rect">
            <a:avLst/>
          </a:prstGeom>
          <a:ln cap="sq" w="50800">
            <a:solidFill>
              <a:srgbClr val="feb80a"/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6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08800" y="1447920"/>
            <a:ext cx="79243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zh-CN" sz="4000" spc="-1" strike="noStrike" cap="all">
                <a:solidFill>
                  <a:schemeClr val="accent1">
                    <a:lumMod val="75000"/>
                  </a:schemeClr>
                </a:solidFill>
                <a:latin typeface="Tw Cen MT"/>
              </a:rPr>
              <a:t>铅笔尺子精美答辩</a:t>
            </a:r>
            <a:r>
              <a:rPr b="0" lang="en-US" sz="4000" spc="-1" strike="noStrike" cap="all">
                <a:solidFill>
                  <a:schemeClr val="accent1">
                    <a:lumMod val="75000"/>
                  </a:schemeClr>
                </a:solidFill>
                <a:latin typeface="Tw Cen MT"/>
              </a:rPr>
              <a:t>PPT</a:t>
            </a:r>
            <a:r>
              <a:rPr b="0" lang="zh-CN" sz="4000" spc="-1" strike="noStrike" cap="all">
                <a:solidFill>
                  <a:schemeClr val="accent1">
                    <a:lumMod val="75000"/>
                  </a:schemeClr>
                </a:solidFill>
                <a:latin typeface="Tw Cen MT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2362320" y="6050160"/>
            <a:ext cx="6705360" cy="68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75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Instructor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Cour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4f271c"/>
                </a:solidFill>
                <a:latin typeface="Tw Cen MT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20040" indent="-32004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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dd your conclusions her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807696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4f271c"/>
                </a:solidFill>
                <a:latin typeface="Tw Cen MT"/>
              </a:rPr>
              <a:t>Questions/Discussions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362320" y="1752480"/>
            <a:ext cx="64004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20040" indent="-32004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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Question On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40080" indent="-2743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SzPct val="70000"/>
              <a:buFont typeface="Wingdings" charset="2"/>
              <a:buChar char="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Discussio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40080" indent="-2743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SzPct val="70000"/>
              <a:buFont typeface="Wingdings" charset="2"/>
              <a:buChar char="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Discussio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20040" indent="-32004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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Question Tw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40080" indent="-2743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SzPct val="70000"/>
              <a:buFont typeface="Wingdings" charset="2"/>
              <a:buChar char="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Discussio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20040" indent="-32004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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Questions Thre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40080" indent="-2743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SzPct val="70000"/>
              <a:buFont typeface="Wingdings" charset="2"/>
              <a:buChar char="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Discussio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4f271c"/>
                </a:solidFill>
                <a:latin typeface="Tw Cen M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Tw Cen MT"/>
              </a:rPr>
              <a:t>站点介绍：</a:t>
            </a:r>
            <a:endParaRPr b="0" lang="en-US" sz="105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Tw Cen MT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Tw Cen MT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Tw Cen MT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Tw Cen MT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Tw Cen MT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Tw Cen MT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Tw Cen MT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Tw Cen MT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Tw Cen MT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Tw Cen MT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Tw Cen MT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Tw Cen MT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Tw Cen MT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Tw Cen MT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Tw Cen MT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Tw Cen MT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Tw Cen MT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Tw Cen MT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Tw Cen MT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Tw Cen MT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Tw Cen MT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Tw Cen MT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Tw Cen MT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Tw Cen MT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Tw Cen MT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Tw Cen MT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Tw Cen MT"/>
              </a:rPr>
              <a:t> </a:t>
            </a:r>
            <a:r>
              <a:rPr b="1" lang="en-US" sz="1050" spc="-1" strike="noStrike" u="sng">
                <a:solidFill>
                  <a:srgbClr val="8dc765"/>
                </a:solidFill>
                <a:uFillTx/>
                <a:latin typeface="Tw Cen MT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8dc765"/>
                </a:solidFill>
                <a:uFillTx/>
                <a:latin typeface="Tw Cen MT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Tw Cen MT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Tw Cen MT"/>
              </a:rPr>
              <a:t>特别说明：</a:t>
            </a:r>
            <a:endParaRPr b="0" lang="en-US" sz="105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Tw Cen MT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Tw Cen MT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Tw Cen MT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Tw Cen MT"/>
              </a:rPr>
              <a:t>栏目推荐：</a:t>
            </a:r>
            <a:endParaRPr b="0" lang="en-US" sz="105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8dc765"/>
                </a:solidFill>
                <a:uFillTx/>
                <a:latin typeface="Tw Cen MT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Tw Cen MT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w Cen MT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Tw Cen MT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Tw Cen MT"/>
              </a:rPr>
              <a:t>             </a:t>
            </a:r>
            <a:r>
              <a:rPr b="0" lang="zh-CN" sz="900" spc="-1" strike="noStrike" u="sng">
                <a:solidFill>
                  <a:srgbClr val="8dc765"/>
                </a:solidFill>
                <a:uFillTx/>
                <a:latin typeface="Tw Cen MT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Tw Cen MT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w Cen MT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8dc765"/>
                </a:solidFill>
                <a:uFillTx/>
                <a:latin typeface="Tw Cen MT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Tw Cen MT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w Cen MT"/>
              </a:rPr>
              <a:t>http://www.eeppt.com/moban/           </a:t>
            </a:r>
            <a:r>
              <a:rPr b="0" lang="en-US" sz="900" spc="-1" strike="noStrike" u="sng">
                <a:solidFill>
                  <a:srgbClr val="8dc765"/>
                </a:solidFill>
                <a:uFillTx/>
                <a:latin typeface="Tw Cen MT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Tw Cen MT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w Cen MT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8dc765"/>
                </a:solidFill>
                <a:uFillTx/>
                <a:latin typeface="Tw Cen MT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Tw Cen MT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w Cen MT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8dc765"/>
                </a:solidFill>
                <a:uFillTx/>
                <a:latin typeface="Tw Cen MT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Tw Cen MT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w Cen MT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8dc765"/>
                </a:solidFill>
                <a:uFillTx/>
                <a:latin typeface="Tw Cen MT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Tw Cen MT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w Cen MT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8dc765"/>
                </a:solidFill>
                <a:uFillTx/>
                <a:latin typeface="Tw Cen MT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Tw Cen MT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w Cen MT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8dc765"/>
                </a:solidFill>
                <a:uFillTx/>
                <a:latin typeface="Tw Cen MT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Tw Cen MT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w Cen MT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8dc765"/>
                </a:solidFill>
                <a:uFillTx/>
                <a:latin typeface="Tw Cen MT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Tw Cen MT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w Cen MT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8dc765"/>
                </a:solidFill>
                <a:uFillTx/>
                <a:latin typeface="Tw Cen MT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Tw Cen MT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w Cen MT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8dc765"/>
                </a:solidFill>
                <a:uFillTx/>
                <a:latin typeface="Tw Cen MT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Tw Cen MT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w Cen MT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8dc765"/>
                </a:solidFill>
                <a:uFillTx/>
                <a:latin typeface="Tw Cen MT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Tw Cen MT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w Cen MT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8dc765"/>
                </a:solidFill>
                <a:uFillTx/>
                <a:latin typeface="Tw Cen MT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Tw Cen MT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w Cen MT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8dc765"/>
                </a:solidFill>
                <a:uFillTx/>
                <a:latin typeface="Tw Cen MT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Tw Cen MT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w Cen MT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8dc765"/>
                </a:solidFill>
                <a:uFillTx/>
                <a:latin typeface="Tw Cen MT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Tw Cen MT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w Cen MT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8dc765"/>
                </a:solidFill>
                <a:uFillTx/>
                <a:latin typeface="Tw Cen MT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Tw Cen MT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w Cen MT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8dc765"/>
                </a:solidFill>
                <a:uFillTx/>
                <a:latin typeface="Tw Cen MT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Tw Cen MT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w Cen MT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8dc765"/>
                </a:solidFill>
                <a:uFillTx/>
                <a:latin typeface="Tw Cen MT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Tw Cen MT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w Cen MT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8dc765"/>
                </a:solidFill>
                <a:uFillTx/>
                <a:latin typeface="Tw Cen MT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Tw Cen MT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w Cen MT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8dc765"/>
                </a:solidFill>
                <a:uFillTx/>
                <a:latin typeface="Tw Cen MT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Tw Cen MT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w Cen MT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8dc765"/>
                </a:solidFill>
                <a:uFillTx/>
                <a:latin typeface="Tw Cen MT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Tw Cen MT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w Cen MT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4f271c"/>
                </a:solidFill>
                <a:latin typeface="Tw Cen MT"/>
              </a:rPr>
              <a:t>Information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85840" cy="4571640"/>
          </a:xfrm>
          <a:prstGeom prst="rect">
            <a:avLst/>
          </a:prstGeom>
          <a:noFill/>
          <a:ln w="19080">
            <a:solidFill>
              <a:srgbClr val="c58d01"/>
            </a:solidFill>
            <a:round/>
          </a:ln>
        </p:spPr>
        <p:txBody>
          <a:bodyPr lIns="90000" rIns="90000" tIns="45000" bIns="45000" anchor="t">
            <a:normAutofit/>
          </a:bodyPr>
          <a:p>
            <a:pPr marL="320040" indent="-32004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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as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20040" indent="-32004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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oca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20040" indent="-32004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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chedul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40080" indent="-2743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SzPct val="70000"/>
              <a:buFont typeface="Wingdings" charset="2"/>
              <a:buChar char="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M-W-F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40080" indent="-2743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SzPct val="70000"/>
              <a:buFont typeface="Wingdings" charset="2"/>
              <a:buChar char="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Lab Tues-Thur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20040" indent="-32004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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ffic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20040" indent="-32004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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hon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20040" indent="-32004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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mai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844880" y="1752480"/>
            <a:ext cx="3885840" cy="4571640"/>
          </a:xfrm>
          <a:prstGeom prst="rect">
            <a:avLst/>
          </a:prstGeom>
          <a:noFill/>
          <a:ln w="12600">
            <a:solidFill>
              <a:srgbClr val="c58d01"/>
            </a:solidFill>
            <a:round/>
          </a:ln>
        </p:spPr>
        <p:txBody>
          <a:bodyPr lIns="90000" rIns="90000" tIns="45000" bIns="45000" anchor="t">
            <a:normAutofit/>
          </a:bodyPr>
          <a:p>
            <a:pPr marL="320040" indent="-32004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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Book(s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40080" indent="-2743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SzPct val="70000"/>
              <a:buFont typeface="Wingdings" charset="2"/>
              <a:buChar char="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Required Tex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40080" indent="-2743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SzPct val="70000"/>
              <a:buFont typeface="Wingdings" charset="2"/>
              <a:buChar char="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dditiona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20040" indent="-32004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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aterial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40080" indent="-2743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SzPct val="70000"/>
              <a:buFont typeface="Wingdings" charset="2"/>
              <a:buChar char="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tem 1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40080" indent="-2743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SzPct val="70000"/>
              <a:buFont typeface="Wingdings" charset="2"/>
              <a:buChar char="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tem 2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40080" indent="-2743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SzPct val="70000"/>
              <a:buFont typeface="Wingdings" charset="2"/>
              <a:buChar char="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tem 3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4f271c"/>
                </a:solidFill>
                <a:latin typeface="Tw Cen MT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194" name="Content Placeholder 3"/>
          <p:cNvGraphicFramePr/>
          <p:nvPr/>
        </p:nvGraphicFramePr>
        <p:xfrm>
          <a:off x="612720" y="1600200"/>
          <a:ext cx="8152920" cy="3337200"/>
        </p:xfrm>
        <a:graphic>
          <a:graphicData uri="http://schemas.openxmlformats.org/drawingml/2006/table">
            <a:tbl>
              <a:tblPr/>
              <a:tblGrid>
                <a:gridCol w="2038320"/>
                <a:gridCol w="2038320"/>
                <a:gridCol w="2038320"/>
                <a:gridCol w="2038320"/>
              </a:tblGrid>
              <a:tr h="370800"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chemeClr val="lt1"/>
                          </a:solidFill>
                          <a:latin typeface="Tw Cen MT"/>
                        </a:rPr>
                        <a:t>Class/Wee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2"/>
                    </a:solidFill>
                  </a:tcPr>
                </a:tc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chemeClr val="lt1"/>
                          </a:solidFill>
                          <a:latin typeface="Tw Cen MT"/>
                        </a:rPr>
                        <a:t>Top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2"/>
                    </a:solidFill>
                  </a:tcPr>
                </a:tc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chemeClr val="lt1"/>
                          </a:solidFill>
                          <a:latin typeface="Tw Cen MT"/>
                        </a:rPr>
                        <a:t>Rea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2"/>
                    </a:solidFill>
                  </a:tcPr>
                </a:tc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chemeClr val="lt1"/>
                          </a:solidFill>
                          <a:latin typeface="Tw Cen MT"/>
                        </a:rPr>
                        <a:t>Assignme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2"/>
                    </a:solidFill>
                  </a:tcPr>
                </a:tc>
              </a:tr>
              <a:tr h="370800"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Tw Cen MT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edbe1"/>
                    </a:solidFill>
                  </a:tcPr>
                </a:tc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Tw Cen MT"/>
                        </a:rPr>
                        <a:t>Topic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edbe1"/>
                    </a:solidFill>
                  </a:tcPr>
                </a:tc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Tw Cen MT"/>
                        </a:rPr>
                        <a:t>Chap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edbe1"/>
                    </a:solidFill>
                  </a:tcPr>
                </a:tc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Tw Cen MT"/>
                        </a:rPr>
                        <a:t>Ta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edbe1"/>
                    </a:solidFill>
                  </a:tcPr>
                </a:tc>
              </a:tr>
              <a:tr h="370800"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Tw Cen MT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ef0"/>
                    </a:solidFill>
                  </a:tcPr>
                </a:tc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Tw Cen MT"/>
                        </a:rPr>
                        <a:t>Topic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ef0"/>
                    </a:solidFill>
                  </a:tcPr>
                </a:tc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Tw Cen MT"/>
                        </a:rPr>
                        <a:t>Chap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ef0"/>
                    </a:solidFill>
                  </a:tcPr>
                </a:tc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Tw Cen MT"/>
                        </a:rPr>
                        <a:t>Ta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ef0"/>
                    </a:solidFill>
                  </a:tcPr>
                </a:tc>
              </a:tr>
              <a:tr h="370800"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Tw Cen MT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edbe1"/>
                    </a:solidFill>
                  </a:tcPr>
                </a:tc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Tw Cen MT"/>
                        </a:rPr>
                        <a:t>Topic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edbe1"/>
                    </a:solidFill>
                  </a:tcPr>
                </a:tc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Tw Cen MT"/>
                        </a:rPr>
                        <a:t>Chap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edbe1"/>
                    </a:solidFill>
                  </a:tcPr>
                </a:tc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Tw Cen MT"/>
                        </a:rPr>
                        <a:t>Ta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edbe1"/>
                    </a:solidFill>
                  </a:tcPr>
                </a:tc>
              </a:tr>
              <a:tr h="370800"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400" spc="-1" strike="noStrike">
                        <a:solidFill>
                          <a:schemeClr val="dk1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ef0"/>
                    </a:solidFill>
                  </a:tcPr>
                </a:tc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400" spc="-1" strike="noStrike">
                        <a:solidFill>
                          <a:schemeClr val="dk1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ef0"/>
                    </a:solidFill>
                  </a:tcPr>
                </a:tc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400" spc="-1" strike="noStrike">
                        <a:solidFill>
                          <a:schemeClr val="dk1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ef0"/>
                    </a:solidFill>
                  </a:tcPr>
                </a:tc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400" spc="-1" strike="noStrike">
                        <a:solidFill>
                          <a:schemeClr val="dk1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ef0"/>
                    </a:solidFill>
                  </a:tcPr>
                </a:tc>
              </a:tr>
              <a:tr h="370800"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400" spc="-1" strike="noStrike">
                        <a:solidFill>
                          <a:schemeClr val="dk1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edbe1"/>
                    </a:solidFill>
                  </a:tcPr>
                </a:tc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400" spc="-1" strike="noStrike">
                        <a:solidFill>
                          <a:schemeClr val="dk1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edbe1"/>
                    </a:solidFill>
                  </a:tcPr>
                </a:tc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400" spc="-1" strike="noStrike">
                        <a:solidFill>
                          <a:schemeClr val="dk1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edbe1"/>
                    </a:solidFill>
                  </a:tcPr>
                </a:tc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400" spc="-1" strike="noStrike">
                        <a:solidFill>
                          <a:schemeClr val="dk1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edbe1"/>
                    </a:solidFill>
                  </a:tcPr>
                </a:tc>
              </a:tr>
              <a:tr h="370800"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400" spc="-1" strike="noStrike">
                        <a:solidFill>
                          <a:schemeClr val="dk1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ef0"/>
                    </a:solidFill>
                  </a:tcPr>
                </a:tc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400" spc="-1" strike="noStrike">
                        <a:solidFill>
                          <a:schemeClr val="dk1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ef0"/>
                    </a:solidFill>
                  </a:tcPr>
                </a:tc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400" spc="-1" strike="noStrike">
                        <a:solidFill>
                          <a:schemeClr val="dk1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ef0"/>
                    </a:solidFill>
                  </a:tcPr>
                </a:tc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400" spc="-1" strike="noStrike">
                        <a:solidFill>
                          <a:schemeClr val="dk1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ef0"/>
                    </a:solidFill>
                  </a:tcPr>
                </a:tc>
              </a:tr>
              <a:tr h="370800"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400" spc="-1" strike="noStrike">
                        <a:solidFill>
                          <a:schemeClr val="dk1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edbe1"/>
                    </a:solidFill>
                  </a:tcPr>
                </a:tc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400" spc="-1" strike="noStrike">
                        <a:solidFill>
                          <a:schemeClr val="dk1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edbe1"/>
                    </a:solidFill>
                  </a:tcPr>
                </a:tc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400" spc="-1" strike="noStrike">
                        <a:solidFill>
                          <a:schemeClr val="dk1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edbe1"/>
                    </a:solidFill>
                  </a:tcPr>
                </a:tc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400" spc="-1" strike="noStrike">
                        <a:solidFill>
                          <a:schemeClr val="dk1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edbe1"/>
                    </a:solidFill>
                  </a:tcPr>
                </a:tc>
              </a:tr>
              <a:tr h="370800"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400" spc="-1" strike="noStrike">
                        <a:solidFill>
                          <a:schemeClr val="dk1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ef0"/>
                    </a:solidFill>
                  </a:tcPr>
                </a:tc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400" spc="-1" strike="noStrike">
                        <a:solidFill>
                          <a:schemeClr val="dk1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ef0"/>
                    </a:solidFill>
                  </a:tcPr>
                </a:tc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400" spc="-1" strike="noStrike">
                        <a:solidFill>
                          <a:schemeClr val="dk1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ef0"/>
                    </a:solidFill>
                  </a:tcPr>
                </a:tc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400" spc="-1" strike="noStrike">
                        <a:solidFill>
                          <a:schemeClr val="dk1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ef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807696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4f271c"/>
                </a:solidFill>
                <a:latin typeface="Tw Cen MT"/>
              </a:rPr>
              <a:t>Introduction/Course Description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362320" y="1752480"/>
            <a:ext cx="64004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20040" indent="-32004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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ntroduc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40080" indent="-2743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SzPct val="70000"/>
              <a:buFont typeface="Wingdings" charset="2"/>
              <a:buChar char="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ntroductory not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40080" indent="-2743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SzPct val="70000"/>
              <a:buFont typeface="Wingdings" charset="2"/>
              <a:buChar char="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ntroductory not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640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40080" indent="-2743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SzPct val="70000"/>
              <a:buFont typeface="Wingdings" charset="2"/>
              <a:buChar char="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ntroductory not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762120" y="632448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8dc765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4f271c"/>
                </a:solidFill>
                <a:latin typeface="Tw Cen MT"/>
              </a:rPr>
              <a:t>Objectives and Results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20040" indent="-32004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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bjectiv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40080" indent="-2743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SzPct val="70000"/>
              <a:buFont typeface="Wingdings" charset="2"/>
              <a:buChar char="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ourse objective 1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40080" indent="-2743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SzPct val="70000"/>
              <a:buFont typeface="Wingdings" charset="2"/>
              <a:buChar char="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ourse objective 2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40080" indent="-2743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SzPct val="70000"/>
              <a:buFont typeface="Wingdings" charset="2"/>
              <a:buChar char="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ourse objective 3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20040" indent="-32004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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esult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40080" indent="-2743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SzPct val="70000"/>
              <a:buFont typeface="Wingdings" charset="2"/>
              <a:buChar char="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Expected result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20040" indent="-32004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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kills develope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40080" indent="-2743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SzPct val="70000"/>
              <a:buFont typeface="Wingdings" charset="2"/>
              <a:buChar char="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kill 1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40080" indent="-2743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SzPct val="70000"/>
              <a:buFont typeface="Wingdings" charset="2"/>
              <a:buChar char="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kill 2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4f271c"/>
                </a:solidFill>
                <a:latin typeface="Tw Cen MT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20040" indent="-32004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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erm On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40080" indent="-2743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SzPct val="70000"/>
              <a:buFont typeface="Wingdings" charset="2"/>
              <a:buChar char="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Definition 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40080" indent="-2743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SzPct val="70000"/>
              <a:buFont typeface="Wingdings" charset="2"/>
              <a:buChar char="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Definition B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20040" indent="-32004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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erm Tw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40080" indent="-2743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SzPct val="70000"/>
              <a:buFont typeface="Wingdings" charset="2"/>
              <a:buChar char="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Definitio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20040" indent="-32004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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erm Thre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40080" indent="-2743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SzPct val="70000"/>
              <a:buFont typeface="Wingdings" charset="2"/>
              <a:buChar char="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Definitio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4f271c"/>
                </a:solidFill>
                <a:latin typeface="Tw Cen MT"/>
              </a:rPr>
              <a:t>Procedures/Lecture Slide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480" y="1589400"/>
            <a:ext cx="38858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20040" indent="-32004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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dd procedure her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40080" indent="-2743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SzPct val="70000"/>
              <a:buFont typeface="Wingdings" charset="2"/>
              <a:buChar char="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tep on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40080" indent="-2743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SzPct val="70000"/>
              <a:buFont typeface="Wingdings" charset="2"/>
              <a:buChar char="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tep two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04" name="Content Placeholder 4" descr="compassPencilRuler_bg.png"/>
          <p:cNvPicPr/>
          <p:nvPr/>
        </p:nvPicPr>
        <p:blipFill>
          <a:blip r:embed="rId1"/>
          <a:stretch/>
        </p:blipFill>
        <p:spPr>
          <a:xfrm>
            <a:off x="4572000" y="1600200"/>
            <a:ext cx="4419360" cy="4571640"/>
          </a:xfrm>
          <a:prstGeom prst="rect">
            <a:avLst/>
          </a:prstGeom>
          <a:ln w="50800">
            <a:solidFill>
              <a:srgbClr val="feb80a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4f271c"/>
                </a:solidFill>
                <a:latin typeface="Tw Cen MT"/>
              </a:rPr>
              <a:t>Graphs/Charts 1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206" name="Content Placeholder 3"/>
          <p:cNvGraphicFramePr/>
          <p:nvPr/>
        </p:nvGraphicFramePr>
        <p:xfrm>
          <a:off x="612720" y="1600200"/>
          <a:ext cx="8152920" cy="44953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4f271c"/>
                </a:solidFill>
                <a:latin typeface="Tw Cen MT"/>
              </a:rPr>
              <a:t>Graphs/Charts 2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208" name="Content Placeholder 3"/>
          <p:cNvGraphicFramePr/>
          <p:nvPr/>
        </p:nvGraphicFramePr>
        <p:xfrm>
          <a:off x="612720" y="1600200"/>
          <a:ext cx="8152920" cy="44953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209" name="Text Box 9"/>
          <p:cNvSpPr/>
          <p:nvPr/>
        </p:nvSpPr>
        <p:spPr>
          <a:xfrm>
            <a:off x="612720" y="640080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8dc765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Student presentation">
  <a:themeElements>
    <a:clrScheme name="Solstice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Student presentation">
  <a:themeElements>
    <a:clrScheme name="Solstice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Student presentation">
  <a:themeElements>
    <a:clrScheme name="Solstice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Student presentation">
  <a:themeElements>
    <a:clrScheme name="Solstice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380</Words>
  <Paragraphs>13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2T20:01:56Z</dcterms:created>
  <dc:creator/>
  <dc:description/>
  <dc:language>en-US</dc:language>
  <cp:lastModifiedBy/>
  <dcterms:modified xsi:type="dcterms:W3CDTF">2015-08-14T12:54:16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1</vt:r8>
  </property>
  <property fmtid="{D5CDD505-2E9C-101B-9397-08002B2CF9AE}" pid="3" name="PresentationFormat">
    <vt:lpwstr>全屏显示(4:3)</vt:lpwstr>
  </property>
  <property fmtid="{D5CDD505-2E9C-101B-9397-08002B2CF9AE}" pid="4" name="Slides">
    <vt:r8>12</vt:r8>
  </property>
  <property fmtid="{D5CDD505-2E9C-101B-9397-08002B2CF9AE}" pid="5" name="_TemplateID">
    <vt:lpwstr>TC103524791033</vt:lpwstr>
  </property>
</Properties>
</file>