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247-C573-4EE0-B7D7-6D294B3D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867-2E9E-45CF-AEFF-7B53FCA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220-D029-4E37-9C42-1BB24D4B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782-024F-4D1C-873F-148651DE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21E-F31A-442C-AF5C-FCC5EB6D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8BD-CD72-4195-AD38-2DAF05B2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D971-1126-4410-91EE-BFAFB9F4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746-851D-4930-BF2B-556F0D36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32F-3663-4275-A40D-1630D269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21C3-006D-4717-A6F4-3A8F61E6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7AF-2BB6-48DE-BA1C-74F1BD2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61F-D46A-4633-9B77-B4C166DB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EEF-FE25-4AD4-AA67-93CE8D8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0FA1-3FA6-43FE-9565-8553D16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688B-10E7-4ECD-8BA2-B2B545D3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3897-A3AC-4B64-B60C-E5F38396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6463-FD3B-4BC7-A912-C25BFEBC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659-7B3E-4B1E-BCB3-9D5CC26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5A2-03B4-424E-91D1-AFF3BB53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5F2-6CD8-47B4-8BE4-8CF7C56E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63C-06FA-435F-9551-2B35685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A5B-7E79-4B28-B58A-9CC5F6C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8CF-080A-46D9-AE09-DCD7604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7AF-F7C6-459B-AFAA-727687E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559570-4F33-4DB6-99FD-C27422E34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DBB583-CEF3-4DA1-B874-691F01AE0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124640"/>
            <a:ext cx="8325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浅蓝色简洁线条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9096120" cy="712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          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7">
  <a:themeElements>
    <a:clrScheme name="template7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7">
  <a:themeElements>
    <a:clrScheme name="template7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mplate7</Template>
  <TotalTime>2</TotalTime>
  <Application>LibreOffice/7.4.7.2$Linux_X86_64 LibreOffice_project/40$Build-2</Application>
  <AppVersion>15.0000</AppVersion>
  <Words>158</Words>
  <Paragraphs>3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26:41Z</dcterms:created>
  <dc:creator>微软用户</dc:creator>
  <dc:description/>
  <dc:language>en-US</dc:language>
  <cp:lastModifiedBy>yu wang</cp:lastModifiedBy>
  <dcterms:modified xsi:type="dcterms:W3CDTF">2015-08-14T12:52:09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