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280-710A-4CDF-A838-DCF2F23C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C55-6E0B-4EF1-830C-CB8F79A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7F9-F59F-4B14-AACF-D550A09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E1C-CC73-4512-B90C-D81366C0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C76B-4E17-4737-8610-19C7E403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08D9-EAFD-4A01-8C76-04C6C885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8C79-D8FE-4DE7-B198-D95B1CB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1F2-87C3-4BE2-8DE0-6146DC79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12FE-E484-4F1E-807F-82DF5F1A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A55D-B3BC-4147-95BC-E0BF016E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6C31-82B8-41E3-B773-95415E80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AD6-E318-4D96-85D9-B06B75AE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EE5D-C5DF-4132-8E1D-780A677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C4CF-815F-43C4-BD3B-434D720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D0B-B290-471F-877B-3177B5C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8573-EA60-4278-909F-459640BB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39BB-AFFC-4012-B20E-A75A97CE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7E4C-E5B8-4725-9A90-DBF22FF9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AA7E-46C0-49BE-96CF-876C8413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8A04-7E30-4E67-9AB2-E681BE61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734A-114A-4E8A-8AE2-84A6B8C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973A-3E06-48E1-AA44-168E6EC1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1C1-14D2-4F27-AFB3-0AEC8E7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93F1-E8C5-42D7-B20F-B22F53DB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D224-42A4-42DC-94F7-44499DDA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9BCD-2D5C-4AEA-82CA-DE01C09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B116-D53B-4927-84BB-903D16B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34C1-2691-431E-B59F-4BDDF4D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6750-49F5-421E-A8CB-49C042FF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BFDF-3B4E-425B-8078-D6FB0932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F8BB7-4F4E-4261-AF50-0CCC5D98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5395-B6EF-4EDF-AB60-49D60A7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BB7E-7998-47A0-BF68-B125944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553-3879-4517-BDF7-441987A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7D78-22E3-40EA-8467-5687FD6C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D5AF-BBC3-43AF-B961-A8A650C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A9AA-A81E-4E18-B05A-1596A78C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9231-78CB-40E9-A579-5718ED8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08AA-BCB6-4C85-8F0D-C81D8E15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EB2D-6133-4C8D-8F9E-67CC1167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48EA-E28F-4E7B-8986-2C600ED4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925F-B177-45D4-BD08-59E06E9A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E4AB-8B79-46C6-BA78-228DB2D1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5EF7-1156-4138-AA2B-F19AC1F6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C0F-772E-42EE-BFD4-502EAB8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F882-E213-469B-99AE-35D2B727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1600-2948-4917-9016-B32C3E08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5FF1-7D4D-4F17-BD5F-B2A899CA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C89F-B2B6-4C02-91D6-36A5AB4A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24C85-FE6E-4C81-B8BA-2A7823D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5FD4-D247-4C43-AC9F-F57A58D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AC0B-8738-4307-AFCD-2768C1A8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F4B5E-DBFF-4B13-82F2-640C7CC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655A-A581-445C-A75A-FCE52289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FFF23-7E01-478D-B2DB-5D173701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B7B-9D84-412F-AF20-A16B8684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F859-6BBD-4D1D-B1B5-6547C598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F65-F99C-4A4A-95AC-C68349F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FF7-F98C-4E9A-A002-66022C3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C81-34AB-463B-B535-0789C5D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dcd43d98f2944e139012f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BFB-35A7-4934-B667-86D4961F7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71206_775471a332860a22f784bUMnrO4hdf7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AC39-776F-418D-B098-CC91AC31B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9eef11b8b2db8f2af5133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38F8-DBFA-47F9-92B1-35F4FED7B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1500c7400397127b151b92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E056-D5B1-4E23-A747-737A909A2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926f446f5792b4fd80cb4a5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A43B-13D0-4C40-BA39-C8E858199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2176920" y="155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爽淡雅论文答辩精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900000" y="6308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huangyihuawen2_0495"/>
          <p:cNvPicPr/>
          <p:nvPr/>
        </p:nvPicPr>
        <p:blipFill>
          <a:blip r:embed="rId1"/>
          <a:stretch/>
        </p:blipFill>
        <p:spPr>
          <a:xfrm>
            <a:off x="250920" y="765000"/>
            <a:ext cx="5905440" cy="5905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8:42:48Z</dcterms:created>
  <dc:creator/>
  <dc:description/>
  <cp:keywords/>
  <dc:language>en-US</dc:language>
  <cp:lastModifiedBy>yu wang</cp:lastModifiedBy>
  <cp:lastPrinted>1899-12-30T00:00:00Z</cp:lastPrinted>
  <dcterms:modified xsi:type="dcterms:W3CDTF">2015-08-14T12:52:18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