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EE64-373D-4DC2-886F-CD936ACC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32000" y="393408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F16-BAD0-4050-9CBF-E1DBCDC7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0084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E5B5-C133-45DA-A92A-5A86FCFC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888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76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3200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888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76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5E04-9F10-41CB-BB41-D51BF66A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7228-541A-4B38-8AFD-3C3068A8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C6C6-C340-4A96-B8D7-878A996E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9454-4A96-4C73-884F-74DBD2D2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B332-A29A-4B81-AB91-4FA486A4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F852-C003-4BC7-8352-BE8D63BC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32000" y="63000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C651-6718-4C7B-B5AB-0F37CC70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B5AE-2580-4B84-862F-B2181201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B2A-971B-47CD-9EFE-27356F26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0084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E297-C97A-472C-9ADD-5C6206FD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EA23-43CE-4E69-9188-21E54A9E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32000" y="393408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B569-088C-495D-8D14-7337653D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0084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F5A7-931B-430B-B73E-A30A1DA8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888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0576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3200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888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0576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2C08-4D21-4986-B7A3-321966BC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DC0-C5B5-4F39-ABC3-0E0E23D8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F7D-A60B-4DAA-82BA-49D19735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E97-3E77-443B-9213-6921FDDD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32000" y="63000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B84-2121-4E8A-B9E9-2FDB0BFE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9050-C53D-49F2-A658-AF3F4565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0084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745B-751B-424E-B2B7-DE60CDD7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1C74-DAE9-4C42-A889-E648C574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图片2"/>
          <p:cNvPicPr/>
          <p:nvPr/>
        </p:nvPicPr>
        <p:blipFill>
          <a:blip r:embed="rId2"/>
          <a:stretch/>
        </p:blipFill>
        <p:spPr>
          <a:xfrm>
            <a:off x="-30240" y="0"/>
            <a:ext cx="9366480" cy="702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99cc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0837-0825-4A02-8ECE-8EBBAF4DDABF}" type="slidenum">
              <a:rPr b="0" lang="zh-CN" sz="1000" spc="-1" strike="noStrike">
                <a:solidFill>
                  <a:srgbClr val="0099cc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0FDA-8F24-4269-AD39-7DA8CACA6B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30160" y="3429000"/>
            <a:ext cx="651348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Arial"/>
              </a:rPr>
              <a:t>清爽荷花中国风</a:t>
            </a:r>
            <a:r>
              <a:rPr b="1" lang="en-US" sz="4000" spc="-1" strike="noStrike">
                <a:solidFill>
                  <a:srgbClr val="0099cc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99cc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717800" y="5014800"/>
            <a:ext cx="406404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23:48:26Z</dcterms:created>
  <dc:creator>Administrator</dc:creator>
  <dc:description/>
  <dc:language>en-US</dc:language>
  <cp:lastModifiedBy>yu wang</cp:lastModifiedBy>
  <cp:lastPrinted>1899-12-30T00:00:00Z</cp:lastPrinted>
  <dcterms:modified xsi:type="dcterms:W3CDTF">2015-08-12T14:53:10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