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2EC-564F-4523-9C15-82D394CD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AA2-70EC-4302-8270-FC525EA6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90F-D193-48C6-8338-DD657F64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824-8B69-4064-AE9A-D50BAAAC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F3D0-02A3-4BE0-B53F-9E4998B9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92A4-2458-464A-B53B-EAFEB812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58BA-6BF1-4A39-B6C9-9FE1DEF4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B776-1A39-4F62-A8C4-950DAF00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0308-BC5A-44B9-A5D9-51A0F05A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BD59-EF3D-43D9-A950-6215DA16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9E63-7D3B-413D-9BEF-E55F64BE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976-B437-4D52-8AB2-C97994A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587-43E5-412A-ABD0-488797D7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76AA-260E-4148-801B-08B0CAA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5B03-2F36-49AC-8EB8-F8F0BA7A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0293-C8D7-4805-BEB9-92F969EA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E75-12FE-4AF4-ACDD-F8DF3EAD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A9E-896F-477F-A8A5-98B6FA51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46F-0E2E-4157-970A-19CA6D7D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604-1245-4210-8AB4-E64DE891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5B7-57F5-40EE-AF26-87D038F3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0B5-2CFD-4300-AA26-1F9B14C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8A3-A12C-432F-BB33-17BB5CF3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65C-667E-412E-B708-7E94DD82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D9D0-66E6-4A42-8E42-3A07E2BAD863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D019-DC2E-4463-9EDB-905AC1195F7A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00A-8650-4841-B173-8A5487F92AD4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4BE5-95B3-4783-B8BB-BFDE3C8C36CC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485280" y="5022720"/>
            <a:ext cx="206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wg_blurred_backgrounds_18"/>
          <p:cNvPicPr/>
          <p:nvPr/>
        </p:nvPicPr>
        <p:blipFill>
          <a:blip r:embed="rId2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爽绿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20680" y="5621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114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wg_blurred_backgrounds_18"/>
          <p:cNvPicPr/>
          <p:nvPr/>
        </p:nvPicPr>
        <p:blipFill>
          <a:blip r:embed="rId1"/>
          <a:srcRect l="0" t="0" r="0" b="77947"/>
          <a:stretch/>
        </p:blipFill>
        <p:spPr>
          <a:xfrm>
            <a:off x="0" y="4676760"/>
            <a:ext cx="89996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7640" y="240840"/>
            <a:ext cx="664236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7640" y="1403280"/>
            <a:ext cx="664236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g_blurred_backgrounds_18"/>
          <p:cNvPicPr/>
          <p:nvPr/>
        </p:nvPicPr>
        <p:blipFill>
          <a:blip r:embed="rId1"/>
          <a:srcRect l="52446" t="0" r="29143" b="0"/>
          <a:stretch/>
        </p:blipFill>
        <p:spPr>
          <a:xfrm>
            <a:off x="0" y="6480"/>
            <a:ext cx="16574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2811600" y="1112760"/>
            <a:ext cx="3387600" cy="3386160"/>
          </a:xfrm>
          <a:custGeom>
            <a:avLst/>
            <a:gdLst>
              <a:gd name="textAreaLeft" fmla="*/ 496080 w 3387600"/>
              <a:gd name="textAreaRight" fmla="*/ 2891520 w 3387600"/>
              <a:gd name="textAreaTop" fmla="*/ 495720 h 3386160"/>
              <a:gd name="textAreaBottom" fmla="*/ 2890440 h 3386160"/>
            </a:gdLst>
            <a:ahLst/>
            <a:rect l="textAreaLeft" t="textAreaTop" r="textAreaRight" b="textAreaBottom"/>
            <a:pathLst>
              <a:path w="21600" h="21600">
                <a:moveTo>
                  <a:pt x="4554" y="3505"/>
                </a:moveTo>
                <a:cubicBezTo>
                  <a:pt x="2423" y="5330"/>
                  <a:pt x="1196" y="7994"/>
                  <a:pt x="1197" y="10800"/>
                </a:cubicBezTo>
                <a:cubicBezTo>
                  <a:pt x="1197" y="16103"/>
                  <a:pt x="5496" y="20403"/>
                  <a:pt x="10800" y="20403"/>
                </a:cubicBezTo>
                <a:cubicBezTo>
                  <a:pt x="16103" y="20403"/>
                  <a:pt x="20403" y="16103"/>
                  <a:pt x="20403" y="10800"/>
                </a:cubicBezTo>
                <a:cubicBezTo>
                  <a:pt x="20403" y="6754"/>
                  <a:pt x="17868" y="3143"/>
                  <a:pt x="14063" y="1768"/>
                </a:cubicBezTo>
                <a:lnTo>
                  <a:pt x="14470" y="642"/>
                </a:lnTo>
                <a:cubicBezTo>
                  <a:pt x="18749" y="2189"/>
                  <a:pt x="21599" y="6250"/>
                  <a:pt x="21600" y="10799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-1" y="7645"/>
                  <a:pt x="1379" y="4648"/>
                  <a:pt x="3775" y="2596"/>
                </a:cubicBezTo>
                <a:lnTo>
                  <a:pt x="2019" y="545"/>
                </a:lnTo>
                <a:lnTo>
                  <a:pt x="6670" y="904"/>
                </a:lnTo>
                <a:lnTo>
                  <a:pt x="6310" y="5556"/>
                </a:lnTo>
                <a:lnTo>
                  <a:pt x="4554" y="3505"/>
                </a:lnTo>
                <a:close/>
              </a:path>
            </a:pathLst>
          </a:custGeom>
          <a:solidFill>
            <a:srgbClr val="a9ffe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708360" y="1133640"/>
            <a:ext cx="1593720" cy="796680"/>
          </a:xfrm>
          <a:prstGeom prst="roundRect">
            <a:avLst>
              <a:gd name="adj" fmla="val 16667"/>
            </a:avLst>
          </a:prstGeom>
          <a:solidFill>
            <a:srgbClr val="00cc99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746520" y="1173240"/>
            <a:ext cx="1515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rmAutofit fontScale="76000"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5081760" y="2131920"/>
            <a:ext cx="1593720" cy="797040"/>
          </a:xfrm>
          <a:prstGeom prst="roundRect">
            <a:avLst>
              <a:gd name="adj" fmla="val 16667"/>
            </a:avLst>
          </a:prstGeom>
          <a:solidFill>
            <a:srgbClr val="00cc99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121360" y="2171880"/>
            <a:ext cx="1514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rmAutofit fontScale="76000"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4557600" y="3746520"/>
            <a:ext cx="1592280" cy="797040"/>
          </a:xfrm>
          <a:prstGeom prst="roundRect">
            <a:avLst>
              <a:gd name="adj" fmla="val 16667"/>
            </a:avLst>
          </a:prstGeom>
          <a:solidFill>
            <a:srgbClr val="00cc99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595760" y="3786120"/>
            <a:ext cx="15159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rmAutofit fontScale="76000"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859120" y="3746520"/>
            <a:ext cx="1593720" cy="797040"/>
          </a:xfrm>
          <a:prstGeom prst="roundRect">
            <a:avLst>
              <a:gd name="adj" fmla="val 16667"/>
            </a:avLst>
          </a:prstGeom>
          <a:solidFill>
            <a:srgbClr val="00cc99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898720" y="3786120"/>
            <a:ext cx="1514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rmAutofit fontScale="76000"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335320" y="2131920"/>
            <a:ext cx="1592280" cy="797040"/>
          </a:xfrm>
          <a:prstGeom prst="roundRect">
            <a:avLst>
              <a:gd name="adj" fmla="val 16667"/>
            </a:avLst>
          </a:prstGeom>
          <a:solidFill>
            <a:srgbClr val="00cc99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2373480" y="2171880"/>
            <a:ext cx="1515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rmAutofit fontScale="76000"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47600" y="555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1263600" y="3313080"/>
            <a:ext cx="1955880" cy="627120"/>
          </a:xfrm>
          <a:prstGeom prst="rect">
            <a:avLst/>
          </a:prstGeom>
          <a:solidFill>
            <a:srgbClr val="00cc99">
              <a:alpha val="6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263600" y="3313080"/>
            <a:ext cx="1378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0" rIns="64800" tIns="0" bIns="0" anchor="ctr">
            <a:norm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2695680" y="3413160"/>
            <a:ext cx="685800" cy="684000"/>
          </a:xfrm>
          <a:prstGeom prst="ellipse">
            <a:avLst/>
          </a:prstGeom>
          <a:solidFill>
            <a:srgbClr val="a9ffe2">
              <a:alpha val="69000"/>
            </a:srgbClr>
          </a:solidFill>
          <a:ln w="25560">
            <a:solidFill>
              <a:srgbClr val="00cc99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549600" y="3313080"/>
            <a:ext cx="1955880" cy="627120"/>
          </a:xfrm>
          <a:prstGeom prst="rect">
            <a:avLst/>
          </a:prstGeom>
          <a:solidFill>
            <a:srgbClr val="00cc99">
              <a:alpha val="60000"/>
            </a:srgbClr>
          </a:solidFill>
          <a:ln w="25560">
            <a:solidFill>
              <a:srgbClr val="a9ff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549600" y="3313080"/>
            <a:ext cx="1378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0" rIns="64800" tIns="0" bIns="0" anchor="ctr">
            <a:norm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4981680" y="3413160"/>
            <a:ext cx="684000" cy="684000"/>
          </a:xfrm>
          <a:prstGeom prst="ellipse">
            <a:avLst/>
          </a:prstGeom>
          <a:solidFill>
            <a:srgbClr val="a9ffe2">
              <a:alpha val="69000"/>
            </a:srgbClr>
          </a:solidFill>
          <a:ln w="25560">
            <a:solidFill>
              <a:srgbClr val="00cc99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5835600" y="3313080"/>
            <a:ext cx="1955880" cy="627120"/>
          </a:xfrm>
          <a:prstGeom prst="rect">
            <a:avLst/>
          </a:prstGeom>
          <a:solidFill>
            <a:srgbClr val="00cc99">
              <a:alpha val="6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5835600" y="3313080"/>
            <a:ext cx="1378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0" rIns="64800" tIns="0" bIns="0" anchor="ctr">
            <a:norm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7267680" y="3413160"/>
            <a:ext cx="684000" cy="684000"/>
          </a:xfrm>
          <a:prstGeom prst="ellipse">
            <a:avLst/>
          </a:prstGeom>
          <a:solidFill>
            <a:srgbClr val="a9ffe2">
              <a:alpha val="80000"/>
            </a:srgbClr>
          </a:solidFill>
          <a:ln w="25560">
            <a:solidFill>
              <a:srgbClr val="00cc99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wg_blurred_backgrounds_18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4280" y="214956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69880" y="614160"/>
            <a:ext cx="6059520" cy="423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04560" y="1413000"/>
            <a:ext cx="6589800" cy="3852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504120" y="720720"/>
            <a:ext cx="1025280" cy="25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yu wang</cp:lastModifiedBy>
  <dcterms:modified xsi:type="dcterms:W3CDTF">2015-08-14T12:52:21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