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862B-F3F9-4AB7-8717-EE0F05F65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46C0-60CC-4BC0-8AFE-7E2C7C4C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27D4-22D3-4838-B141-F0369E4B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81E8-B969-4C2F-9B40-C09FE6304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B06B-95A6-4ADD-ADB7-17F6C3427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4386-E77C-4CE8-947A-0400A503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C312-3D87-4F7A-A8ED-B8C6A2F8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CBE1-924C-419A-8F44-D6E3AF06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12E6-A7AD-4E6D-B1E8-E9DB48CE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DAB7-F272-49A7-83B8-C1B95E36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65D4-795B-4725-AF28-E5879DC8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3E62-8D8D-4D08-89D7-DDB4683A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FBD5-2EEC-435B-99D8-52B254DE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3FC3-26E7-4963-88F6-180762AC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7920-9CDD-4680-A593-185082B8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D616-FD2C-4E7B-9AF7-8FDEBA6B3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9EF7-C9B3-46F5-A230-F67B1BA4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4F28-2A75-4D8E-8C77-0BB0C74C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9A82-70E9-4C46-8C22-30623821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9B89-B0DC-468F-9189-6483380E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5C4C-F4FC-4D42-9C47-E2A3CAF2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298B-5DA3-44A9-B387-29566154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6B2E-B800-4038-AE63-974575A6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C12E-69CE-41F9-A141-3EBCC0E4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547130-159E-434C-A988-B27991A48A0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84C5014-553F-4934-8867-5F5BF06A5BD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/>
          <p:cNvSpPr/>
          <p:nvPr/>
        </p:nvSpPr>
        <p:spPr>
          <a:xfrm>
            <a:off x="2651040" y="1214280"/>
            <a:ext cx="491760" cy="521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可爱卡通及其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"/>
          <p:cNvSpPr/>
          <p:nvPr/>
        </p:nvSpPr>
        <p:spPr>
          <a:xfrm>
            <a:off x="1921320" y="188640"/>
            <a:ext cx="537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桥上雨伞情侣中国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2143080" y="1428840"/>
            <a:ext cx="257148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"/>
          <p:cNvSpPr/>
          <p:nvPr/>
        </p:nvSpPr>
        <p:spPr>
          <a:xfrm>
            <a:off x="492588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4998960" y="234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499752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499752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8"/>
          <p:cNvSpPr/>
          <p:nvPr/>
        </p:nvSpPr>
        <p:spPr>
          <a:xfrm>
            <a:off x="2132640" y="428760"/>
            <a:ext cx="14004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492588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228276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/>
          <p:cNvSpPr/>
          <p:nvPr/>
        </p:nvSpPr>
        <p:spPr>
          <a:xfrm>
            <a:off x="599760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8"/>
          <p:cNvSpPr/>
          <p:nvPr/>
        </p:nvSpPr>
        <p:spPr>
          <a:xfrm>
            <a:off x="285444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1"/>
          <p:cNvSpPr/>
          <p:nvPr/>
        </p:nvSpPr>
        <p:spPr>
          <a:xfrm>
            <a:off x="328284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2132640" y="428760"/>
            <a:ext cx="14004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392580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485460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"/>
          <p:cNvSpPr/>
          <p:nvPr/>
        </p:nvSpPr>
        <p:spPr>
          <a:xfrm>
            <a:off x="456876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4"/>
          <p:cNvSpPr/>
          <p:nvPr/>
        </p:nvSpPr>
        <p:spPr>
          <a:xfrm>
            <a:off x="478332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5"/>
          <p:cNvSpPr/>
          <p:nvPr/>
        </p:nvSpPr>
        <p:spPr>
          <a:xfrm>
            <a:off x="2132640" y="428760"/>
            <a:ext cx="14004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263988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1"/>
          <p:cNvSpPr/>
          <p:nvPr/>
        </p:nvSpPr>
        <p:spPr>
          <a:xfrm>
            <a:off x="392580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"/>
          <p:cNvSpPr/>
          <p:nvPr/>
        </p:nvSpPr>
        <p:spPr>
          <a:xfrm>
            <a:off x="399744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5"/>
          <p:cNvSpPr/>
          <p:nvPr/>
        </p:nvSpPr>
        <p:spPr>
          <a:xfrm>
            <a:off x="2132640" y="857160"/>
            <a:ext cx="14004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/>
          <p:cNvSpPr/>
          <p:nvPr/>
        </p:nvSpPr>
        <p:spPr>
          <a:xfrm>
            <a:off x="392580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3997440" y="5072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23640" y="61653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1"/>
          <p:cNvSpPr/>
          <p:nvPr/>
        </p:nvSpPr>
        <p:spPr>
          <a:xfrm>
            <a:off x="121140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4"/>
          <p:cNvSpPr/>
          <p:nvPr/>
        </p:nvSpPr>
        <p:spPr>
          <a:xfrm>
            <a:off x="656928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2132640" y="857160"/>
            <a:ext cx="14004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7"/>
          <p:cNvSpPr/>
          <p:nvPr/>
        </p:nvSpPr>
        <p:spPr>
          <a:xfrm>
            <a:off x="406872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  <Words>254</Words>
  <Paragraphs>6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12T14:52:27Z</dcterms:modified>
  <cp:revision>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8</vt:r8>
  </property>
</Properties>
</file>