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ADAC5-E0F0-4E04-A2F2-A8C8D5FC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EAF70-717E-4D5D-A068-FA5DB565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A6609-85EB-47D8-9F36-D4D69865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39D7C-1B8E-48A2-A6C5-9BE86778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E8B88-2829-4329-975D-BFB9A6F3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95998-67E2-454A-9B0D-2B79FD06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1FE45-CF98-4A79-AFB2-4F33887A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0EA90-0D81-455C-9D18-D7AB0A14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5C1CC-144B-4BFB-87D0-BC578818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3F468-7170-4A59-B396-59EE861E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39496-70E3-451A-9C8E-CB230960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F398C-B8DC-4E16-BF2E-E40348FA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28EDE-EEE4-4B81-ACC4-93035703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3F1E6-94A3-43FA-AE6A-E6F72DAB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9ACF2-2311-4C67-8672-24FCF322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EA561-D407-4968-8F3E-BD71B617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78818-B692-429A-AD4C-65612C8D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1653E-374B-45E1-97D5-AAB8A75F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064A5-4EA7-42A1-AD6A-97E713B0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01B85-030C-47D8-BDF4-98EDD919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1B243-AC9E-42BF-A41C-F2ACB774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BE722-26AD-4E3F-87C5-77EE1FF6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CBB01-3876-4EEA-939A-F05054B6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B4F04-095E-41D3-A293-0C9E1DD1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D3A49-675B-470A-A7BF-24228D65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2A661-7994-4F07-ABA8-0CF98B35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E9B72-E81A-45FE-A2A1-88712DAC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1B0F6-5C45-4A44-A100-B41BA16B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5B19F-F8F0-454F-B24E-47BBCE25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81EF4-30CB-4274-ABBE-C048271F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EF2F-486F-4480-A030-17073D29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8CC8F-B5DC-466C-82E1-0D3C8C20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BD514-0CA3-419A-A752-0ECBCD45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E00AE-BDFD-43C9-A5FA-FD1D40A7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4053C-826F-4FD7-BA90-3C77BBE9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CBD8E-36BD-4C2E-9C70-4265B7A8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926A5-2E0E-46DA-9F61-578713DF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54B55-77B1-41FD-8600-060600B4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F722E-595F-4378-A07D-A16D3BB3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62A34-6C41-4B8F-90AE-08EE80F5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12D5E-6F7B-465E-8762-CCB9C2CC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A98-2B2A-4409-B842-B68F42A1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43F6D-129E-41A1-B334-5CD08245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E6271-5A37-451E-AE28-D0D57231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773B4-677B-4D76-95EA-FF6F2BB2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053E3-B33B-4209-BD7E-7EB01BA2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DF68A-0FCF-4680-BAD5-1CA2A8D7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5310-136C-4D4E-AF57-A6D1ABF3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3829-5F5F-4DA8-9130-CB92DEA1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1C9C-1A22-4639-98C6-CDAA70E8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6C3-428E-482B-8138-D410E74B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E13-DAA0-4104-903D-0A02B103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F35F-52BD-4A10-890D-BFFAAD2E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96E-E2A6-446D-A31C-22DF6B90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A624-27FE-4335-A853-FDAC9280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F53-7D39-4844-B5B5-18311AC8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854-55E0-4B46-A4FE-D3739116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F3E3-A26E-4EC9-8F91-74CDB7D5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1957-EB29-4D21-A86E-D098ACD8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C3D7-78A6-4B47-A31F-7F4001E6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F35C-1E13-4DA1-8559-32567CF2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F6F7-30F0-4095-AB95-DEE9BFBD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6578-FE38-4F3C-A66B-92F9333A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7850-DF8A-4B28-A8EF-289FA0BC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B454-DE5C-4B14-B945-6781C931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E126-983D-4917-9F0B-A5A0A92B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E487-9C51-4FFD-A748-1C9E35F7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664A-2951-4D40-880C-B64BCF8C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435C-D5ED-4D29-8CF1-ABF897D5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55813-2130-4CEF-8316-2AA26BC5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29AE1-5C22-48FA-B0A5-3C7E5057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A0235-A945-455A-A7FB-70A3A6D7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EB3D8-62CF-453C-853D-38F66F7E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6322D-7EC4-4503-BF25-4253713D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70525-ADFF-4E7D-906B-2BB68B9C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B67EE-E05A-4298-8F60-72606EE6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D4628-E043-41BC-9DC5-A930796B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A5288-08DD-4713-949B-480015A3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F0736-BB38-4EA3-88B2-DCA233F7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AB8DC-1C11-49E0-A5BC-EDC6D43A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B2B41-A865-459F-AFDC-596BB5AB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6AE4D-6182-49DB-9D59-657A033E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3F7F8-B614-4CC3-AB00-EA3DD26D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F0147-5D0B-42DA-A75D-765838A5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234D4-4F7A-4F06-ACA9-CDDC082B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637F0-DC15-453C-8325-510BD197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C90C7-3698-48E8-895B-72CD4EB9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EE828-8691-4D8B-9F53-C81A3947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FC695-EE07-4EE2-A807-D39C5E46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39A79-8285-4AE7-8FD4-73ECFB3A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35A2E-46CF-451E-A7F2-45363C31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71BD0-CBDF-4CA8-9EBF-4C4958E7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35FD1-DE01-4E9D-AA00-232936EF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51A9E-7D00-46BD-9153-D8377F0A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C9689-20EB-4D49-832A-4B669CD1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B83B0-19C7-492C-AA60-5978CEFD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20FCD-06F0-4294-8BF3-85A41C42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2C4D1-3973-4C0F-B1AC-55E6F2CE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74FB9-6812-4622-AA7D-70462CB3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7C230-7767-4682-9840-F3FB842E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1F347-FFF3-4767-B2D3-05E42210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1A81C-E2F7-486A-BD89-4D4DBB77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E3DF3-26F8-42DB-9555-1D45D1F4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6BFF7-830E-469C-AB38-B9690834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89FF1-7CC9-48B0-99F7-41487600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2E93D-4CA5-45DB-9CB0-2DD740DB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9BDE3-7002-496C-9428-1FFBBA96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02B87-58AE-419B-9B10-68F8204E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369AB-20F5-42FD-B86D-1C95D4D9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940D9-762B-45E0-AFA7-10D8BB75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E7F96-5D76-4EFE-BDD4-977418F2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B6B28-666E-49A3-B849-DD04E11B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CC1D1-BEE8-4133-95B4-B1B1D5BF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94C28-CCCE-4312-9F97-E43BD388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EB250-6F5D-4554-8121-55DCC416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84DBD-DFF2-4A9D-9498-5FB0F92E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9E5D5-F126-4EEB-BD70-01B34B4C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C5B0A-4F2F-4DAB-83B5-F8DEBA70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C1719-5F52-48D8-A64E-0B00C0E6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4C53C-39AA-45AB-8124-260CFC74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A8394-5478-4F6E-83C1-A132F969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51F98-9CE8-4ADB-AD78-A138009F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EA871-7498-4C3B-9B9C-BAEF8523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484AC-59FE-47FB-B1FC-07F10BD6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7893E-DD79-4797-A7BD-B9420AFA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9C7E4-6293-4380-86DC-57F89132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0A799-2D03-4C0A-BD3B-90A8EC46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BB9FC-02B9-4BA3-987F-F6A7DC52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F7650-93EA-46BF-AD19-14D4A354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6201F-C78B-4CFD-BFFA-15178E57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66A8A-0C92-42B7-851B-8F28F5A6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6904F-06C9-4C61-B69A-BE2B9243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FA29-287D-4041-84AB-D72E1E7F77E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E097-BEAE-40CF-B8B1-1FB4741AFC1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4A0F-7605-489D-90AE-98CAC666AC9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任意多边形 2"/>
          <p:cNvSpPr/>
          <p:nvPr/>
        </p:nvSpPr>
        <p:spPr>
          <a:xfrm>
            <a:off x="9360" y="765000"/>
            <a:ext cx="9171000" cy="642960"/>
          </a:xfrm>
          <a:custGeom>
            <a:avLst/>
            <a:gdLst/>
            <a:ahLst/>
            <a:rect l="l" t="t" r="r" b="b"/>
            <a:pathLst>
              <a:path w="9171160" h="642796">
                <a:moveTo>
                  <a:pt x="0" y="0"/>
                </a:moveTo>
                <a:cubicBezTo>
                  <a:pt x="193140" y="180315"/>
                  <a:pt x="386281" y="360630"/>
                  <a:pt x="516047" y="371192"/>
                </a:cubicBezTo>
                <a:cubicBezTo>
                  <a:pt x="645813" y="381754"/>
                  <a:pt x="704661" y="66392"/>
                  <a:pt x="778598" y="63374"/>
                </a:cubicBezTo>
                <a:cubicBezTo>
                  <a:pt x="852535" y="60356"/>
                  <a:pt x="882713" y="344032"/>
                  <a:pt x="959667" y="353085"/>
                </a:cubicBezTo>
                <a:cubicBezTo>
                  <a:pt x="1036621" y="362138"/>
                  <a:pt x="828391" y="89026"/>
                  <a:pt x="1240324" y="117695"/>
                </a:cubicBezTo>
                <a:cubicBezTo>
                  <a:pt x="1652257" y="146364"/>
                  <a:pt x="2605889" y="496432"/>
                  <a:pt x="3431263" y="525101"/>
                </a:cubicBezTo>
                <a:cubicBezTo>
                  <a:pt x="4256637" y="553770"/>
                  <a:pt x="5235921" y="270095"/>
                  <a:pt x="6192570" y="289711"/>
                </a:cubicBezTo>
                <a:cubicBezTo>
                  <a:pt x="7149219" y="309327"/>
                  <a:pt x="8160189" y="476061"/>
                  <a:pt x="9171160" y="642796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F5F1-C912-4FEB-8536-D7F10ECAFC2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2DD2-F854-4915-8564-A79A645D0A5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5559-CB73-4C22-9093-5650D7B486C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A4B5-B919-412C-B3E5-AF0B6BA6BF3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DD7C-09B4-42A4-BF8D-56A90824D4D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B459-C181-4077-BA26-B822E9D7CF0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BE0B-F551-4AA7-BC64-CB2B0C13284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BBB3-C883-45DB-8CD9-42140CFAEB2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矩形 4"/>
          <p:cNvSpPr/>
          <p:nvPr/>
        </p:nvSpPr>
        <p:spPr>
          <a:xfrm>
            <a:off x="0" y="1989000"/>
            <a:ext cx="9144000" cy="1800360"/>
          </a:xfrm>
          <a:prstGeom prst="rect">
            <a:avLst/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任意多边形 5"/>
          <p:cNvSpPr/>
          <p:nvPr/>
        </p:nvSpPr>
        <p:spPr>
          <a:xfrm>
            <a:off x="-15840" y="4076640"/>
            <a:ext cx="9150480" cy="2062080"/>
          </a:xfrm>
          <a:custGeom>
            <a:avLst/>
            <a:gdLst/>
            <a:ahLst/>
            <a:rect l="l" t="t" r="r" b="b"/>
            <a:pathLst>
              <a:path w="9153330" h="2062065">
                <a:moveTo>
                  <a:pt x="0" y="0"/>
                </a:moveTo>
                <a:cubicBezTo>
                  <a:pt x="685022" y="307910"/>
                  <a:pt x="1370045" y="615820"/>
                  <a:pt x="2136710" y="727787"/>
                </a:cubicBezTo>
                <a:cubicBezTo>
                  <a:pt x="2903375" y="839754"/>
                  <a:pt x="3833327" y="524069"/>
                  <a:pt x="4599992" y="671804"/>
                </a:cubicBezTo>
                <a:cubicBezTo>
                  <a:pt x="5366657" y="819539"/>
                  <a:pt x="5977812" y="1382486"/>
                  <a:pt x="6736702" y="1614196"/>
                </a:cubicBezTo>
                <a:cubicBezTo>
                  <a:pt x="7495592" y="1845906"/>
                  <a:pt x="8324461" y="1953985"/>
                  <a:pt x="9153330" y="2062065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任意多边形 6"/>
          <p:cNvSpPr/>
          <p:nvPr/>
        </p:nvSpPr>
        <p:spPr>
          <a:xfrm>
            <a:off x="-25560" y="4505400"/>
            <a:ext cx="8861760" cy="2343240"/>
          </a:xfrm>
          <a:custGeom>
            <a:avLst/>
            <a:gdLst/>
            <a:ahLst/>
            <a:rect l="l" t="t" r="r" b="b"/>
            <a:pathLst>
              <a:path w="8864082" h="2343480">
                <a:moveTo>
                  <a:pt x="0" y="1497"/>
                </a:moveTo>
                <a:cubicBezTo>
                  <a:pt x="438539" y="484356"/>
                  <a:pt x="877078" y="967215"/>
                  <a:pt x="1688841" y="971880"/>
                </a:cubicBezTo>
                <a:cubicBezTo>
                  <a:pt x="2500604" y="976545"/>
                  <a:pt x="3674707" y="-199111"/>
                  <a:pt x="4870580" y="29489"/>
                </a:cubicBezTo>
                <a:cubicBezTo>
                  <a:pt x="6066453" y="258089"/>
                  <a:pt x="7465267" y="1300784"/>
                  <a:pt x="8864082" y="2343480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Box 7"/>
          <p:cNvSpPr/>
          <p:nvPr/>
        </p:nvSpPr>
        <p:spPr>
          <a:xfrm>
            <a:off x="2274120" y="250524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新春绿简洁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Box 4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Freeform 3"/>
          <p:cNvSpPr/>
          <p:nvPr/>
        </p:nvSpPr>
        <p:spPr>
          <a:xfrm>
            <a:off x="5415120" y="2992320"/>
            <a:ext cx="1628640" cy="700200"/>
          </a:xfrm>
          <a:custGeom>
            <a:avLst/>
            <a:gdLst/>
            <a:ahLst/>
            <a:rect l="l" t="t" r="r" b="b"/>
            <a:pathLst>
              <a:path w="2061" h="1556">
                <a:moveTo>
                  <a:pt x="0" y="1544"/>
                </a:moveTo>
                <a:lnTo>
                  <a:pt x="112" y="1555"/>
                </a:lnTo>
                <a:lnTo>
                  <a:pt x="170" y="1555"/>
                </a:lnTo>
                <a:lnTo>
                  <a:pt x="237" y="1555"/>
                </a:lnTo>
                <a:lnTo>
                  <a:pt x="300" y="1551"/>
                </a:lnTo>
                <a:lnTo>
                  <a:pt x="365" y="1544"/>
                </a:lnTo>
                <a:lnTo>
                  <a:pt x="427" y="1533"/>
                </a:lnTo>
                <a:lnTo>
                  <a:pt x="484" y="1519"/>
                </a:lnTo>
                <a:lnTo>
                  <a:pt x="547" y="1501"/>
                </a:lnTo>
                <a:lnTo>
                  <a:pt x="622" y="1472"/>
                </a:lnTo>
                <a:lnTo>
                  <a:pt x="689" y="1439"/>
                </a:lnTo>
                <a:lnTo>
                  <a:pt x="754" y="1410"/>
                </a:lnTo>
                <a:lnTo>
                  <a:pt x="824" y="1371"/>
                </a:lnTo>
                <a:lnTo>
                  <a:pt x="891" y="1324"/>
                </a:lnTo>
                <a:lnTo>
                  <a:pt x="959" y="1280"/>
                </a:lnTo>
                <a:lnTo>
                  <a:pt x="1016" y="1233"/>
                </a:lnTo>
                <a:lnTo>
                  <a:pt x="1081" y="1190"/>
                </a:lnTo>
                <a:lnTo>
                  <a:pt x="1134" y="1143"/>
                </a:lnTo>
                <a:lnTo>
                  <a:pt x="1194" y="1092"/>
                </a:lnTo>
                <a:lnTo>
                  <a:pt x="1253" y="1041"/>
                </a:lnTo>
                <a:lnTo>
                  <a:pt x="1313" y="980"/>
                </a:lnTo>
                <a:lnTo>
                  <a:pt x="1366" y="929"/>
                </a:lnTo>
                <a:lnTo>
                  <a:pt x="1423" y="861"/>
                </a:lnTo>
                <a:lnTo>
                  <a:pt x="1476" y="799"/>
                </a:lnTo>
                <a:lnTo>
                  <a:pt x="1523" y="734"/>
                </a:lnTo>
                <a:lnTo>
                  <a:pt x="1566" y="665"/>
                </a:lnTo>
                <a:lnTo>
                  <a:pt x="1598" y="608"/>
                </a:lnTo>
                <a:lnTo>
                  <a:pt x="1626" y="546"/>
                </a:lnTo>
                <a:lnTo>
                  <a:pt x="2060" y="629"/>
                </a:lnTo>
                <a:lnTo>
                  <a:pt x="1993" y="586"/>
                </a:lnTo>
                <a:lnTo>
                  <a:pt x="1940" y="546"/>
                </a:lnTo>
                <a:lnTo>
                  <a:pt x="1875" y="506"/>
                </a:lnTo>
                <a:lnTo>
                  <a:pt x="1828" y="467"/>
                </a:lnTo>
                <a:lnTo>
                  <a:pt x="1785" y="427"/>
                </a:lnTo>
                <a:lnTo>
                  <a:pt x="1748" y="398"/>
                </a:lnTo>
                <a:lnTo>
                  <a:pt x="1713" y="354"/>
                </a:lnTo>
                <a:lnTo>
                  <a:pt x="1675" y="318"/>
                </a:lnTo>
                <a:lnTo>
                  <a:pt x="1638" y="275"/>
                </a:lnTo>
                <a:lnTo>
                  <a:pt x="1596" y="221"/>
                </a:lnTo>
                <a:lnTo>
                  <a:pt x="1551" y="166"/>
                </a:lnTo>
                <a:lnTo>
                  <a:pt x="1513" y="112"/>
                </a:lnTo>
                <a:lnTo>
                  <a:pt x="1473" y="51"/>
                </a:lnTo>
                <a:lnTo>
                  <a:pt x="1441" y="0"/>
                </a:lnTo>
                <a:lnTo>
                  <a:pt x="1408" y="18"/>
                </a:lnTo>
                <a:lnTo>
                  <a:pt x="1373" y="47"/>
                </a:lnTo>
                <a:lnTo>
                  <a:pt x="1338" y="72"/>
                </a:lnTo>
                <a:lnTo>
                  <a:pt x="1296" y="98"/>
                </a:lnTo>
                <a:lnTo>
                  <a:pt x="1251" y="127"/>
                </a:lnTo>
                <a:lnTo>
                  <a:pt x="1211" y="145"/>
                </a:lnTo>
                <a:lnTo>
                  <a:pt x="1174" y="163"/>
                </a:lnTo>
                <a:lnTo>
                  <a:pt x="1129" y="184"/>
                </a:lnTo>
                <a:lnTo>
                  <a:pt x="1084" y="199"/>
                </a:lnTo>
                <a:lnTo>
                  <a:pt x="1034" y="221"/>
                </a:lnTo>
                <a:lnTo>
                  <a:pt x="991" y="235"/>
                </a:lnTo>
                <a:lnTo>
                  <a:pt x="949" y="253"/>
                </a:lnTo>
                <a:lnTo>
                  <a:pt x="901" y="264"/>
                </a:lnTo>
                <a:lnTo>
                  <a:pt x="859" y="278"/>
                </a:lnTo>
                <a:lnTo>
                  <a:pt x="817" y="293"/>
                </a:lnTo>
                <a:lnTo>
                  <a:pt x="769" y="307"/>
                </a:lnTo>
                <a:lnTo>
                  <a:pt x="704" y="318"/>
                </a:lnTo>
                <a:lnTo>
                  <a:pt x="1154" y="438"/>
                </a:lnTo>
                <a:lnTo>
                  <a:pt x="1124" y="528"/>
                </a:lnTo>
                <a:lnTo>
                  <a:pt x="1089" y="597"/>
                </a:lnTo>
                <a:lnTo>
                  <a:pt x="1024" y="720"/>
                </a:lnTo>
                <a:lnTo>
                  <a:pt x="986" y="781"/>
                </a:lnTo>
                <a:lnTo>
                  <a:pt x="949" y="839"/>
                </a:lnTo>
                <a:lnTo>
                  <a:pt x="881" y="933"/>
                </a:lnTo>
                <a:lnTo>
                  <a:pt x="839" y="991"/>
                </a:lnTo>
                <a:lnTo>
                  <a:pt x="792" y="1060"/>
                </a:lnTo>
                <a:lnTo>
                  <a:pt x="747" y="1110"/>
                </a:lnTo>
                <a:lnTo>
                  <a:pt x="709" y="1154"/>
                </a:lnTo>
                <a:lnTo>
                  <a:pt x="672" y="1201"/>
                </a:lnTo>
                <a:lnTo>
                  <a:pt x="627" y="1244"/>
                </a:lnTo>
                <a:lnTo>
                  <a:pt x="577" y="1291"/>
                </a:lnTo>
                <a:lnTo>
                  <a:pt x="529" y="1324"/>
                </a:lnTo>
                <a:lnTo>
                  <a:pt x="479" y="1363"/>
                </a:lnTo>
                <a:lnTo>
                  <a:pt x="419" y="1400"/>
                </a:lnTo>
                <a:lnTo>
                  <a:pt x="365" y="1425"/>
                </a:lnTo>
                <a:lnTo>
                  <a:pt x="300" y="1450"/>
                </a:lnTo>
                <a:lnTo>
                  <a:pt x="240" y="1472"/>
                </a:lnTo>
                <a:lnTo>
                  <a:pt x="177" y="1494"/>
                </a:lnTo>
                <a:lnTo>
                  <a:pt x="107" y="1515"/>
                </a:lnTo>
                <a:lnTo>
                  <a:pt x="0" y="1544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4"/>
          <p:cNvSpPr/>
          <p:nvPr/>
        </p:nvSpPr>
        <p:spPr>
          <a:xfrm>
            <a:off x="5319720" y="4299120"/>
            <a:ext cx="1630440" cy="674640"/>
          </a:xfrm>
          <a:custGeom>
            <a:avLst/>
            <a:gdLst/>
            <a:ahLst/>
            <a:rect l="l" t="t" r="r" b="b"/>
            <a:pathLst>
              <a:path w="2063" h="1497">
                <a:moveTo>
                  <a:pt x="0" y="11"/>
                </a:moveTo>
                <a:lnTo>
                  <a:pt x="115" y="0"/>
                </a:lnTo>
                <a:lnTo>
                  <a:pt x="170" y="0"/>
                </a:lnTo>
                <a:lnTo>
                  <a:pt x="237" y="0"/>
                </a:lnTo>
                <a:lnTo>
                  <a:pt x="302" y="7"/>
                </a:lnTo>
                <a:lnTo>
                  <a:pt x="364" y="11"/>
                </a:lnTo>
                <a:lnTo>
                  <a:pt x="429" y="22"/>
                </a:lnTo>
                <a:lnTo>
                  <a:pt x="484" y="40"/>
                </a:lnTo>
                <a:lnTo>
                  <a:pt x="549" y="54"/>
                </a:lnTo>
                <a:lnTo>
                  <a:pt x="624" y="83"/>
                </a:lnTo>
                <a:lnTo>
                  <a:pt x="691" y="116"/>
                </a:lnTo>
                <a:lnTo>
                  <a:pt x="754" y="141"/>
                </a:lnTo>
                <a:lnTo>
                  <a:pt x="826" y="181"/>
                </a:lnTo>
                <a:lnTo>
                  <a:pt x="894" y="224"/>
                </a:lnTo>
                <a:lnTo>
                  <a:pt x="961" y="267"/>
                </a:lnTo>
                <a:lnTo>
                  <a:pt x="1016" y="311"/>
                </a:lnTo>
                <a:lnTo>
                  <a:pt x="1081" y="354"/>
                </a:lnTo>
                <a:lnTo>
                  <a:pt x="1136" y="397"/>
                </a:lnTo>
                <a:lnTo>
                  <a:pt x="1196" y="444"/>
                </a:lnTo>
                <a:lnTo>
                  <a:pt x="1256" y="495"/>
                </a:lnTo>
                <a:lnTo>
                  <a:pt x="1316" y="553"/>
                </a:lnTo>
                <a:lnTo>
                  <a:pt x="1368" y="603"/>
                </a:lnTo>
                <a:lnTo>
                  <a:pt x="1423" y="669"/>
                </a:lnTo>
                <a:lnTo>
                  <a:pt x="1475" y="726"/>
                </a:lnTo>
                <a:lnTo>
                  <a:pt x="1525" y="788"/>
                </a:lnTo>
                <a:lnTo>
                  <a:pt x="1565" y="853"/>
                </a:lnTo>
                <a:lnTo>
                  <a:pt x="1600" y="911"/>
                </a:lnTo>
                <a:lnTo>
                  <a:pt x="1625" y="968"/>
                </a:lnTo>
                <a:lnTo>
                  <a:pt x="2062" y="889"/>
                </a:lnTo>
                <a:lnTo>
                  <a:pt x="2000" y="932"/>
                </a:lnTo>
                <a:lnTo>
                  <a:pt x="1930" y="976"/>
                </a:lnTo>
                <a:lnTo>
                  <a:pt x="1872" y="1012"/>
                </a:lnTo>
                <a:lnTo>
                  <a:pt x="1830" y="1041"/>
                </a:lnTo>
                <a:lnTo>
                  <a:pt x="1782" y="1077"/>
                </a:lnTo>
                <a:lnTo>
                  <a:pt x="1745" y="1109"/>
                </a:lnTo>
                <a:lnTo>
                  <a:pt x="1710" y="1145"/>
                </a:lnTo>
                <a:lnTo>
                  <a:pt x="1673" y="1189"/>
                </a:lnTo>
                <a:lnTo>
                  <a:pt x="1638" y="1229"/>
                </a:lnTo>
                <a:lnTo>
                  <a:pt x="1595" y="1283"/>
                </a:lnTo>
                <a:lnTo>
                  <a:pt x="1555" y="1337"/>
                </a:lnTo>
                <a:lnTo>
                  <a:pt x="1518" y="1384"/>
                </a:lnTo>
                <a:lnTo>
                  <a:pt x="1475" y="1445"/>
                </a:lnTo>
                <a:lnTo>
                  <a:pt x="1443" y="1496"/>
                </a:lnTo>
                <a:lnTo>
                  <a:pt x="1408" y="1474"/>
                </a:lnTo>
                <a:lnTo>
                  <a:pt x="1375" y="1445"/>
                </a:lnTo>
                <a:lnTo>
                  <a:pt x="1338" y="1424"/>
                </a:lnTo>
                <a:lnTo>
                  <a:pt x="1296" y="1398"/>
                </a:lnTo>
                <a:lnTo>
                  <a:pt x="1253" y="1373"/>
                </a:lnTo>
                <a:lnTo>
                  <a:pt x="1213" y="1351"/>
                </a:lnTo>
                <a:lnTo>
                  <a:pt x="1173" y="1337"/>
                </a:lnTo>
                <a:lnTo>
                  <a:pt x="1131" y="1315"/>
                </a:lnTo>
                <a:lnTo>
                  <a:pt x="1083" y="1301"/>
                </a:lnTo>
                <a:lnTo>
                  <a:pt x="1036" y="1283"/>
                </a:lnTo>
                <a:lnTo>
                  <a:pt x="991" y="1265"/>
                </a:lnTo>
                <a:lnTo>
                  <a:pt x="949" y="1250"/>
                </a:lnTo>
                <a:lnTo>
                  <a:pt x="904" y="1239"/>
                </a:lnTo>
                <a:lnTo>
                  <a:pt x="859" y="1225"/>
                </a:lnTo>
                <a:lnTo>
                  <a:pt x="819" y="1211"/>
                </a:lnTo>
                <a:lnTo>
                  <a:pt x="769" y="1196"/>
                </a:lnTo>
                <a:lnTo>
                  <a:pt x="704" y="1185"/>
                </a:lnTo>
                <a:lnTo>
                  <a:pt x="1153" y="1073"/>
                </a:lnTo>
                <a:lnTo>
                  <a:pt x="1123" y="986"/>
                </a:lnTo>
                <a:lnTo>
                  <a:pt x="1088" y="921"/>
                </a:lnTo>
                <a:lnTo>
                  <a:pt x="1024" y="799"/>
                </a:lnTo>
                <a:lnTo>
                  <a:pt x="986" y="744"/>
                </a:lnTo>
                <a:lnTo>
                  <a:pt x="949" y="690"/>
                </a:lnTo>
                <a:lnTo>
                  <a:pt x="881" y="596"/>
                </a:lnTo>
                <a:lnTo>
                  <a:pt x="841" y="542"/>
                </a:lnTo>
                <a:lnTo>
                  <a:pt x="791" y="477"/>
                </a:lnTo>
                <a:lnTo>
                  <a:pt x="746" y="430"/>
                </a:lnTo>
                <a:lnTo>
                  <a:pt x="709" y="387"/>
                </a:lnTo>
                <a:lnTo>
                  <a:pt x="672" y="343"/>
                </a:lnTo>
                <a:lnTo>
                  <a:pt x="627" y="300"/>
                </a:lnTo>
                <a:lnTo>
                  <a:pt x="579" y="257"/>
                </a:lnTo>
                <a:lnTo>
                  <a:pt x="529" y="224"/>
                </a:lnTo>
                <a:lnTo>
                  <a:pt x="482" y="184"/>
                </a:lnTo>
                <a:lnTo>
                  <a:pt x="422" y="152"/>
                </a:lnTo>
                <a:lnTo>
                  <a:pt x="364" y="126"/>
                </a:lnTo>
                <a:lnTo>
                  <a:pt x="302" y="105"/>
                </a:lnTo>
                <a:lnTo>
                  <a:pt x="242" y="83"/>
                </a:lnTo>
                <a:lnTo>
                  <a:pt x="177" y="61"/>
                </a:lnTo>
                <a:lnTo>
                  <a:pt x="110" y="43"/>
                </a:lnTo>
                <a:lnTo>
                  <a:pt x="0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5"/>
          <p:cNvSpPr/>
          <p:nvPr/>
        </p:nvSpPr>
        <p:spPr>
          <a:xfrm>
            <a:off x="2517840" y="4246560"/>
            <a:ext cx="1628640" cy="701640"/>
          </a:xfrm>
          <a:custGeom>
            <a:avLst/>
            <a:gdLst/>
            <a:ahLst/>
            <a:rect l="l" t="t" r="r" b="b"/>
            <a:pathLst>
              <a:path w="2063" h="1556">
                <a:moveTo>
                  <a:pt x="2062" y="11"/>
                </a:moveTo>
                <a:lnTo>
                  <a:pt x="1947" y="0"/>
                </a:lnTo>
                <a:lnTo>
                  <a:pt x="1892" y="0"/>
                </a:lnTo>
                <a:lnTo>
                  <a:pt x="1825" y="0"/>
                </a:lnTo>
                <a:lnTo>
                  <a:pt x="1760" y="7"/>
                </a:lnTo>
                <a:lnTo>
                  <a:pt x="1698" y="11"/>
                </a:lnTo>
                <a:lnTo>
                  <a:pt x="1633" y="22"/>
                </a:lnTo>
                <a:lnTo>
                  <a:pt x="1578" y="40"/>
                </a:lnTo>
                <a:lnTo>
                  <a:pt x="1513" y="58"/>
                </a:lnTo>
                <a:lnTo>
                  <a:pt x="1438" y="83"/>
                </a:lnTo>
                <a:lnTo>
                  <a:pt x="1371" y="119"/>
                </a:lnTo>
                <a:lnTo>
                  <a:pt x="1308" y="148"/>
                </a:lnTo>
                <a:lnTo>
                  <a:pt x="1236" y="188"/>
                </a:lnTo>
                <a:lnTo>
                  <a:pt x="1168" y="231"/>
                </a:lnTo>
                <a:lnTo>
                  <a:pt x="1101" y="278"/>
                </a:lnTo>
                <a:lnTo>
                  <a:pt x="1046" y="322"/>
                </a:lnTo>
                <a:lnTo>
                  <a:pt x="981" y="369"/>
                </a:lnTo>
                <a:lnTo>
                  <a:pt x="926" y="412"/>
                </a:lnTo>
                <a:lnTo>
                  <a:pt x="866" y="463"/>
                </a:lnTo>
                <a:lnTo>
                  <a:pt x="806" y="514"/>
                </a:lnTo>
                <a:lnTo>
                  <a:pt x="746" y="579"/>
                </a:lnTo>
                <a:lnTo>
                  <a:pt x="694" y="629"/>
                </a:lnTo>
                <a:lnTo>
                  <a:pt x="639" y="698"/>
                </a:lnTo>
                <a:lnTo>
                  <a:pt x="587" y="759"/>
                </a:lnTo>
                <a:lnTo>
                  <a:pt x="537" y="825"/>
                </a:lnTo>
                <a:lnTo>
                  <a:pt x="497" y="893"/>
                </a:lnTo>
                <a:lnTo>
                  <a:pt x="462" y="947"/>
                </a:lnTo>
                <a:lnTo>
                  <a:pt x="437" y="1013"/>
                </a:lnTo>
                <a:lnTo>
                  <a:pt x="0" y="929"/>
                </a:lnTo>
                <a:lnTo>
                  <a:pt x="70" y="973"/>
                </a:lnTo>
                <a:lnTo>
                  <a:pt x="122" y="1013"/>
                </a:lnTo>
                <a:lnTo>
                  <a:pt x="185" y="1052"/>
                </a:lnTo>
                <a:lnTo>
                  <a:pt x="232" y="1092"/>
                </a:lnTo>
                <a:lnTo>
                  <a:pt x="275" y="1128"/>
                </a:lnTo>
                <a:lnTo>
                  <a:pt x="312" y="1157"/>
                </a:lnTo>
                <a:lnTo>
                  <a:pt x="349" y="1201"/>
                </a:lnTo>
                <a:lnTo>
                  <a:pt x="384" y="1240"/>
                </a:lnTo>
                <a:lnTo>
                  <a:pt x="424" y="1284"/>
                </a:lnTo>
                <a:lnTo>
                  <a:pt x="467" y="1338"/>
                </a:lnTo>
                <a:lnTo>
                  <a:pt x="512" y="1392"/>
                </a:lnTo>
                <a:lnTo>
                  <a:pt x="549" y="1447"/>
                </a:lnTo>
                <a:lnTo>
                  <a:pt x="589" y="1504"/>
                </a:lnTo>
                <a:lnTo>
                  <a:pt x="619" y="1555"/>
                </a:lnTo>
                <a:lnTo>
                  <a:pt x="654" y="1537"/>
                </a:lnTo>
                <a:lnTo>
                  <a:pt x="687" y="1508"/>
                </a:lnTo>
                <a:lnTo>
                  <a:pt x="724" y="1486"/>
                </a:lnTo>
                <a:lnTo>
                  <a:pt x="766" y="1457"/>
                </a:lnTo>
                <a:lnTo>
                  <a:pt x="809" y="1432"/>
                </a:lnTo>
                <a:lnTo>
                  <a:pt x="849" y="1410"/>
                </a:lnTo>
                <a:lnTo>
                  <a:pt x="889" y="1396"/>
                </a:lnTo>
                <a:lnTo>
                  <a:pt x="931" y="1374"/>
                </a:lnTo>
                <a:lnTo>
                  <a:pt x="979" y="1356"/>
                </a:lnTo>
                <a:lnTo>
                  <a:pt x="1026" y="1338"/>
                </a:lnTo>
                <a:lnTo>
                  <a:pt x="1071" y="1320"/>
                </a:lnTo>
                <a:lnTo>
                  <a:pt x="1113" y="1305"/>
                </a:lnTo>
                <a:lnTo>
                  <a:pt x="1158" y="1291"/>
                </a:lnTo>
                <a:lnTo>
                  <a:pt x="1203" y="1277"/>
                </a:lnTo>
                <a:lnTo>
                  <a:pt x="1243" y="1266"/>
                </a:lnTo>
                <a:lnTo>
                  <a:pt x="1293" y="1248"/>
                </a:lnTo>
                <a:lnTo>
                  <a:pt x="1356" y="1237"/>
                </a:lnTo>
                <a:lnTo>
                  <a:pt x="909" y="1117"/>
                </a:lnTo>
                <a:lnTo>
                  <a:pt x="939" y="1027"/>
                </a:lnTo>
                <a:lnTo>
                  <a:pt x="974" y="962"/>
                </a:lnTo>
                <a:lnTo>
                  <a:pt x="1038" y="835"/>
                </a:lnTo>
                <a:lnTo>
                  <a:pt x="1076" y="774"/>
                </a:lnTo>
                <a:lnTo>
                  <a:pt x="1113" y="720"/>
                </a:lnTo>
                <a:lnTo>
                  <a:pt x="1181" y="622"/>
                </a:lnTo>
                <a:lnTo>
                  <a:pt x="1221" y="568"/>
                </a:lnTo>
                <a:lnTo>
                  <a:pt x="1271" y="499"/>
                </a:lnTo>
                <a:lnTo>
                  <a:pt x="1316" y="448"/>
                </a:lnTo>
                <a:lnTo>
                  <a:pt x="1353" y="401"/>
                </a:lnTo>
                <a:lnTo>
                  <a:pt x="1390" y="358"/>
                </a:lnTo>
                <a:lnTo>
                  <a:pt x="1435" y="311"/>
                </a:lnTo>
                <a:lnTo>
                  <a:pt x="1483" y="268"/>
                </a:lnTo>
                <a:lnTo>
                  <a:pt x="1533" y="231"/>
                </a:lnTo>
                <a:lnTo>
                  <a:pt x="1580" y="192"/>
                </a:lnTo>
                <a:lnTo>
                  <a:pt x="1640" y="159"/>
                </a:lnTo>
                <a:lnTo>
                  <a:pt x="1698" y="130"/>
                </a:lnTo>
                <a:lnTo>
                  <a:pt x="1760" y="108"/>
                </a:lnTo>
                <a:lnTo>
                  <a:pt x="1820" y="83"/>
                </a:lnTo>
                <a:lnTo>
                  <a:pt x="1885" y="61"/>
                </a:lnTo>
                <a:lnTo>
                  <a:pt x="1952" y="43"/>
                </a:lnTo>
                <a:lnTo>
                  <a:pt x="2062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6"/>
          <p:cNvSpPr/>
          <p:nvPr/>
        </p:nvSpPr>
        <p:spPr>
          <a:xfrm>
            <a:off x="2521080" y="2981160"/>
            <a:ext cx="1630080" cy="675000"/>
          </a:xfrm>
          <a:custGeom>
            <a:avLst/>
            <a:gdLst/>
            <a:ahLst/>
            <a:rect l="l" t="t" r="r" b="b"/>
            <a:pathLst>
              <a:path w="2061" h="1497">
                <a:moveTo>
                  <a:pt x="2060" y="1482"/>
                </a:moveTo>
                <a:lnTo>
                  <a:pt x="1945" y="1496"/>
                </a:lnTo>
                <a:lnTo>
                  <a:pt x="1890" y="1496"/>
                </a:lnTo>
                <a:lnTo>
                  <a:pt x="1823" y="1496"/>
                </a:lnTo>
                <a:lnTo>
                  <a:pt x="1760" y="1489"/>
                </a:lnTo>
                <a:lnTo>
                  <a:pt x="1695" y="1482"/>
                </a:lnTo>
                <a:lnTo>
                  <a:pt x="1633" y="1471"/>
                </a:lnTo>
                <a:lnTo>
                  <a:pt x="1576" y="1456"/>
                </a:lnTo>
                <a:lnTo>
                  <a:pt x="1513" y="1442"/>
                </a:lnTo>
                <a:lnTo>
                  <a:pt x="1438" y="1413"/>
                </a:lnTo>
                <a:lnTo>
                  <a:pt x="1371" y="1380"/>
                </a:lnTo>
                <a:lnTo>
                  <a:pt x="1306" y="1355"/>
                </a:lnTo>
                <a:lnTo>
                  <a:pt x="1236" y="1315"/>
                </a:lnTo>
                <a:lnTo>
                  <a:pt x="1169" y="1272"/>
                </a:lnTo>
                <a:lnTo>
                  <a:pt x="1101" y="1229"/>
                </a:lnTo>
                <a:lnTo>
                  <a:pt x="1044" y="1185"/>
                </a:lnTo>
                <a:lnTo>
                  <a:pt x="981" y="1142"/>
                </a:lnTo>
                <a:lnTo>
                  <a:pt x="926" y="1099"/>
                </a:lnTo>
                <a:lnTo>
                  <a:pt x="866" y="1052"/>
                </a:lnTo>
                <a:lnTo>
                  <a:pt x="807" y="1001"/>
                </a:lnTo>
                <a:lnTo>
                  <a:pt x="747" y="943"/>
                </a:lnTo>
                <a:lnTo>
                  <a:pt x="694" y="893"/>
                </a:lnTo>
                <a:lnTo>
                  <a:pt x="637" y="827"/>
                </a:lnTo>
                <a:lnTo>
                  <a:pt x="584" y="770"/>
                </a:lnTo>
                <a:lnTo>
                  <a:pt x="537" y="708"/>
                </a:lnTo>
                <a:lnTo>
                  <a:pt x="494" y="643"/>
                </a:lnTo>
                <a:lnTo>
                  <a:pt x="462" y="585"/>
                </a:lnTo>
                <a:lnTo>
                  <a:pt x="434" y="528"/>
                </a:lnTo>
                <a:lnTo>
                  <a:pt x="0" y="611"/>
                </a:lnTo>
                <a:lnTo>
                  <a:pt x="60" y="564"/>
                </a:lnTo>
                <a:lnTo>
                  <a:pt x="132" y="520"/>
                </a:lnTo>
                <a:lnTo>
                  <a:pt x="187" y="484"/>
                </a:lnTo>
                <a:lnTo>
                  <a:pt x="232" y="455"/>
                </a:lnTo>
                <a:lnTo>
                  <a:pt x="277" y="419"/>
                </a:lnTo>
                <a:lnTo>
                  <a:pt x="315" y="387"/>
                </a:lnTo>
                <a:lnTo>
                  <a:pt x="352" y="351"/>
                </a:lnTo>
                <a:lnTo>
                  <a:pt x="385" y="307"/>
                </a:lnTo>
                <a:lnTo>
                  <a:pt x="422" y="267"/>
                </a:lnTo>
                <a:lnTo>
                  <a:pt x="464" y="213"/>
                </a:lnTo>
                <a:lnTo>
                  <a:pt x="507" y="159"/>
                </a:lnTo>
                <a:lnTo>
                  <a:pt x="544" y="112"/>
                </a:lnTo>
                <a:lnTo>
                  <a:pt x="587" y="54"/>
                </a:lnTo>
                <a:lnTo>
                  <a:pt x="619" y="0"/>
                </a:lnTo>
                <a:lnTo>
                  <a:pt x="652" y="22"/>
                </a:lnTo>
                <a:lnTo>
                  <a:pt x="687" y="51"/>
                </a:lnTo>
                <a:lnTo>
                  <a:pt x="722" y="72"/>
                </a:lnTo>
                <a:lnTo>
                  <a:pt x="764" y="98"/>
                </a:lnTo>
                <a:lnTo>
                  <a:pt x="809" y="123"/>
                </a:lnTo>
                <a:lnTo>
                  <a:pt x="849" y="145"/>
                </a:lnTo>
                <a:lnTo>
                  <a:pt x="886" y="159"/>
                </a:lnTo>
                <a:lnTo>
                  <a:pt x="931" y="181"/>
                </a:lnTo>
                <a:lnTo>
                  <a:pt x="979" y="195"/>
                </a:lnTo>
                <a:lnTo>
                  <a:pt x="1026" y="213"/>
                </a:lnTo>
                <a:lnTo>
                  <a:pt x="1069" y="231"/>
                </a:lnTo>
                <a:lnTo>
                  <a:pt x="1111" y="246"/>
                </a:lnTo>
                <a:lnTo>
                  <a:pt x="1159" y="257"/>
                </a:lnTo>
                <a:lnTo>
                  <a:pt x="1201" y="271"/>
                </a:lnTo>
                <a:lnTo>
                  <a:pt x="1243" y="285"/>
                </a:lnTo>
                <a:lnTo>
                  <a:pt x="1291" y="300"/>
                </a:lnTo>
                <a:lnTo>
                  <a:pt x="1358" y="311"/>
                </a:lnTo>
                <a:lnTo>
                  <a:pt x="906" y="423"/>
                </a:lnTo>
                <a:lnTo>
                  <a:pt x="936" y="510"/>
                </a:lnTo>
                <a:lnTo>
                  <a:pt x="974" y="575"/>
                </a:lnTo>
                <a:lnTo>
                  <a:pt x="1036" y="697"/>
                </a:lnTo>
                <a:lnTo>
                  <a:pt x="1074" y="752"/>
                </a:lnTo>
                <a:lnTo>
                  <a:pt x="1111" y="806"/>
                </a:lnTo>
                <a:lnTo>
                  <a:pt x="1179" y="900"/>
                </a:lnTo>
                <a:lnTo>
                  <a:pt x="1221" y="954"/>
                </a:lnTo>
                <a:lnTo>
                  <a:pt x="1268" y="1019"/>
                </a:lnTo>
                <a:lnTo>
                  <a:pt x="1313" y="1066"/>
                </a:lnTo>
                <a:lnTo>
                  <a:pt x="1351" y="1109"/>
                </a:lnTo>
                <a:lnTo>
                  <a:pt x="1388" y="1153"/>
                </a:lnTo>
                <a:lnTo>
                  <a:pt x="1433" y="1196"/>
                </a:lnTo>
                <a:lnTo>
                  <a:pt x="1483" y="1239"/>
                </a:lnTo>
                <a:lnTo>
                  <a:pt x="1531" y="1272"/>
                </a:lnTo>
                <a:lnTo>
                  <a:pt x="1581" y="1312"/>
                </a:lnTo>
                <a:lnTo>
                  <a:pt x="1641" y="1344"/>
                </a:lnTo>
                <a:lnTo>
                  <a:pt x="1695" y="1370"/>
                </a:lnTo>
                <a:lnTo>
                  <a:pt x="1760" y="1391"/>
                </a:lnTo>
                <a:lnTo>
                  <a:pt x="1820" y="1413"/>
                </a:lnTo>
                <a:lnTo>
                  <a:pt x="1883" y="1435"/>
                </a:lnTo>
                <a:lnTo>
                  <a:pt x="1950" y="1453"/>
                </a:lnTo>
                <a:lnTo>
                  <a:pt x="2060" y="1482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3139920" y="3021120"/>
            <a:ext cx="3189600" cy="1812960"/>
          </a:xfrm>
          <a:prstGeom prst="octagon">
            <a:avLst>
              <a:gd name="adj" fmla="val 2928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AutoShape 8"/>
          <p:cNvSpPr/>
          <p:nvPr/>
        </p:nvSpPr>
        <p:spPr>
          <a:xfrm>
            <a:off x="159876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AutoShape 9"/>
          <p:cNvSpPr/>
          <p:nvPr/>
        </p:nvSpPr>
        <p:spPr>
          <a:xfrm>
            <a:off x="494352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AutoShape 10"/>
          <p:cNvSpPr/>
          <p:nvPr/>
        </p:nvSpPr>
        <p:spPr>
          <a:xfrm>
            <a:off x="159876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11"/>
          <p:cNvSpPr/>
          <p:nvPr/>
        </p:nvSpPr>
        <p:spPr>
          <a:xfrm>
            <a:off x="494352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15"/>
          <p:cNvSpPr/>
          <p:nvPr/>
        </p:nvSpPr>
        <p:spPr>
          <a:xfrm>
            <a:off x="262656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16"/>
          <p:cNvSpPr/>
          <p:nvPr/>
        </p:nvSpPr>
        <p:spPr>
          <a:xfrm>
            <a:off x="597168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17"/>
          <p:cNvSpPr/>
          <p:nvPr/>
        </p:nvSpPr>
        <p:spPr>
          <a:xfrm>
            <a:off x="59493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8"/>
          <p:cNvSpPr/>
          <p:nvPr/>
        </p:nvSpPr>
        <p:spPr>
          <a:xfrm>
            <a:off x="26265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19"/>
          <p:cNvSpPr/>
          <p:nvPr/>
        </p:nvSpPr>
        <p:spPr>
          <a:xfrm>
            <a:off x="4338720" y="374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AutoShape 3"/>
          <p:cNvSpPr/>
          <p:nvPr/>
        </p:nvSpPr>
        <p:spPr>
          <a:xfrm>
            <a:off x="1401840" y="2060640"/>
            <a:ext cx="3763800" cy="398448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2684520" y="2119320"/>
            <a:ext cx="2954160" cy="568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1901880" y="2225520"/>
            <a:ext cx="716040" cy="37656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3422520" y="2890800"/>
            <a:ext cx="295452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4124160" y="3608280"/>
            <a:ext cx="2955960" cy="5698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4815000" y="4349880"/>
            <a:ext cx="295416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5505480" y="5089680"/>
            <a:ext cx="2954160" cy="568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2612880" y="2987640"/>
            <a:ext cx="723960" cy="380880"/>
          </a:xfrm>
          <a:prstGeom prst="rightArrow">
            <a:avLst>
              <a:gd name="adj1" fmla="val 50000"/>
              <a:gd name="adj2" fmla="val 6452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3314880" y="3703680"/>
            <a:ext cx="723600" cy="38268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AutoShape 12"/>
          <p:cNvSpPr/>
          <p:nvPr/>
        </p:nvSpPr>
        <p:spPr>
          <a:xfrm>
            <a:off x="4002120" y="4444920"/>
            <a:ext cx="725400" cy="379440"/>
          </a:xfrm>
          <a:prstGeom prst="rightArrow">
            <a:avLst>
              <a:gd name="adj1" fmla="val 50000"/>
              <a:gd name="adj2" fmla="val 64398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4702320" y="5184720"/>
            <a:ext cx="712800" cy="376200"/>
          </a:xfrm>
          <a:prstGeom prst="rightArrow">
            <a:avLst>
              <a:gd name="adj1" fmla="val 50000"/>
              <a:gd name="adj2" fmla="val 64184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7"/>
          <p:cNvSpPr/>
          <p:nvPr/>
        </p:nvSpPr>
        <p:spPr>
          <a:xfrm>
            <a:off x="3522600" y="2219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16"/>
          <p:cNvSpPr/>
          <p:nvPr/>
        </p:nvSpPr>
        <p:spPr>
          <a:xfrm>
            <a:off x="4963320" y="3718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17"/>
          <p:cNvSpPr/>
          <p:nvPr/>
        </p:nvSpPr>
        <p:spPr>
          <a:xfrm>
            <a:off x="6440400" y="5191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18"/>
          <p:cNvSpPr/>
          <p:nvPr/>
        </p:nvSpPr>
        <p:spPr>
          <a:xfrm>
            <a:off x="4378320" y="2971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19"/>
          <p:cNvSpPr/>
          <p:nvPr/>
        </p:nvSpPr>
        <p:spPr>
          <a:xfrm>
            <a:off x="5653080" y="4446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20"/>
          <p:cNvSpPr/>
          <p:nvPr/>
        </p:nvSpPr>
        <p:spPr>
          <a:xfrm>
            <a:off x="1973880" y="4640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21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378000" y="64548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矩形 4"/>
          <p:cNvSpPr/>
          <p:nvPr/>
        </p:nvSpPr>
        <p:spPr>
          <a:xfrm>
            <a:off x="0" y="1989000"/>
            <a:ext cx="9144000" cy="1800360"/>
          </a:xfrm>
          <a:prstGeom prst="rect">
            <a:avLst/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任意多边形 5"/>
          <p:cNvSpPr/>
          <p:nvPr/>
        </p:nvSpPr>
        <p:spPr>
          <a:xfrm>
            <a:off x="-15840" y="4076640"/>
            <a:ext cx="9150480" cy="2062080"/>
          </a:xfrm>
          <a:custGeom>
            <a:avLst/>
            <a:gdLst/>
            <a:ahLst/>
            <a:rect l="l" t="t" r="r" b="b"/>
            <a:pathLst>
              <a:path w="9153330" h="2062065">
                <a:moveTo>
                  <a:pt x="0" y="0"/>
                </a:moveTo>
                <a:cubicBezTo>
                  <a:pt x="685022" y="307910"/>
                  <a:pt x="1370045" y="615820"/>
                  <a:pt x="2136710" y="727787"/>
                </a:cubicBezTo>
                <a:cubicBezTo>
                  <a:pt x="2903375" y="839754"/>
                  <a:pt x="3833327" y="524069"/>
                  <a:pt x="4599992" y="671804"/>
                </a:cubicBezTo>
                <a:cubicBezTo>
                  <a:pt x="5366657" y="819539"/>
                  <a:pt x="5977812" y="1382486"/>
                  <a:pt x="6736702" y="1614196"/>
                </a:cubicBezTo>
                <a:cubicBezTo>
                  <a:pt x="7495592" y="1845906"/>
                  <a:pt x="8324461" y="1953985"/>
                  <a:pt x="9153330" y="2062065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任意多边形 6"/>
          <p:cNvSpPr/>
          <p:nvPr/>
        </p:nvSpPr>
        <p:spPr>
          <a:xfrm>
            <a:off x="-25560" y="4505400"/>
            <a:ext cx="8861760" cy="2343240"/>
          </a:xfrm>
          <a:custGeom>
            <a:avLst/>
            <a:gdLst/>
            <a:ahLst/>
            <a:rect l="l" t="t" r="r" b="b"/>
            <a:pathLst>
              <a:path w="8864082" h="2343480">
                <a:moveTo>
                  <a:pt x="0" y="1497"/>
                </a:moveTo>
                <a:cubicBezTo>
                  <a:pt x="438539" y="484356"/>
                  <a:pt x="877078" y="967215"/>
                  <a:pt x="1688841" y="971880"/>
                </a:cubicBezTo>
                <a:cubicBezTo>
                  <a:pt x="2500604" y="976545"/>
                  <a:pt x="3674707" y="-199111"/>
                  <a:pt x="4870580" y="29489"/>
                </a:cubicBezTo>
                <a:cubicBezTo>
                  <a:pt x="6066453" y="258089"/>
                  <a:pt x="7465267" y="1300784"/>
                  <a:pt x="8864082" y="2343480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7"/>
          <p:cNvSpPr/>
          <p:nvPr/>
        </p:nvSpPr>
        <p:spPr>
          <a:xfrm>
            <a:off x="3764160" y="24271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欣赏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Box 1"/>
          <p:cNvSpPr/>
          <p:nvPr/>
        </p:nvSpPr>
        <p:spPr>
          <a:xfrm>
            <a:off x="2794320" y="1804680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51pp 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09:16:50Z</dcterms:created>
  <dc:creator>PPT STORE</dc:creator>
  <dc:description>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嫩绿 轻快 简洁 商务 PPT模板</cp:keywords>
  <dc:language>en-US</dc:language>
  <cp:lastModifiedBy>yu wang</cp:lastModifiedBy>
  <dcterms:modified xsi:type="dcterms:W3CDTF">2015-08-14T12:52:15Z</dcterms:modified>
  <cp:revision>12</cp:revision>
  <dc:subject>商务PPT模板</dc:subject>
  <dc:title>嫩绿轻快简洁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