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18B-0468-4B32-88B0-E3CAD632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B8C-D911-49E4-A68B-C73CC658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F4D-859A-4F30-8894-DA69AB65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440-5C71-4F96-83F9-BD70710C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E3D7-C707-458F-8189-76B8C606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D298-5B25-4B68-8553-CED3404D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2BA3-97A5-4427-A5DB-D64220A8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12D1-A35A-4A32-9E12-21C6440F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D5E1-29E6-4890-A34E-E1F8A9F9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A500-CE45-4CB4-900C-CDB0B2EA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A13F-3642-4AD1-B954-C7D8C808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2A4-DD8E-4C98-970D-4BB8D6B1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8F94-55FD-47FB-88B7-905DFE5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6291-BD23-476B-930C-FB2A11A4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781B-CE2D-4F22-BFDB-8CF2DE38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E05E-F005-4975-89EC-A3CA8F07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150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78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2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150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78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E0E2-7D18-430A-8ADD-43B88E7C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D2E1-114B-4299-A74A-817EA51C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E8F5-F4FB-485B-97B6-E82565A5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3489-595F-49EA-BD81-9F8444E8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A9EC-35B7-40F4-9201-7DFD0ED6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7DE9-527F-44A2-9A83-81C8E408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26A-31D3-4386-932C-0176E32A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8CB04-4F56-4DF9-B151-6DE1F321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E02B-8D5B-4B5A-A5DB-01C38816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29AE6-2A94-4E53-AF8E-A3CE0EC8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E62C-CAF5-4DD2-86BE-28D100D1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7D8B-3E95-47CD-B575-1278F61F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80AE-A5FA-4F68-A294-59EB7264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150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7880" y="53352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22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150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7880" y="3598200"/>
            <a:ext cx="282132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084E-2B55-49FA-B3AD-D6BCA9D1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938-84EB-4D52-B2B4-324B6D1B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70C-0A5D-4D7A-8052-1E92EF86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4C6-101D-4649-8F15-0445487D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4B2-AD0E-4D03-8A52-2192677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359820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F8E-C835-465A-83F2-8C18A5D8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533520"/>
            <a:ext cx="427608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598200"/>
            <a:ext cx="876276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6E2-F020-42BD-A0E0-8937BB3A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91436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057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A057B2-CE8C-4546-8822-897ECEB48B6F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92929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92929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292929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92929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92929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29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29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29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80" y="533520"/>
            <a:ext cx="430488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Arial Black"/>
              </a:rPr>
              <a:t>单击此处编辑母版文本样式</a:t>
            </a: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Arial Black"/>
              </a:rPr>
              <a:t>第二级</a:t>
            </a:r>
            <a:endParaRPr b="0" lang="en-US" sz="1600" spc="-1" strike="noStrike">
              <a:solidFill>
                <a:srgbClr val="292929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292929"/>
                </a:solidFill>
                <a:latin typeface="Arial Black"/>
              </a:rPr>
              <a:t>第三级</a:t>
            </a:r>
            <a:endParaRPr b="0" lang="en-US" sz="1400" spc="-1" strike="noStrike">
              <a:solidFill>
                <a:srgbClr val="292929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四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五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10160" y="533520"/>
            <a:ext cx="430488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Arial Black"/>
              </a:rPr>
              <a:t>单击此处编辑母版文本样式</a:t>
            </a: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Arial Black"/>
              </a:rPr>
              <a:t>第二级</a:t>
            </a:r>
            <a:endParaRPr b="0" lang="en-US" sz="1600" spc="-1" strike="noStrike">
              <a:solidFill>
                <a:srgbClr val="292929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292929"/>
                </a:solidFill>
                <a:latin typeface="Arial Black"/>
              </a:rPr>
              <a:t>第三级</a:t>
            </a:r>
            <a:endParaRPr b="0" lang="en-US" sz="1400" spc="-1" strike="noStrike">
              <a:solidFill>
                <a:srgbClr val="292929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四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五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660240" y="6689880"/>
            <a:ext cx="177768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606840" y="6689880"/>
            <a:ext cx="24127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061040" y="6689880"/>
            <a:ext cx="177768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8C7790-D927-4195-8E3F-CE5418DA3717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2280" y="533520"/>
            <a:ext cx="876276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Arial Black"/>
              </a:rPr>
              <a:t>单击此处编辑母版文本样式</a:t>
            </a:r>
            <a:endParaRPr b="0" lang="en-US" sz="1800" spc="-1" strike="noStrike">
              <a:solidFill>
                <a:srgbClr val="292929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Arial Black"/>
              </a:rPr>
              <a:t>第二级</a:t>
            </a:r>
            <a:endParaRPr b="0" lang="en-US" sz="1600" spc="-1" strike="noStrike">
              <a:solidFill>
                <a:srgbClr val="292929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292929"/>
                </a:solidFill>
                <a:latin typeface="Arial Black"/>
              </a:rPr>
              <a:t>第三级</a:t>
            </a:r>
            <a:endParaRPr b="0" lang="en-US" sz="1400" spc="-1" strike="noStrike">
              <a:solidFill>
                <a:srgbClr val="292929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四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292929"/>
                </a:solidFill>
                <a:latin typeface="Arial Black"/>
              </a:rPr>
              <a:t>第五级</a:t>
            </a:r>
            <a:endParaRPr b="0" lang="en-US" sz="12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60240" y="6689880"/>
            <a:ext cx="177768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606840" y="6689880"/>
            <a:ext cx="24127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61040" y="6689880"/>
            <a:ext cx="177768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17FFC0-9A5D-47C4-AC91-16B612580BAF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91436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清新黄色创意设计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364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 Black"/>
                <a:ea typeface="宋体"/>
              </a:rPr>
              <a:t>Your Subtitle Goes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0488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 Black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29292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91436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364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0" y="5949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87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430488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 Black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29292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 Black"/>
              </a:rPr>
              <a:t> 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 </a:t>
            </a: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05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dongtai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chuangyi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gongzuo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kejian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shangwu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sucai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fengjing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anjie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aoyu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lunwen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yiliao/</a:t>
            </a: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boolean_approach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oolean_approach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oolean_approach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oolean_approach</Template>
  <TotalTime>2</TotalTime>
  <Application>LibreOffice/7.4.7.2$Linux_X86_64 LibreOffice_project/40$Build-2</Application>
  <AppVersion>15.0000</AppVersion>
  <Words>190</Words>
  <Paragraphs>38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2:43:47Z</dcterms:created>
  <dc:creator>微软中国</dc:creator>
  <dc:description/>
  <dc:language>en-US</dc:language>
  <cp:lastModifiedBy>yu wang</cp:lastModifiedBy>
  <dcterms:modified xsi:type="dcterms:W3CDTF">2015-08-12T14:53:08Z</dcterms:modified>
  <cp:revision>3</cp:revision>
  <dc:subject/>
  <dc:title>Boolean Approa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