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BB5-AE8B-48EF-87E6-DD11EE65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4D0-0BCD-412C-B629-124CCB4D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A8D-D4B2-47F8-9C46-89AC9BA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220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64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76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220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64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6B1-2356-47FF-B860-C636ECE4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A357-8E7B-43CC-9EDC-127EA31E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40D-E93E-46D8-B67B-5DC7563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F0E-6362-4421-8FDC-8746211E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665-B83F-4008-966F-DA9112B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1EAB-6FEA-4DC3-8B2D-89E16D88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750060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C122-778D-4509-9809-15917F8B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645-B616-41AB-9EBC-C07E582E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9BD-0E1D-4D65-97EB-C259B09F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BD6-2E7A-40F9-A88D-857A954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EF1-AE48-429F-B389-5E0E24F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244F-7CF0-47D4-9396-E682EC40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7F2D-2F4E-4DBC-ABDE-A7BE3B63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220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640" y="13572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976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220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640" y="3819600"/>
            <a:ext cx="26496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4F7C-BC68-46E9-AAAE-7DAD5A7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2DE-AB95-4CFC-B827-35256B6C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BD0-7CDA-47AA-AD71-0DC0372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ED2-4835-4BE9-874D-F703AF91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750060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89-DB98-4457-A186-7CD8B40E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95C-1EB5-477C-8362-F43E966A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6800" y="38196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413-54B9-435C-88F5-213E0E2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6800" y="1357200"/>
            <a:ext cx="401580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9760" y="3819600"/>
            <a:ext cx="8229240" cy="22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8B5-DCAF-43D6-B587-A01E688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67BD346-BC87-4282-ADE5-F1A313AB2C89}" type="slidenum">
              <a:rPr b="0" lang="id-ID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E:\Gambar\400_F_12859387_XtdOIXfMeCSGbGOns9MOeNXoVUMup6lD.png"/>
          <p:cNvPicPr/>
          <p:nvPr/>
        </p:nvPicPr>
        <p:blipFill>
          <a:blip r:embed="rId2"/>
          <a:stretch/>
        </p:blipFill>
        <p:spPr>
          <a:xfrm>
            <a:off x="928800" y="362880"/>
            <a:ext cx="7214760" cy="6077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d-ID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142920" y="142920"/>
            <a:ext cx="8857800" cy="6571800"/>
          </a:xfrm>
          <a:prstGeom prst="rect">
            <a:avLst/>
          </a:prstGeom>
          <a:solidFill>
            <a:schemeClr val="bg1"/>
          </a:solidFill>
          <a:ln w="107950">
            <a:solidFill>
              <a:srgbClr val="117e0c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" name="Picture 3" descr="C:\Documents and Settings\oktaviantina\My Documents\My Pictures\e.jpg"/>
          <p:cNvPicPr/>
          <p:nvPr/>
        </p:nvPicPr>
        <p:blipFill>
          <a:blip r:embed="rId2"/>
          <a:stretch/>
        </p:blipFill>
        <p:spPr>
          <a:xfrm flipH="1">
            <a:off x="7112880" y="5143680"/>
            <a:ext cx="1783440" cy="1463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038710"/>
                </a:solidFill>
                <a:latin typeface="DejaVu Serif"/>
              </a:rPr>
              <a:t>Click to edit Master title style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3871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38710"/>
                </a:solidFill>
                <a:latin typeface="Calibri"/>
              </a:rPr>
              <a:t>Click to edit Master text styles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3871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38710"/>
                </a:solidFill>
                <a:latin typeface="Calibri"/>
              </a:rPr>
              <a:t>Second level</a:t>
            </a:r>
            <a:endParaRPr b="0" lang="id-ID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3871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38710"/>
                </a:solidFill>
                <a:latin typeface="Calibri"/>
              </a:rPr>
              <a:t>Third level</a:t>
            </a:r>
            <a:endParaRPr b="0" lang="id-ID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3871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38710"/>
                </a:solidFill>
                <a:latin typeface="Calibri"/>
              </a:rPr>
              <a:t>Fourth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3871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38710"/>
                </a:solidFill>
                <a:latin typeface="Calibri"/>
              </a:rPr>
              <a:t>Fifth level</a:t>
            </a:r>
            <a:endParaRPr b="0" lang="id-ID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2071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071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071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id-ID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910BE6-406B-4F43-B97B-40D4E9B71AAF}" type="slidenum">
              <a:rPr b="0" lang="id-ID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:\400_F_23472676_QB9k0TLPq5Z0S2GfQOgwaeEApk7T4M3K.png"/>
          <p:cNvPicPr/>
          <p:nvPr/>
        </p:nvPicPr>
        <p:blipFill>
          <a:blip r:embed="rId3"/>
          <a:stretch/>
        </p:blipFill>
        <p:spPr>
          <a:xfrm flipH="1">
            <a:off x="429120" y="428760"/>
            <a:ext cx="7563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925000"/>
            <a:ext cx="7786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清新树叶</a:t>
            </a:r>
            <a:r>
              <a:rPr b="0" i="1" lang="en-US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PPT</a:t>
            </a:r>
            <a:r>
              <a:rPr b="0" i="1" lang="zh-CN" sz="4000" spc="-1" strike="noStrike">
                <a:solidFill>
                  <a:srgbClr val="117e0c"/>
                </a:solidFill>
                <a:latin typeface="方正姚体"/>
                <a:ea typeface="方正姚体"/>
              </a:rPr>
              <a:t>模板完整版下载</a:t>
            </a:r>
            <a:endParaRPr b="0" lang="id-ID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00600" cy="7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1" i="1" lang="id-ID" sz="3200" spc="-1" strike="noStrike">
              <a:solidFill>
                <a:srgbClr val="038710"/>
              </a:solidFill>
              <a:latin typeface="DejaVu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9760" y="135720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id-ID" sz="3200" spc="-1" strike="noStrike">
              <a:solidFill>
                <a:srgbClr val="03871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3200" spc="-1" strike="noStrike">
                <a:solidFill>
                  <a:srgbClr val="038710"/>
                </a:solidFill>
                <a:latin typeface="DejaVu Serif"/>
              </a:rPr>
              <a:t>使用规范说明</a:t>
            </a:r>
            <a:endParaRPr b="0" lang="id-ID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id-ID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id-ID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id-ID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id-ID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id-ID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id-ID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id-ID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  <Words>156</Words>
  <Paragraphs>31</Paragraphs>
  <Company>4Presentation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1:06:50Z</dcterms:created>
  <dc:creator>4Presentation.net</dc:creator>
  <dc:description/>
  <dc:language>en-US</dc:language>
  <cp:lastModifiedBy>yu wang</cp:lastModifiedBy>
  <dcterms:modified xsi:type="dcterms:W3CDTF">2015-08-14T12:52:1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