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EA4-8537-4444-A72A-3096E6F8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3FC-3B23-4F99-BF09-97D0A04F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2F9-1DA5-4779-BC80-791C8B17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2D3-AA2D-4E3E-B1B2-5E999717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0D66-352D-4555-B581-4E00511F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6454-49C4-4204-B55E-162DA34C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420B-E735-4FB5-9247-17571CDC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F24C-DA7D-47D0-9634-A5F8D383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2466-C2DC-473D-97CC-D0EE33C9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84D8-6023-4FDD-945E-A5C6A40A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C751-DB08-4419-8F32-E8BBE66B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068-7FCD-4023-B327-537DC39A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9B80-FEFA-425D-8E1F-18BFBB58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C923-F25A-435C-95EE-FA9E6E1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9F91-8708-442D-99D1-71FE7596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741B-286D-4E65-A8DB-2355D89B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FE1E-94F5-4E76-AD5E-0B724718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8EE-2AB8-472E-B208-60604664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B40-B306-4665-89F4-FB169EFF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7CE-EC0E-4AC6-8652-F2B960A0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430-7292-4D6C-9B1C-4D96F07D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9AF-D8E8-4EA9-92E8-6C07A7E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54F-5346-4AC0-BC9E-03A857B0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468-8D29-456E-914B-5EBE85B5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339021-C466-4F68-9724-F7CDC54D38C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8748CB-28C4-4826-A89B-AFBFB8BE3E4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326280" y="928800"/>
            <a:ext cx="1015560" cy="34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427800" y="3286080"/>
            <a:ext cx="891720" cy="81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786720" y="1000080"/>
            <a:ext cx="707760" cy="40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1993320" y="32076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新唯美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51404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18543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371160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67834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71680" y="42876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6997680" y="2416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52117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7826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30686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84492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21164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67118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1496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857680" y="421488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314028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58546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78340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84492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1928880" y="300024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43545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5568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421164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9482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0685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9976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63980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42832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52833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14256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33544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71406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8400" y="6453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3211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57117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32115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406872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32828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42832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2833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  <Words>304</Words>
  <Paragraphs>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2:12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