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1EC-6CD7-466E-91FE-12296A81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5BD-F250-45F4-9DF3-AFC47BD4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961-B60A-4FBD-9509-DDFE4ECB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914-E114-4E8C-88E4-F4B6CECA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FFE-51BE-4EAF-9A61-ACD86773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CF5-497D-4AA7-BEA8-136D011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487-D6BE-4F0C-A890-8F412836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7F8-6E02-4580-8D33-E60B834A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4296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0B0-C751-45F7-BC79-060C340E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FEE-9211-45D7-BADB-796500FC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1D4-6638-4E16-B30A-86E74409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A71-9677-4F82-8822-13D734C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dd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14"/>
          <p:cNvSpPr/>
          <p:nvPr/>
        </p:nvSpPr>
        <p:spPr>
          <a:xfrm>
            <a:off x="762120" y="-425520"/>
            <a:ext cx="500040" cy="42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椭圆 15"/>
          <p:cNvSpPr/>
          <p:nvPr/>
        </p:nvSpPr>
        <p:spPr>
          <a:xfrm>
            <a:off x="976320" y="-353880"/>
            <a:ext cx="500040" cy="57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16"/>
          <p:cNvSpPr/>
          <p:nvPr/>
        </p:nvSpPr>
        <p:spPr>
          <a:xfrm>
            <a:off x="1262160" y="-210960"/>
            <a:ext cx="70488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椭圆 17"/>
          <p:cNvSpPr/>
          <p:nvPr/>
        </p:nvSpPr>
        <p:spPr>
          <a:xfrm>
            <a:off x="1405080" y="-496800"/>
            <a:ext cx="9284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椭圆 18"/>
          <p:cNvSpPr/>
          <p:nvPr/>
        </p:nvSpPr>
        <p:spPr>
          <a:xfrm>
            <a:off x="2833560" y="-425520"/>
            <a:ext cx="71460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 20"/>
          <p:cNvSpPr/>
          <p:nvPr/>
        </p:nvSpPr>
        <p:spPr>
          <a:xfrm>
            <a:off x="3262320" y="-353880"/>
            <a:ext cx="92880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 21"/>
          <p:cNvSpPr/>
          <p:nvPr/>
        </p:nvSpPr>
        <p:spPr>
          <a:xfrm>
            <a:off x="3905280" y="-353880"/>
            <a:ext cx="71424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 22"/>
          <p:cNvSpPr/>
          <p:nvPr/>
        </p:nvSpPr>
        <p:spPr>
          <a:xfrm>
            <a:off x="6048360" y="3240"/>
            <a:ext cx="7142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 23"/>
          <p:cNvSpPr/>
          <p:nvPr/>
        </p:nvSpPr>
        <p:spPr>
          <a:xfrm rot="759600">
            <a:off x="7188120" y="-331920"/>
            <a:ext cx="928800" cy="7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椭圆 24"/>
          <p:cNvSpPr/>
          <p:nvPr/>
        </p:nvSpPr>
        <p:spPr>
          <a:xfrm rot="20049600">
            <a:off x="6300720" y="-258840"/>
            <a:ext cx="928800" cy="7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椭圆 25"/>
          <p:cNvSpPr/>
          <p:nvPr/>
        </p:nvSpPr>
        <p:spPr>
          <a:xfrm rot="2088000">
            <a:off x="6691320" y="-788760"/>
            <a:ext cx="71424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椭圆 26"/>
          <p:cNvSpPr/>
          <p:nvPr/>
        </p:nvSpPr>
        <p:spPr>
          <a:xfrm>
            <a:off x="6834240" y="74520"/>
            <a:ext cx="7142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椭圆 27"/>
          <p:cNvSpPr/>
          <p:nvPr/>
        </p:nvSpPr>
        <p:spPr>
          <a:xfrm>
            <a:off x="5691240" y="-139680"/>
            <a:ext cx="7142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-4429080" y="4286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4643280" y="74296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9143640" y="73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CAEC-CF69-4F61-B545-3F64EAB222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矩形 7"/>
          <p:cNvSpPr/>
          <p:nvPr/>
        </p:nvSpPr>
        <p:spPr>
          <a:xfrm>
            <a:off x="0" y="1285920"/>
            <a:ext cx="9144000" cy="142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组合 9" descr=""/>
          <p:cNvPicPr/>
          <p:nvPr/>
        </p:nvPicPr>
        <p:blipFill>
          <a:blip r:embed="rId2"/>
          <a:stretch/>
        </p:blipFill>
        <p:spPr>
          <a:xfrm>
            <a:off x="6321600" y="438120"/>
            <a:ext cx="463320" cy="506520"/>
          </a:xfrm>
          <a:prstGeom prst="rect">
            <a:avLst/>
          </a:prstGeom>
          <a:ln w="0">
            <a:noFill/>
          </a:ln>
        </p:spPr>
      </p:pic>
      <p:sp>
        <p:nvSpPr>
          <p:cNvPr id="21" name="直接连接符 12"/>
          <p:cNvSpPr/>
          <p:nvPr/>
        </p:nvSpPr>
        <p:spPr>
          <a:xfrm>
            <a:off x="6913440" y="714240"/>
            <a:ext cx="0" cy="6429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同心圆 13"/>
          <p:cNvSpPr/>
          <p:nvPr/>
        </p:nvSpPr>
        <p:spPr>
          <a:xfrm>
            <a:off x="6770520" y="426960"/>
            <a:ext cx="287640" cy="287280"/>
          </a:xfrm>
          <a:prstGeom prst="pie">
            <a:avLst/>
          </a:pr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椭圆 19"/>
          <p:cNvSpPr/>
          <p:nvPr/>
        </p:nvSpPr>
        <p:spPr>
          <a:xfrm rot="759600">
            <a:off x="5973840" y="-353520"/>
            <a:ext cx="9284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太阳形 28"/>
          <p:cNvSpPr/>
          <p:nvPr/>
        </p:nvSpPr>
        <p:spPr>
          <a:xfrm>
            <a:off x="-241200" y="-252360"/>
            <a:ext cx="749160" cy="750960"/>
          </a:xfrm>
          <a:prstGeom prst="sun">
            <a:avLst>
              <a:gd name="adj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心形 30"/>
          <p:cNvSpPr/>
          <p:nvPr/>
        </p:nvSpPr>
        <p:spPr>
          <a:xfrm>
            <a:off x="7201080" y="596880"/>
            <a:ext cx="28548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142875" y="71438"/>
                </a:moveTo>
                <a:cubicBezTo>
                  <a:pt x="202406" y="-95250"/>
                  <a:pt x="434578" y="71438"/>
                  <a:pt x="142875" y="285750"/>
                </a:cubicBezTo>
                <a:cubicBezTo>
                  <a:pt x="-148828" y="71438"/>
                  <a:pt x="83344" y="-95250"/>
                  <a:pt x="142875" y="71438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直接连接符 31"/>
          <p:cNvSpPr/>
          <p:nvPr/>
        </p:nvSpPr>
        <p:spPr>
          <a:xfrm flipH="1">
            <a:off x="7340760" y="668160"/>
            <a:ext cx="2880" cy="6890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加号 32"/>
          <p:cNvSpPr/>
          <p:nvPr/>
        </p:nvSpPr>
        <p:spPr>
          <a:xfrm>
            <a:off x="7701120" y="642960"/>
            <a:ext cx="357120" cy="357120"/>
          </a:xfrm>
          <a:custGeom>
            <a:avLst/>
            <a:gdLst/>
            <a:ahLst/>
            <a:rect l="l" t="t" r="r" b="b"/>
            <a:pathLst>
              <a:path w="357187" h="357187">
                <a:moveTo>
                  <a:pt x="47345" y="136588"/>
                </a:moveTo>
                <a:lnTo>
                  <a:pt x="136588" y="136588"/>
                </a:lnTo>
                <a:lnTo>
                  <a:pt x="136588" y="47345"/>
                </a:lnTo>
                <a:lnTo>
                  <a:pt x="220599" y="47345"/>
                </a:lnTo>
                <a:lnTo>
                  <a:pt x="220599" y="136588"/>
                </a:lnTo>
                <a:lnTo>
                  <a:pt x="309842" y="136588"/>
                </a:lnTo>
                <a:lnTo>
                  <a:pt x="309842" y="220599"/>
                </a:lnTo>
                <a:lnTo>
                  <a:pt x="220599" y="220599"/>
                </a:lnTo>
                <a:lnTo>
                  <a:pt x="220599" y="309842"/>
                </a:lnTo>
                <a:lnTo>
                  <a:pt x="136588" y="309842"/>
                </a:lnTo>
                <a:lnTo>
                  <a:pt x="136588" y="220599"/>
                </a:lnTo>
                <a:lnTo>
                  <a:pt x="47345" y="220599"/>
                </a:lnTo>
                <a:lnTo>
                  <a:pt x="47345" y="1365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直接连接符 33"/>
          <p:cNvSpPr/>
          <p:nvPr/>
        </p:nvSpPr>
        <p:spPr>
          <a:xfrm>
            <a:off x="6464160" y="849240"/>
            <a:ext cx="0" cy="460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组合 34"/>
          <p:cNvGrpSpPr/>
          <p:nvPr/>
        </p:nvGrpSpPr>
        <p:grpSpPr>
          <a:xfrm>
            <a:off x="8129520" y="571320"/>
            <a:ext cx="287280" cy="179640"/>
            <a:chOff x="8129520" y="571320"/>
            <a:chExt cx="287280" cy="179640"/>
          </a:xfrm>
        </p:grpSpPr>
        <p:sp>
          <p:nvSpPr>
            <p:cNvPr id="30" name="矩形 35"/>
            <p:cNvSpPr/>
            <p:nvPr/>
          </p:nvSpPr>
          <p:spPr>
            <a:xfrm>
              <a:off x="8129520" y="571680"/>
              <a:ext cx="287280" cy="179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等腰三角形 36"/>
            <p:cNvSpPr/>
            <p:nvPr/>
          </p:nvSpPr>
          <p:spPr>
            <a:xfrm>
              <a:off x="8129520" y="608040"/>
              <a:ext cx="287280" cy="142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等腰三角形 37"/>
            <p:cNvSpPr/>
            <p:nvPr/>
          </p:nvSpPr>
          <p:spPr>
            <a:xfrm rot="10800000">
              <a:off x="8129520" y="571320"/>
              <a:ext cx="287280" cy="14292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" name="直接连接符 38"/>
          <p:cNvSpPr/>
          <p:nvPr/>
        </p:nvSpPr>
        <p:spPr>
          <a:xfrm flipH="1">
            <a:off x="8272440" y="750960"/>
            <a:ext cx="1440" cy="6062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直接连接符 39"/>
          <p:cNvSpPr/>
          <p:nvPr/>
        </p:nvSpPr>
        <p:spPr>
          <a:xfrm flipH="1">
            <a:off x="8558280" y="571680"/>
            <a:ext cx="1440" cy="7855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组合 40" descr=""/>
          <p:cNvPicPr/>
          <p:nvPr/>
        </p:nvPicPr>
        <p:blipFill>
          <a:blip r:embed="rId3"/>
          <a:stretch/>
        </p:blipFill>
        <p:spPr>
          <a:xfrm>
            <a:off x="8461440" y="347760"/>
            <a:ext cx="261720" cy="353880"/>
          </a:xfrm>
          <a:prstGeom prst="rect">
            <a:avLst/>
          </a:prstGeom>
          <a:ln w="0">
            <a:noFill/>
          </a:ln>
        </p:spPr>
      </p:pic>
      <p:sp>
        <p:nvSpPr>
          <p:cNvPr id="36" name="直接连接符 50"/>
          <p:cNvSpPr/>
          <p:nvPr/>
        </p:nvSpPr>
        <p:spPr>
          <a:xfrm flipH="1">
            <a:off x="7881480" y="896760"/>
            <a:ext cx="1800" cy="460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0" y="0"/>
            <a:ext cx="9144000" cy="5197320"/>
          </a:xfrm>
          <a:prstGeom prst="rect">
            <a:avLst/>
          </a:prstGeom>
          <a:solidFill>
            <a:srgbClr val="dd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0" y="5126040"/>
            <a:ext cx="9144000" cy="142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"/>
          <p:cNvSpPr/>
          <p:nvPr/>
        </p:nvSpPr>
        <p:spPr>
          <a:xfrm flipH="1">
            <a:off x="1236240" y="4340160"/>
            <a:ext cx="1800" cy="7858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组合 14" descr=""/>
          <p:cNvPicPr/>
          <p:nvPr/>
        </p:nvPicPr>
        <p:blipFill>
          <a:blip r:embed="rId1"/>
          <a:stretch/>
        </p:blipFill>
        <p:spPr>
          <a:xfrm>
            <a:off x="1133640" y="3962520"/>
            <a:ext cx="457200" cy="506160"/>
          </a:xfrm>
          <a:prstGeom prst="rect">
            <a:avLst/>
          </a:prstGeom>
          <a:ln w="0">
            <a:noFill/>
          </a:ln>
        </p:spPr>
      </p:pic>
      <p:sp>
        <p:nvSpPr>
          <p:cNvPr id="77" name="直接连接符 15"/>
          <p:cNvSpPr/>
          <p:nvPr/>
        </p:nvSpPr>
        <p:spPr>
          <a:xfrm flipH="1">
            <a:off x="1736280" y="3983040"/>
            <a:ext cx="3240" cy="1143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同心圆 18"/>
          <p:cNvSpPr/>
          <p:nvPr/>
        </p:nvSpPr>
        <p:spPr>
          <a:xfrm>
            <a:off x="1593720" y="3697200"/>
            <a:ext cx="289080" cy="287280"/>
          </a:xfrm>
          <a:prstGeom prst="pie">
            <a:avLst/>
          </a:pr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9"/>
          <p:cNvSpPr/>
          <p:nvPr/>
        </p:nvSpPr>
        <p:spPr>
          <a:xfrm>
            <a:off x="1096920" y="404640"/>
            <a:ext cx="500040" cy="42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20"/>
          <p:cNvSpPr/>
          <p:nvPr/>
        </p:nvSpPr>
        <p:spPr>
          <a:xfrm>
            <a:off x="1311120" y="476280"/>
            <a:ext cx="500040" cy="57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1"/>
          <p:cNvSpPr/>
          <p:nvPr/>
        </p:nvSpPr>
        <p:spPr>
          <a:xfrm>
            <a:off x="1596960" y="619200"/>
            <a:ext cx="70488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2"/>
          <p:cNvSpPr/>
          <p:nvPr/>
        </p:nvSpPr>
        <p:spPr>
          <a:xfrm>
            <a:off x="1739880" y="333360"/>
            <a:ext cx="92880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3"/>
          <p:cNvSpPr/>
          <p:nvPr/>
        </p:nvSpPr>
        <p:spPr>
          <a:xfrm>
            <a:off x="3168720" y="404640"/>
            <a:ext cx="714240" cy="50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4"/>
          <p:cNvSpPr/>
          <p:nvPr/>
        </p:nvSpPr>
        <p:spPr>
          <a:xfrm rot="759600">
            <a:off x="4664160" y="282600"/>
            <a:ext cx="9284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5"/>
          <p:cNvSpPr/>
          <p:nvPr/>
        </p:nvSpPr>
        <p:spPr>
          <a:xfrm>
            <a:off x="3597120" y="476280"/>
            <a:ext cx="92880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26"/>
          <p:cNvSpPr/>
          <p:nvPr/>
        </p:nvSpPr>
        <p:spPr>
          <a:xfrm>
            <a:off x="4240080" y="476280"/>
            <a:ext cx="71460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7"/>
          <p:cNvSpPr/>
          <p:nvPr/>
        </p:nvSpPr>
        <p:spPr>
          <a:xfrm>
            <a:off x="6383160" y="833400"/>
            <a:ext cx="71460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28"/>
          <p:cNvSpPr/>
          <p:nvPr/>
        </p:nvSpPr>
        <p:spPr>
          <a:xfrm rot="759600">
            <a:off x="7521480" y="496440"/>
            <a:ext cx="928800" cy="7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29"/>
          <p:cNvSpPr/>
          <p:nvPr/>
        </p:nvSpPr>
        <p:spPr>
          <a:xfrm rot="20049600">
            <a:off x="6635880" y="571320"/>
            <a:ext cx="9284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0"/>
          <p:cNvSpPr/>
          <p:nvPr/>
        </p:nvSpPr>
        <p:spPr>
          <a:xfrm rot="2088000">
            <a:off x="7311960" y="404640"/>
            <a:ext cx="71460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31"/>
          <p:cNvSpPr/>
          <p:nvPr/>
        </p:nvSpPr>
        <p:spPr>
          <a:xfrm>
            <a:off x="7169040" y="905040"/>
            <a:ext cx="71460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2"/>
          <p:cNvSpPr/>
          <p:nvPr/>
        </p:nvSpPr>
        <p:spPr>
          <a:xfrm>
            <a:off x="6026040" y="690480"/>
            <a:ext cx="71460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太阳形 33"/>
          <p:cNvSpPr/>
          <p:nvPr/>
        </p:nvSpPr>
        <p:spPr>
          <a:xfrm rot="1411800">
            <a:off x="7606800" y="3231720"/>
            <a:ext cx="673200" cy="673200"/>
          </a:xfrm>
          <a:prstGeom prst="sun">
            <a:avLst>
              <a:gd name="adj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8"/>
          <p:cNvSpPr/>
          <p:nvPr/>
        </p:nvSpPr>
        <p:spPr>
          <a:xfrm flipH="1">
            <a:off x="7929720" y="3697200"/>
            <a:ext cx="1440" cy="14288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心形 40"/>
          <p:cNvSpPr/>
          <p:nvPr/>
        </p:nvSpPr>
        <p:spPr>
          <a:xfrm>
            <a:off x="2165400" y="40543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142875" y="71438"/>
                </a:moveTo>
                <a:cubicBezTo>
                  <a:pt x="202406" y="-95250"/>
                  <a:pt x="434578" y="71438"/>
                  <a:pt x="142875" y="285750"/>
                </a:cubicBezTo>
                <a:cubicBezTo>
                  <a:pt x="-148828" y="71438"/>
                  <a:pt x="83344" y="-95250"/>
                  <a:pt x="142875" y="71438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41"/>
          <p:cNvSpPr/>
          <p:nvPr/>
        </p:nvSpPr>
        <p:spPr>
          <a:xfrm flipH="1">
            <a:off x="2308320" y="4340160"/>
            <a:ext cx="1440" cy="7858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加号 42"/>
          <p:cNvSpPr/>
          <p:nvPr/>
        </p:nvSpPr>
        <p:spPr>
          <a:xfrm>
            <a:off x="2593800" y="4411800"/>
            <a:ext cx="357480" cy="357120"/>
          </a:xfrm>
          <a:custGeom>
            <a:avLst/>
            <a:gdLst/>
            <a:ahLst/>
            <a:rect l="l" t="t" r="r" b="b"/>
            <a:pathLst>
              <a:path w="357188" h="357187">
                <a:moveTo>
                  <a:pt x="47345" y="136588"/>
                </a:moveTo>
                <a:lnTo>
                  <a:pt x="136589" y="136588"/>
                </a:lnTo>
                <a:lnTo>
                  <a:pt x="136589" y="47345"/>
                </a:lnTo>
                <a:lnTo>
                  <a:pt x="220599" y="47345"/>
                </a:lnTo>
                <a:lnTo>
                  <a:pt x="220599" y="136588"/>
                </a:lnTo>
                <a:lnTo>
                  <a:pt x="309843" y="136588"/>
                </a:lnTo>
                <a:lnTo>
                  <a:pt x="309843" y="220599"/>
                </a:lnTo>
                <a:lnTo>
                  <a:pt x="220599" y="220599"/>
                </a:lnTo>
                <a:lnTo>
                  <a:pt x="220599" y="309842"/>
                </a:lnTo>
                <a:lnTo>
                  <a:pt x="136589" y="309842"/>
                </a:lnTo>
                <a:lnTo>
                  <a:pt x="136589" y="220599"/>
                </a:lnTo>
                <a:lnTo>
                  <a:pt x="47345" y="220599"/>
                </a:lnTo>
                <a:lnTo>
                  <a:pt x="47345" y="1365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43"/>
          <p:cNvSpPr/>
          <p:nvPr/>
        </p:nvSpPr>
        <p:spPr>
          <a:xfrm flipH="1">
            <a:off x="2771280" y="4721400"/>
            <a:ext cx="1800" cy="4600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48"/>
          <p:cNvGrpSpPr/>
          <p:nvPr/>
        </p:nvGrpSpPr>
        <p:grpSpPr>
          <a:xfrm>
            <a:off x="3214800" y="4268520"/>
            <a:ext cx="287280" cy="179640"/>
            <a:chOff x="3214800" y="4268520"/>
            <a:chExt cx="287280" cy="179640"/>
          </a:xfrm>
        </p:grpSpPr>
        <p:sp>
          <p:nvSpPr>
            <p:cNvPr id="100" name="矩形 45"/>
            <p:cNvSpPr/>
            <p:nvPr/>
          </p:nvSpPr>
          <p:spPr>
            <a:xfrm>
              <a:off x="3214800" y="4268880"/>
              <a:ext cx="287280" cy="179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46"/>
            <p:cNvSpPr/>
            <p:nvPr/>
          </p:nvSpPr>
          <p:spPr>
            <a:xfrm>
              <a:off x="3214800" y="4305240"/>
              <a:ext cx="287280" cy="142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等腰三角形 47"/>
            <p:cNvSpPr/>
            <p:nvPr/>
          </p:nvSpPr>
          <p:spPr>
            <a:xfrm rot="10800000">
              <a:off x="3214800" y="4268520"/>
              <a:ext cx="287280" cy="142920"/>
            </a:xfrm>
            <a:prstGeom prst="triangle">
              <a:avLst>
                <a:gd name="adj" fmla="val 50000"/>
              </a:avLst>
            </a:prstGeom>
            <a:solidFill>
              <a:srgbClr val="ddf2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直接连接符 49"/>
          <p:cNvSpPr/>
          <p:nvPr/>
        </p:nvSpPr>
        <p:spPr>
          <a:xfrm flipH="1">
            <a:off x="3357720" y="4448160"/>
            <a:ext cx="1440" cy="7491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2"/>
          <p:cNvSpPr/>
          <p:nvPr/>
        </p:nvSpPr>
        <p:spPr>
          <a:xfrm flipH="1">
            <a:off x="3784680" y="4054320"/>
            <a:ext cx="1440" cy="11066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组合 58" descr=""/>
          <p:cNvPicPr/>
          <p:nvPr/>
        </p:nvPicPr>
        <p:blipFill>
          <a:blip r:embed="rId2"/>
          <a:stretch/>
        </p:blipFill>
        <p:spPr>
          <a:xfrm>
            <a:off x="3687840" y="3790800"/>
            <a:ext cx="261720" cy="35424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1686960" y="16430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适合学校老师用的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6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09760" y="1687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3bdff"/>
                </a:solidFill>
                <a:latin typeface="微软雅黑"/>
                <a:ea typeface="微软雅黑"/>
              </a:rPr>
              <a:t>二级目录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5"/>
          <p:cNvGrpSpPr/>
          <p:nvPr/>
        </p:nvGrpSpPr>
        <p:grpSpPr>
          <a:xfrm>
            <a:off x="561960" y="1756800"/>
            <a:ext cx="330120" cy="261000"/>
            <a:chOff x="561960" y="1756800"/>
            <a:chExt cx="330120" cy="261000"/>
          </a:xfrm>
        </p:grpSpPr>
        <p:sp>
          <p:nvSpPr>
            <p:cNvPr id="111" name="矩形 7"/>
            <p:cNvSpPr/>
            <p:nvPr/>
          </p:nvSpPr>
          <p:spPr>
            <a:xfrm rot="20529600">
              <a:off x="583200" y="1800720"/>
              <a:ext cx="288720" cy="17712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等腰三角形 8"/>
            <p:cNvSpPr/>
            <p:nvPr/>
          </p:nvSpPr>
          <p:spPr>
            <a:xfrm rot="20529600">
              <a:off x="587520" y="1831680"/>
              <a:ext cx="288720" cy="141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等腰三角形 9"/>
            <p:cNvSpPr/>
            <p:nvPr/>
          </p:nvSpPr>
          <p:spPr>
            <a:xfrm rot="9729600">
              <a:off x="576720" y="1797480"/>
              <a:ext cx="288720" cy="141480"/>
            </a:xfrm>
            <a:prstGeom prst="triangle">
              <a:avLst>
                <a:gd name="adj" fmla="val 50000"/>
              </a:avLst>
            </a:prstGeom>
            <a:solidFill>
              <a:srgbClr val="ddf2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0"/>
          <p:cNvSpPr/>
          <p:nvPr/>
        </p:nvSpPr>
        <p:spPr>
          <a:xfrm>
            <a:off x="1229400" y="22050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541440" y="2222640"/>
            <a:ext cx="7846920" cy="1566720"/>
          </a:xfrm>
          <a:prstGeom prst="rect">
            <a:avLst/>
          </a:prstGeom>
          <a:noFill/>
          <a:ln w="32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1409760" y="4046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3bdff"/>
                </a:solidFill>
                <a:latin typeface="微软雅黑"/>
                <a:ea typeface="微软雅黑"/>
              </a:rPr>
              <a:t>二级目录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12"/>
          <p:cNvGrpSpPr/>
          <p:nvPr/>
        </p:nvGrpSpPr>
        <p:grpSpPr>
          <a:xfrm>
            <a:off x="561960" y="4116240"/>
            <a:ext cx="330120" cy="260280"/>
            <a:chOff x="561960" y="4116240"/>
            <a:chExt cx="330120" cy="260280"/>
          </a:xfrm>
        </p:grpSpPr>
        <p:sp>
          <p:nvSpPr>
            <p:cNvPr id="118" name="矩形 13"/>
            <p:cNvSpPr/>
            <p:nvPr/>
          </p:nvSpPr>
          <p:spPr>
            <a:xfrm rot="20529600">
              <a:off x="582840" y="4159800"/>
              <a:ext cx="288720" cy="1767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等腰三角形 14"/>
            <p:cNvSpPr/>
            <p:nvPr/>
          </p:nvSpPr>
          <p:spPr>
            <a:xfrm rot="20529600">
              <a:off x="587520" y="4190760"/>
              <a:ext cx="288720" cy="1411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等腰三角形 15"/>
            <p:cNvSpPr/>
            <p:nvPr/>
          </p:nvSpPr>
          <p:spPr>
            <a:xfrm rot="9729600">
              <a:off x="576720" y="4156920"/>
              <a:ext cx="288720" cy="141120"/>
            </a:xfrm>
            <a:prstGeom prst="triangle">
              <a:avLst>
                <a:gd name="adj" fmla="val 50000"/>
              </a:avLst>
            </a:prstGeom>
            <a:solidFill>
              <a:srgbClr val="ddf2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16"/>
          <p:cNvSpPr/>
          <p:nvPr/>
        </p:nvSpPr>
        <p:spPr>
          <a:xfrm>
            <a:off x="1229400" y="456408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541440" y="4581360"/>
            <a:ext cx="7846920" cy="1567080"/>
          </a:xfrm>
          <a:prstGeom prst="rect">
            <a:avLst/>
          </a:prstGeom>
          <a:noFill/>
          <a:ln w="32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心形 18"/>
          <p:cNvSpPr/>
          <p:nvPr/>
        </p:nvSpPr>
        <p:spPr>
          <a:xfrm>
            <a:off x="7524720" y="54687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142875" y="71438"/>
                </a:moveTo>
                <a:cubicBezTo>
                  <a:pt x="202406" y="-95250"/>
                  <a:pt x="434578" y="71438"/>
                  <a:pt x="142875" y="285750"/>
                </a:cubicBezTo>
                <a:cubicBezTo>
                  <a:pt x="-148828" y="71438"/>
                  <a:pt x="83344" y="-95250"/>
                  <a:pt x="142875" y="71438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9"/>
          <p:cNvSpPr/>
          <p:nvPr/>
        </p:nvSpPr>
        <p:spPr>
          <a:xfrm>
            <a:off x="7669080" y="5754600"/>
            <a:ext cx="0" cy="3938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心形 21"/>
          <p:cNvSpPr/>
          <p:nvPr/>
        </p:nvSpPr>
        <p:spPr>
          <a:xfrm>
            <a:off x="7532640" y="3110040"/>
            <a:ext cx="285840" cy="28548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142875" y="71438"/>
                </a:moveTo>
                <a:cubicBezTo>
                  <a:pt x="202406" y="-95250"/>
                  <a:pt x="434578" y="71438"/>
                  <a:pt x="142875" y="285750"/>
                </a:cubicBezTo>
                <a:cubicBezTo>
                  <a:pt x="-148828" y="71438"/>
                  <a:pt x="83344" y="-95250"/>
                  <a:pt x="142875" y="71438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7677000" y="3395520"/>
            <a:ext cx="0" cy="3938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25:15Z</dcterms:created>
  <dc:creator>Sophie</dc:creator>
  <dc:description/>
  <dc:language>en-US</dc:language>
  <cp:lastModifiedBy>yu wang</cp:lastModifiedBy>
  <dcterms:modified xsi:type="dcterms:W3CDTF">2015-08-14T12:54:10Z</dcterms:modified>
  <cp:revision>11</cp:revision>
  <dc:subject/>
  <dc:title>幻灯片 1</dc:title>
</cp:coreProperties>
</file>