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8999538" cy="6840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95B8-3650-42A6-8361-6C8A92332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036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0360" y="1595160"/>
            <a:ext cx="810108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0360" y="3953520"/>
            <a:ext cx="810108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A2FB-60F3-4F44-9AF3-F2AEDB526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036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0360" y="1595160"/>
            <a:ext cx="395316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01520" y="1595160"/>
            <a:ext cx="395316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0360" y="3953520"/>
            <a:ext cx="395316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01520" y="3953520"/>
            <a:ext cx="395316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8BE2-AB91-443D-BECA-DD8206AE6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036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0360" y="1595160"/>
            <a:ext cx="260820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9240" y="1595160"/>
            <a:ext cx="260820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28480" y="1595160"/>
            <a:ext cx="260820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0360" y="3953520"/>
            <a:ext cx="260820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9240" y="3953520"/>
            <a:ext cx="260820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28480" y="3953520"/>
            <a:ext cx="260820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0CCF-7C12-448E-8674-B933A4774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036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0360" y="1595160"/>
            <a:ext cx="81010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C63F-F7CA-4F89-AD07-2336A7D1E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036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0360" y="1595160"/>
            <a:ext cx="8101080" cy="451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66BD-7FFA-4989-9F86-0131B045D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036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0360" y="1595160"/>
            <a:ext cx="3953160" cy="451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01520" y="1595160"/>
            <a:ext cx="3953160" cy="451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EC0D-E162-44D0-9913-478F04786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036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3FA8-9E6E-4A2D-B3EA-16F45F688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0360" y="274680"/>
            <a:ext cx="81010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8759-A585-46C6-9D44-175E93202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036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0360" y="1595160"/>
            <a:ext cx="395316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01520" y="1595160"/>
            <a:ext cx="3953160" cy="451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0360" y="3953520"/>
            <a:ext cx="395316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EE7A-1149-4070-B9D3-5268F7FD1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036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0360" y="1595160"/>
            <a:ext cx="3953160" cy="451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1520" y="1595160"/>
            <a:ext cx="395316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01520" y="3953520"/>
            <a:ext cx="395316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9EF0-C9C5-4628-804B-75E8EFFAB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036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0360" y="1595160"/>
            <a:ext cx="395316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1520" y="1595160"/>
            <a:ext cx="395316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0360" y="3953520"/>
            <a:ext cx="810108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9099-22DE-4185-BE7F-A5B499DEA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母版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001080" cy="6838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036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0360" y="1595160"/>
            <a:ext cx="8101080" cy="451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3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0720" y="6229440"/>
            <a:ext cx="2100240" cy="474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74760" y="6229440"/>
            <a:ext cx="2850840" cy="474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451560" y="6229440"/>
            <a:ext cx="2100240" cy="474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lstStyle>
            <a:lvl1pPr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7AABB139-7236-4D41-8C69-B9E3265365F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1026"/>
          <p:cNvGrpSpPr/>
          <p:nvPr/>
        </p:nvGrpSpPr>
        <p:grpSpPr>
          <a:xfrm>
            <a:off x="2590920" y="2514600"/>
            <a:ext cx="2590200" cy="342720"/>
            <a:chOff x="2590920" y="2514600"/>
            <a:chExt cx="2590200" cy="342720"/>
          </a:xfrm>
        </p:grpSpPr>
        <p:pic>
          <p:nvPicPr>
            <p:cNvPr id="43" name="Picture 1027" descr="下方向箭頭"/>
            <p:cNvPicPr/>
            <p:nvPr/>
          </p:nvPicPr>
          <p:blipFill>
            <a:blip r:embed="rId1"/>
            <a:stretch/>
          </p:blipFill>
          <p:spPr>
            <a:xfrm>
              <a:off x="2590920" y="2514600"/>
              <a:ext cx="215640" cy="32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Picture 1028" descr="11"/>
            <p:cNvPicPr/>
            <p:nvPr/>
          </p:nvPicPr>
          <p:blipFill>
            <a:blip r:embed="rId2"/>
            <a:stretch/>
          </p:blipFill>
          <p:spPr>
            <a:xfrm>
              <a:off x="2901960" y="2534040"/>
              <a:ext cx="114984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1029" descr="22"/>
            <p:cNvPicPr/>
            <p:nvPr/>
          </p:nvPicPr>
          <p:blipFill>
            <a:blip r:embed="rId3"/>
            <a:stretch/>
          </p:blipFill>
          <p:spPr>
            <a:xfrm>
              <a:off x="4118400" y="2643480"/>
              <a:ext cx="1062720" cy="213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" name="Picture 1032" descr="手型"/>
          <p:cNvPicPr/>
          <p:nvPr/>
        </p:nvPicPr>
        <p:blipFill>
          <a:blip r:embed="rId4"/>
          <a:stretch/>
        </p:blipFill>
        <p:spPr>
          <a:xfrm>
            <a:off x="4846680" y="2546280"/>
            <a:ext cx="2392200" cy="4294080"/>
          </a:xfrm>
          <a:prstGeom prst="rect">
            <a:avLst/>
          </a:prstGeom>
          <a:ln w="0">
            <a:noFill/>
          </a:ln>
        </p:spPr>
      </p:pic>
      <p:sp>
        <p:nvSpPr>
          <p:cNvPr id="47" name="矩形 1"/>
          <p:cNvSpPr/>
          <p:nvPr/>
        </p:nvSpPr>
        <p:spPr>
          <a:xfrm>
            <a:off x="2268360" y="468360"/>
            <a:ext cx="476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设计精美的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9520" y="914040"/>
            <a:ext cx="396252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文鼎CS中黑"/>
                <a:ea typeface="文鼎CS中黑"/>
              </a:rPr>
              <a:t>//1 </a:t>
            </a:r>
            <a:r>
              <a:rPr b="1" lang="en-US" sz="2000" spc="-1" strike="noStrike">
                <a:solidFill>
                  <a:srgbClr val="ffcc00"/>
                </a:solidFill>
                <a:latin typeface="文鼎CS中黑"/>
                <a:ea typeface="文鼎CS中黑"/>
              </a:rPr>
              <a:t>LOGO / 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85840" y="2133720"/>
            <a:ext cx="289548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9840" indent="-339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文鼎CS中黑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文鼎CS中黑"/>
                <a:ea typeface="文鼎CS中黑"/>
              </a:rPr>
              <a:t>深圳</a:t>
            </a:r>
            <a:r>
              <a:rPr b="1" lang="en-US" sz="1600" spc="-1" strike="noStrike">
                <a:solidFill>
                  <a:srgbClr val="ffffff"/>
                </a:solidFill>
                <a:latin typeface="华文细黑"/>
                <a:ea typeface="文鼎CS中黑"/>
              </a:rPr>
              <a:t>——</a:t>
            </a:r>
            <a:r>
              <a:rPr b="0" lang="zh-CN" sz="1600" spc="-1" strike="noStrike">
                <a:solidFill>
                  <a:srgbClr val="ffffff"/>
                </a:solidFill>
                <a:latin typeface="文鼎CS中黑"/>
                <a:ea typeface="文鼎CS中黑"/>
              </a:rPr>
              <a:t>沃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文鼎CS中黑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文鼎CS中黑"/>
                <a:ea typeface="文鼎CS中黑"/>
              </a:rPr>
              <a:t>深圳</a:t>
            </a:r>
            <a:r>
              <a:rPr b="1" lang="en-US" sz="1600" spc="-1" strike="noStrike">
                <a:solidFill>
                  <a:srgbClr val="ffffff"/>
                </a:solidFill>
                <a:latin typeface="华文细黑"/>
                <a:ea typeface="文鼎CS中黑"/>
              </a:rPr>
              <a:t>——</a:t>
            </a:r>
            <a:r>
              <a:rPr b="0" lang="zh-CN" sz="1600" spc="-1" strike="noStrike">
                <a:solidFill>
                  <a:srgbClr val="ffffff"/>
                </a:solidFill>
                <a:latin typeface="文鼎CS中黑"/>
                <a:ea typeface="文鼎CS中黑"/>
              </a:rPr>
              <a:t>美都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文鼎CS中黑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文鼎CS中黑"/>
                <a:ea typeface="文鼎CS中黑"/>
              </a:rPr>
              <a:t>深圳</a:t>
            </a:r>
            <a:r>
              <a:rPr b="1" lang="en-US" sz="1600" spc="-1" strike="noStrike">
                <a:solidFill>
                  <a:srgbClr val="ffffff"/>
                </a:solidFill>
                <a:latin typeface="华文细黑"/>
                <a:ea typeface="文鼎CS中黑"/>
              </a:rPr>
              <a:t>——</a:t>
            </a:r>
            <a:r>
              <a:rPr b="0" lang="zh-CN" sz="1600" spc="-1" strike="noStrike">
                <a:solidFill>
                  <a:srgbClr val="ffffff"/>
                </a:solidFill>
                <a:latin typeface="文鼎CS中黑"/>
                <a:ea typeface="文鼎CS中黑"/>
              </a:rPr>
              <a:t>诺亚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文鼎CS中黑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文鼎CS中黑"/>
                <a:ea typeface="文鼎CS中黑"/>
              </a:rPr>
              <a:t>深圳</a:t>
            </a:r>
            <a:r>
              <a:rPr b="1" lang="en-US" sz="1600" spc="-1" strike="noStrike">
                <a:solidFill>
                  <a:srgbClr val="ffffff"/>
                </a:solidFill>
                <a:latin typeface="华文细黑"/>
                <a:ea typeface="文鼎CS中黑"/>
              </a:rPr>
              <a:t>——</a:t>
            </a:r>
            <a:r>
              <a:rPr b="0" lang="zh-CN" sz="1600" spc="-1" strike="noStrike">
                <a:solidFill>
                  <a:srgbClr val="ffffff"/>
                </a:solidFill>
                <a:latin typeface="文鼎CS中黑"/>
                <a:ea typeface="文鼎CS中黑"/>
              </a:rPr>
              <a:t>伊宝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文鼎CS中黑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文鼎CS中黑"/>
                <a:ea typeface="文鼎CS中黑"/>
              </a:rPr>
              <a:t>深圳</a:t>
            </a:r>
            <a:r>
              <a:rPr b="1" lang="en-US" sz="1600" spc="-1" strike="noStrike">
                <a:solidFill>
                  <a:srgbClr val="ffffff"/>
                </a:solidFill>
                <a:latin typeface="华文细黑"/>
                <a:ea typeface="文鼎CS中黑"/>
              </a:rPr>
              <a:t>——</a:t>
            </a:r>
            <a:r>
              <a:rPr b="0" lang="zh-CN" sz="1600" spc="-1" strike="noStrike">
                <a:solidFill>
                  <a:srgbClr val="ffffff"/>
                </a:solidFill>
                <a:latin typeface="文鼎CS中黑"/>
                <a:ea typeface="文鼎CS中黑"/>
              </a:rPr>
              <a:t>尚城视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文鼎CS中黑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文鼎CS中黑"/>
                <a:ea typeface="文鼎CS中黑"/>
              </a:rPr>
              <a:t>深圳</a:t>
            </a:r>
            <a:r>
              <a:rPr b="1" lang="en-US" sz="1600" spc="-1" strike="noStrike">
                <a:solidFill>
                  <a:srgbClr val="ffffff"/>
                </a:solidFill>
                <a:latin typeface="华文细黑"/>
                <a:ea typeface="文鼎CS中黑"/>
              </a:rPr>
              <a:t>——</a:t>
            </a:r>
            <a:r>
              <a:rPr b="0" lang="en-US" sz="1600" spc="-1" strike="noStrike">
                <a:solidFill>
                  <a:srgbClr val="ffffff"/>
                </a:solidFill>
                <a:latin typeface="文鼎CS中黑"/>
                <a:ea typeface="文鼎CS中黑"/>
              </a:rPr>
              <a:t>26</a:t>
            </a:r>
            <a:r>
              <a:rPr b="0" lang="zh-CN" sz="1600" spc="-1" strike="noStrike">
                <a:solidFill>
                  <a:srgbClr val="ffffff"/>
                </a:solidFill>
                <a:latin typeface="文鼎CS中黑"/>
                <a:ea typeface="文鼎CS中黑"/>
              </a:rPr>
              <a:t>度传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文鼎CS中黑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文鼎CS中黑"/>
                <a:ea typeface="文鼎CS中黑"/>
              </a:rPr>
              <a:t>深圳</a:t>
            </a:r>
            <a:r>
              <a:rPr b="1" lang="en-US" sz="1600" spc="-1" strike="noStrike">
                <a:solidFill>
                  <a:srgbClr val="ffffff"/>
                </a:solidFill>
                <a:latin typeface="华文细黑"/>
                <a:ea typeface="文鼎CS中黑"/>
              </a:rPr>
              <a:t>——</a:t>
            </a:r>
            <a:r>
              <a:rPr b="0" lang="zh-CN" sz="1600" spc="-1" strike="noStrike">
                <a:solidFill>
                  <a:srgbClr val="ffffff"/>
                </a:solidFill>
                <a:latin typeface="文鼎CS中黑"/>
                <a:ea typeface="文鼎CS中黑"/>
              </a:rPr>
              <a:t>海王集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文鼎CS中黑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文鼎CS中黑"/>
                <a:ea typeface="文鼎CS中黑"/>
              </a:rPr>
              <a:t>深圳</a:t>
            </a:r>
            <a:r>
              <a:rPr b="1" lang="en-US" sz="1600" spc="-1" strike="noStrike">
                <a:solidFill>
                  <a:srgbClr val="ffffff"/>
                </a:solidFill>
                <a:latin typeface="华文细黑"/>
                <a:ea typeface="文鼎CS中黑"/>
              </a:rPr>
              <a:t>——</a:t>
            </a:r>
            <a:r>
              <a:rPr b="0" lang="zh-CN" sz="1600" spc="-1" strike="noStrike">
                <a:solidFill>
                  <a:srgbClr val="ffffff"/>
                </a:solidFill>
                <a:latin typeface="文鼎CS中黑"/>
                <a:ea typeface="文鼎CS中黑"/>
              </a:rPr>
              <a:t>拓迈科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文鼎CS中黑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文鼎CS中黑"/>
                <a:ea typeface="文鼎CS中黑"/>
              </a:rPr>
              <a:t>广州</a:t>
            </a:r>
            <a:r>
              <a:rPr b="1" lang="en-US" sz="1600" spc="-1" strike="noStrike">
                <a:solidFill>
                  <a:srgbClr val="ffffff"/>
                </a:solidFill>
                <a:latin typeface="华文细黑"/>
                <a:ea typeface="文鼎CS中黑"/>
              </a:rPr>
              <a:t>——</a:t>
            </a:r>
            <a:r>
              <a:rPr b="0" lang="zh-CN" sz="1600" spc="-1" strike="noStrike">
                <a:solidFill>
                  <a:srgbClr val="ffffff"/>
                </a:solidFill>
                <a:latin typeface="文鼎CS中黑"/>
                <a:ea typeface="文鼎CS中黑"/>
              </a:rPr>
              <a:t>蝶恋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文鼎CS中黑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文鼎CS中黑"/>
                <a:ea typeface="文鼎CS中黑"/>
              </a:rPr>
              <a:t>惠州</a:t>
            </a:r>
            <a:r>
              <a:rPr b="1" lang="en-US" sz="1600" spc="-1" strike="noStrike">
                <a:solidFill>
                  <a:srgbClr val="ffffff"/>
                </a:solidFill>
                <a:latin typeface="华文细黑"/>
                <a:ea typeface="文鼎CS中黑"/>
              </a:rPr>
              <a:t>——</a:t>
            </a:r>
            <a:r>
              <a:rPr b="0" lang="zh-CN" sz="1600" spc="-1" strike="noStrike">
                <a:solidFill>
                  <a:srgbClr val="ffffff"/>
                </a:solidFill>
                <a:latin typeface="文鼎CS中黑"/>
                <a:ea typeface="文鼎CS中黑"/>
              </a:rPr>
              <a:t>惠康医疗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文鼎CS中黑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文鼎CS中黑"/>
                <a:ea typeface="文鼎CS中黑"/>
              </a:rPr>
              <a:t>天津</a:t>
            </a:r>
            <a:r>
              <a:rPr b="1" lang="en-US" sz="1600" spc="-1" strike="noStrike">
                <a:solidFill>
                  <a:srgbClr val="ffffff"/>
                </a:solidFill>
                <a:latin typeface="华文细黑"/>
                <a:ea typeface="文鼎CS中黑"/>
              </a:rPr>
              <a:t>——</a:t>
            </a:r>
            <a:r>
              <a:rPr b="0" lang="zh-CN" sz="1600" spc="-1" strike="noStrike">
                <a:solidFill>
                  <a:srgbClr val="ffffff"/>
                </a:solidFill>
                <a:latin typeface="文鼎CS中黑"/>
                <a:ea typeface="文鼎CS中黑"/>
              </a:rPr>
              <a:t>爱梦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4"/>
          <p:cNvSpPr/>
          <p:nvPr/>
        </p:nvSpPr>
        <p:spPr>
          <a:xfrm>
            <a:off x="3886200" y="1981080"/>
            <a:ext cx="449568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9"/>
          <p:cNvSpPr/>
          <p:nvPr/>
        </p:nvSpPr>
        <p:spPr>
          <a:xfrm>
            <a:off x="1528920" y="2309760"/>
            <a:ext cx="5329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华文细黑"/>
                <a:ea typeface="华文细黑"/>
              </a:rPr>
              <a:t>学敏姓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华文细黑"/>
                <a:ea typeface="华文细黑"/>
              </a:rPr>
              <a:t>视觉形象运营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华文细黑"/>
                <a:ea typeface="华文细黑"/>
              </a:rPr>
              <a:t>做一件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华文细黑"/>
                <a:ea typeface="华文细黑"/>
              </a:rPr>
              <a:t>在商业设计中寻求视觉美感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下方向箭頭"/>
          <p:cNvPicPr/>
          <p:nvPr/>
        </p:nvPicPr>
        <p:blipFill>
          <a:blip r:embed="rId1"/>
          <a:stretch/>
        </p:blipFill>
        <p:spPr>
          <a:xfrm>
            <a:off x="3976560" y="4330800"/>
            <a:ext cx="362160" cy="24120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11"/>
          <p:cNvSpPr/>
          <p:nvPr/>
        </p:nvSpPr>
        <p:spPr>
          <a:xfrm>
            <a:off x="1817640" y="2386080"/>
            <a:ext cx="216000" cy="1439640"/>
          </a:xfrm>
          <a:custGeom>
            <a:avLst/>
            <a:gdLst>
              <a:gd name="textAreaLeft" fmla="*/ 63360 w 216000"/>
              <a:gd name="textAreaRight" fmla="*/ 216360 w 216000"/>
              <a:gd name="textAreaTop" fmla="*/ 59760 h 1439640"/>
              <a:gd name="textAreaBottom" fmla="*/ 1379880 h 14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2"/>
          <p:cNvSpPr/>
          <p:nvPr/>
        </p:nvSpPr>
        <p:spPr>
          <a:xfrm flipH="1">
            <a:off x="6281640" y="2457360"/>
            <a:ext cx="216000" cy="1440000"/>
          </a:xfrm>
          <a:custGeom>
            <a:avLst/>
            <a:gdLst>
              <a:gd name="textAreaLeft" fmla="*/ 63720 w 216000"/>
              <a:gd name="textAreaRight" fmla="*/ 216720 w 216000"/>
              <a:gd name="textAreaTop" fmla="*/ 59760 h 1440000"/>
              <a:gd name="textAreaBottom" fmla="*/ 138024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026"/>
          <p:cNvSpPr/>
          <p:nvPr/>
        </p:nvSpPr>
        <p:spPr>
          <a:xfrm>
            <a:off x="3807000" y="479736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四大战役，全面出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7"/>
          <p:cNvSpPr/>
          <p:nvPr/>
        </p:nvSpPr>
        <p:spPr>
          <a:xfrm>
            <a:off x="684360" y="2276640"/>
            <a:ext cx="1368360" cy="1438200"/>
          </a:xfrm>
          <a:prstGeom prst="rect">
            <a:avLst/>
          </a:prstGeom>
          <a:solidFill>
            <a:srgbClr val="4d4d4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28"/>
          <p:cNvSpPr/>
          <p:nvPr/>
        </p:nvSpPr>
        <p:spPr>
          <a:xfrm>
            <a:off x="2700360" y="2276640"/>
            <a:ext cx="1368360" cy="1438200"/>
          </a:xfrm>
          <a:prstGeom prst="rect">
            <a:avLst/>
          </a:prstGeom>
          <a:solidFill>
            <a:srgbClr val="4d4d4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杂志画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029"/>
          <p:cNvSpPr/>
          <p:nvPr/>
        </p:nvSpPr>
        <p:spPr>
          <a:xfrm>
            <a:off x="4716360" y="2276640"/>
            <a:ext cx="1368360" cy="1438200"/>
          </a:xfrm>
          <a:prstGeom prst="rect">
            <a:avLst/>
          </a:prstGeom>
          <a:solidFill>
            <a:srgbClr val="4d4d4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环境空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0"/>
          <p:cNvSpPr/>
          <p:nvPr/>
        </p:nvSpPr>
        <p:spPr>
          <a:xfrm>
            <a:off x="6732720" y="2276640"/>
            <a:ext cx="1368360" cy="1438200"/>
          </a:xfrm>
          <a:prstGeom prst="rect">
            <a:avLst/>
          </a:prstGeom>
          <a:solidFill>
            <a:srgbClr val="4d4d4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包装单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031" descr="下方向箭頭"/>
          <p:cNvPicPr/>
          <p:nvPr/>
        </p:nvPicPr>
        <p:blipFill>
          <a:blip r:embed="rId1"/>
          <a:stretch/>
        </p:blipFill>
        <p:spPr>
          <a:xfrm>
            <a:off x="2268360" y="2924280"/>
            <a:ext cx="193680" cy="290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32" descr="下方向箭頭"/>
          <p:cNvPicPr/>
          <p:nvPr/>
        </p:nvPicPr>
        <p:blipFill>
          <a:blip r:embed="rId2"/>
          <a:stretch/>
        </p:blipFill>
        <p:spPr>
          <a:xfrm>
            <a:off x="4248000" y="2924280"/>
            <a:ext cx="181080" cy="2728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33" descr="下方向箭頭"/>
          <p:cNvPicPr/>
          <p:nvPr/>
        </p:nvPicPr>
        <p:blipFill>
          <a:blip r:embed="rId3"/>
          <a:stretch/>
        </p:blipFill>
        <p:spPr>
          <a:xfrm>
            <a:off x="6300720" y="2905200"/>
            <a:ext cx="204840" cy="3078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8"/>
          <p:cNvSpPr/>
          <p:nvPr/>
        </p:nvSpPr>
        <p:spPr>
          <a:xfrm>
            <a:off x="684360" y="64245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5"/>
              </a:rPr>
              <a:t>模版免费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675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175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675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175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2675"/>
                            </p:stCondLst>
                            <p:childTnLst>
                              <p:par>
                                <p:cTn id="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3175"/>
                            </p:stCondLst>
                            <p:childTnLst>
                              <p:par>
                                <p:cTn id="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3675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914400" y="2286000"/>
            <a:ext cx="1368360" cy="1008000"/>
          </a:xfrm>
          <a:prstGeom prst="rect">
            <a:avLst/>
          </a:prstGeom>
          <a:solidFill>
            <a:srgbClr val="4d4d4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环境空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右箭頭"/>
          <p:cNvPicPr/>
          <p:nvPr/>
        </p:nvPicPr>
        <p:blipFill>
          <a:blip r:embed="rId1"/>
          <a:stretch/>
        </p:blipFill>
        <p:spPr>
          <a:xfrm>
            <a:off x="7485120" y="2514600"/>
            <a:ext cx="287280" cy="182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右箭頭"/>
          <p:cNvPicPr/>
          <p:nvPr/>
        </p:nvPicPr>
        <p:blipFill>
          <a:blip r:embed="rId2"/>
          <a:stretch/>
        </p:blipFill>
        <p:spPr>
          <a:xfrm>
            <a:off x="2354400" y="2514600"/>
            <a:ext cx="287280" cy="182520"/>
          </a:xfrm>
          <a:prstGeom prst="rect">
            <a:avLst/>
          </a:prstGeom>
          <a:ln w="0">
            <a:noFill/>
          </a:ln>
        </p:spPr>
      </p:pic>
      <p:sp>
        <p:nvSpPr>
          <p:cNvPr id="68" name="Line 5"/>
          <p:cNvSpPr/>
          <p:nvPr/>
        </p:nvSpPr>
        <p:spPr>
          <a:xfrm>
            <a:off x="2641680" y="2860560"/>
            <a:ext cx="4968720" cy="0"/>
          </a:xfrm>
          <a:prstGeom prst="line">
            <a:avLst/>
          </a:prstGeom>
          <a:ln w="93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2647800" y="23749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华文细黑"/>
              </a:rPr>
              <a:t>26</a:t>
            </a:r>
            <a:r>
              <a:rPr b="1" i="1" lang="zh-CN" sz="2400" spc="-1" strike="noStrike">
                <a:solidFill>
                  <a:srgbClr val="ffffff"/>
                </a:solidFill>
                <a:latin typeface="Arial"/>
                <a:ea typeface="华文细黑"/>
              </a:rPr>
              <a:t>度：不只是最佳温度，最广气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2571840" y="2884320"/>
            <a:ext cx="515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바탕"/>
                <a:ea typeface="바탕"/>
              </a:rPr>
              <a:t>Not only the best temperature , the widest man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3"/>
          <p:cNvSpPr/>
          <p:nvPr/>
        </p:nvSpPr>
        <p:spPr>
          <a:xfrm>
            <a:off x="3851280" y="5784840"/>
            <a:ext cx="4033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  <a:ea typeface="宋体"/>
              </a:rPr>
              <a:t>Power Presented b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4"/>
          <p:cNvSpPr/>
          <p:nvPr/>
        </p:nvSpPr>
        <p:spPr>
          <a:xfrm>
            <a:off x="3881520" y="6381720"/>
            <a:ext cx="4362480" cy="1440"/>
          </a:xfrm>
          <a:prstGeom prst="line">
            <a:avLst/>
          </a:prstGeom>
          <a:ln cap="rnd" w="936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5"/>
          <p:cNvSpPr/>
          <p:nvPr/>
        </p:nvSpPr>
        <p:spPr>
          <a:xfrm>
            <a:off x="3881520" y="5805360"/>
            <a:ext cx="4362480" cy="1800"/>
          </a:xfrm>
          <a:prstGeom prst="line">
            <a:avLst/>
          </a:prstGeom>
          <a:ln cap="rnd" w="936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3780000" y="4869000"/>
            <a:ext cx="4608360" cy="11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700" spc="-1" strike="noStrike">
                <a:solidFill>
                  <a:srgbClr val="ffcc00"/>
                </a:solidFill>
                <a:latin typeface="Arial Black"/>
                <a:ea typeface="宋体"/>
              </a:rPr>
              <a:t>Thanks! 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71320" y="1028520"/>
            <a:ext cx="6057720" cy="42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04560" y="1825200"/>
            <a:ext cx="6591240" cy="385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zh-CN" sz="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zh-CN" sz="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zh-CN" sz="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zh-CN" sz="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说课ppt模板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zh-CN" sz="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zh-CN" sz="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zh-CN" sz="8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8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zh-CN" sz="8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8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6504120" y="1135080"/>
            <a:ext cx="1025280" cy="257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0T12:29:46Z</dcterms:created>
  <dc:creator>软件仓库</dc:creator>
  <dc:description/>
  <dc:language>en-US</dc:language>
  <cp:lastModifiedBy>yu wang</cp:lastModifiedBy>
  <dcterms:modified xsi:type="dcterms:W3CDTF">2015-08-12T14:56:30Z</dcterms:modified>
  <cp:revision>175</cp:revision>
  <dc:subject/>
  <dc:title>幻灯片 1</dc:title>
</cp:coreProperties>
</file>