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113-74A5-4B41-9771-C435CD53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756-DEC8-467D-83EC-6FAC35BA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7F9-C691-4A98-952A-36F98B77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D14-E809-468C-8C8D-FA0F93F3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C07-1CF0-424C-81EF-BB290639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C37-146C-43BD-824A-D678935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A53-E08C-4E99-81D8-CB1EC89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D284-E50F-4DCB-AE3F-35594AD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09D-0FF7-4B22-9696-9366E74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90CD-9AAE-41B1-8AFE-3F4257E8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7235-C50F-4953-ADAD-551F0CE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807-CD02-4EB8-B8C9-4A50A319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57D-BE4E-42C5-96E8-3AA0426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6319-73D5-42D8-B232-FCECE63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FD87-BC48-47AC-AF95-1120C7A7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41A6-F0A6-431D-A330-7D255D61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FDBC-CCDB-4813-BEF4-7E81D17E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2213-92B1-4A29-AB42-6A31BFC7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B7C5-1A88-4F46-B233-BC178B17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444D-E611-4730-A275-5F49F62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5DC0-19F7-40F4-B6BD-26BB50D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6FE2-5899-4AFA-84E5-6ABDAFB8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CC5-792E-4143-90DD-B80C16D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33A3-D642-4B15-ABB8-FB16587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4D46-A601-432E-A66C-269B089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6CD8-326F-4784-AAB1-0E0C13EB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0D79-3C35-419D-846F-2A5314A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89DC-47B4-4545-BE5A-CB38E71E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4960-FEE1-422E-9D96-0E3DA870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CBBC-BDA7-4BF1-86AF-FE8BAD4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9EE-A496-49B0-8262-0D3A0E7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B45-7601-4418-BD74-1B34CAA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7B-31D1-42B0-9B98-0CEEF2F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B2D-5D3A-4D2E-9131-B971981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3E4-324A-418E-A4C1-CA5F12F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E19-7B7C-4820-9519-0C40049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EA08-B510-4C02-A250-DA92DB43AEB2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4BA-D161-4E86-B438-F4C81EBB9517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3800"/>
            <a:ext cx="210168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A8D-1D20-4A3E-8418-8C253159E250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6200" y="5473800"/>
            <a:ext cx="284796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2ED-06F7-4F2B-AD45-8BC071CD255D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772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3800"/>
            <a:ext cx="210168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6BF4-D44B-49BF-9357-D90C47E94A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6200" y="5473800"/>
            <a:ext cx="284796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EE50-B8CB-4E43-A84A-F52DFDC57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3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866600"/>
            <a:ext cx="828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森林绿渐变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5630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0434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wg_blurred_backgrounds_3"/>
          <p:cNvPicPr/>
          <p:nvPr/>
        </p:nvPicPr>
        <p:blipFill>
          <a:blip r:embed="rId1"/>
          <a:srcRect l="0" t="0" r="0" b="76507"/>
          <a:stretch/>
        </p:blipFill>
        <p:spPr>
          <a:xfrm>
            <a:off x="0" y="4589640"/>
            <a:ext cx="899964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wg_blurred_backgrounds_3"/>
          <p:cNvPicPr/>
          <p:nvPr/>
        </p:nvPicPr>
        <p:blipFill>
          <a:blip r:embed="rId1"/>
          <a:srcRect l="51598" t="0" r="29818" b="0"/>
          <a:stretch/>
        </p:blipFill>
        <p:spPr>
          <a:xfrm>
            <a:off x="0" y="6480"/>
            <a:ext cx="167328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 rot="4320000">
            <a:off x="3167640" y="3585240"/>
            <a:ext cx="228600" cy="249120"/>
          </a:xfrm>
          <a:prstGeom prst="rect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108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 rot="2160000">
            <a:off x="5059080" y="2068560"/>
            <a:ext cx="230040" cy="249120"/>
          </a:xfrm>
          <a:prstGeom prst="rect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324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 rot="19440000">
            <a:off x="3563640" y="2136240"/>
            <a:ext cx="230040" cy="250920"/>
          </a:xfrm>
          <a:prstGeom prst="rect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756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3860640" y="1065240"/>
            <a:ext cx="1229040" cy="1235160"/>
          </a:xfrm>
          <a:prstGeom prst="ellipse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040280" y="1246320"/>
            <a:ext cx="8697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2160000">
            <a:off x="5049360" y="2014560"/>
            <a:ext cx="328680" cy="415800"/>
          </a:xfrm>
          <a:prstGeom prst="rightArrow">
            <a:avLst>
              <a:gd name="adj1" fmla="val 60000"/>
              <a:gd name="adj2" fmla="val 50000"/>
            </a:avLst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324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5353200" y="2155680"/>
            <a:ext cx="1231920" cy="1235160"/>
          </a:xfrm>
          <a:prstGeom prst="ellipse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533920" y="2336760"/>
            <a:ext cx="8701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 rot="6480000">
            <a:off x="5520600" y="3435840"/>
            <a:ext cx="326880" cy="417600"/>
          </a:xfrm>
          <a:prstGeom prst="rightArrow">
            <a:avLst>
              <a:gd name="adj1" fmla="val 60000"/>
              <a:gd name="adj2" fmla="val 50000"/>
            </a:avLst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2052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 rot="17280000">
            <a:off x="5584680" y="3472920"/>
            <a:ext cx="2300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4782960" y="3921120"/>
            <a:ext cx="1230480" cy="1235160"/>
          </a:xfrm>
          <a:prstGeom prst="ellipse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4964040" y="4102200"/>
            <a:ext cx="868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 rot="10800000">
            <a:off x="4319280" y="4330440"/>
            <a:ext cx="328680" cy="415800"/>
          </a:xfrm>
          <a:prstGeom prst="rightArrow">
            <a:avLst>
              <a:gd name="adj1" fmla="val 60000"/>
              <a:gd name="adj2" fmla="val 50000"/>
            </a:avLst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162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417920" y="4413240"/>
            <a:ext cx="230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2933640" y="3921120"/>
            <a:ext cx="1231920" cy="1235160"/>
          </a:xfrm>
          <a:prstGeom prst="ellipse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3114720" y="4102200"/>
            <a:ext cx="8697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 rot="15120000">
            <a:off x="3103920" y="3456000"/>
            <a:ext cx="327240" cy="414360"/>
          </a:xfrm>
          <a:prstGeom prst="rightArrow">
            <a:avLst>
              <a:gd name="adj1" fmla="val 60000"/>
              <a:gd name="adj2" fmla="val 50000"/>
            </a:avLst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1188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2363760" y="2155680"/>
            <a:ext cx="1230480" cy="1235160"/>
          </a:xfrm>
          <a:prstGeom prst="ellipse">
            <a:avLst/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2544840" y="2336760"/>
            <a:ext cx="8697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rm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/>
          <p:cNvSpPr/>
          <p:nvPr/>
        </p:nvSpPr>
        <p:spPr>
          <a:xfrm rot="19440000">
            <a:off x="3556080" y="2023920"/>
            <a:ext cx="326880" cy="417600"/>
          </a:xfrm>
          <a:prstGeom prst="rightArrow">
            <a:avLst>
              <a:gd name="adj1" fmla="val 60000"/>
              <a:gd name="adj2" fmla="val 50000"/>
            </a:avLst>
          </a:pr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756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 rot="5400000">
            <a:off x="1296720" y="1611360"/>
            <a:ext cx="1263600" cy="889200"/>
          </a:xfrm>
          <a:custGeom>
            <a:avLst/>
            <a:gdLst>
              <a:gd name="textAreaLeft" fmla="*/ 0 w 1263600"/>
              <a:gd name="textAreaRight" fmla="*/ 1263960 w 12636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488960" y="1866960"/>
            <a:ext cx="88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rmAutofit fontScale="96000"/>
          </a:bodyPr>
          <a:p>
            <a:pPr algn="ctr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373480" y="1461960"/>
            <a:ext cx="54306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 rot="5400000">
            <a:off x="1296720" y="2730240"/>
            <a:ext cx="1263960" cy="88920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488960" y="2986200"/>
            <a:ext cx="88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rmAutofit fontScale="96000"/>
          </a:bodyPr>
          <a:p>
            <a:pPr algn="ctr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373480" y="2581200"/>
            <a:ext cx="5430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5400000">
            <a:off x="1296000" y="3850200"/>
            <a:ext cx="1265400" cy="88920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gradFill rotWithShape="0">
            <a:gsLst>
              <a:gs pos="0">
                <a:srgbClr val="008000">
                  <a:alpha val="58039"/>
                </a:srgbClr>
              </a:gs>
              <a:gs pos="100000">
                <a:srgbClr val="99cc00">
                  <a:alpha val="85098"/>
                </a:srgbClr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488960" y="4105440"/>
            <a:ext cx="88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rmAutofit fontScale="96000"/>
          </a:bodyPr>
          <a:p>
            <a:pPr algn="ctr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373480" y="3701880"/>
            <a:ext cx="54306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39640" y="5651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"/>
          <p:cNvSpPr/>
          <p:nvPr/>
        </p:nvSpPr>
        <p:spPr>
          <a:xfrm>
            <a:off x="1853280" y="502272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wg_blurred_backgrounds_3"/>
          <p:cNvPicPr/>
          <p:nvPr/>
        </p:nvPicPr>
        <p:blipFill>
          <a:blip r:embed="rId2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2293920"/>
            <a:ext cx="7650360" cy="1287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69880" y="614160"/>
            <a:ext cx="6059520" cy="423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04560" y="1413000"/>
            <a:ext cx="6589800" cy="3852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504120" y="720720"/>
            <a:ext cx="1025280" cy="25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14T12:51:3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