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8D7-A800-468B-BD79-B8D55598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760-C712-4754-8F07-A2EDF812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7C0-3177-4915-ACF4-BF370D45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968-5457-4573-9734-6283B30E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4297-E952-4C32-8067-2F25279C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BA3D-59EB-40DB-ABB7-5FD41A20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0C0C-F599-4B82-AC8B-1EED1434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E99-2504-4FD4-AF29-B947376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8AA4-D6B2-495A-928B-2ACCE9DE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7BC4-E3C0-4B31-9032-17F7F7F8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923C-0C81-4B96-84A7-863E4796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D86-D5EC-4C20-BAB0-ED0A128B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F5B4-2BBC-417C-8873-3F78E6CC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1D71-2F65-47D2-B577-3B9FC65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357E-F423-4089-A635-0680F2E2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0CAC-8C5B-4712-9AF9-3061B4A7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B420-9FC8-4B8D-85A5-6921E8BC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315-B97B-402A-818A-BDF329B4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734-6D8F-4B19-8BAB-F87C5594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749-7414-458E-85E7-64205BDF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53E-C0E5-456D-A35B-24310B76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667-5119-4EFA-A06E-95E546E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3F5-56A7-4AA9-8123-BD0F8131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975-3DDB-460A-A7DB-E849A1C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8BC63F-5175-4AFC-A341-B204A6CEF4F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DDA2F4-4449-40BD-8D43-020A9242166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-28440" y="57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115640" y="3935520"/>
            <a:ext cx="7819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深蓝唯美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286080" y="464328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12114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31402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69976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688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4258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1403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37116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3544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9263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1854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442584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6140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22827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6283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42116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7114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4354560" y="5357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7834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27828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271152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556884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17114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65692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41403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9640" y="65527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23544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63547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4354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22827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42832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621180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  <Words>288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2:10Z</dcterms:modified>
  <cp:revision>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