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539-E8AB-46F9-A3EC-81A231F6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E47-20ED-4503-BEF8-9CA31F9C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D3B-E3A3-45E4-B5D2-A99A140E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ECF-D2DF-4D4A-9130-A9FFBF14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AD5E-0B85-443F-A971-054D591C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A8C4-7212-4DB9-8EA5-D7D9D02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466B-FE63-43C8-B023-29380A49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DABA-689A-4F19-8B6D-8575D729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F7B1-8E83-41A0-AA13-C532FCE0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5012-E1ED-4702-A9B6-0FEC29E4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C8BB-C1D8-49F1-A34E-077CC2FC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C5F-BEF3-479D-8819-050FEF1B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E522-DC7A-4E2A-9DD5-8CA6E53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7F65-CA3C-4D82-AA17-67C817E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7768-6ACF-489F-B78E-DA4048FF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D5FC-5152-40B5-A8ED-612891AB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BA2D-1A5D-4404-ADDD-24BFD4EB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039-B11C-419D-A0B3-695C7E22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979-F4DD-4682-8E8C-2F095B91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D21-9857-4B81-8558-A9793E21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B20-E52B-413B-AB6D-C4A80BE9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3A4-4159-452D-9EC5-371FF95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19C-476A-4D14-89C9-D96C98EC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D3C-7725-4E0C-8C8B-DB745FB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7CF9-570B-4018-BE2B-0A3AFF317272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480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1733-1F88-43ED-8C03-57A868D09A1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3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F651-548E-443B-A4E1-5A4BED365702}" type="datetime">
              <a: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31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59720" y="638316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FBC8-7FCB-49CD-AAFC-56F351885B5E}" type="slidenum"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2205000"/>
            <a:ext cx="6337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icrosoft JhengHei"/>
              </a:rPr>
              <a:t>水墨笔砚中国风</a:t>
            </a:r>
            <a:r>
              <a:rPr b="0" lang="en-US" sz="4000" spc="-1" strike="noStrike">
                <a:solidFill>
                  <a:srgbClr val="000000"/>
                </a:solidFill>
                <a:latin typeface="Microsoft JhengHe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Microsoft JhengHe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63640" y="3933720"/>
            <a:ext cx="63388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45720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3157-6860-41E3-8E40-87D990338C18}" type="datetime">
              <a:rPr b="0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5"/>
          <p:cNvSpPr/>
          <p:nvPr/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59C3-F1B2-43CC-9F54-9188E7E5825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1130400" y="4537080"/>
            <a:ext cx="7276680" cy="337680"/>
            <a:chOff x="1130400" y="4537080"/>
            <a:chExt cx="7276680" cy="337680"/>
          </a:xfrm>
        </p:grpSpPr>
        <p:sp>
          <p:nvSpPr>
            <p:cNvPr id="90" name="Text Box 3"/>
            <p:cNvSpPr/>
            <p:nvPr/>
          </p:nvSpPr>
          <p:spPr>
            <a:xfrm>
              <a:off x="1240920" y="4605840"/>
              <a:ext cx="701028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"/>
            <p:cNvSpPr/>
            <p:nvPr/>
          </p:nvSpPr>
          <p:spPr>
            <a:xfrm>
              <a:off x="1130400" y="453708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000" y="999720"/>
            <a:ext cx="615600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10800"/>
            <a:ext cx="669600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8880" y="1108080"/>
            <a:ext cx="10411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9:57:00Z</dcterms:created>
  <dc:creator>Rhea</dc:creator>
  <dc:description>www.nordridesign.cn</dc:description>
  <cp:keywords>Powerbar Nordri</cp:keywords>
  <dc:language>en-US</dc:language>
  <cp:lastModifiedBy>yu wang</cp:lastModifiedBy>
  <cp:lastPrinted>1899-12-30T00:00:00Z</cp:lastPrinted>
  <dcterms:modified xsi:type="dcterms:W3CDTF">2015-08-14T12:51:54Z</dcterms:modified>
  <cp:revision>30</cp:revision>
  <dc:subject/>
  <dc:title>水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