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BC9-0553-4224-95C6-857F5E7F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90C0-0215-4DD1-8988-09D87962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295A-AA54-41A5-B10D-70E09E1C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62F6-7658-4CEF-817D-597FB8B3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95F-070D-44FE-BF9F-0EE21BF5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FB1-8FED-498E-A8C6-29FC166A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7AE2-6AC7-43DA-B06D-FA172859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3925-EE8A-4A6F-B8FA-B0724F6A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C064-D2F1-428C-A260-F68E790A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CA86-8D95-4964-B430-B353FAF7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547-F489-48F2-B65E-EA91690C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D29-098E-4271-985B-4A7CD3AE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1226-9DB9-4360-911F-A7090908C1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1605600" y="2205000"/>
            <a:ext cx="56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46464"/>
                </a:solidFill>
                <a:latin typeface="汉仪小隶书简"/>
                <a:ea typeface="汉仪小隶书简"/>
              </a:rPr>
              <a:t>水墨中国风完整版</a:t>
            </a:r>
            <a:r>
              <a:rPr b="0" lang="en-US" sz="4000" spc="-1" strike="noStrike">
                <a:solidFill>
                  <a:srgbClr val="646464"/>
                </a:solidFill>
                <a:latin typeface="汉仪小隶书简"/>
                <a:ea typeface="汉仪小隶书简"/>
              </a:rPr>
              <a:t>PPT</a:t>
            </a:r>
            <a:r>
              <a:rPr b="0" lang="zh-CN" sz="4000" spc="-1" strike="noStrike">
                <a:solidFill>
                  <a:srgbClr val="646464"/>
                </a:solidFill>
                <a:latin typeface="汉仪小隶书简"/>
                <a:ea typeface="汉仪小隶书简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0" y="981000"/>
            <a:ext cx="9144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4"/>
          <p:cNvSpPr/>
          <p:nvPr/>
        </p:nvSpPr>
        <p:spPr>
          <a:xfrm>
            <a:off x="1067760" y="-2700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46464"/>
                </a:solidFill>
                <a:latin typeface="汉仪小隶书简"/>
                <a:ea typeface="汉仪小隶书简"/>
              </a:rPr>
              <a:t>中国风幻灯片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d26900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d26900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d26900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08:18:33Z</dcterms:created>
  <dc:creator>LiaXiao</dc:creator>
  <dc:description/>
  <dc:language>en-US</dc:language>
  <cp:lastModifiedBy>yu wang</cp:lastModifiedBy>
  <dcterms:modified xsi:type="dcterms:W3CDTF">2015-08-14T12:51:41Z</dcterms:modified>
  <cp:revision>32</cp:revision>
  <dc:subject/>
  <dc:title>PowerPoint 演示文稿</dc:title>
</cp:coreProperties>
</file>