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7E5E-0944-410F-A628-B7EABC5F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ADCD-B269-4C13-BFC6-8567FA42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C15-95EB-4077-89AA-5328D828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C938-254D-431B-A35C-BD306BB5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C136-149A-45B5-A651-64885BDD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DCFF-7E53-4744-A34B-C30773F3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5E22-CE5A-4B0D-885B-9092DA52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5A92-7287-4F00-BEC9-8E91F318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1241-F150-4979-AE9E-E2A1E2A1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DD32-534C-4D1F-A032-F1D5208B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3CBE-81A4-440E-B76A-0E26F204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29C-F487-40A3-A941-B8727FCB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DEA3-15AA-49DE-8615-E7AEF405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4319-A191-469E-9F08-7AA55F18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4D5A-98D0-4984-BE4B-F1CFF8F2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EF79-A670-4996-AA7B-1080A896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74D8-E698-423F-B3EE-8E34DEC7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01AB8-321F-4E6D-A5BD-589F692E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A40BC-5EF8-4DAC-B948-BD462E8C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25AD8-BE7B-4198-8D06-15994BB6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65AF1-E986-4F9A-8DB9-522FFEC7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0752C-CC36-4BF2-B957-4C3D4830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871-D3B1-4817-9021-3E189259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0E880-0751-4913-B4CD-05EDB174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093C8-E8BD-4E3C-8744-798A2DB7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80A99-ECD3-4303-978E-787E0D68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6EA2E-7B03-4F90-B758-7A834C28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87872-A6B3-4831-9882-D741EF53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67B76-8E9E-4A0A-AC5F-C61E07D6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B350E-5A93-4082-B5D7-400F1F2A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14657-6C6F-45FE-8B4E-07D87612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DD0A0-5907-4B5B-A017-FC3BDEDE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98BC8-0A49-4F8E-8439-AE8C0DB2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D6C-E5A2-4EC6-AAE7-F684E4A8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4CD2F-6161-4854-B845-610710FA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F0399-E513-4EF1-A840-55489E9A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50608-A4EE-4A18-B787-3D5CD0C1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B462C-2E2C-41F2-9C10-191D91BE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0075C-2C61-4082-8B3B-CC31D508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B5794-2008-4067-9835-465A2F02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72CC8-C161-4104-9840-31F6AD12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B4BE3-21A0-4C1D-A51B-F5EC1190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8488D-66EC-46D0-B03D-2E4280F2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42414-1713-4294-BB98-808DE9A5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1FE9-E19C-43E2-8CB4-8A16BE2E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07909-E107-4C5E-806A-E077C533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CDCB9-F661-4CBD-8957-04BD6E7D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F11D2-B617-4B70-BE6D-47A605E7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1DE2E-6C11-4610-80AF-6FD849E5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7A587-9182-4D52-ABCA-3104F0E7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C4F45-CF69-457A-9142-CE8A42A8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998DB-5397-47CB-8C0B-A5731CD4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CAEFA-5E0A-4ECB-98F4-5097955E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F43CD-FF78-44DA-9086-669C6F61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05396-90EE-4E21-B8D6-1F468BED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4465-E02E-4019-A15A-4602909D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AAA35-6554-4192-ADFB-2D8CEC6B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8B52-D3DD-4BB2-90A7-D39B2B74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A2DB-0237-4B03-A842-0FBED680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684A-3E6A-4745-91E2-6C31C137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441A-3E7C-4626-87E8-D2859F87025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6"/>
          <p:cNvSpPr/>
          <p:nvPr/>
        </p:nvSpPr>
        <p:spPr>
          <a:xfrm>
            <a:off x="8997120" y="142920"/>
            <a:ext cx="3240" cy="47862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7"/>
          <p:cNvSpPr/>
          <p:nvPr/>
        </p:nvSpPr>
        <p:spPr>
          <a:xfrm>
            <a:off x="0" y="4857840"/>
            <a:ext cx="9144000" cy="285840"/>
          </a:xfrm>
          <a:custGeom>
            <a:avLst/>
            <a:gdLst/>
            <a:ahLst/>
            <a:rect l="l" t="t" r="r" b="b"/>
            <a:pathLst>
              <a:path w="9144000" h="285734">
                <a:moveTo>
                  <a:pt x="0" y="0"/>
                </a:moveTo>
                <a:lnTo>
                  <a:pt x="5715008" y="1"/>
                </a:lnTo>
                <a:lnTo>
                  <a:pt x="6000760" y="142877"/>
                </a:lnTo>
                <a:lnTo>
                  <a:pt x="9144000" y="142877"/>
                </a:lnTo>
                <a:lnTo>
                  <a:pt x="9144000" y="285734"/>
                </a:lnTo>
                <a:lnTo>
                  <a:pt x="0" y="285734"/>
                </a:lnTo>
                <a:lnTo>
                  <a:pt x="0" y="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EB37-AF72-4303-999D-2DC7267BC0C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直接连接符 6"/>
          <p:cNvSpPr/>
          <p:nvPr/>
        </p:nvSpPr>
        <p:spPr>
          <a:xfrm>
            <a:off x="8997120" y="142920"/>
            <a:ext cx="3240" cy="47862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7"/>
          <p:cNvSpPr/>
          <p:nvPr/>
        </p:nvSpPr>
        <p:spPr>
          <a:xfrm>
            <a:off x="0" y="4857840"/>
            <a:ext cx="9144000" cy="285840"/>
          </a:xfrm>
          <a:custGeom>
            <a:avLst/>
            <a:gdLst/>
            <a:ahLst/>
            <a:rect l="l" t="t" r="r" b="b"/>
            <a:pathLst>
              <a:path w="9144000" h="285734">
                <a:moveTo>
                  <a:pt x="0" y="0"/>
                </a:moveTo>
                <a:lnTo>
                  <a:pt x="5715008" y="1"/>
                </a:lnTo>
                <a:lnTo>
                  <a:pt x="6000760" y="142877"/>
                </a:lnTo>
                <a:lnTo>
                  <a:pt x="9144000" y="142877"/>
                </a:lnTo>
                <a:lnTo>
                  <a:pt x="9144000" y="285734"/>
                </a:lnTo>
                <a:lnTo>
                  <a:pt x="0" y="285734"/>
                </a:lnTo>
                <a:lnTo>
                  <a:pt x="0" y="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DCAF-540A-4E1D-81C0-34B54457A14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直接连接符 6"/>
          <p:cNvSpPr/>
          <p:nvPr/>
        </p:nvSpPr>
        <p:spPr>
          <a:xfrm>
            <a:off x="8997120" y="142920"/>
            <a:ext cx="3240" cy="47862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7"/>
          <p:cNvSpPr/>
          <p:nvPr/>
        </p:nvSpPr>
        <p:spPr>
          <a:xfrm>
            <a:off x="0" y="4857840"/>
            <a:ext cx="9144000" cy="285840"/>
          </a:xfrm>
          <a:custGeom>
            <a:avLst/>
            <a:gdLst/>
            <a:ahLst/>
            <a:rect l="l" t="t" r="r" b="b"/>
            <a:pathLst>
              <a:path w="9144000" h="285734">
                <a:moveTo>
                  <a:pt x="0" y="0"/>
                </a:moveTo>
                <a:lnTo>
                  <a:pt x="5715008" y="1"/>
                </a:lnTo>
                <a:lnTo>
                  <a:pt x="6000760" y="142877"/>
                </a:lnTo>
                <a:lnTo>
                  <a:pt x="9144000" y="142877"/>
                </a:lnTo>
                <a:lnTo>
                  <a:pt x="9144000" y="285734"/>
                </a:lnTo>
                <a:lnTo>
                  <a:pt x="0" y="285734"/>
                </a:lnTo>
                <a:lnTo>
                  <a:pt x="0" y="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DB04-93AA-4023-A84D-CC76123A5A6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3A2D-C108-4031-9123-BAC7C8EDB31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F:\GWYan's Pictures\PPT素材\人物与动作\typing.jpg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2571840"/>
          </a:xfrm>
          <a:prstGeom prst="rect">
            <a:avLst/>
          </a:prstGeom>
          <a:ln w="0">
            <a:noFill/>
          </a:ln>
        </p:spPr>
      </p:pic>
      <p:pic>
        <p:nvPicPr>
          <p:cNvPr id="212" name="副标题 2" descr=""/>
          <p:cNvPicPr/>
          <p:nvPr/>
        </p:nvPicPr>
        <p:blipFill>
          <a:blip r:embed="rId2"/>
          <a:stretch/>
        </p:blipFill>
        <p:spPr>
          <a:xfrm>
            <a:off x="554040" y="2060640"/>
            <a:ext cx="6559560" cy="1395360"/>
          </a:xfrm>
          <a:prstGeom prst="rect">
            <a:avLst/>
          </a:prstGeom>
          <a:ln w="0">
            <a:noFill/>
          </a:ln>
        </p:spPr>
      </p:pic>
      <p:sp>
        <p:nvSpPr>
          <p:cNvPr id="213" name="矩形 4"/>
          <p:cNvSpPr/>
          <p:nvPr/>
        </p:nvSpPr>
        <p:spPr>
          <a:xfrm flipH="1">
            <a:off x="0" y="2786040"/>
            <a:ext cx="9144000" cy="1429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副标题 2"/>
          <p:cNvSpPr/>
          <p:nvPr/>
        </p:nvSpPr>
        <p:spPr>
          <a:xfrm>
            <a:off x="714240" y="3143160"/>
            <a:ext cx="64008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  <a:ea typeface="微软雅黑"/>
              </a:rPr>
              <a:t>wz    uf   me   bu     xt   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副标题 2"/>
          <p:cNvSpPr/>
          <p:nvPr/>
        </p:nvSpPr>
        <p:spPr>
          <a:xfrm>
            <a:off x="4357800" y="2786040"/>
            <a:ext cx="1500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  <a:ea typeface="微软雅黑"/>
              </a:rPr>
              <a:t>ud        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00000" y="103932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双拼嵌入字体企业推广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2"/>
          <p:cNvSpPr/>
          <p:nvPr/>
        </p:nvSpPr>
        <p:spPr>
          <a:xfrm>
            <a:off x="457200" y="4699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F:\GWYan's Pictures\PPT素材\人物与动作\商业图片示例 (115).jpg"/>
          <p:cNvPicPr/>
          <p:nvPr/>
        </p:nvPicPr>
        <p:blipFill>
          <a:blip r:embed="rId1"/>
          <a:stretch/>
        </p:blipFill>
        <p:spPr>
          <a:xfrm>
            <a:off x="4572000" y="857160"/>
            <a:ext cx="4022640" cy="38577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144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双拼 是把拼音变形为两个字母的输入法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8480" y="1285560"/>
            <a:ext cx="28573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534960"/>
                <a:tab algn="l" pos="143676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34960"/>
                <a:tab algn="l" pos="143676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34960"/>
                <a:tab algn="l" pos="143676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34960"/>
                <a:tab algn="l" pos="143676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34960"/>
                <a:tab algn="l" pos="143676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34960"/>
                <a:tab algn="l" pos="143676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34960"/>
                <a:tab algn="l" pos="143676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ua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34960"/>
                <a:tab algn="l" pos="143676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5840" y="213840"/>
            <a:ext cx="8215200" cy="3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f0000"/>
                </a:solidFill>
                <a:latin typeface="Calibri"/>
              </a:rPr>
              <a:t>双拼是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4"/>
          <p:cNvSpPr/>
          <p:nvPr/>
        </p:nvSpPr>
        <p:spPr>
          <a:xfrm flipH="1">
            <a:off x="8929080" y="142920"/>
            <a:ext cx="135000" cy="207180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11"/>
          <p:cNvGrpSpPr/>
          <p:nvPr/>
        </p:nvGrpSpPr>
        <p:grpSpPr>
          <a:xfrm>
            <a:off x="357120" y="1428840"/>
            <a:ext cx="500040" cy="1785960"/>
            <a:chOff x="357120" y="1428840"/>
            <a:chExt cx="500040" cy="1785960"/>
          </a:xfrm>
        </p:grpSpPr>
        <p:sp>
          <p:nvSpPr>
            <p:cNvPr id="224" name="矩形 6"/>
            <p:cNvSpPr/>
            <p:nvPr/>
          </p:nvSpPr>
          <p:spPr>
            <a:xfrm>
              <a:off x="357120" y="1428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bf0000"/>
                  </a:solidFill>
                  <a:latin typeface="文鼎习字体"/>
                  <a:ea typeface="文鼎习字体"/>
                </a:rPr>
                <a:t>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圆角矩形 7"/>
            <p:cNvSpPr/>
            <p:nvPr/>
          </p:nvSpPr>
          <p:spPr>
            <a:xfrm>
              <a:off x="357120" y="1928880"/>
              <a:ext cx="50004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Calibri"/>
                  <a:ea typeface="微软雅黑"/>
                </a:rPr>
                <a:t>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圆角矩形 8"/>
            <p:cNvSpPr/>
            <p:nvPr/>
          </p:nvSpPr>
          <p:spPr>
            <a:xfrm>
              <a:off x="357120" y="2786400"/>
              <a:ext cx="50004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Calibri"/>
                  <a:ea typeface="微软雅黑"/>
                </a:rPr>
                <a:t>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圆角矩形 9"/>
            <p:cNvSpPr/>
            <p:nvPr/>
          </p:nvSpPr>
          <p:spPr>
            <a:xfrm>
              <a:off x="357120" y="2357640"/>
              <a:ext cx="50004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Calibri"/>
                  <a:ea typeface="微软雅黑"/>
                </a:rPr>
                <a:t>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8" descr="F:\GWYan's Pictures\图标集\defaulticon\icons\png\256x256\check.png"/>
          <p:cNvPicPr/>
          <p:nvPr/>
        </p:nvPicPr>
        <p:blipFill>
          <a:blip r:embed="rId1"/>
          <a:stretch/>
        </p:blipFill>
        <p:spPr>
          <a:xfrm>
            <a:off x="6357960" y="1573200"/>
            <a:ext cx="2573280" cy="3638520"/>
          </a:xfrm>
          <a:prstGeom prst="rect">
            <a:avLst/>
          </a:prstGeom>
          <a:ln w="0">
            <a:noFill/>
          </a:ln>
        </p:spPr>
      </p:pic>
      <p:sp>
        <p:nvSpPr>
          <p:cNvPr id="229" name="矩形 18"/>
          <p:cNvSpPr/>
          <p:nvPr/>
        </p:nvSpPr>
        <p:spPr>
          <a:xfrm>
            <a:off x="6000840" y="714240"/>
            <a:ext cx="2928960" cy="41436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144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双拼 让打字更快捷、更精确、更专业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213920" y="1406160"/>
            <a:ext cx="6357960" cy="1165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更</a:t>
            </a:r>
            <a:r>
              <a:rPr b="0" lang="zh-CN" sz="28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快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595959"/>
                </a:solidFill>
                <a:latin typeface="Calibri"/>
              </a:rPr>
              <a:t>减少键盘敲击，提高打字速度，毫不输给五笔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85840" y="213840"/>
            <a:ext cx="8215200" cy="3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f0000"/>
                </a:solidFill>
                <a:latin typeface="Calibri"/>
              </a:rPr>
              <a:t>双拼有什么用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3" descr="F:\GWYan's Pictures\图标集\defaulticon\icons\png\256x256\justice.png"/>
          <p:cNvPicPr/>
          <p:nvPr/>
        </p:nvPicPr>
        <p:blipFill>
          <a:blip r:embed="rId2"/>
          <a:stretch/>
        </p:blipFill>
        <p:spPr>
          <a:xfrm>
            <a:off x="347760" y="2584440"/>
            <a:ext cx="811080" cy="811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F:\GWYan's Pictures\图标集\defaulticon\icons\png\256x256\media-fast-forward.png"/>
          <p:cNvPicPr/>
          <p:nvPr/>
        </p:nvPicPr>
        <p:blipFill>
          <a:blip r:embed="rId3"/>
          <a:stretch/>
        </p:blipFill>
        <p:spPr>
          <a:xfrm>
            <a:off x="347760" y="1414440"/>
            <a:ext cx="811080" cy="811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F:\GWYan's Pictures\图标集\defaulticon\icons\png\256x256\check-box.png"/>
          <p:cNvPicPr/>
          <p:nvPr/>
        </p:nvPicPr>
        <p:blipFill>
          <a:blip r:embed="rId4"/>
          <a:stretch/>
        </p:blipFill>
        <p:spPr>
          <a:xfrm>
            <a:off x="347760" y="3749760"/>
            <a:ext cx="815760" cy="815760"/>
          </a:xfrm>
          <a:prstGeom prst="rect">
            <a:avLst/>
          </a:prstGeom>
          <a:ln w="0">
            <a:noFill/>
          </a:ln>
        </p:spPr>
      </p:pic>
      <p:sp>
        <p:nvSpPr>
          <p:cNvPr id="236" name="内容占位符 2"/>
          <p:cNvSpPr/>
          <p:nvPr/>
        </p:nvSpPr>
        <p:spPr>
          <a:xfrm>
            <a:off x="1214280" y="2571840"/>
            <a:ext cx="635796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更</a:t>
            </a:r>
            <a:r>
              <a:rPr b="0" lang="zh-CN" sz="28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精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每字两键，节奏感舒畅，避免切分和识别错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内容占位符 2"/>
          <p:cNvSpPr/>
          <p:nvPr/>
        </p:nvSpPr>
        <p:spPr>
          <a:xfrm>
            <a:off x="1214280" y="3714840"/>
            <a:ext cx="635796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更</a:t>
            </a:r>
            <a:r>
              <a:rPr b="0" lang="zh-CN" sz="28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专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全拼代表菜鸟级拼音打字者，双拼代表专业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2"/>
          <p:cNvSpPr/>
          <p:nvPr/>
        </p:nvSpPr>
        <p:spPr>
          <a:xfrm flipH="1">
            <a:off x="8929080" y="428760"/>
            <a:ext cx="135000" cy="207144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144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学习双拼的三个“一”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785840" y="1406160"/>
            <a:ext cx="6357960" cy="1165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一</a:t>
            </a:r>
            <a:r>
              <a:rPr b="0" lang="zh-CN" sz="28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小时记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595959"/>
                </a:solidFill>
                <a:latin typeface="Calibri"/>
              </a:rPr>
              <a:t>一小时记住一套双拼编码方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5840" y="213840"/>
            <a:ext cx="8215200" cy="3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f0000"/>
                </a:solidFill>
                <a:latin typeface="Calibri"/>
              </a:rPr>
              <a:t>我有必要学习双拼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内容占位符 2"/>
          <p:cNvSpPr/>
          <p:nvPr/>
        </p:nvSpPr>
        <p:spPr>
          <a:xfrm>
            <a:off x="4786200" y="2571840"/>
            <a:ext cx="635796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一</a:t>
            </a:r>
            <a:r>
              <a:rPr b="0" lang="zh-CN" sz="28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整天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一整天练打字，巩固键位记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内容占位符 2"/>
          <p:cNvSpPr/>
          <p:nvPr/>
        </p:nvSpPr>
        <p:spPr>
          <a:xfrm>
            <a:off x="4786200" y="3714840"/>
            <a:ext cx="635796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一</a:t>
            </a:r>
            <a:r>
              <a:rPr b="0" lang="zh-CN" sz="28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辈子受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击键数目减少</a:t>
            </a:r>
            <a:r>
              <a:rPr b="0" lang="en-US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37.9%,</a:t>
            </a:r>
            <a:r>
              <a:rPr b="0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  </a:t>
            </a:r>
            <a:r>
              <a:rPr b="0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节省指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23"/>
          <p:cNvGrpSpPr/>
          <p:nvPr/>
        </p:nvGrpSpPr>
        <p:grpSpPr>
          <a:xfrm>
            <a:off x="3929040" y="3773520"/>
            <a:ext cx="785880" cy="785880"/>
            <a:chOff x="3929040" y="3773520"/>
            <a:chExt cx="785880" cy="785880"/>
          </a:xfrm>
        </p:grpSpPr>
        <p:sp>
          <p:nvSpPr>
            <p:cNvPr id="245" name="圆角矩形 16"/>
            <p:cNvSpPr/>
            <p:nvPr/>
          </p:nvSpPr>
          <p:spPr>
            <a:xfrm>
              <a:off x="3929040" y="3773520"/>
              <a:ext cx="785880" cy="785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笑脸 17"/>
            <p:cNvSpPr/>
            <p:nvPr/>
          </p:nvSpPr>
          <p:spPr>
            <a:xfrm>
              <a:off x="3984480" y="3859200"/>
              <a:ext cx="675000" cy="614520"/>
            </a:xfrm>
            <a:prstGeom prst="smileyFace">
              <a:avLst>
                <a:gd name="adj" fmla="val 9282"/>
              </a:avLst>
            </a:prstGeom>
            <a:noFill/>
            <a:ln w="5724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7" name="Picture 2" descr="F:\GWYan's Pictures\图标集\defaulticon\icons\png\256x256\alarm.png"/>
          <p:cNvPicPr/>
          <p:nvPr/>
        </p:nvPicPr>
        <p:blipFill>
          <a:blip r:embed="rId1"/>
          <a:stretch/>
        </p:blipFill>
        <p:spPr>
          <a:xfrm>
            <a:off x="3919680" y="1414440"/>
            <a:ext cx="811080" cy="816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F:\GWYan's Pictures\图标集\defaulticon\icons\png\256x256\calendar.png"/>
          <p:cNvPicPr/>
          <p:nvPr/>
        </p:nvPicPr>
        <p:blipFill>
          <a:blip r:embed="rId2"/>
          <a:stretch/>
        </p:blipFill>
        <p:spPr>
          <a:xfrm>
            <a:off x="3919680" y="2571840"/>
            <a:ext cx="811080" cy="811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7" descr=""/>
          <p:cNvPicPr/>
          <p:nvPr/>
        </p:nvPicPr>
        <p:blipFill>
          <a:blip r:embed="rId3"/>
          <a:stretch/>
        </p:blipFill>
        <p:spPr>
          <a:xfrm>
            <a:off x="384120" y="1357200"/>
            <a:ext cx="3286080" cy="3143520"/>
          </a:xfrm>
          <a:prstGeom prst="rect">
            <a:avLst/>
          </a:prstGeom>
          <a:ln w="0">
            <a:noFill/>
          </a:ln>
        </p:spPr>
      </p:pic>
      <p:sp>
        <p:nvSpPr>
          <p:cNvPr id="250" name="矩形 32"/>
          <p:cNvSpPr/>
          <p:nvPr/>
        </p:nvSpPr>
        <p:spPr>
          <a:xfrm>
            <a:off x="357120" y="1214280"/>
            <a:ext cx="3429000" cy="3429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8"/>
          <p:cNvSpPr/>
          <p:nvPr/>
        </p:nvSpPr>
        <p:spPr>
          <a:xfrm flipH="1">
            <a:off x="8929080" y="642960"/>
            <a:ext cx="135000" cy="207180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"/>
          <p:cNvPicPr/>
          <p:nvPr/>
        </p:nvPicPr>
        <p:blipFill>
          <a:blip r:embed="rId1"/>
          <a:stretch/>
        </p:blipFill>
        <p:spPr>
          <a:xfrm>
            <a:off x="5394240" y="1928880"/>
            <a:ext cx="3537000" cy="25718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7144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建议学习：微软拼音双拼方案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85840" y="213840"/>
            <a:ext cx="8215200" cy="3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f0000"/>
                </a:solidFill>
                <a:latin typeface="Calibri"/>
              </a:rPr>
              <a:t>新手适合学习哪种双拼编码方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内容占位符 2"/>
          <p:cNvSpPr/>
          <p:nvPr/>
        </p:nvSpPr>
        <p:spPr>
          <a:xfrm>
            <a:off x="1214280" y="1406520"/>
            <a:ext cx="63579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很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科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合理安排键位，左右手负担均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内容占位符 2"/>
          <p:cNvSpPr/>
          <p:nvPr/>
        </p:nvSpPr>
        <p:spPr>
          <a:xfrm>
            <a:off x="1214280" y="2571840"/>
            <a:ext cx="635796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很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普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多种流行拼音输入法中均内置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内容占位符 2"/>
          <p:cNvSpPr/>
          <p:nvPr/>
        </p:nvSpPr>
        <p:spPr>
          <a:xfrm>
            <a:off x="1214280" y="3714840"/>
            <a:ext cx="635796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很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易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键位规律性强，更有口诀助记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F:\GWYan's Pictures\图标集\defaulticon\icons\png\256x256\science.png"/>
          <p:cNvPicPr/>
          <p:nvPr/>
        </p:nvPicPr>
        <p:blipFill>
          <a:blip r:embed="rId2"/>
          <a:stretch/>
        </p:blipFill>
        <p:spPr>
          <a:xfrm>
            <a:off x="347760" y="1414440"/>
            <a:ext cx="811080" cy="816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F:\GWYan's Pictures\图标集\defaulticon\icons\png\256x256\8-direction.png"/>
          <p:cNvPicPr/>
          <p:nvPr/>
        </p:nvPicPr>
        <p:blipFill>
          <a:blip r:embed="rId3"/>
          <a:stretch/>
        </p:blipFill>
        <p:spPr>
          <a:xfrm>
            <a:off x="347760" y="2560680"/>
            <a:ext cx="811080" cy="811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F:\GWYan's Pictures\图标集\defaulticon\icons\png\256x256\add-favourite.png"/>
          <p:cNvPicPr/>
          <p:nvPr/>
        </p:nvPicPr>
        <p:blipFill>
          <a:blip r:embed="rId4"/>
          <a:stretch/>
        </p:blipFill>
        <p:spPr>
          <a:xfrm>
            <a:off x="347760" y="3773520"/>
            <a:ext cx="811080" cy="811080"/>
          </a:xfrm>
          <a:prstGeom prst="rect">
            <a:avLst/>
          </a:prstGeom>
          <a:ln w="0">
            <a:noFill/>
          </a:ln>
        </p:spPr>
      </p:pic>
      <p:sp>
        <p:nvSpPr>
          <p:cNvPr id="261" name="矩形 11"/>
          <p:cNvSpPr/>
          <p:nvPr/>
        </p:nvSpPr>
        <p:spPr>
          <a:xfrm flipH="1">
            <a:off x="8929080" y="857160"/>
            <a:ext cx="135000" cy="207180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468360" y="46195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7144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规则：将拼音扩展或压缩成两个字母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5840" y="213840"/>
            <a:ext cx="8215200" cy="3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f0000"/>
                </a:solidFill>
                <a:latin typeface="Calibri"/>
              </a:rPr>
              <a:t>微软拼音双拼方案的编码规则是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组合 33"/>
          <p:cNvGrpSpPr/>
          <p:nvPr/>
        </p:nvGrpSpPr>
        <p:grpSpPr>
          <a:xfrm>
            <a:off x="357120" y="1428840"/>
            <a:ext cx="2286000" cy="3071880"/>
            <a:chOff x="357120" y="1428840"/>
            <a:chExt cx="2286000" cy="3071880"/>
          </a:xfrm>
        </p:grpSpPr>
        <p:sp>
          <p:nvSpPr>
            <p:cNvPr id="266" name="圆角矩形 20"/>
            <p:cNvSpPr/>
            <p:nvPr/>
          </p:nvSpPr>
          <p:spPr>
            <a:xfrm>
              <a:off x="357120" y="1428840"/>
              <a:ext cx="2286000" cy="3071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3071880"/>
                <a:gd name="textAreaBottom" fmla="*/ 2960280 h 3071880"/>
              </a:gdLst>
              <a:ahLst/>
              <a:rect l="textAreaLeft" t="textAreaTop" r="textAreaRight" b="textAreaBottom"/>
              <a:pathLst>
                <a:path w="21600" h="29024">
                  <a:moveTo>
                    <a:pt x="3600" y="0"/>
                  </a:moveTo>
                  <a:arcTo wR="3600" hR="3600" stAng="16200000" swAng="-5400000"/>
                  <a:lnTo>
                    <a:pt x="0" y="25424"/>
                  </a:lnTo>
                  <a:arcTo wR="3600" hR="3600" stAng="10800000" swAng="-5400000"/>
                  <a:lnTo>
                    <a:pt x="18000" y="290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0000"/>
            </a:solidFill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零声母：加</a:t>
              </a: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圆角矩形 21"/>
            <p:cNvSpPr/>
            <p:nvPr/>
          </p:nvSpPr>
          <p:spPr>
            <a:xfrm>
              <a:off x="357120" y="2000160"/>
              <a:ext cx="2286000" cy="250056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500560"/>
                <a:gd name="textAreaBottom" fmla="*/ 2388960 h 2500560"/>
              </a:gdLst>
              <a:ahLst/>
              <a:rect l="textAreaLeft" t="textAreaTop" r="textAreaRight" b="textAreaBottom"/>
              <a:pathLst>
                <a:path w="21600" h="23627">
                  <a:moveTo>
                    <a:pt x="3600" y="0"/>
                  </a:moveTo>
                  <a:arcTo wR="3600" hR="3600" stAng="16200000" swAng="-5400000"/>
                  <a:lnTo>
                    <a:pt x="0" y="20027"/>
                  </a:lnTo>
                  <a:arcTo wR="3600" hR="3600" stAng="10800000" swAng="-5400000"/>
                  <a:lnTo>
                    <a:pt x="18000" y="236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72880"/>
                  <a:tab algn="l" pos="1081080"/>
                  <a:tab algn="l" pos="1436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啊 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a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→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en-US" sz="2400" spc="-1" strike="noStrike">
                  <a:solidFill>
                    <a:srgbClr val="bf0000"/>
                  </a:solidFill>
                  <a:latin typeface="Calibri"/>
                  <a:ea typeface="微软雅黑"/>
                </a:rPr>
                <a:t>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72880"/>
                  <a:tab algn="l" pos="1081080"/>
                  <a:tab algn="l" pos="1436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72880"/>
                  <a:tab algn="l" pos="1081080"/>
                  <a:tab algn="l" pos="1436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爱 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ai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→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en-US" sz="2400" spc="-1" strike="noStrike">
                  <a:solidFill>
                    <a:srgbClr val="bf0000"/>
                  </a:solidFill>
                  <a:latin typeface="Calibri"/>
                  <a:ea typeface="微软雅黑"/>
                </a:rPr>
                <a:t>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72880"/>
                  <a:tab algn="l" pos="1081080"/>
                  <a:tab algn="l" pos="1436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         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(l=ai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72880"/>
                  <a:tab algn="l" pos="1081080"/>
                  <a:tab algn="l" pos="1436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昂 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ang→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en-US" sz="2400" spc="-1" strike="noStrike">
                  <a:solidFill>
                    <a:srgbClr val="bf0000"/>
                  </a:solidFill>
                  <a:latin typeface="Calibri"/>
                  <a:ea typeface="微软雅黑"/>
                </a:rPr>
                <a:t>oh</a:t>
              </a:r>
              <a:r>
                <a:rPr b="0" lang="zh-CN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34"/>
          <p:cNvGrpSpPr/>
          <p:nvPr/>
        </p:nvGrpSpPr>
        <p:grpSpPr>
          <a:xfrm>
            <a:off x="3214800" y="1428840"/>
            <a:ext cx="2286000" cy="3071880"/>
            <a:chOff x="3214800" y="1428840"/>
            <a:chExt cx="2286000" cy="3071880"/>
          </a:xfrm>
        </p:grpSpPr>
        <p:sp>
          <p:nvSpPr>
            <p:cNvPr id="269" name="圆角矩形 26"/>
            <p:cNvSpPr/>
            <p:nvPr/>
          </p:nvSpPr>
          <p:spPr>
            <a:xfrm>
              <a:off x="3214800" y="1428840"/>
              <a:ext cx="2286000" cy="3071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3071880"/>
                <a:gd name="textAreaBottom" fmla="*/ 2960280 h 3071880"/>
              </a:gdLst>
              <a:ahLst/>
              <a:rect l="textAreaLeft" t="textAreaTop" r="textAreaRight" b="textAreaBottom"/>
              <a:pathLst>
                <a:path w="21600" h="29024">
                  <a:moveTo>
                    <a:pt x="3600" y="0"/>
                  </a:moveTo>
                  <a:arcTo wR="3600" hR="3600" stAng="16200000" swAng="-5400000"/>
                  <a:lnTo>
                    <a:pt x="0" y="25424"/>
                  </a:lnTo>
                  <a:arcTo wR="3600" hR="3600" stAng="10800000" swAng="-5400000"/>
                  <a:lnTo>
                    <a:pt x="18000" y="290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0000"/>
            </a:solidFill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两字母：不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圆角矩形 27"/>
            <p:cNvSpPr/>
            <p:nvPr/>
          </p:nvSpPr>
          <p:spPr>
            <a:xfrm>
              <a:off x="3214800" y="2000160"/>
              <a:ext cx="2286000" cy="250056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500560"/>
                <a:gd name="textAreaBottom" fmla="*/ 2388960 h 2500560"/>
              </a:gdLst>
              <a:ahLst/>
              <a:rect l="textAreaLeft" t="textAreaTop" r="textAreaRight" b="textAreaBottom"/>
              <a:pathLst>
                <a:path w="21600" h="23627">
                  <a:moveTo>
                    <a:pt x="3600" y="0"/>
                  </a:moveTo>
                  <a:arcTo wR="3600" hR="3600" stAng="16200000" swAng="-5400000"/>
                  <a:lnTo>
                    <a:pt x="0" y="20027"/>
                  </a:lnTo>
                  <a:arcTo wR="3600" hR="3600" stAng="10800000" swAng="-5400000"/>
                  <a:lnTo>
                    <a:pt x="18000" y="236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7840"/>
                  <a:tab algn="l" pos="903240"/>
                  <a:tab algn="l" pos="1258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次 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ci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→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en-US" sz="2400" spc="-1" strike="noStrike">
                  <a:solidFill>
                    <a:srgbClr val="bf0000"/>
                  </a:solidFill>
                  <a:latin typeface="Calibri"/>
                  <a:ea typeface="微软雅黑"/>
                </a:rPr>
                <a:t>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7840"/>
                  <a:tab algn="l" pos="903240"/>
                  <a:tab algn="l" pos="1258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7840"/>
                  <a:tab algn="l" pos="903240"/>
                  <a:tab algn="l" pos="1258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吕 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lü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→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en-US" sz="2400" spc="-1" strike="noStrike">
                  <a:solidFill>
                    <a:srgbClr val="bf0000"/>
                  </a:solidFill>
                  <a:latin typeface="Calibri"/>
                  <a:ea typeface="微软雅黑"/>
                </a:rPr>
                <a:t>ly</a:t>
              </a:r>
              <a:r>
                <a:rPr b="0" lang="zh-CN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 </a:t>
              </a:r>
              <a:br>
                <a:rPr sz="2400"/>
              </a:b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       (y=ü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7840"/>
                  <a:tab algn="l" pos="903240"/>
                  <a:tab algn="l" pos="1258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坡 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po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→</a:t>
              </a:r>
              <a:r>
                <a:rPr b="0" lang="en-US" sz="24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en-US" sz="2400" spc="-1" strike="noStrike">
                  <a:solidFill>
                    <a:srgbClr val="bf0000"/>
                  </a:solidFill>
                  <a:latin typeface="Calibri"/>
                  <a:ea typeface="微软雅黑"/>
                </a:rPr>
                <a:t>p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35"/>
          <p:cNvGrpSpPr/>
          <p:nvPr/>
        </p:nvGrpSpPr>
        <p:grpSpPr>
          <a:xfrm>
            <a:off x="6072120" y="1428840"/>
            <a:ext cx="2286000" cy="3071880"/>
            <a:chOff x="6072120" y="1428840"/>
            <a:chExt cx="2286000" cy="3071880"/>
          </a:xfrm>
        </p:grpSpPr>
        <p:sp>
          <p:nvSpPr>
            <p:cNvPr id="272" name="圆角矩形 28"/>
            <p:cNvSpPr/>
            <p:nvPr/>
          </p:nvSpPr>
          <p:spPr>
            <a:xfrm>
              <a:off x="6072120" y="1428840"/>
              <a:ext cx="2286000" cy="3071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3071880"/>
                <a:gd name="textAreaBottom" fmla="*/ 2960280 h 3071880"/>
              </a:gdLst>
              <a:ahLst/>
              <a:rect l="textAreaLeft" t="textAreaTop" r="textAreaRight" b="textAreaBottom"/>
              <a:pathLst>
                <a:path w="21600" h="29024">
                  <a:moveTo>
                    <a:pt x="3600" y="0"/>
                  </a:moveTo>
                  <a:arcTo wR="3600" hR="3600" stAng="16200000" swAng="-5400000"/>
                  <a:lnTo>
                    <a:pt x="0" y="25424"/>
                  </a:lnTo>
                  <a:arcTo wR="3600" hR="3600" stAng="10800000" swAng="-5400000"/>
                  <a:lnTo>
                    <a:pt x="18000" y="290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0000"/>
            </a:solidFill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多字母：压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圆角矩形 29"/>
            <p:cNvSpPr/>
            <p:nvPr/>
          </p:nvSpPr>
          <p:spPr>
            <a:xfrm>
              <a:off x="6072120" y="2000160"/>
              <a:ext cx="2286000" cy="250056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500560"/>
                <a:gd name="textAreaBottom" fmla="*/ 2388960 h 2500560"/>
              </a:gdLst>
              <a:ahLst/>
              <a:rect l="textAreaLeft" t="textAreaTop" r="textAreaRight" b="textAreaBottom"/>
              <a:pathLst>
                <a:path w="21600" h="23627">
                  <a:moveTo>
                    <a:pt x="3600" y="0"/>
                  </a:moveTo>
                  <a:arcTo wR="3600" hR="3600" stAng="16200000" swAng="-5400000"/>
                  <a:lnTo>
                    <a:pt x="0" y="20027"/>
                  </a:lnTo>
                  <a:arcTo wR="3600" hR="3600" stAng="10800000" swAng="-5400000"/>
                  <a:lnTo>
                    <a:pt x="18000" y="236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440"/>
                  <a:tab algn="l" pos="1081080"/>
                  <a:tab algn="l" pos="1436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天 </a:t>
              </a: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tian</a:t>
              </a: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→</a:t>
              </a: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en-US" sz="2100" spc="-1" strike="noStrike">
                  <a:solidFill>
                    <a:srgbClr val="bf0000"/>
                  </a:solidFill>
                  <a:latin typeface="Calibri"/>
                  <a:ea typeface="微软雅黑"/>
                </a:rPr>
                <a:t>tm</a:t>
              </a:r>
              <a:br>
                <a:rPr sz="2100"/>
              </a:b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　</a:t>
              </a: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(m=ian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440"/>
                  <a:tab algn="l" pos="1081080"/>
                  <a:tab algn="l" pos="1436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中 </a:t>
              </a: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zhong</a:t>
              </a: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→</a:t>
              </a: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en-US" sz="2100" spc="-1" strike="noStrike">
                  <a:solidFill>
                    <a:srgbClr val="bf0000"/>
                  </a:solidFill>
                  <a:latin typeface="Calibri"/>
                  <a:ea typeface="微软雅黑"/>
                </a:rPr>
                <a:t>vs</a:t>
              </a:r>
              <a:br>
                <a:rPr sz="2100"/>
              </a:b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　</a:t>
              </a: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(v=zh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440"/>
                  <a:tab algn="l" pos="1081080"/>
                  <a:tab algn="l" pos="1436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云 </a:t>
              </a: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yun</a:t>
              </a: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→</a:t>
              </a: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en-US" sz="2100" spc="-1" strike="noStrike">
                  <a:solidFill>
                    <a:srgbClr val="bf0000"/>
                  </a:solidFill>
                  <a:latin typeface="Calibri"/>
                  <a:ea typeface="微软雅黑"/>
                </a:rPr>
                <a:t>yp</a:t>
              </a:r>
              <a:br>
                <a:rPr sz="2100"/>
              </a:b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	</a:t>
              </a:r>
              <a:r>
                <a:rPr b="0" lang="zh-CN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　</a:t>
              </a:r>
              <a:r>
                <a:rPr b="0" lang="en-US" sz="2100" spc="-1" strike="noStrike">
                  <a:solidFill>
                    <a:srgbClr val="262626"/>
                  </a:solidFill>
                  <a:latin typeface="Calibri"/>
                  <a:ea typeface="微软雅黑"/>
                </a:rPr>
                <a:t>(p=un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矩形 14"/>
          <p:cNvSpPr/>
          <p:nvPr/>
        </p:nvSpPr>
        <p:spPr>
          <a:xfrm flipH="1">
            <a:off x="8929080" y="1143000"/>
            <a:ext cx="135000" cy="207180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7144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微软拼音双拼方案键盘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5840" y="213840"/>
            <a:ext cx="8215200" cy="3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f0000"/>
                </a:solidFill>
                <a:latin typeface="Calibri"/>
              </a:rPr>
              <a:t>多个字母如何压缩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圆角矩形 4"/>
          <p:cNvSpPr/>
          <p:nvPr/>
        </p:nvSpPr>
        <p:spPr>
          <a:xfrm>
            <a:off x="398520" y="146988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12"/>
          <p:cNvSpPr/>
          <p:nvPr/>
        </p:nvSpPr>
        <p:spPr>
          <a:xfrm>
            <a:off x="1208160" y="146988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圆角矩形 13"/>
          <p:cNvSpPr/>
          <p:nvPr/>
        </p:nvSpPr>
        <p:spPr>
          <a:xfrm>
            <a:off x="2017800" y="146988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14"/>
          <p:cNvSpPr/>
          <p:nvPr/>
        </p:nvSpPr>
        <p:spPr>
          <a:xfrm>
            <a:off x="2827440" y="146988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15"/>
          <p:cNvSpPr/>
          <p:nvPr/>
        </p:nvSpPr>
        <p:spPr>
          <a:xfrm>
            <a:off x="3637080" y="146988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圆角矩形 16"/>
          <p:cNvSpPr/>
          <p:nvPr/>
        </p:nvSpPr>
        <p:spPr>
          <a:xfrm>
            <a:off x="4446720" y="146988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圆角矩形 17"/>
          <p:cNvSpPr/>
          <p:nvPr/>
        </p:nvSpPr>
        <p:spPr>
          <a:xfrm>
            <a:off x="5256360" y="146988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圆角矩形 18"/>
          <p:cNvSpPr/>
          <p:nvPr/>
        </p:nvSpPr>
        <p:spPr>
          <a:xfrm>
            <a:off x="6056280" y="1469880"/>
            <a:ext cx="817560" cy="816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圆角矩形 19"/>
          <p:cNvSpPr/>
          <p:nvPr/>
        </p:nvSpPr>
        <p:spPr>
          <a:xfrm>
            <a:off x="6875640" y="146988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圆角矩形 20"/>
          <p:cNvSpPr/>
          <p:nvPr/>
        </p:nvSpPr>
        <p:spPr>
          <a:xfrm>
            <a:off x="7684920" y="1469880"/>
            <a:ext cx="816120" cy="816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圆角矩形 24"/>
          <p:cNvSpPr/>
          <p:nvPr/>
        </p:nvSpPr>
        <p:spPr>
          <a:xfrm>
            <a:off x="7286760" y="1422360"/>
            <a:ext cx="1500120" cy="816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圆角矩形 25"/>
          <p:cNvSpPr/>
          <p:nvPr/>
        </p:nvSpPr>
        <p:spPr>
          <a:xfrm>
            <a:off x="398520" y="233676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圆角矩形 26"/>
          <p:cNvSpPr/>
          <p:nvPr/>
        </p:nvSpPr>
        <p:spPr>
          <a:xfrm>
            <a:off x="1208160" y="233676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圆角矩形 27"/>
          <p:cNvSpPr/>
          <p:nvPr/>
        </p:nvSpPr>
        <p:spPr>
          <a:xfrm>
            <a:off x="2017800" y="233676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圆角矩形 28"/>
          <p:cNvSpPr/>
          <p:nvPr/>
        </p:nvSpPr>
        <p:spPr>
          <a:xfrm>
            <a:off x="2827440" y="233676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圆角矩形 29"/>
          <p:cNvSpPr/>
          <p:nvPr/>
        </p:nvSpPr>
        <p:spPr>
          <a:xfrm>
            <a:off x="3637080" y="233676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圆角矩形 30"/>
          <p:cNvSpPr/>
          <p:nvPr/>
        </p:nvSpPr>
        <p:spPr>
          <a:xfrm>
            <a:off x="4446720" y="233676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圆角矩形 31"/>
          <p:cNvSpPr/>
          <p:nvPr/>
        </p:nvSpPr>
        <p:spPr>
          <a:xfrm>
            <a:off x="5256360" y="233676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圆角矩形 32"/>
          <p:cNvSpPr/>
          <p:nvPr/>
        </p:nvSpPr>
        <p:spPr>
          <a:xfrm>
            <a:off x="6066000" y="233676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圆角矩形 33"/>
          <p:cNvSpPr/>
          <p:nvPr/>
        </p:nvSpPr>
        <p:spPr>
          <a:xfrm>
            <a:off x="6875640" y="2336760"/>
            <a:ext cx="815760" cy="816120"/>
          </a:xfrm>
          <a:custGeom>
            <a:avLst/>
            <a:gdLst>
              <a:gd name="textAreaLeft" fmla="*/ 39600 w 815760"/>
              <a:gd name="textAreaRight" fmla="*/ 776160 w 815760"/>
              <a:gd name="textAreaTop" fmla="*/ 39600 h 816120"/>
              <a:gd name="textAreaBottom" fmla="*/ 776520 h 816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圆角矩形 35"/>
          <p:cNvSpPr/>
          <p:nvPr/>
        </p:nvSpPr>
        <p:spPr>
          <a:xfrm>
            <a:off x="4113360" y="2378160"/>
            <a:ext cx="1500120" cy="815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圆角矩形 37"/>
          <p:cNvSpPr/>
          <p:nvPr/>
        </p:nvSpPr>
        <p:spPr>
          <a:xfrm>
            <a:off x="898560" y="2552760"/>
            <a:ext cx="1500120" cy="815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ong </a:t>
            </a:r>
            <a:br>
              <a:rPr sz="2200"/>
            </a:b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i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圆角矩形 38"/>
          <p:cNvSpPr/>
          <p:nvPr/>
        </p:nvSpPr>
        <p:spPr>
          <a:xfrm>
            <a:off x="1684440" y="2552760"/>
            <a:ext cx="1500120" cy="815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i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u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 39"/>
          <p:cNvSpPr/>
          <p:nvPr/>
        </p:nvSpPr>
        <p:spPr>
          <a:xfrm>
            <a:off x="1106640" y="3214800"/>
            <a:ext cx="815760" cy="815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圆角矩形 40"/>
          <p:cNvSpPr/>
          <p:nvPr/>
        </p:nvSpPr>
        <p:spPr>
          <a:xfrm>
            <a:off x="1916280" y="3214800"/>
            <a:ext cx="815760" cy="815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圆角矩形 41"/>
          <p:cNvSpPr/>
          <p:nvPr/>
        </p:nvSpPr>
        <p:spPr>
          <a:xfrm>
            <a:off x="2725560" y="3214800"/>
            <a:ext cx="816120" cy="815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i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圆角矩形 42"/>
          <p:cNvSpPr/>
          <p:nvPr/>
        </p:nvSpPr>
        <p:spPr>
          <a:xfrm>
            <a:off x="3535200" y="3214800"/>
            <a:ext cx="816120" cy="815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圆角矩形 43"/>
          <p:cNvSpPr/>
          <p:nvPr/>
        </p:nvSpPr>
        <p:spPr>
          <a:xfrm>
            <a:off x="4344840" y="3214800"/>
            <a:ext cx="816120" cy="815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圆角矩形 44"/>
          <p:cNvSpPr/>
          <p:nvPr/>
        </p:nvSpPr>
        <p:spPr>
          <a:xfrm>
            <a:off x="5154480" y="3214800"/>
            <a:ext cx="816120" cy="815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圆角矩形 45"/>
          <p:cNvSpPr/>
          <p:nvPr/>
        </p:nvSpPr>
        <p:spPr>
          <a:xfrm>
            <a:off x="5964120" y="3214800"/>
            <a:ext cx="816120" cy="815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圆角矩形 49"/>
          <p:cNvSpPr/>
          <p:nvPr/>
        </p:nvSpPr>
        <p:spPr>
          <a:xfrm>
            <a:off x="898560" y="1684440"/>
            <a:ext cx="1500120" cy="815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圆角矩形 50"/>
          <p:cNvSpPr/>
          <p:nvPr/>
        </p:nvSpPr>
        <p:spPr>
          <a:xfrm>
            <a:off x="3214800" y="3398760"/>
            <a:ext cx="1500120" cy="816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ui 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z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圆角矩形 51"/>
          <p:cNvSpPr/>
          <p:nvPr/>
        </p:nvSpPr>
        <p:spPr>
          <a:xfrm>
            <a:off x="4113360" y="1684440"/>
            <a:ext cx="1500120" cy="815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ua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内容占位符 2"/>
          <p:cNvSpPr/>
          <p:nvPr/>
        </p:nvSpPr>
        <p:spPr>
          <a:xfrm>
            <a:off x="271440" y="4192560"/>
            <a:ext cx="6357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注：</a:t>
            </a:r>
            <a:r>
              <a:rPr b="0" lang="en-US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ün=un  üe=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圆角矩形 55"/>
          <p:cNvSpPr/>
          <p:nvPr/>
        </p:nvSpPr>
        <p:spPr>
          <a:xfrm>
            <a:off x="357120" y="1398600"/>
            <a:ext cx="8215560" cy="2698560"/>
          </a:xfrm>
          <a:prstGeom prst="roundRect">
            <a:avLst>
              <a:gd name="adj" fmla="val 6625"/>
            </a:avLst>
          </a:pr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圆角矩形 48"/>
          <p:cNvSpPr/>
          <p:nvPr/>
        </p:nvSpPr>
        <p:spPr>
          <a:xfrm>
            <a:off x="7684920" y="2336760"/>
            <a:ext cx="816120" cy="816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Calibri"/>
                <a:ea typeface="微软雅黑"/>
              </a:rPr>
              <a:t>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56"/>
          <p:cNvSpPr/>
          <p:nvPr/>
        </p:nvSpPr>
        <p:spPr>
          <a:xfrm>
            <a:off x="2500200" y="1684440"/>
            <a:ext cx="1500480" cy="815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u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圆角矩形 58"/>
          <p:cNvSpPr/>
          <p:nvPr/>
        </p:nvSpPr>
        <p:spPr>
          <a:xfrm>
            <a:off x="4929120" y="1684440"/>
            <a:ext cx="1500120" cy="815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圆角矩形 59"/>
          <p:cNvSpPr/>
          <p:nvPr/>
        </p:nvSpPr>
        <p:spPr>
          <a:xfrm>
            <a:off x="5715000" y="1684440"/>
            <a:ext cx="1500120" cy="815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60"/>
          <p:cNvSpPr/>
          <p:nvPr/>
        </p:nvSpPr>
        <p:spPr>
          <a:xfrm>
            <a:off x="6543720" y="1684440"/>
            <a:ext cx="1500120" cy="815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f0000"/>
                </a:solidFill>
                <a:latin typeface="Calibri"/>
                <a:ea typeface="微软雅黑"/>
              </a:rPr>
              <a:t>u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62"/>
          <p:cNvSpPr/>
          <p:nvPr/>
        </p:nvSpPr>
        <p:spPr>
          <a:xfrm flipH="1">
            <a:off x="8929080" y="1428840"/>
            <a:ext cx="135000" cy="207144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圆角矩形 4"/>
          <p:cNvSpPr/>
          <p:nvPr/>
        </p:nvSpPr>
        <p:spPr>
          <a:xfrm>
            <a:off x="214200" y="285840"/>
            <a:ext cx="86220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圆角矩形 5"/>
          <p:cNvSpPr/>
          <p:nvPr/>
        </p:nvSpPr>
        <p:spPr>
          <a:xfrm>
            <a:off x="1069920" y="285840"/>
            <a:ext cx="86220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6"/>
          <p:cNvSpPr/>
          <p:nvPr/>
        </p:nvSpPr>
        <p:spPr>
          <a:xfrm>
            <a:off x="1925640" y="285840"/>
            <a:ext cx="86184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圆角矩形 7"/>
          <p:cNvSpPr/>
          <p:nvPr/>
        </p:nvSpPr>
        <p:spPr>
          <a:xfrm>
            <a:off x="2781360" y="285840"/>
            <a:ext cx="86184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圆角矩形 8"/>
          <p:cNvSpPr/>
          <p:nvPr/>
        </p:nvSpPr>
        <p:spPr>
          <a:xfrm>
            <a:off x="3637080" y="285840"/>
            <a:ext cx="86184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圆角矩形 9"/>
          <p:cNvSpPr/>
          <p:nvPr/>
        </p:nvSpPr>
        <p:spPr>
          <a:xfrm>
            <a:off x="4492800" y="285840"/>
            <a:ext cx="86184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圆角矩形 10"/>
          <p:cNvSpPr/>
          <p:nvPr/>
        </p:nvSpPr>
        <p:spPr>
          <a:xfrm>
            <a:off x="5348160" y="285840"/>
            <a:ext cx="86220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圆角矩形 11"/>
          <p:cNvSpPr/>
          <p:nvPr/>
        </p:nvSpPr>
        <p:spPr>
          <a:xfrm>
            <a:off x="6203880" y="285840"/>
            <a:ext cx="86220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12"/>
          <p:cNvSpPr/>
          <p:nvPr/>
        </p:nvSpPr>
        <p:spPr>
          <a:xfrm>
            <a:off x="7059600" y="285840"/>
            <a:ext cx="86220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圆角矩形 13"/>
          <p:cNvSpPr/>
          <p:nvPr/>
        </p:nvSpPr>
        <p:spPr>
          <a:xfrm>
            <a:off x="7915320" y="285840"/>
            <a:ext cx="86184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圆角矩形 14"/>
          <p:cNvSpPr/>
          <p:nvPr/>
        </p:nvSpPr>
        <p:spPr>
          <a:xfrm>
            <a:off x="214200" y="1201680"/>
            <a:ext cx="862200" cy="863640"/>
          </a:xfrm>
          <a:custGeom>
            <a:avLst/>
            <a:gdLst>
              <a:gd name="textAreaLeft" fmla="*/ 41760 w 862200"/>
              <a:gd name="textAreaRight" fmla="*/ 820440 w 862200"/>
              <a:gd name="textAreaTop" fmla="*/ 41760 h 863640"/>
              <a:gd name="textAreaBottom" fmla="*/ 821880 h 86364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5"/>
          <p:cNvSpPr/>
          <p:nvPr/>
        </p:nvSpPr>
        <p:spPr>
          <a:xfrm>
            <a:off x="1069920" y="1201680"/>
            <a:ext cx="862200" cy="863640"/>
          </a:xfrm>
          <a:custGeom>
            <a:avLst/>
            <a:gdLst>
              <a:gd name="textAreaLeft" fmla="*/ 41760 w 862200"/>
              <a:gd name="textAreaRight" fmla="*/ 820440 w 862200"/>
              <a:gd name="textAreaTop" fmla="*/ 41760 h 863640"/>
              <a:gd name="textAreaBottom" fmla="*/ 821880 h 86364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16"/>
          <p:cNvSpPr/>
          <p:nvPr/>
        </p:nvSpPr>
        <p:spPr>
          <a:xfrm>
            <a:off x="1925640" y="1201680"/>
            <a:ext cx="861840" cy="863640"/>
          </a:xfrm>
          <a:custGeom>
            <a:avLst/>
            <a:gdLst>
              <a:gd name="textAreaLeft" fmla="*/ 41760 w 861840"/>
              <a:gd name="textAreaRight" fmla="*/ 820080 w 861840"/>
              <a:gd name="textAreaTop" fmla="*/ 41760 h 863640"/>
              <a:gd name="textAreaBottom" fmla="*/ 821880 h 863640"/>
            </a:gdLst>
            <a:ahLst/>
            <a:rect l="textAreaLeft" t="textAreaTop" r="textAreaRight" b="textAreaBottom"/>
            <a:pathLst>
              <a:path w="21600" h="21645">
                <a:moveTo>
                  <a:pt x="3600" y="0"/>
                </a:moveTo>
                <a:arcTo wR="3600" hR="3600" stAng="16200000" swAng="-5400000"/>
                <a:lnTo>
                  <a:pt x="0" y="18045"/>
                </a:lnTo>
                <a:arcTo wR="3600" hR="3600" stAng="10800000" swAng="-5400000"/>
                <a:lnTo>
                  <a:pt x="18000" y="216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圆角矩形 17"/>
          <p:cNvSpPr/>
          <p:nvPr/>
        </p:nvSpPr>
        <p:spPr>
          <a:xfrm>
            <a:off x="2781360" y="1201680"/>
            <a:ext cx="861840" cy="863640"/>
          </a:xfrm>
          <a:custGeom>
            <a:avLst/>
            <a:gdLst>
              <a:gd name="textAreaLeft" fmla="*/ 41760 w 861840"/>
              <a:gd name="textAreaRight" fmla="*/ 820080 w 861840"/>
              <a:gd name="textAreaTop" fmla="*/ 41760 h 863640"/>
              <a:gd name="textAreaBottom" fmla="*/ 821880 h 863640"/>
            </a:gdLst>
            <a:ahLst/>
            <a:rect l="textAreaLeft" t="textAreaTop" r="textAreaRight" b="textAreaBottom"/>
            <a:pathLst>
              <a:path w="21600" h="21645">
                <a:moveTo>
                  <a:pt x="3600" y="0"/>
                </a:moveTo>
                <a:arcTo wR="3600" hR="3600" stAng="16200000" swAng="-5400000"/>
                <a:lnTo>
                  <a:pt x="0" y="18045"/>
                </a:lnTo>
                <a:arcTo wR="3600" hR="3600" stAng="10800000" swAng="-5400000"/>
                <a:lnTo>
                  <a:pt x="18000" y="216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圆角矩形 18"/>
          <p:cNvSpPr/>
          <p:nvPr/>
        </p:nvSpPr>
        <p:spPr>
          <a:xfrm>
            <a:off x="3637080" y="1201680"/>
            <a:ext cx="861840" cy="863640"/>
          </a:xfrm>
          <a:custGeom>
            <a:avLst/>
            <a:gdLst>
              <a:gd name="textAreaLeft" fmla="*/ 41760 w 861840"/>
              <a:gd name="textAreaRight" fmla="*/ 820080 w 861840"/>
              <a:gd name="textAreaTop" fmla="*/ 41760 h 863640"/>
              <a:gd name="textAreaBottom" fmla="*/ 821880 h 863640"/>
            </a:gdLst>
            <a:ahLst/>
            <a:rect l="textAreaLeft" t="textAreaTop" r="textAreaRight" b="textAreaBottom"/>
            <a:pathLst>
              <a:path w="21600" h="21645">
                <a:moveTo>
                  <a:pt x="3600" y="0"/>
                </a:moveTo>
                <a:arcTo wR="3600" hR="3600" stAng="16200000" swAng="-5400000"/>
                <a:lnTo>
                  <a:pt x="0" y="18045"/>
                </a:lnTo>
                <a:arcTo wR="3600" hR="3600" stAng="10800000" swAng="-5400000"/>
                <a:lnTo>
                  <a:pt x="18000" y="216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e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19"/>
          <p:cNvSpPr/>
          <p:nvPr/>
        </p:nvSpPr>
        <p:spPr>
          <a:xfrm>
            <a:off x="4492800" y="1201680"/>
            <a:ext cx="861840" cy="863640"/>
          </a:xfrm>
          <a:custGeom>
            <a:avLst/>
            <a:gdLst>
              <a:gd name="textAreaLeft" fmla="*/ 41760 w 861840"/>
              <a:gd name="textAreaRight" fmla="*/ 820080 w 861840"/>
              <a:gd name="textAreaTop" fmla="*/ 41760 h 863640"/>
              <a:gd name="textAreaBottom" fmla="*/ 821880 h 863640"/>
            </a:gdLst>
            <a:ahLst/>
            <a:rect l="textAreaLeft" t="textAreaTop" r="textAreaRight" b="textAreaBottom"/>
            <a:pathLst>
              <a:path w="21600" h="21645">
                <a:moveTo>
                  <a:pt x="3600" y="0"/>
                </a:moveTo>
                <a:arcTo wR="3600" hR="3600" stAng="16200000" swAng="-5400000"/>
                <a:lnTo>
                  <a:pt x="0" y="18045"/>
                </a:lnTo>
                <a:arcTo wR="3600" hR="3600" stAng="10800000" swAng="-5400000"/>
                <a:lnTo>
                  <a:pt x="18000" y="216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圆角矩形 20"/>
          <p:cNvSpPr/>
          <p:nvPr/>
        </p:nvSpPr>
        <p:spPr>
          <a:xfrm>
            <a:off x="5348160" y="1201680"/>
            <a:ext cx="862200" cy="863640"/>
          </a:xfrm>
          <a:custGeom>
            <a:avLst/>
            <a:gdLst>
              <a:gd name="textAreaLeft" fmla="*/ 41760 w 862200"/>
              <a:gd name="textAreaRight" fmla="*/ 820440 w 862200"/>
              <a:gd name="textAreaTop" fmla="*/ 41760 h 863640"/>
              <a:gd name="textAreaBottom" fmla="*/ 821880 h 86364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圆角矩形 21"/>
          <p:cNvSpPr/>
          <p:nvPr/>
        </p:nvSpPr>
        <p:spPr>
          <a:xfrm>
            <a:off x="6203880" y="1201680"/>
            <a:ext cx="862200" cy="863640"/>
          </a:xfrm>
          <a:custGeom>
            <a:avLst/>
            <a:gdLst>
              <a:gd name="textAreaLeft" fmla="*/ 41760 w 862200"/>
              <a:gd name="textAreaRight" fmla="*/ 820440 w 862200"/>
              <a:gd name="textAreaTop" fmla="*/ 41760 h 863640"/>
              <a:gd name="textAreaBottom" fmla="*/ 821880 h 86364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圆角矩形 22"/>
          <p:cNvSpPr/>
          <p:nvPr/>
        </p:nvSpPr>
        <p:spPr>
          <a:xfrm>
            <a:off x="7059600" y="1201680"/>
            <a:ext cx="862200" cy="863640"/>
          </a:xfrm>
          <a:custGeom>
            <a:avLst/>
            <a:gdLst>
              <a:gd name="textAreaLeft" fmla="*/ 41760 w 862200"/>
              <a:gd name="textAreaRight" fmla="*/ 820440 w 862200"/>
              <a:gd name="textAreaTop" fmla="*/ 41760 h 863640"/>
              <a:gd name="textAreaBottom" fmla="*/ 821880 h 86364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圆角矩形 23"/>
          <p:cNvSpPr/>
          <p:nvPr/>
        </p:nvSpPr>
        <p:spPr>
          <a:xfrm>
            <a:off x="4140360" y="1246320"/>
            <a:ext cx="1585800" cy="861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圆角矩形 24"/>
          <p:cNvSpPr/>
          <p:nvPr/>
        </p:nvSpPr>
        <p:spPr>
          <a:xfrm>
            <a:off x="727200" y="1430280"/>
            <a:ext cx="1585800" cy="862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ong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i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圆角矩形 25"/>
          <p:cNvSpPr/>
          <p:nvPr/>
        </p:nvSpPr>
        <p:spPr>
          <a:xfrm>
            <a:off x="1557360" y="1430280"/>
            <a:ext cx="1585800" cy="862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i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u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圆角矩形 26"/>
          <p:cNvSpPr/>
          <p:nvPr/>
        </p:nvSpPr>
        <p:spPr>
          <a:xfrm>
            <a:off x="961920" y="2130480"/>
            <a:ext cx="86364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圆角矩形 27"/>
          <p:cNvSpPr/>
          <p:nvPr/>
        </p:nvSpPr>
        <p:spPr>
          <a:xfrm>
            <a:off x="1817640" y="2130480"/>
            <a:ext cx="86364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圆角矩形 28"/>
          <p:cNvSpPr/>
          <p:nvPr/>
        </p:nvSpPr>
        <p:spPr>
          <a:xfrm>
            <a:off x="2673360" y="2130480"/>
            <a:ext cx="86364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i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圆角矩形 29"/>
          <p:cNvSpPr/>
          <p:nvPr/>
        </p:nvSpPr>
        <p:spPr>
          <a:xfrm>
            <a:off x="3529080" y="2130480"/>
            <a:ext cx="86364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圆角矩形 30"/>
          <p:cNvSpPr/>
          <p:nvPr/>
        </p:nvSpPr>
        <p:spPr>
          <a:xfrm>
            <a:off x="4384800" y="2130480"/>
            <a:ext cx="86364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圆角矩形 31"/>
          <p:cNvSpPr/>
          <p:nvPr/>
        </p:nvSpPr>
        <p:spPr>
          <a:xfrm>
            <a:off x="5240160" y="2130480"/>
            <a:ext cx="86364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圆角矩形 32"/>
          <p:cNvSpPr/>
          <p:nvPr/>
        </p:nvSpPr>
        <p:spPr>
          <a:xfrm>
            <a:off x="6095880" y="2130480"/>
            <a:ext cx="863640" cy="861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圆角矩形 33"/>
          <p:cNvSpPr/>
          <p:nvPr/>
        </p:nvSpPr>
        <p:spPr>
          <a:xfrm>
            <a:off x="743040" y="480960"/>
            <a:ext cx="1585800" cy="862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圆角矩形 34"/>
          <p:cNvSpPr/>
          <p:nvPr/>
        </p:nvSpPr>
        <p:spPr>
          <a:xfrm>
            <a:off x="3143160" y="2352600"/>
            <a:ext cx="1586160" cy="862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ui 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z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圆角矩形 35"/>
          <p:cNvSpPr/>
          <p:nvPr/>
        </p:nvSpPr>
        <p:spPr>
          <a:xfrm>
            <a:off x="4140360" y="480960"/>
            <a:ext cx="1585800" cy="862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u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42"/>
          <p:cNvSpPr/>
          <p:nvPr/>
        </p:nvSpPr>
        <p:spPr>
          <a:xfrm>
            <a:off x="14292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  <a:ea typeface="微软雅黑"/>
              </a:rPr>
              <a:t>Zei Qiu Nin Fen </a:t>
            </a:r>
            <a:r>
              <a:rPr b="0" lang="en-US" sz="1800" spc="-1" strike="noStrike">
                <a:solidFill>
                  <a:srgbClr val="262626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>
                <a:solidFill>
                  <a:srgbClr val="262626"/>
                </a:solidFill>
                <a:latin typeface="Calibri"/>
                <a:ea typeface="微软雅黑"/>
              </a:rPr>
              <a:t>i(Chi) W.ua.ia   R.er ;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Calibri"/>
                <a:ea typeface="微软雅黑"/>
              </a:rPr>
              <a:t>贼  求   您   分     吃     蛙     鸭  儿     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43"/>
          <p:cNvSpPr/>
          <p:nvPr/>
        </p:nvSpPr>
        <p:spPr>
          <a:xfrm>
            <a:off x="4714920" y="342900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62626"/>
                </a:solidFill>
                <a:latin typeface="Calibri"/>
                <a:ea typeface="微软雅黑"/>
              </a:rPr>
              <a:t>C.iao  Y.ü    J.an      P.un.ü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Calibri"/>
                <a:ea typeface="微软雅黑"/>
              </a:rPr>
              <a:t>此 要 外遇 结 案   破 文 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45"/>
          <p:cNvSpPr/>
          <p:nvPr/>
        </p:nvSpPr>
        <p:spPr>
          <a:xfrm>
            <a:off x="142920" y="407196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  <a:ea typeface="微软雅黑"/>
              </a:rPr>
              <a:t>T.ue  Song Uu(Shu) Lai Vui(Zhui) Ruan Mian X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Calibri"/>
                <a:ea typeface="微软雅黑"/>
              </a:rPr>
              <a:t>特 约   松    鼠          来     追           软     棉    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46"/>
          <p:cNvSpPr/>
          <p:nvPr/>
        </p:nvSpPr>
        <p:spPr>
          <a:xfrm>
            <a:off x="4714920" y="407196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  <a:ea typeface="微软雅黑"/>
              </a:rPr>
              <a:t>Geng Kao B.ou  D.uang.iang 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Calibri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262626"/>
                </a:solidFill>
                <a:latin typeface="Calibri"/>
                <a:ea typeface="微软雅黑"/>
              </a:rPr>
              <a:t>更   靠 剥 藕 得  汪   洋       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圆角矩形 47"/>
          <p:cNvSpPr/>
          <p:nvPr/>
        </p:nvSpPr>
        <p:spPr>
          <a:xfrm>
            <a:off x="142920" y="230040"/>
            <a:ext cx="8715240" cy="2841840"/>
          </a:xfrm>
          <a:prstGeom prst="roundRect">
            <a:avLst>
              <a:gd name="adj" fmla="val 6625"/>
            </a:avLst>
          </a:pr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圆角矩形 48"/>
          <p:cNvSpPr/>
          <p:nvPr/>
        </p:nvSpPr>
        <p:spPr>
          <a:xfrm>
            <a:off x="142920" y="3286080"/>
            <a:ext cx="8715240" cy="1500120"/>
          </a:xfrm>
          <a:prstGeom prst="roundRect">
            <a:avLst>
              <a:gd name="adj" fmla="val 13750"/>
            </a:avLst>
          </a:prstGeom>
          <a:noFill/>
          <a:ln w="25560">
            <a:solidFill>
              <a:srgbClr val="b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组合 61"/>
          <p:cNvGrpSpPr/>
          <p:nvPr/>
        </p:nvGrpSpPr>
        <p:grpSpPr>
          <a:xfrm>
            <a:off x="7715160" y="2500200"/>
            <a:ext cx="1071720" cy="428760"/>
            <a:chOff x="7715160" y="2500200"/>
            <a:chExt cx="1071720" cy="428760"/>
          </a:xfrm>
        </p:grpSpPr>
        <p:sp>
          <p:nvSpPr>
            <p:cNvPr id="357" name="矩形 50"/>
            <p:cNvSpPr/>
            <p:nvPr/>
          </p:nvSpPr>
          <p:spPr>
            <a:xfrm>
              <a:off x="7715160" y="2500200"/>
              <a:ext cx="500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bf0000"/>
                  </a:solidFill>
                  <a:latin typeface="文鼎习字体"/>
                  <a:ea typeface="文鼎习字体"/>
                </a:rPr>
                <a:t>键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圆角矩形 51"/>
            <p:cNvSpPr/>
            <p:nvPr/>
          </p:nvSpPr>
          <p:spPr>
            <a:xfrm>
              <a:off x="8286840" y="2500200"/>
              <a:ext cx="500040" cy="4287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Calibri"/>
                  <a:ea typeface="微软雅黑"/>
                </a:rPr>
                <a:t>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62"/>
          <p:cNvGrpSpPr/>
          <p:nvPr/>
        </p:nvGrpSpPr>
        <p:grpSpPr>
          <a:xfrm>
            <a:off x="7715160" y="3500280"/>
            <a:ext cx="1071720" cy="428760"/>
            <a:chOff x="7715160" y="3500280"/>
            <a:chExt cx="1071720" cy="428760"/>
          </a:xfrm>
        </p:grpSpPr>
        <p:sp>
          <p:nvSpPr>
            <p:cNvPr id="360" name="矩形 63"/>
            <p:cNvSpPr/>
            <p:nvPr/>
          </p:nvSpPr>
          <p:spPr>
            <a:xfrm>
              <a:off x="7715160" y="3500280"/>
              <a:ext cx="500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bf0000"/>
                  </a:solidFill>
                  <a:latin typeface="文鼎习字体"/>
                  <a:ea typeface="文鼎习字体"/>
                </a:rPr>
                <a:t>口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圆角矩形 64"/>
            <p:cNvSpPr/>
            <p:nvPr/>
          </p:nvSpPr>
          <p:spPr>
            <a:xfrm>
              <a:off x="8286840" y="3500280"/>
              <a:ext cx="500040" cy="4287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b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Calibri"/>
                  <a:ea typeface="微软雅黑"/>
                </a:rPr>
                <a:t>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圆角矩形 49"/>
          <p:cNvSpPr/>
          <p:nvPr/>
        </p:nvSpPr>
        <p:spPr>
          <a:xfrm>
            <a:off x="2428920" y="480960"/>
            <a:ext cx="1585800" cy="862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u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圆角矩形 52"/>
          <p:cNvSpPr/>
          <p:nvPr/>
        </p:nvSpPr>
        <p:spPr>
          <a:xfrm>
            <a:off x="6715080" y="480960"/>
            <a:ext cx="1585800" cy="862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微软雅黑"/>
              </a:rPr>
              <a:t>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圆角矩形 54"/>
          <p:cNvSpPr/>
          <p:nvPr/>
        </p:nvSpPr>
        <p:spPr>
          <a:xfrm>
            <a:off x="7929720" y="1201680"/>
            <a:ext cx="861840" cy="863640"/>
          </a:xfrm>
          <a:custGeom>
            <a:avLst/>
            <a:gdLst>
              <a:gd name="textAreaLeft" fmla="*/ 41760 w 861840"/>
              <a:gd name="textAreaRight" fmla="*/ 820080 w 861840"/>
              <a:gd name="textAreaTop" fmla="*/ 41760 h 863640"/>
              <a:gd name="textAreaBottom" fmla="*/ 821880 h 863640"/>
            </a:gdLst>
            <a:ahLst/>
            <a:rect l="textAreaLeft" t="textAreaTop" r="textAreaRight" b="textAreaBottom"/>
            <a:pathLst>
              <a:path w="21600" h="21645">
                <a:moveTo>
                  <a:pt x="3600" y="0"/>
                </a:moveTo>
                <a:arcTo wR="3600" hR="3600" stAng="16200000" swAng="-5400000"/>
                <a:lnTo>
                  <a:pt x="0" y="18045"/>
                </a:lnTo>
                <a:arcTo wR="3600" hR="3600" stAng="10800000" swAng="-5400000"/>
                <a:lnTo>
                  <a:pt x="18000" y="216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微软雅黑"/>
              </a:rPr>
              <a:t>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55"/>
          <p:cNvSpPr/>
          <p:nvPr/>
        </p:nvSpPr>
        <p:spPr>
          <a:xfrm flipH="1">
            <a:off x="8929080" y="1785960"/>
            <a:ext cx="135000" cy="207180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94000" y="14112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6608880" y="24912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1T09:20:47Z</dcterms:created>
  <dc:creator>GWYan</dc:creator>
  <dc:description/>
  <dc:language>en-US</dc:language>
  <cp:lastModifiedBy>yu wang</cp:lastModifiedBy>
  <dcterms:modified xsi:type="dcterms:W3CDTF">2015-08-14T12:50:18Z</dcterms:modified>
  <cp:revision>102</cp:revision>
  <dc:subject/>
  <dc:title>幻灯片 1</dc:title>
</cp:coreProperties>
</file>