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2300-093F-4A73-96C1-95BB84A3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097D-5FC5-4A1C-8F4D-5C1B687B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82EF-E033-4181-A7F7-77AC4F0F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BE89-9C35-4B40-B8BA-99A02BF8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B9FF-B9EE-446C-8C6A-4BB07BAE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AD15-7BE0-44A0-A745-E2281F11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75E2-1CC4-43E8-8410-F9ABA64F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A260-F47D-42F1-A934-8FC875E8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92D2-52D5-4F68-8CFD-49D43527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BC64-14FB-4DF8-8F1A-DD89A018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A00E-2F0C-4690-B989-BA1AECC1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A78F-5941-4367-BBC6-EB2A9BAC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62F7-2AED-417A-873B-D8E8B230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D8C0-0462-4F25-9059-10909EC2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95D4-BA47-4337-B5FA-8E525743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C0A5-50D0-408D-AA56-889BD711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A21A-9FBA-49F4-BAF6-53CD08A3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49E7-945B-4D51-AF5D-9B05FC0E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B600-0BF0-4A6B-98F0-E4F8ECAB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FB04-8B20-4F1B-87C1-C2B87D0F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CF6E-9915-47F3-B25E-4EAC7DB7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BB8-B811-4122-9A79-93EB8204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360B-9B9F-410E-952B-B2B5D6E9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4AB8-82F8-4BEC-A239-47EC1FC7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409E-45B8-4BD9-AD13-BF188914C56A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8D2B-3A0A-445E-BAB8-A83B9FD600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2" descr="未标题2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4" descr="未标题-1副本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矩形 1"/>
          <p:cNvSpPr/>
          <p:nvPr/>
        </p:nvSpPr>
        <p:spPr>
          <a:xfrm>
            <a:off x="2721240" y="48420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商务人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4" descr="ppt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2" descr="目录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自定义页（可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2" descr="未标题2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" descr="未标题2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900000" y="6453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4" descr="thx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" descr="thx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ppt宝藏</dc:creator>
  <dc:description/>
  <cp:keywords/>
  <dc:language>en-US</dc:language>
  <cp:lastModifiedBy>yu wang</cp:lastModifiedBy>
  <dcterms:modified xsi:type="dcterms:W3CDTF">2015-08-14T12:50:31Z</dcterms:modified>
  <cp:revision>14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