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46A-ABF6-4CC6-AABF-703962A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AEE-0C3F-4709-B9BE-36442C2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885-5292-4F34-A2E7-77980904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1D8-A6B4-4162-BDE8-7646AC7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D2D-CBAB-4721-8E44-64B610B1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C8E-0B96-4523-B45C-C2E2DF8E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E08C-EE14-466E-8AB9-0C7A43D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863-DBF2-4FB1-95D0-BB4AF763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2DCC-6E4D-4E73-A373-C2A030A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CCB-7076-4F96-A115-368DA2FA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9A0-34B3-441F-8869-D3C31797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8D0-0CDB-495F-98BB-C4941E16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8A9E-0947-4CF8-86EC-93CE2E1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281E-C96D-45AF-BB2C-A612CE7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DBB-5EB0-43E8-BEF6-0EE0D9F7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5BFC-4A9C-4ED9-A036-E88693B9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E7C-AD62-448F-A837-CAEC8C8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EDF-F01A-40FF-B473-B4BFFFB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899-0C49-42B6-A4EB-B375F603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3AE-1B1E-4823-BE9A-DDA7C3F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8F3-8D08-40C4-9FD1-E509D10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1CE-C1E8-4CB5-B019-E34003B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2C3-72D9-46AD-9D24-DEE25D5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A0B-AD56-4D0A-8838-7EA8F74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89CD75-D92C-4087-AFE3-7951A79DC0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7C92BA-EC8A-43E5-BEB6-9BFABB338C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23640" y="4725000"/>
            <a:ext cx="9720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绳子上晾晒的五颜六色的衣服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286080" y="55497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72741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52117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3568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1854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001000" y="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5926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29257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0686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72345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354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857160" y="350028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7140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3211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713124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997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140360" y="5715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64976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709164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9292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425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0688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497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713124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67150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068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34257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36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877440" y="1429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4354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49258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"/>
          <p:cNvSpPr/>
          <p:nvPr/>
        </p:nvSpPr>
        <p:spPr>
          <a:xfrm>
            <a:off x="702036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6497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2282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4711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716328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7117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18543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  <Words>288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3:2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