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96-39E8-428A-ABA4-7F5D2E6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77D-CFA2-46A7-89C0-BCD3A65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FA6-3BA3-4433-B453-2BDE1C6E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654-F5FF-4660-9396-4EB65429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15A-9EFD-4B5B-ACA8-3F31113E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AF2-4CC3-492A-8663-1A2142B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1D8C-9184-461E-8164-6FE17AC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489-2FC2-4346-8802-261816D6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D246-FCF8-46DC-AD63-1A1B019C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CC9-E840-4594-88F2-02724EF7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7129-8C08-4F82-B62B-59437725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FC3-295C-4DBF-87E9-B120BA64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0C2F-40EA-4A83-A761-835155EC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5F0-6D00-4AB2-90A5-DA3CDC6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0E3A-6318-4A82-BF3E-BB45449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F83B-4EDE-437D-A74F-2590A37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F418-A3E5-47B7-89BA-E6031FC1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FCC-0A9B-41AF-B2D6-D2328AE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05C-CA47-4942-9662-80918E82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21E-0AEE-45C9-B7A5-6B0A407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677-8046-48A7-B191-7383511E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624-0C1C-49D7-B7CF-2AAC410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029-550D-4D92-A8A3-1C79AC2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E93-205B-4B80-9EDB-1452805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878F-7AD5-45E3-8061-B5C0D5156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11BA-15F3-4474-B6A8-100305E2D6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38320" y="1557000"/>
            <a:ext cx="93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黄草_GBK"/>
                <a:ea typeface="方正黄草_GBK"/>
              </a:rPr>
              <a:t>桃花燕子与莲藕水墨山水画中国风</a:t>
            </a:r>
            <a:r>
              <a:rPr b="1" lang="en-US" sz="4000" spc="-1" strike="noStrike">
                <a:solidFill>
                  <a:srgbClr val="000000"/>
                </a:solidFill>
                <a:latin typeface="方正黄草_GBK"/>
                <a:ea typeface="方正黄草_GBK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8172360" y="537372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Soloman\Desktop\未标题-3.png"/>
          <p:cNvPicPr/>
          <p:nvPr/>
        </p:nvPicPr>
        <p:blipFill>
          <a:blip r:embed="rId1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92" name="Picture 4" descr="C:\Users\Soloman\Desktop\墨斑2.png"/>
            <p:cNvPicPr/>
            <p:nvPr/>
          </p:nvPicPr>
          <p:blipFill>
            <a:blip r:embed="rId2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95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98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01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04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" descr="C:\Users\Soloman\Desktop\荷叶.png"/>
          <p:cNvPicPr/>
          <p:nvPr/>
        </p:nvPicPr>
        <p:blipFill>
          <a:blip r:embed="rId7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8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1776240" y="1285920"/>
            <a:ext cx="5938920" cy="863640"/>
            <a:chOff x="1776240" y="1285920"/>
            <a:chExt cx="5938920" cy="863640"/>
          </a:xfrm>
        </p:grpSpPr>
        <p:sp>
          <p:nvSpPr>
            <p:cNvPr id="110" name="矩形 26"/>
            <p:cNvSpPr/>
            <p:nvPr/>
          </p:nvSpPr>
          <p:spPr>
            <a:xfrm>
              <a:off x="1776240" y="1285920"/>
              <a:ext cx="86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848240" y="14299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27"/>
            <p:cNvSpPr/>
            <p:nvPr/>
          </p:nvSpPr>
          <p:spPr>
            <a:xfrm>
              <a:off x="2568240" y="142992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2280240" y="193392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8"/>
          <p:cNvGrpSpPr/>
          <p:nvPr/>
        </p:nvGrpSpPr>
        <p:grpSpPr>
          <a:xfrm>
            <a:off x="1847880" y="2220840"/>
            <a:ext cx="5867280" cy="649440"/>
            <a:chOff x="1847880" y="2220840"/>
            <a:chExt cx="5867280" cy="649440"/>
          </a:xfrm>
        </p:grpSpPr>
        <p:pic>
          <p:nvPicPr>
            <p:cNvPr id="115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847880" y="22208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32"/>
            <p:cNvSpPr/>
            <p:nvPr/>
          </p:nvSpPr>
          <p:spPr>
            <a:xfrm>
              <a:off x="2567880" y="222084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2279880" y="272592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12"/>
          <p:cNvGrpSpPr/>
          <p:nvPr/>
        </p:nvGrpSpPr>
        <p:grpSpPr>
          <a:xfrm>
            <a:off x="1847880" y="3013200"/>
            <a:ext cx="5867280" cy="649080"/>
            <a:chOff x="1847880" y="3013200"/>
            <a:chExt cx="5867280" cy="649080"/>
          </a:xfrm>
        </p:grpSpPr>
        <p:pic>
          <p:nvPicPr>
            <p:cNvPr id="119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847880" y="301320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36"/>
            <p:cNvSpPr/>
            <p:nvPr/>
          </p:nvSpPr>
          <p:spPr>
            <a:xfrm>
              <a:off x="2567880" y="3013200"/>
              <a:ext cx="4825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2279880" y="351828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6"/>
          <p:cNvGrpSpPr/>
          <p:nvPr/>
        </p:nvGrpSpPr>
        <p:grpSpPr>
          <a:xfrm>
            <a:off x="1847880" y="3878280"/>
            <a:ext cx="5867280" cy="647640"/>
            <a:chOff x="1847880" y="3878280"/>
            <a:chExt cx="5867280" cy="647640"/>
          </a:xfrm>
        </p:grpSpPr>
        <p:pic>
          <p:nvPicPr>
            <p:cNvPr id="123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847880" y="3878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0"/>
            <p:cNvSpPr/>
            <p:nvPr/>
          </p:nvSpPr>
          <p:spPr>
            <a:xfrm>
              <a:off x="2567880" y="3878280"/>
              <a:ext cx="4825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2279880" y="438192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42"/>
          <p:cNvSpPr/>
          <p:nvPr/>
        </p:nvSpPr>
        <p:spPr>
          <a:xfrm>
            <a:off x="1779480" y="20653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1776240" y="28512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4"/>
          <p:cNvSpPr/>
          <p:nvPr/>
        </p:nvSpPr>
        <p:spPr>
          <a:xfrm>
            <a:off x="1770120" y="37148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704960" y="4500720"/>
            <a:ext cx="5938920" cy="863280"/>
            <a:chOff x="1704960" y="4500720"/>
            <a:chExt cx="5938920" cy="863280"/>
          </a:xfrm>
        </p:grpSpPr>
        <p:sp>
          <p:nvSpPr>
            <p:cNvPr id="130" name="矩形 26"/>
            <p:cNvSpPr/>
            <p:nvPr/>
          </p:nvSpPr>
          <p:spPr>
            <a:xfrm>
              <a:off x="1704960" y="4500720"/>
              <a:ext cx="8640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图片 24" descr="D_042.jpg"/>
            <p:cNvPicPr/>
            <p:nvPr/>
          </p:nvPicPr>
          <p:blipFill>
            <a:blip r:embed="rId9"/>
            <a:stretch/>
          </p:blipFill>
          <p:spPr>
            <a:xfrm>
              <a:off x="1785600" y="4643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27"/>
            <p:cNvSpPr/>
            <p:nvPr/>
          </p:nvSpPr>
          <p:spPr>
            <a:xfrm>
              <a:off x="2496960" y="464436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28" descr="C_108.jpg"/>
            <p:cNvPicPr/>
            <p:nvPr/>
          </p:nvPicPr>
          <p:blipFill>
            <a:blip r:embed="rId10"/>
            <a:stretch/>
          </p:blipFill>
          <p:spPr>
            <a:xfrm>
              <a:off x="2208960" y="5148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28"/>
          <p:cNvGrpSpPr/>
          <p:nvPr/>
        </p:nvGrpSpPr>
        <p:grpSpPr>
          <a:xfrm>
            <a:off x="1785960" y="5429160"/>
            <a:ext cx="5867280" cy="649440"/>
            <a:chOff x="1785960" y="5429160"/>
            <a:chExt cx="5867280" cy="649440"/>
          </a:xfrm>
        </p:grpSpPr>
        <p:pic>
          <p:nvPicPr>
            <p:cNvPr id="135" name="图片 31" descr="D_042.jpg"/>
            <p:cNvPicPr/>
            <p:nvPr/>
          </p:nvPicPr>
          <p:blipFill>
            <a:blip r:embed="rId11"/>
            <a:stretch/>
          </p:blipFill>
          <p:spPr>
            <a:xfrm>
              <a:off x="1785960" y="542916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32"/>
            <p:cNvSpPr/>
            <p:nvPr/>
          </p:nvSpPr>
          <p:spPr>
            <a:xfrm>
              <a:off x="2505960" y="542916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33" descr="C_108.jpg"/>
            <p:cNvPicPr/>
            <p:nvPr/>
          </p:nvPicPr>
          <p:blipFill>
            <a:blip r:embed="rId12"/>
            <a:stretch/>
          </p:blipFill>
          <p:spPr>
            <a:xfrm>
              <a:off x="2217960" y="593424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32"/>
          <p:cNvGrpSpPr/>
          <p:nvPr/>
        </p:nvGrpSpPr>
        <p:grpSpPr>
          <a:xfrm>
            <a:off x="1776240" y="6227640"/>
            <a:ext cx="5867640" cy="649440"/>
            <a:chOff x="1776240" y="6227640"/>
            <a:chExt cx="5867640" cy="649440"/>
          </a:xfrm>
        </p:grpSpPr>
        <p:pic>
          <p:nvPicPr>
            <p:cNvPr id="139" name="图片 35" descr="D_042.jpg"/>
            <p:cNvPicPr/>
            <p:nvPr/>
          </p:nvPicPr>
          <p:blipFill>
            <a:blip r:embed="rId13"/>
            <a:stretch/>
          </p:blipFill>
          <p:spPr>
            <a:xfrm>
              <a:off x="1776240" y="62276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36"/>
            <p:cNvSpPr/>
            <p:nvPr/>
          </p:nvSpPr>
          <p:spPr>
            <a:xfrm>
              <a:off x="2496240" y="6227640"/>
              <a:ext cx="48254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37" descr="C_108.jpg"/>
            <p:cNvPicPr/>
            <p:nvPr/>
          </p:nvPicPr>
          <p:blipFill>
            <a:blip r:embed="rId14"/>
            <a:stretch/>
          </p:blipFill>
          <p:spPr>
            <a:xfrm>
              <a:off x="2208240" y="673272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内容占位符 2"/>
          <p:cNvSpPr/>
          <p:nvPr/>
        </p:nvSpPr>
        <p:spPr>
          <a:xfrm>
            <a:off x="1928880" y="5429160"/>
            <a:ext cx="428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1928880" y="6270480"/>
            <a:ext cx="37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9%D)E9F1L_1U}KQIVO5[R7X"/>
          <p:cNvPicPr/>
          <p:nvPr/>
        </p:nvPicPr>
        <p:blipFill>
          <a:blip r:embed="rId1"/>
          <a:stretch/>
        </p:blipFill>
        <p:spPr>
          <a:xfrm>
            <a:off x="755640" y="2205000"/>
            <a:ext cx="756288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(LMY6F]{KV}ZS8QQ3%8F5T4"/>
          <p:cNvPicPr/>
          <p:nvPr/>
        </p:nvPicPr>
        <p:blipFill>
          <a:blip r:embed="rId1"/>
          <a:stretch/>
        </p:blipFill>
        <p:spPr>
          <a:xfrm>
            <a:off x="1260360" y="2278080"/>
            <a:ext cx="698508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Soloman\Desktop\荷叶.png"/>
          <p:cNvPicPr/>
          <p:nvPr/>
        </p:nvPicPr>
        <p:blipFill>
          <a:blip r:embed="rId1"/>
          <a:srcRect l="83336" t="36378" r="2292" b="40012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51:18Z</dcterms:created>
  <dc:creator>www.pptbz.com</dc:creator>
  <dc:description/>
  <cp:keywords/>
  <dc:language>en-US</dc:language>
  <cp:lastModifiedBy>yu wang</cp:lastModifiedBy>
  <dcterms:modified xsi:type="dcterms:W3CDTF">2015-08-14T12:51:35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