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D06-CAE5-4412-9C92-F4C9FEF6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27E-C24F-44AC-8881-3C2874FA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AAF7-8874-4BA7-A596-F7C6727B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736-8B89-4A4C-9614-C4B7B6EC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E229-7558-4017-A4B3-BB9726E2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B373-520B-49AD-B2A3-05584FCD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756D-4427-4B0E-8285-F5E33738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B88C-4E1A-4512-8696-62714AA1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E1AE-FAAF-4097-9EC9-9CF4004B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ABF-FB01-490C-9364-08786122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CE7-9689-4632-A8FE-BC3C2875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27D-B83B-47A9-9902-5352604B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2156-B6C6-4960-9128-645FC95C2AB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3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天空蓝简洁</a:t>
            </a:r>
            <a:r>
              <a:rPr b="0" lang="en-US" sz="40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汉仪大宋简"/>
                <a:ea typeface="汉仪大宋简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24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00160" y="1600200"/>
            <a:ext cx="668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4260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968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95959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  <a:ea typeface="宋体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09:02:09Z</dcterms:created>
  <dc:creator>Administrators</dc:creator>
  <dc:description/>
  <dc:language>en-US</dc:language>
  <cp:lastModifiedBy>yu wang</cp:lastModifiedBy>
  <dcterms:modified xsi:type="dcterms:W3CDTF">2015-08-14T12:50:48Z</dcterms:modified>
  <cp:revision>5</cp:revision>
  <dc:subject/>
  <dc:title>PRESENTATION  NAME</dc:title>
</cp:coreProperties>
</file>