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829-E8D3-4ED3-98EE-A2FB8200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77E-D227-4366-86F2-3E2325E3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157-E251-4D46-AD6F-378DB09A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311-91A2-4818-BDE3-BD33E663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4F6-747C-45F5-BE03-43D44580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6CD-EAA1-4E52-A881-97C0B4FB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951-87BC-47C5-AA60-EE7A5C6A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B7A-8BEB-4B7D-864E-EF854F7D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434-A756-4EF2-B3F5-B23DDC4F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C31-5AD5-4DFA-A702-5811869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DB3-395C-4F92-B46A-C8C01F34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2CA-3594-4C32-AE7D-16AB4C5F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427-B11A-4D9B-8246-AF2B7BA10A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79640" y="1000080"/>
            <a:ext cx="71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庭院院墙的梅花中国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11280" y="6165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0:59Z</dcterms:modified>
  <cp:revision>109</cp:revision>
  <dc:subject/>
  <dc:title>幻灯片 1</dc:title>
</cp:coreProperties>
</file>