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A81-1E80-49CF-8EA8-263BBEB4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5D59-2B38-4271-BDA3-2738F173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987-4B80-4CAB-9509-268070AD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512E-2A83-4D1E-BDA1-23642ABC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CF57-D653-46D4-BBBA-CCB24885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2098-CFF1-493B-854C-1304305A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13D1-5253-4895-A11E-19C86E00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33B3-5D8B-4DF7-B156-7FAE7B3F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DFDF-B3C1-4040-8D88-BCE3DAEF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ABDD-9927-47A8-8577-F602F84D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C98A-E9AA-4FB4-B5B5-2E5F46E2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0CF-3FAC-4725-842D-6A2C7B88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52B0-1D9C-47F1-943E-0A5C1023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FF68-4687-4743-BCF5-0B12F1A1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BF89-95E7-40E9-AEAD-A7113394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47A2-D296-40B2-91D2-C6458C34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67BA-F8B4-45FA-9855-D9A91B96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608E-F6D7-4539-9245-A0EE9531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DFB-5967-4D45-B24E-BB1889E0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702-73DC-4306-88B9-9B9DBFEB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2441-7754-42E3-9AB0-6F9EAB0F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E97-21EA-47E7-9185-40213A94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735-E806-484B-A96D-C152FC77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A5B-683B-4C39-9D7F-8FD88223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2BA584-D356-41A2-9067-2AF6208166C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4071FF-6B24-4353-9575-B5A899C4A95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hyperlink" Target="http://www.cisco.com/web/services/portfolio/optimization/network-optimization-nos/index.html" TargetMode="External"/><Relationship Id="rId5" Type="http://schemas.openxmlformats.org/officeDocument/2006/relationships/hyperlink" Target="http://www.cisco.com/web/services/portfolio/optimization/network-optimization-nos/index.html" TargetMode="External"/><Relationship Id="rId6" Type="http://schemas.openxmlformats.org/officeDocument/2006/relationships/hyperlink" Target="http://www.cisco.com/web/services/portfolio/optimization/network-optimization-nos/index.html" TargetMode="External"/><Relationship Id="rId7" Type="http://schemas.openxmlformats.org/officeDocument/2006/relationships/hyperlink" Target="http://www.cisco.com/c/en/us/products/security/service-listing.html" TargetMode="External"/><Relationship Id="rId8" Type="http://schemas.openxmlformats.org/officeDocument/2006/relationships/hyperlink" Target="http://www.cisco.com/c/en/us/products/security/service-listing.html" TargetMode="External"/><Relationship Id="rId9" Type="http://schemas.openxmlformats.org/officeDocument/2006/relationships/hyperlink" Target="http://www.cisco.com/c/en/us/products/security/service-listing.html" TargetMode="External"/><Relationship Id="rId10" Type="http://schemas.openxmlformats.org/officeDocument/2006/relationships/hyperlink" Target="http://www.cisco.com/c/en/us/products/security/service-listing.html" TargetMode="External"/><Relationship Id="rId11" Type="http://schemas.openxmlformats.org/officeDocument/2006/relationships/hyperlink" Target="http://www.cisco.com/c/en/us/products/security/service-listing.html" TargetMode="External"/><Relationship Id="rId12" Type="http://schemas.openxmlformats.org/officeDocument/2006/relationships/hyperlink" Target="http://www.cisco.com/c/en/us/products/security/service-listing.html" TargetMode="External"/><Relationship Id="rId1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isco.com/web/offers/lp/2015-annual-security-report/index.html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www.cisco.com/web/services/portfolio/documents/security-optimization-service-aag.pdf" TargetMode="External"/><Relationship Id="rId4" Type="http://schemas.openxmlformats.org/officeDocument/2006/relationships/image" Target="../media/image42.jpeg"/><Relationship Id="rId5" Type="http://schemas.openxmlformats.org/officeDocument/2006/relationships/hyperlink" Target="http://www.cisco.com/web/services/portfolio/documents/managed-threat-defense-service.pdf" TargetMode="External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hyperlink" Target="http://tools.cisco.com/gems/cust/customerSite.do?METHOD=E&amp;LANGUAGE_ID=E&amp;PRIORITY_CODE=000310287&amp;SEMINAR_CODE=S22120" TargetMode="External"/><Relationship Id="rId4" Type="http://schemas.openxmlformats.org/officeDocument/2006/relationships/hyperlink" Target="http://tools.cisco.com/gems/cust/customerSite.do?METHOD=E&amp;LANGUAGE_ID=E&amp;PRIORITY_CODE=000310287&amp;SEMINAR_CODE=S22120" TargetMode="External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8115480" y="304920"/>
            <a:ext cx="748800" cy="431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5765760" y="1092240"/>
            <a:ext cx="3377880" cy="4051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8775720" y="4902120"/>
            <a:ext cx="378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1176840" y="971640"/>
            <a:ext cx="599040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600"/>
              </a:lnSpc>
              <a:tabLst>
                <a:tab algn="l" pos="584280"/>
                <a:tab algn="l" pos="86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网络科技安全产品演示说明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84280"/>
                <a:tab algn="l" pos="863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84280"/>
                <a:tab algn="l" pos="863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84280"/>
                <a:tab algn="l" pos="863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84280"/>
                <a:tab algn="l" pos="863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84280"/>
                <a:tab algn="l" pos="863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22480" y="4764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380880" y="1854360"/>
            <a:ext cx="1802880" cy="1879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2540160" y="1854360"/>
            <a:ext cx="1828440" cy="1879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3"/>
          <a:stretch/>
        </p:blipFill>
        <p:spPr>
          <a:xfrm>
            <a:off x="4749840" y="1854360"/>
            <a:ext cx="1802880" cy="1879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4"/>
          <a:stretch/>
        </p:blipFill>
        <p:spPr>
          <a:xfrm>
            <a:off x="6934320" y="1854360"/>
            <a:ext cx="1802880" cy="18666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"/>
          <p:cNvSpPr/>
          <p:nvPr/>
        </p:nvSpPr>
        <p:spPr>
          <a:xfrm>
            <a:off x="8737560" y="4902120"/>
            <a:ext cx="7596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1586160" y="482760"/>
            <a:ext cx="5971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does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an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look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like?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332280" y="3898800"/>
            <a:ext cx="1659600" cy="11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546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4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4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4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4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4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01"/>
              </a:lnSpc>
              <a:tabLst>
                <a:tab algn="l" pos="54612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3148560" y="3924360"/>
            <a:ext cx="636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5236200" y="3924360"/>
            <a:ext cx="830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Analy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7214040" y="3911760"/>
            <a:ext cx="13575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7621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Recomm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2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2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2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2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62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76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2697120" y="2697120"/>
            <a:ext cx="3737520" cy="88560"/>
          </a:xfrm>
          <a:custGeom>
            <a:avLst/>
            <a:gdLst>
              <a:gd name="textAreaLeft" fmla="*/ 0 w 3737520"/>
              <a:gd name="textAreaRight" fmla="*/ 3737880 w 3737520"/>
              <a:gd name="textAreaTop" fmla="*/ 0 h 88560"/>
              <a:gd name="textAreaBottom" fmla="*/ 88920 h 88560"/>
            </a:gdLst>
            <a:ahLst/>
            <a:rect l="textAreaLeft" t="textAreaTop" r="textAreaRight" b="textAreaBottom"/>
            <a:pathLst>
              <a:path w="3737736" h="88900">
                <a:moveTo>
                  <a:pt x="22225" y="22225"/>
                </a:moveTo>
                <a:lnTo>
                  <a:pt x="3715511" y="22225"/>
                </a:ln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2701800" y="2806560"/>
            <a:ext cx="88560" cy="606240"/>
          </a:xfrm>
          <a:custGeom>
            <a:avLst/>
            <a:gdLst>
              <a:gd name="textAreaLeft" fmla="*/ 0 w 88560"/>
              <a:gd name="textAreaRight" fmla="*/ 88920 w 8856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88900" h="606425">
                <a:moveTo>
                  <a:pt x="22225" y="22225"/>
                </a:moveTo>
                <a:lnTo>
                  <a:pt x="22225" y="584200"/>
                </a:ln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4559400" y="2921040"/>
            <a:ext cx="88560" cy="606240"/>
          </a:xfrm>
          <a:custGeom>
            <a:avLst/>
            <a:gdLst>
              <a:gd name="textAreaLeft" fmla="*/ 0 w 88560"/>
              <a:gd name="textAreaRight" fmla="*/ 88920 w 8856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88900" h="606425">
                <a:moveTo>
                  <a:pt x="22225" y="22225"/>
                </a:moveTo>
                <a:lnTo>
                  <a:pt x="22225" y="584200"/>
                </a:ln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6330960" y="2806560"/>
            <a:ext cx="88560" cy="606240"/>
          </a:xfrm>
          <a:custGeom>
            <a:avLst/>
            <a:gdLst>
              <a:gd name="textAreaLeft" fmla="*/ 0 w 88560"/>
              <a:gd name="textAreaRight" fmla="*/ 88920 w 8856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88900" h="606425">
                <a:moveTo>
                  <a:pt x="22225" y="22225"/>
                </a:moveTo>
                <a:lnTo>
                  <a:pt x="22225" y="584200"/>
                </a:ln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0" y="1333440"/>
            <a:ext cx="9143640" cy="1701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2070000" y="3174840"/>
            <a:ext cx="1320480" cy="1333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3"/>
          <a:stretch/>
        </p:blipFill>
        <p:spPr>
          <a:xfrm>
            <a:off x="3924360" y="3187800"/>
            <a:ext cx="1320480" cy="1320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4"/>
          <a:stretch/>
        </p:blipFill>
        <p:spPr>
          <a:xfrm>
            <a:off x="5702400" y="3174840"/>
            <a:ext cx="1333080" cy="13204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"/>
          <p:cNvSpPr/>
          <p:nvPr/>
        </p:nvSpPr>
        <p:spPr>
          <a:xfrm>
            <a:off x="8737560" y="4902120"/>
            <a:ext cx="7596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3183480" y="482760"/>
            <a:ext cx="2776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Uncovering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2360160" y="4546440"/>
            <a:ext cx="66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Ag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4236840" y="4546440"/>
            <a:ext cx="670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I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5767920" y="4546440"/>
            <a:ext cx="1278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2819520" y="965160"/>
            <a:ext cx="6222600" cy="41778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"/>
          <p:cNvSpPr/>
          <p:nvPr/>
        </p:nvSpPr>
        <p:spPr>
          <a:xfrm>
            <a:off x="8737560" y="4902120"/>
            <a:ext cx="7596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1359000" y="482760"/>
            <a:ext cx="642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Prioritize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Risk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Based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on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Business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Freeform 3"/>
          <p:cNvSpPr/>
          <p:nvPr/>
        </p:nvSpPr>
        <p:spPr>
          <a:xfrm>
            <a:off x="2775600" y="3102840"/>
            <a:ext cx="3682800" cy="871920"/>
          </a:xfrm>
          <a:custGeom>
            <a:avLst/>
            <a:gdLst>
              <a:gd name="textAreaLeft" fmla="*/ 0 w 3682800"/>
              <a:gd name="textAreaRight" fmla="*/ 3683160 w 3682800"/>
              <a:gd name="textAreaTop" fmla="*/ 0 h 871920"/>
              <a:gd name="textAreaBottom" fmla="*/ 872280 h 871920"/>
            </a:gdLst>
            <a:ahLst/>
            <a:rect l="textAreaLeft" t="textAreaTop" r="textAreaRight" b="textAreaBottom"/>
            <a:pathLst>
              <a:path w="3683000" h="872108">
                <a:moveTo>
                  <a:pt x="12700" y="436118"/>
                </a:moveTo>
                <a:cubicBezTo>
                  <a:pt x="12700" y="202311"/>
                  <a:pt x="831469" y="12700"/>
                  <a:pt x="1841500" y="12700"/>
                </a:cubicBezTo>
                <a:cubicBezTo>
                  <a:pt x="2851530" y="12700"/>
                  <a:pt x="3670300" y="202311"/>
                  <a:pt x="3670300" y="436118"/>
                </a:cubicBezTo>
                <a:cubicBezTo>
                  <a:pt x="3670300" y="669924"/>
                  <a:pt x="2851530" y="859408"/>
                  <a:pt x="1841500" y="859408"/>
                </a:cubicBezTo>
                <a:cubicBezTo>
                  <a:pt x="831469" y="859408"/>
                  <a:pt x="12700" y="669924"/>
                  <a:pt x="12700" y="436118"/>
                </a:cubicBezTo>
              </a:path>
            </a:pathLst>
          </a:custGeom>
          <a:noFill/>
          <a:ln>
            <a:solidFill>
              <a:srgbClr val="f2624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2819520" y="965160"/>
            <a:ext cx="6222600" cy="41778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8737560" y="4902120"/>
            <a:ext cx="7596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2323080" y="482760"/>
            <a:ext cx="4497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Develop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Risk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Framework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0" y="1930320"/>
            <a:ext cx="9143640" cy="1434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927000" y="520560"/>
            <a:ext cx="8216640" cy="46224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"/>
          <p:cNvSpPr/>
          <p:nvPr/>
        </p:nvSpPr>
        <p:spPr>
          <a:xfrm>
            <a:off x="8737560" y="4902120"/>
            <a:ext cx="7596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2375280" y="482760"/>
            <a:ext cx="4393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Risk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Remediation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Strategy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4566600" y="3358800"/>
            <a:ext cx="88560" cy="450360"/>
          </a:xfrm>
          <a:custGeom>
            <a:avLst/>
            <a:gdLst>
              <a:gd name="textAreaLeft" fmla="*/ 0 w 88560"/>
              <a:gd name="textAreaRight" fmla="*/ 88920 w 88560"/>
              <a:gd name="textAreaTop" fmla="*/ 0 h 450360"/>
              <a:gd name="textAreaBottom" fmla="*/ 450720 h 450360"/>
            </a:gdLst>
            <a:ahLst/>
            <a:rect l="textAreaLeft" t="textAreaTop" r="textAreaRight" b="textAreaBottom"/>
            <a:pathLst>
              <a:path w="88900" h="450850">
                <a:moveTo>
                  <a:pt x="22225" y="22225"/>
                </a:moveTo>
                <a:lnTo>
                  <a:pt x="22225" y="428625"/>
                </a:ln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6422040" y="3303720"/>
            <a:ext cx="88560" cy="547200"/>
          </a:xfrm>
          <a:custGeom>
            <a:avLst/>
            <a:gdLst>
              <a:gd name="textAreaLeft" fmla="*/ 0 w 88560"/>
              <a:gd name="textAreaRight" fmla="*/ 88920 w 88560"/>
              <a:gd name="textAreaTop" fmla="*/ 0 h 547200"/>
              <a:gd name="textAreaBottom" fmla="*/ 547560 h 547200"/>
            </a:gdLst>
            <a:ahLst/>
            <a:rect l="textAreaLeft" t="textAreaTop" r="textAreaRight" b="textAreaBottom"/>
            <a:pathLst>
              <a:path w="88900" h="547497">
                <a:moveTo>
                  <a:pt x="22225" y="22225"/>
                </a:moveTo>
                <a:lnTo>
                  <a:pt x="22225" y="525271"/>
                </a:ln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2697840" y="3351240"/>
            <a:ext cx="88560" cy="547200"/>
          </a:xfrm>
          <a:custGeom>
            <a:avLst/>
            <a:gdLst>
              <a:gd name="textAreaLeft" fmla="*/ 0 w 88560"/>
              <a:gd name="textAreaRight" fmla="*/ 88920 w 88560"/>
              <a:gd name="textAreaTop" fmla="*/ 0 h 547200"/>
              <a:gd name="textAreaBottom" fmla="*/ 547560 h 547200"/>
            </a:gdLst>
            <a:ahLst/>
            <a:rect l="textAreaLeft" t="textAreaTop" r="textAreaRight" b="textAreaBottom"/>
            <a:pathLst>
              <a:path w="88900" h="547497">
                <a:moveTo>
                  <a:pt x="22225" y="22225"/>
                </a:moveTo>
                <a:lnTo>
                  <a:pt x="22225" y="525271"/>
                </a:ln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1930320"/>
            <a:ext cx="9143640" cy="1434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2209680" y="3936960"/>
            <a:ext cx="990360" cy="837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3"/>
          <a:stretch/>
        </p:blipFill>
        <p:spPr>
          <a:xfrm>
            <a:off x="3581280" y="3860640"/>
            <a:ext cx="2031480" cy="926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4"/>
          <a:stretch/>
        </p:blipFill>
        <p:spPr>
          <a:xfrm>
            <a:off x="5943600" y="3860640"/>
            <a:ext cx="1510920" cy="9140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8737560" y="4902120"/>
            <a:ext cx="7596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"/>
          <p:cNvSpPr/>
          <p:nvPr/>
        </p:nvSpPr>
        <p:spPr>
          <a:xfrm>
            <a:off x="2306520" y="482760"/>
            <a:ext cx="4530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Protection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by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Segmentation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"/>
          <p:cNvSpPr/>
          <p:nvPr/>
        </p:nvSpPr>
        <p:spPr>
          <a:xfrm>
            <a:off x="2347560" y="1587600"/>
            <a:ext cx="66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Ag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"/>
          <p:cNvSpPr/>
          <p:nvPr/>
        </p:nvSpPr>
        <p:spPr>
          <a:xfrm>
            <a:off x="4236840" y="1587600"/>
            <a:ext cx="670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I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5806080" y="1587600"/>
            <a:ext cx="1278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4566600" y="3358800"/>
            <a:ext cx="88560" cy="450360"/>
          </a:xfrm>
          <a:custGeom>
            <a:avLst/>
            <a:gdLst>
              <a:gd name="textAreaLeft" fmla="*/ 0 w 88560"/>
              <a:gd name="textAreaRight" fmla="*/ 88920 w 88560"/>
              <a:gd name="textAreaTop" fmla="*/ 0 h 450360"/>
              <a:gd name="textAreaBottom" fmla="*/ 450720 h 450360"/>
            </a:gdLst>
            <a:ahLst/>
            <a:rect l="textAreaLeft" t="textAreaTop" r="textAreaRight" b="textAreaBottom"/>
            <a:pathLst>
              <a:path w="88900" h="450850">
                <a:moveTo>
                  <a:pt x="22225" y="22225"/>
                </a:moveTo>
                <a:lnTo>
                  <a:pt x="22225" y="428625"/>
                </a:ln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6422040" y="3303720"/>
            <a:ext cx="88560" cy="547200"/>
          </a:xfrm>
          <a:custGeom>
            <a:avLst/>
            <a:gdLst>
              <a:gd name="textAreaLeft" fmla="*/ 0 w 88560"/>
              <a:gd name="textAreaRight" fmla="*/ 88920 w 88560"/>
              <a:gd name="textAreaTop" fmla="*/ 0 h 547200"/>
              <a:gd name="textAreaBottom" fmla="*/ 547560 h 547200"/>
            </a:gdLst>
            <a:ahLst/>
            <a:rect l="textAreaLeft" t="textAreaTop" r="textAreaRight" b="textAreaBottom"/>
            <a:pathLst>
              <a:path w="88900" h="547497">
                <a:moveTo>
                  <a:pt x="22225" y="22225"/>
                </a:moveTo>
                <a:lnTo>
                  <a:pt x="22225" y="525271"/>
                </a:ln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2697840" y="3351240"/>
            <a:ext cx="88560" cy="547200"/>
          </a:xfrm>
          <a:custGeom>
            <a:avLst/>
            <a:gdLst>
              <a:gd name="textAreaLeft" fmla="*/ 0 w 88560"/>
              <a:gd name="textAreaRight" fmla="*/ 88920 w 88560"/>
              <a:gd name="textAreaTop" fmla="*/ 0 h 547200"/>
              <a:gd name="textAreaBottom" fmla="*/ 547560 h 547200"/>
            </a:gdLst>
            <a:ahLst/>
            <a:rect l="textAreaLeft" t="textAreaTop" r="textAreaRight" b="textAreaBottom"/>
            <a:pathLst>
              <a:path w="88900" h="547497">
                <a:moveTo>
                  <a:pt x="22225" y="22225"/>
                </a:moveTo>
                <a:lnTo>
                  <a:pt x="22225" y="525271"/>
                </a:ln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0" y="1930320"/>
            <a:ext cx="9143640" cy="1434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2209680" y="3720960"/>
            <a:ext cx="1104480" cy="1053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3581280" y="3720960"/>
            <a:ext cx="2031480" cy="1066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4"/>
          <a:stretch/>
        </p:blipFill>
        <p:spPr>
          <a:xfrm>
            <a:off x="5943600" y="3708360"/>
            <a:ext cx="1510920" cy="10663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"/>
          <p:cNvSpPr/>
          <p:nvPr/>
        </p:nvSpPr>
        <p:spPr>
          <a:xfrm>
            <a:off x="8737560" y="4902120"/>
            <a:ext cx="7596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2698560" y="482760"/>
            <a:ext cx="3759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Validate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Risk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Removal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2347560" y="1587600"/>
            <a:ext cx="66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Ag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4236840" y="1587600"/>
            <a:ext cx="670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I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"/>
          <p:cNvSpPr/>
          <p:nvPr/>
        </p:nvSpPr>
        <p:spPr>
          <a:xfrm>
            <a:off x="5806080" y="1587600"/>
            <a:ext cx="1278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355680" y="1117440"/>
            <a:ext cx="8470440" cy="402552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"/>
          <p:cNvSpPr/>
          <p:nvPr/>
        </p:nvSpPr>
        <p:spPr>
          <a:xfrm>
            <a:off x="8737560" y="4902120"/>
            <a:ext cx="7596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6827040" y="3403440"/>
            <a:ext cx="8866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orit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3908520" y="4813200"/>
            <a:ext cx="9705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di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"/>
          <p:cNvSpPr/>
          <p:nvPr/>
        </p:nvSpPr>
        <p:spPr>
          <a:xfrm>
            <a:off x="839880" y="3403440"/>
            <a:ext cx="15706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lid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ov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"/>
          <p:cNvSpPr/>
          <p:nvPr/>
        </p:nvSpPr>
        <p:spPr>
          <a:xfrm>
            <a:off x="1684080" y="482760"/>
            <a:ext cx="5762160" cy="20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  <a:tabLst>
                <a:tab algn="l" pos="2476440"/>
              </a:tabLst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Recap: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Vulnerability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Lifecycle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7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7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7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7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7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7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7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7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7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7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76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2476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dent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704160" y="47156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1117440" y="1943280"/>
            <a:ext cx="1802880" cy="1802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3657600" y="1930320"/>
            <a:ext cx="1802880" cy="1802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3"/>
          <a:stretch/>
        </p:blipFill>
        <p:spPr>
          <a:xfrm>
            <a:off x="6197760" y="1943280"/>
            <a:ext cx="1802880" cy="180288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8737560" y="4902120"/>
            <a:ext cx="7596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2622960" y="457200"/>
            <a:ext cx="3872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Cisco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Services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1391040" y="3873600"/>
            <a:ext cx="12312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  <a:tabLst>
                <a:tab algn="l" pos="190440"/>
                <a:tab algn="l" pos="228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微软雅黑"/>
                <a:hlinkClick r:id="rId4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90440"/>
                <a:tab algn="l" pos="2286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微软雅黑"/>
                <a:hlinkClick r:id="rId5"/>
              </a:rPr>
              <a:t>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90440"/>
                <a:tab algn="l" pos="228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微软雅黑"/>
                <a:hlinkClick r:id="rId6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"/>
          <p:cNvSpPr/>
          <p:nvPr/>
        </p:nvSpPr>
        <p:spPr>
          <a:xfrm>
            <a:off x="3956400" y="3898800"/>
            <a:ext cx="12312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  <a:tabLst>
                <a:tab algn="l" pos="190440"/>
                <a:tab algn="l" pos="21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微软雅黑"/>
                <a:hlinkClick r:id="rId7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90440"/>
                <a:tab algn="l" pos="2160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微软雅黑"/>
                <a:hlinkClick r:id="rId8"/>
              </a:rPr>
              <a:t>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90440"/>
                <a:tab algn="l" pos="21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微软雅黑"/>
                <a:hlinkClick r:id="rId9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"/>
          <p:cNvSpPr/>
          <p:nvPr/>
        </p:nvSpPr>
        <p:spPr>
          <a:xfrm>
            <a:off x="6686280" y="3898800"/>
            <a:ext cx="9018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  <a:tabLst>
                <a:tab algn="l" pos="50760"/>
                <a:tab algn="l" pos="13968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微软雅黑"/>
                <a:hlinkClick r:id="rId10"/>
              </a:rPr>
              <a:t>Mana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50760"/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微软雅黑"/>
                <a:hlinkClick r:id="rId11"/>
              </a:rPr>
              <a:t>Thr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50760"/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微软雅黑"/>
                <a:hlinkClick r:id="rId12"/>
              </a:rPr>
              <a:t>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7" name="Freeform 3"/>
          <p:cNvSpPr/>
          <p:nvPr/>
        </p:nvSpPr>
        <p:spPr>
          <a:xfrm>
            <a:off x="6023520" y="1485360"/>
            <a:ext cx="2785680" cy="2226960"/>
          </a:xfrm>
          <a:custGeom>
            <a:avLst/>
            <a:gdLst>
              <a:gd name="textAreaLeft" fmla="*/ 0 w 2785680"/>
              <a:gd name="textAreaRight" fmla="*/ 2786040 w 2785680"/>
              <a:gd name="textAreaTop" fmla="*/ 0 h 2226960"/>
              <a:gd name="textAreaBottom" fmla="*/ 2227320 h 2226960"/>
            </a:gdLst>
            <a:ahLst/>
            <a:rect l="textAreaLeft" t="textAreaTop" r="textAreaRight" b="textAreaBottom"/>
            <a:pathLst>
              <a:path w="2785872" h="2227198">
                <a:moveTo>
                  <a:pt x="38100" y="2189098"/>
                </a:moveTo>
                <a:lnTo>
                  <a:pt x="2747772" y="2189098"/>
                </a:lnTo>
                <a:lnTo>
                  <a:pt x="2747772" y="38100"/>
                </a:lnTo>
                <a:lnTo>
                  <a:pt x="38100" y="38100"/>
                </a:lnTo>
                <a:lnTo>
                  <a:pt x="38100" y="2189098"/>
                </a:lnTo>
              </a:path>
            </a:pathLst>
          </a:custGeom>
          <a:noFill/>
          <a:ln w="76200">
            <a:solidFill>
              <a:srgbClr val="f2624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8" name="Freeform 3"/>
          <p:cNvSpPr/>
          <p:nvPr/>
        </p:nvSpPr>
        <p:spPr>
          <a:xfrm>
            <a:off x="321840" y="1485360"/>
            <a:ext cx="2803680" cy="2241360"/>
          </a:xfrm>
          <a:custGeom>
            <a:avLst/>
            <a:gdLst>
              <a:gd name="textAreaLeft" fmla="*/ 0 w 2803680"/>
              <a:gd name="textAreaRight" fmla="*/ 2804040 w 2803680"/>
              <a:gd name="textAreaTop" fmla="*/ 0 h 2241360"/>
              <a:gd name="textAreaBottom" fmla="*/ 2241720 h 2241360"/>
            </a:gdLst>
            <a:ahLst/>
            <a:rect l="textAreaLeft" t="textAreaTop" r="textAreaRight" b="textAreaBottom"/>
            <a:pathLst>
              <a:path w="2804032" h="2241550">
                <a:moveTo>
                  <a:pt x="38100" y="2203450"/>
                </a:moveTo>
                <a:lnTo>
                  <a:pt x="2765932" y="2203450"/>
                </a:lnTo>
                <a:lnTo>
                  <a:pt x="2765932" y="38100"/>
                </a:lnTo>
                <a:lnTo>
                  <a:pt x="38100" y="38100"/>
                </a:lnTo>
                <a:lnTo>
                  <a:pt x="38100" y="2203450"/>
                </a:lnTo>
              </a:path>
            </a:pathLst>
          </a:custGeom>
          <a:noFill/>
          <a:ln w="76200">
            <a:solidFill>
              <a:srgbClr val="f2624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9" name="Freeform 3"/>
          <p:cNvSpPr/>
          <p:nvPr/>
        </p:nvSpPr>
        <p:spPr>
          <a:xfrm>
            <a:off x="3181680" y="1485360"/>
            <a:ext cx="2785680" cy="2226960"/>
          </a:xfrm>
          <a:custGeom>
            <a:avLst/>
            <a:gdLst>
              <a:gd name="textAreaLeft" fmla="*/ 0 w 2785680"/>
              <a:gd name="textAreaRight" fmla="*/ 2786040 w 2785680"/>
              <a:gd name="textAreaTop" fmla="*/ 0 h 2226960"/>
              <a:gd name="textAreaBottom" fmla="*/ 2227320 h 2226960"/>
            </a:gdLst>
            <a:ahLst/>
            <a:rect l="textAreaLeft" t="textAreaTop" r="textAreaRight" b="textAreaBottom"/>
            <a:pathLst>
              <a:path w="2785872" h="2227198">
                <a:moveTo>
                  <a:pt x="38100" y="2189098"/>
                </a:moveTo>
                <a:lnTo>
                  <a:pt x="2747772" y="2189098"/>
                </a:lnTo>
                <a:lnTo>
                  <a:pt x="2747772" y="38100"/>
                </a:lnTo>
                <a:lnTo>
                  <a:pt x="38100" y="38100"/>
                </a:lnTo>
                <a:lnTo>
                  <a:pt x="38100" y="2189098"/>
                </a:lnTo>
              </a:path>
            </a:pathLst>
          </a:custGeom>
          <a:noFill/>
          <a:ln w="76200">
            <a:solidFill>
              <a:srgbClr val="f2624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8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4160" y="1460520"/>
            <a:ext cx="2933280" cy="2374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51160" y="1549440"/>
            <a:ext cx="2653920" cy="2095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56200" y="1460520"/>
            <a:ext cx="2920680" cy="23619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"/>
          <p:cNvSpPr/>
          <p:nvPr/>
        </p:nvSpPr>
        <p:spPr>
          <a:xfrm>
            <a:off x="8737560" y="4902120"/>
            <a:ext cx="7596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"/>
          <p:cNvSpPr/>
          <p:nvPr/>
        </p:nvSpPr>
        <p:spPr>
          <a:xfrm>
            <a:off x="3726720" y="444600"/>
            <a:ext cx="1677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</a:pPr>
            <a:r>
              <a:rPr b="0" lang="en-US" sz="3209" spc="-1" strike="noStrike">
                <a:solidFill>
                  <a:srgbClr val="4fc4d0"/>
                </a:solidFill>
                <a:latin typeface="Times New Roman"/>
              </a:rPr>
              <a:t>Resources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"/>
          <p:cNvSpPr/>
          <p:nvPr/>
        </p:nvSpPr>
        <p:spPr>
          <a:xfrm>
            <a:off x="703080" y="3975120"/>
            <a:ext cx="1971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177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sc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177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"/>
          <p:cNvSpPr/>
          <p:nvPr/>
        </p:nvSpPr>
        <p:spPr>
          <a:xfrm>
            <a:off x="3424320" y="3975120"/>
            <a:ext cx="22568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63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63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-A-G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"/>
          <p:cNvSpPr/>
          <p:nvPr/>
        </p:nvSpPr>
        <p:spPr>
          <a:xfrm>
            <a:off x="6326640" y="3975120"/>
            <a:ext cx="22309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266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ag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266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e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-A-G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3029040" y="1638360"/>
            <a:ext cx="3085920" cy="3085920"/>
          </a:xfrm>
          <a:custGeom>
            <a:avLst/>
            <a:gdLst>
              <a:gd name="textAreaLeft" fmla="*/ 0 w 3085920"/>
              <a:gd name="textAreaRight" fmla="*/ 3086280 w 3085920"/>
              <a:gd name="textAreaTop" fmla="*/ 0 h 3085920"/>
              <a:gd name="textAreaBottom" fmla="*/ 3086280 h 3085920"/>
            </a:gdLst>
            <a:ahLst/>
            <a:rect l="textAreaLeft" t="textAreaTop" r="textAreaRight" b="textAreaBottom"/>
            <a:pathLst>
              <a:path w="3086100" h="3086100">
                <a:moveTo>
                  <a:pt x="19050" y="1543050"/>
                </a:moveTo>
                <a:cubicBezTo>
                  <a:pt x="19050" y="701420"/>
                  <a:pt x="701421" y="19050"/>
                  <a:pt x="1543050" y="19050"/>
                </a:cubicBezTo>
                <a:cubicBezTo>
                  <a:pt x="2384678" y="19050"/>
                  <a:pt x="3067050" y="701420"/>
                  <a:pt x="3067050" y="1543050"/>
                </a:cubicBezTo>
                <a:cubicBezTo>
                  <a:pt x="3067050" y="2384729"/>
                  <a:pt x="2384678" y="3067050"/>
                  <a:pt x="1543050" y="3067050"/>
                </a:cubicBezTo>
                <a:cubicBezTo>
                  <a:pt x="701421" y="3067050"/>
                  <a:pt x="19050" y="2384729"/>
                  <a:pt x="19050" y="1543050"/>
                </a:cubicBez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3263760" y="1346040"/>
            <a:ext cx="1015560" cy="1002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2425680" y="2641680"/>
            <a:ext cx="1015560" cy="1002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>
            <a:off x="3263760" y="3936960"/>
            <a:ext cx="1015560" cy="1002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4"/>
          <a:stretch/>
        </p:blipFill>
        <p:spPr>
          <a:xfrm>
            <a:off x="4863960" y="1346040"/>
            <a:ext cx="1015560" cy="1002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5"/>
          <a:stretch/>
        </p:blipFill>
        <p:spPr>
          <a:xfrm>
            <a:off x="5791320" y="2641680"/>
            <a:ext cx="1002960" cy="1002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6"/>
          <a:stretch/>
        </p:blipFill>
        <p:spPr>
          <a:xfrm>
            <a:off x="5016600" y="3936960"/>
            <a:ext cx="1015560" cy="100296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8775720" y="4902120"/>
            <a:ext cx="378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2168280" y="1803240"/>
            <a:ext cx="98424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974560" y="1803240"/>
            <a:ext cx="13726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yt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946800" y="3048120"/>
            <a:ext cx="21438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  <a:tabLst>
                <a:tab algn="l" pos="266760"/>
                <a:tab algn="l" pos="838080"/>
                <a:tab algn="l" pos="1181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266760"/>
                <a:tab algn="l" pos="838080"/>
                <a:tab algn="l" pos="1181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66760"/>
                <a:tab algn="l" pos="838080"/>
                <a:tab algn="l" pos="118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66760"/>
                <a:tab algn="l" pos="838080"/>
                <a:tab algn="l" pos="118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66760"/>
                <a:tab algn="l" pos="838080"/>
                <a:tab algn="l" pos="118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66760"/>
                <a:tab algn="l" pos="838080"/>
                <a:tab algn="l" pos="118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66760"/>
                <a:tab algn="l" pos="838080"/>
                <a:tab algn="l" pos="118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66760"/>
                <a:tab algn="l" pos="838080"/>
                <a:tab algn="l" pos="118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66760"/>
                <a:tab algn="l" pos="838080"/>
                <a:tab algn="l" pos="118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  <a:tabLst>
                <a:tab algn="l" pos="266760"/>
                <a:tab algn="l" pos="838080"/>
                <a:tab algn="l" pos="1181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chitec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266760"/>
                <a:tab algn="l" pos="838080"/>
                <a:tab algn="l" pos="1181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6178320" y="3048120"/>
            <a:ext cx="2159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  <a:tabLst>
                <a:tab algn="l" pos="177840"/>
                <a:tab algn="l" pos="762120"/>
                <a:tab algn="l" pos="1079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lia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177840"/>
                <a:tab algn="l" pos="762120"/>
                <a:tab algn="l" pos="1079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40"/>
                <a:tab algn="l" pos="762120"/>
                <a:tab algn="l" pos="1079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40"/>
                <a:tab algn="l" pos="762120"/>
                <a:tab algn="l" pos="1079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40"/>
                <a:tab algn="l" pos="762120"/>
                <a:tab algn="l" pos="1079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40"/>
                <a:tab algn="l" pos="762120"/>
                <a:tab algn="l" pos="1079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40"/>
                <a:tab algn="l" pos="762120"/>
                <a:tab algn="l" pos="1079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40"/>
                <a:tab algn="l" pos="762120"/>
                <a:tab algn="l" pos="1079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40"/>
                <a:tab algn="l" pos="762120"/>
                <a:tab algn="l" pos="1079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177840"/>
                <a:tab algn="l" pos="762120"/>
                <a:tab algn="l" pos="1079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177840"/>
                <a:tab algn="l" pos="762120"/>
                <a:tab algn="l" pos="10796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fecy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4005720" y="2692440"/>
            <a:ext cx="1195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3839400" y="3060720"/>
            <a:ext cx="15282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00"/>
              </a:lnSpc>
              <a:tabLst>
                <a:tab algn="l" pos="279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151560" y="177840"/>
            <a:ext cx="8078400" cy="1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300"/>
              </a:lnSpc>
              <a:tabLst>
                <a:tab algn="l" pos="749160"/>
                <a:tab algn="l" pos="1612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An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Optimized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Network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is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the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26240"/>
                </a:solidFill>
                <a:latin typeface="微软雅黑"/>
              </a:rPr>
              <a:t>Foundation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for</a:t>
            </a:r>
            <a:endParaRPr b="0" lang="en-US" sz="27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749160"/>
                <a:tab algn="l" pos="1612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Business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Innovation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&amp;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Outcomes</a:t>
            </a:r>
            <a:endParaRPr b="0" lang="en-US" sz="27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49160"/>
                <a:tab algn="l" pos="1612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49160"/>
                <a:tab algn="l" pos="1612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49160"/>
                <a:tab algn="l" pos="1612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  <a:tabLst>
                <a:tab algn="l" pos="749160"/>
                <a:tab algn="l" pos="1612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scoSmart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4272840" y="2759040"/>
            <a:ext cx="4498200" cy="1133640"/>
          </a:xfrm>
          <a:custGeom>
            <a:avLst/>
            <a:gdLst>
              <a:gd name="textAreaLeft" fmla="*/ 0 w 4498200"/>
              <a:gd name="textAreaRight" fmla="*/ 4498560 w 449820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4498594" h="1133868">
                <a:moveTo>
                  <a:pt x="6350" y="193167"/>
                </a:moveTo>
                <a:cubicBezTo>
                  <a:pt x="6350" y="89916"/>
                  <a:pt x="90042" y="6350"/>
                  <a:pt x="193294" y="6350"/>
                </a:cubicBezTo>
                <a:lnTo>
                  <a:pt x="4305300" y="6350"/>
                </a:lnTo>
                <a:cubicBezTo>
                  <a:pt x="4408551" y="6350"/>
                  <a:pt x="4492244" y="89916"/>
                  <a:pt x="4492244" y="193167"/>
                </a:cubicBezTo>
                <a:lnTo>
                  <a:pt x="4492244" y="940689"/>
                </a:lnTo>
                <a:cubicBezTo>
                  <a:pt x="4492244" y="1043813"/>
                  <a:pt x="4408551" y="1127518"/>
                  <a:pt x="4305300" y="1127518"/>
                </a:cubicBezTo>
                <a:lnTo>
                  <a:pt x="193294" y="1127518"/>
                </a:lnTo>
                <a:cubicBezTo>
                  <a:pt x="90042" y="1127518"/>
                  <a:pt x="6350" y="1043813"/>
                  <a:pt x="6350" y="940689"/>
                </a:cubicBezTo>
                <a:lnTo>
                  <a:pt x="6350" y="193167"/>
                </a:lnTo>
              </a:path>
            </a:pathLst>
          </a:custGeom>
          <a:noFill/>
          <a:ln w="12700">
            <a:solidFill>
              <a:srgbClr val="f7924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774720" y="1270080"/>
            <a:ext cx="3098520" cy="3085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4216320" y="2730600"/>
            <a:ext cx="4609800" cy="12315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"/>
          <p:cNvSpPr/>
          <p:nvPr/>
        </p:nvSpPr>
        <p:spPr>
          <a:xfrm>
            <a:off x="8737560" y="4902120"/>
            <a:ext cx="7596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2273760" y="190440"/>
            <a:ext cx="613656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201"/>
              </a:lnSpc>
              <a:tabLst>
                <a:tab algn="l" pos="2197080"/>
                <a:tab algn="l" pos="2387520"/>
              </a:tabLst>
            </a:pPr>
            <a:r>
              <a:rPr b="0" lang="en-US" sz="4600" spc="-1" strike="noStrike">
                <a:solidFill>
                  <a:srgbClr val="4fc4d0"/>
                </a:solidFill>
                <a:latin typeface="Times New Roman"/>
              </a:rPr>
              <a:t>Learn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600" spc="-1" strike="noStrike">
                <a:solidFill>
                  <a:srgbClr val="4fc4d0"/>
                </a:solidFill>
                <a:latin typeface="Times New Roman"/>
              </a:rPr>
              <a:t>Mor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600" spc="-1" strike="noStrike">
                <a:solidFill>
                  <a:srgbClr val="4fc4d0"/>
                </a:solidFill>
                <a:latin typeface="Times New Roman"/>
              </a:rPr>
              <a:t>Abou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01"/>
              </a:lnSpc>
              <a:tabLst>
                <a:tab algn="l" pos="2197080"/>
                <a:tab algn="l" pos="2387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197080"/>
                <a:tab algn="l" pos="2387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2197080"/>
                <a:tab algn="l" pos="2387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"/>
              </a:rPr>
              <a:t>30-MI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4"/>
              </a:rPr>
              <a:t>WEBI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94360" y="14184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ffff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ffff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6607800" y="25020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320840" y="1028880"/>
            <a:ext cx="3085920" cy="30859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8775720" y="4902120"/>
            <a:ext cx="378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5108040" y="2082960"/>
            <a:ext cx="169560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600"/>
              </a:lnSpc>
            </a:pPr>
            <a:r>
              <a:rPr b="0" lang="en-US" sz="399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0" lang="en-US" sz="3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8775720" y="4902120"/>
            <a:ext cx="378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554400" y="393840"/>
            <a:ext cx="7628040" cy="32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201"/>
              </a:lnSpc>
              <a:tabLst>
                <a:tab algn="l" pos="3327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600" spc="-1" strike="noStrike">
                <a:solidFill>
                  <a:srgbClr val="4fc4d0"/>
                </a:solidFill>
                <a:latin typeface="Times New Roman"/>
              </a:rPr>
              <a:t>Agend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327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327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327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327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327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327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327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3327480"/>
              </a:tabLst>
            </a:pP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Assess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evolv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you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secur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strate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327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3327480"/>
              </a:tabLst>
            </a:pP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Maintain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you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secur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pos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327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3327480"/>
              </a:tabLst>
            </a:pP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Secur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servic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hel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prepa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you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242d3b"/>
                </a:solidFill>
                <a:latin typeface="Times New Roman"/>
              </a:rPr>
              <a:t>net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8775720" y="4902120"/>
            <a:ext cx="378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595520" y="2171880"/>
            <a:ext cx="611784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  <a:tabLst>
                <a:tab algn="l" pos="1346040"/>
              </a:tabLst>
            </a:pPr>
            <a:r>
              <a:rPr b="0" lang="en-US" sz="3209" spc="-1" strike="noStrike">
                <a:solidFill>
                  <a:srgbClr val="4fc4d0"/>
                </a:solidFill>
                <a:latin typeface="Times New Roman"/>
              </a:rPr>
              <a:t>When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4fc4d0"/>
                </a:solidFill>
                <a:latin typeface="Times New Roman"/>
              </a:rPr>
              <a:t>was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4fc4d0"/>
                </a:solidFill>
                <a:latin typeface="Times New Roman"/>
              </a:rPr>
              <a:t>the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4fc4d0"/>
                </a:solidFill>
                <a:latin typeface="Times New Roman"/>
              </a:rPr>
              <a:t>last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4fc4d0"/>
                </a:solidFill>
                <a:latin typeface="Times New Roman"/>
              </a:rPr>
              <a:t>time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4fc4d0"/>
                </a:solidFill>
                <a:latin typeface="Times New Roman"/>
              </a:rPr>
              <a:t>you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4fc4d0"/>
                </a:solidFill>
                <a:latin typeface="Times New Roman"/>
              </a:rPr>
              <a:t>validated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  <a:tabLst>
                <a:tab algn="l" pos="134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9" spc="-1" strike="noStrike">
                <a:solidFill>
                  <a:srgbClr val="4fc4d0"/>
                </a:solidFill>
                <a:latin typeface="Times New Roman"/>
              </a:rPr>
              <a:t>your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4fc4d0"/>
                </a:solidFill>
                <a:latin typeface="Times New Roman"/>
              </a:rPr>
              <a:t>security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4fc4d0"/>
                </a:solidFill>
                <a:latin typeface="Times New Roman"/>
              </a:rPr>
              <a:t>posture?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3640" cy="18410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8775720" y="4902120"/>
            <a:ext cx="378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1689120" y="380880"/>
            <a:ext cx="56638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300"/>
              </a:lnSpc>
            </a:pP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Do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you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know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what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weak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links</a:t>
            </a:r>
            <a:r>
              <a:rPr b="0" lang="en-US" sz="27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90" spc="-1" strike="noStrike">
                <a:solidFill>
                  <a:srgbClr val="ffffff"/>
                </a:solidFill>
                <a:latin typeface="微软雅黑"/>
              </a:rPr>
              <a:t>are?</a:t>
            </a:r>
            <a:endParaRPr b="0" lang="en-US" sz="27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457200" y="44514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355680" y="1117440"/>
            <a:ext cx="8470440" cy="40255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8775720" y="4902120"/>
            <a:ext cx="378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6827040" y="3403440"/>
            <a:ext cx="8866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orit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3908520" y="4813200"/>
            <a:ext cx="9705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di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839880" y="3403440"/>
            <a:ext cx="15706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lid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ov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2307960" y="482760"/>
            <a:ext cx="4527720" cy="20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  <a:tabLst>
                <a:tab algn="l" pos="1778040"/>
              </a:tabLst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Vulnerability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Lifecycle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778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dent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2281680" y="2982240"/>
            <a:ext cx="5126760" cy="88560"/>
          </a:xfrm>
          <a:custGeom>
            <a:avLst/>
            <a:gdLst>
              <a:gd name="textAreaLeft" fmla="*/ 0 w 5126760"/>
              <a:gd name="textAreaRight" fmla="*/ 5127120 w 5126760"/>
              <a:gd name="textAreaTop" fmla="*/ 0 h 88560"/>
              <a:gd name="textAreaBottom" fmla="*/ 88920 h 88560"/>
            </a:gdLst>
            <a:ahLst/>
            <a:rect l="textAreaLeft" t="textAreaTop" r="textAreaRight" b="textAreaBottom"/>
            <a:pathLst>
              <a:path w="5127116" h="88900">
                <a:moveTo>
                  <a:pt x="22225" y="22225"/>
                </a:moveTo>
                <a:lnTo>
                  <a:pt x="5104891" y="22225"/>
                </a:lnTo>
              </a:path>
            </a:pathLst>
          </a:custGeom>
          <a:noFill/>
          <a:ln w="38100">
            <a:solidFill>
              <a:srgbClr val="242d3b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584280" y="1930320"/>
            <a:ext cx="2082600" cy="206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3225960" y="1562040"/>
            <a:ext cx="2653920" cy="2679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3"/>
          <a:stretch/>
        </p:blipFill>
        <p:spPr>
          <a:xfrm>
            <a:off x="6451560" y="1930320"/>
            <a:ext cx="2069640" cy="208260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8775720" y="4902120"/>
            <a:ext cx="378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1394280" y="482760"/>
            <a:ext cx="6367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Validate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Current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Posture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993240" y="4165560"/>
            <a:ext cx="1264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6840720" y="4127400"/>
            <a:ext cx="1266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Desir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3912480" y="4368960"/>
            <a:ext cx="126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Strate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3"/>
          <p:cNvSpPr/>
          <p:nvPr/>
        </p:nvSpPr>
        <p:spPr>
          <a:xfrm>
            <a:off x="0" y="0"/>
            <a:ext cx="9143640" cy="51433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5143500">
                <a:moveTo>
                  <a:pt x="0" y="5143500"/>
                </a:moveTo>
                <a:lnTo>
                  <a:pt x="9144000" y="5143500"/>
                </a:lnTo>
                <a:lnTo>
                  <a:pt x="9144000" y="0"/>
                </a:lnTo>
                <a:lnTo>
                  <a:pt x="0" y="0"/>
                </a:lnTo>
                <a:lnTo>
                  <a:pt x="0" y="5143500"/>
                </a:lnTo>
              </a:path>
            </a:pathLst>
          </a:custGeom>
          <a:solidFill>
            <a:srgbClr val="4fc4d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0" y="0"/>
            <a:ext cx="9143640" cy="11998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9144000" h="1200150">
                <a:moveTo>
                  <a:pt x="0" y="1200150"/>
                </a:moveTo>
                <a:lnTo>
                  <a:pt x="9144000" y="1200150"/>
                </a:lnTo>
                <a:lnTo>
                  <a:pt x="9144000" y="0"/>
                </a:lnTo>
                <a:lnTo>
                  <a:pt x="0" y="0"/>
                </a:lnTo>
                <a:lnTo>
                  <a:pt x="0" y="1200150"/>
                </a:lnTo>
              </a:path>
            </a:pathLst>
          </a:custGeom>
          <a:solidFill>
            <a:srgbClr val="242d3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117440" y="1943280"/>
            <a:ext cx="1802880" cy="1802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3657600" y="1930320"/>
            <a:ext cx="1802880" cy="1802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3"/>
          <a:stretch/>
        </p:blipFill>
        <p:spPr>
          <a:xfrm>
            <a:off x="6197760" y="1943280"/>
            <a:ext cx="1802880" cy="1802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"/>
          <p:cNvSpPr/>
          <p:nvPr/>
        </p:nvSpPr>
        <p:spPr>
          <a:xfrm>
            <a:off x="7998120" y="4902120"/>
            <a:ext cx="50112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#CiscoSmartTal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8775720" y="4902120"/>
            <a:ext cx="378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"/>
          <p:cNvSpPr/>
          <p:nvPr/>
        </p:nvSpPr>
        <p:spPr>
          <a:xfrm>
            <a:off x="332280" y="4902120"/>
            <a:ext cx="1659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01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©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Cisco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nd/or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i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ffiliate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All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ight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1445400" y="3886200"/>
            <a:ext cx="11350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  <a:tabLst>
                <a:tab algn="l" pos="76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Peri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763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3998160" y="3898800"/>
            <a:ext cx="11350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  <a:tabLst>
                <a:tab algn="l" pos="177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77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6432480" y="3898800"/>
            <a:ext cx="14353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  <a:tabLst>
                <a:tab algn="l" pos="1522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Dev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52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1776600" y="482760"/>
            <a:ext cx="5590440" cy="11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900"/>
              </a:lnSpc>
              <a:tabLst>
                <a:tab algn="l" pos="2082960"/>
              </a:tabLst>
            </a:pP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Assess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Risk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Based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on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3209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9" spc="-1" strike="noStrike">
                <a:solidFill>
                  <a:srgbClr val="ffffff"/>
                </a:solidFill>
                <a:latin typeface="Times New Roman"/>
              </a:rPr>
              <a:t>Needs</a:t>
            </a:r>
            <a:endParaRPr b="0" lang="en-US" sz="320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082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082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082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082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  <a:tabLst>
                <a:tab algn="l" pos="2082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Assess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自定义 4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自定义 4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  <Words>559</Words>
  <Paragraphs>2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yu wang</cp:lastModifiedBy>
  <dcterms:modified xsi:type="dcterms:W3CDTF">2015-08-12T14:55:14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21</vt:r8>
  </property>
</Properties>
</file>