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556-A12C-4BA1-966B-796B7ED4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E18-B4B3-4067-A48F-1B89772A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81E-5428-4B0E-AF02-D06AC236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3D2-BD1B-41E7-9A92-1BB4E4FA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EFB4-02E4-4D24-90B0-67161358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E0BC-7500-4715-A354-2E11D751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AF59-FFF1-423A-886C-A7288CEB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AA6B-FB0B-4C39-A5BF-348D5F1F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291E-9990-4D27-A1F7-C7CAF1EA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45B4-772F-4024-9E8F-CA80D8E8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C2EF-78BB-41F8-94CC-7B868177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0020-12B0-4167-ACE3-A81E816C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F64D-541E-4B0B-B92E-274DCE6B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1BA8-7A58-4116-ABFA-13F9144B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B2E5-C9C6-41D9-88B5-9D581609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BC41-DCB1-409A-A71D-883292F3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BB66-DA9C-488D-A4DF-441A5C02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8ED-090E-4740-B75D-575281E5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568-5FD9-4D4D-8F21-959DF9C8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433-1D2E-4769-BCA4-70FB2CAE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FA0-3F12-4F05-8C96-BE8F3BCC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66AA-F8C7-4324-8995-7C6194B2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D3B-DDE2-4CAB-B4EE-1B4E10EC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3EA-B274-4DDF-B469-8C5004F6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20091226_ded7f797d7c1f73b7b40Ufsw3Ykaj0qB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627280" y="1969920"/>
            <a:ext cx="6516720" cy="4888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E124-E463-4B7A-BE7A-32D0EC113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20091120_ee26936737ff5900b03bIADRHHPTXbA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4CFC-8277-4D26-86A4-193CA4A55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4149720"/>
            <a:ext cx="882000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唯美牡丹腊梅与吉祥绳中国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743200" y="5157360"/>
            <a:ext cx="6400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楷体_GB2312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 rot="20220000">
            <a:off x="3851280" y="4221000"/>
            <a:ext cx="396072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谢谢观赏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4:28:18Z</dcterms:created>
  <dc:creator>user</dc:creator>
  <dc:description/>
  <dc:language>en-US</dc:language>
  <cp:lastModifiedBy>yu wang</cp:lastModifiedBy>
  <dcterms:modified xsi:type="dcterms:W3CDTF">2015-08-14T12:50:29Z</dcterms:modified>
  <cp:revision>11</cp:revision>
  <dc:subject/>
  <dc:title>幻灯片 1</dc:title>
</cp:coreProperties>
</file>