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561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0" y="4014360"/>
            <a:ext cx="7561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868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401436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58680" y="401436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96720" y="126792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0" y="401436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0360" y="401436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96720" y="401436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4000" y="1267920"/>
            <a:ext cx="7561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561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68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58680" y="1267920"/>
            <a:ext cx="368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691920"/>
            <a:ext cx="7561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8680" y="1267920"/>
            <a:ext cx="368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4000" y="401436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0" y="1267920"/>
            <a:ext cx="7561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68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868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8680" y="401436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868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000" y="4014360"/>
            <a:ext cx="7561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561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4000" y="4014360"/>
            <a:ext cx="7561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868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401436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58680" y="401436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0360" y="126792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96720" y="126792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4000" y="401436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0360" y="401436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796720" y="4014360"/>
            <a:ext cx="2434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7561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68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58680" y="1267920"/>
            <a:ext cx="368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691920"/>
            <a:ext cx="7561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680" y="1267920"/>
            <a:ext cx="368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0" y="401436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689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868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8680" y="401436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8680" y="1267920"/>
            <a:ext cx="3689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4014360"/>
            <a:ext cx="7561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5610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267920"/>
            <a:ext cx="7561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5610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4000" y="1267920"/>
            <a:ext cx="7561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2466000" y="620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网球毕业答辩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背景免费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655200"/>
            <a:ext cx="756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000" y="1267920"/>
            <a:ext cx="7561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08000" y="1052640"/>
            <a:ext cx="705672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26920" y="6489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47d7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747d7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747d7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747d7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PoweredTemplates.com</dc:creator>
  <dc:description/>
  <cp:keywords/>
  <dc:language>en-US</dc:language>
  <cp:lastModifiedBy>yu wang</cp:lastModifiedBy>
  <cp:lastPrinted>1899-12-30T00:00:00Z</cp:lastPrinted>
  <dcterms:modified xsi:type="dcterms:W3CDTF">2015-08-14T12:53:36Z</dcterms:modified>
  <cp:revision>7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