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_rels/data2.xml.rels" ContentType="application/vnd.openxmlformats-package.relationship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OOXDiagramDataRels2_3.jpeg" ContentType="image/jpeg"/>
  <Override PartName="/ppt/media/image15.jpeg" ContentType="image/jpeg"/>
  <Override PartName="/ppt/media/OOXDiagramDataRels2_2.jpeg" ContentType="image/jpeg"/>
  <Override PartName="/ppt/media/image2.jpeg" ContentType="image/jpeg"/>
  <Override PartName="/ppt/media/image20.png" ContentType="image/png"/>
  <Override PartName="/ppt/media/OOXDiagramDataRels2_0.jpeg" ContentType="image/jpeg"/>
  <Override PartName="/ppt/media/image18.jpeg" ContentType="image/jpeg"/>
  <Override PartName="/ppt/media/OOXDiagramDataRels2_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0972786987801064"/>
          <c:y val="0.0338187860424201"/>
          <c:w val="0.886729746637473"/>
          <c:h val="0.796891799433096"/>
        </c:manualLayout>
      </c:layout>
      <c:bar3DChart>
        <c:barDir val="col"/>
        <c:grouping val="clustered"/>
        <c:varyColors val="0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0.00%" sourceLinked="0"/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Chrome 18</c:v>
                </c:pt>
                <c:pt idx="1">
                  <c:v>IE 8</c:v>
                </c:pt>
                <c:pt idx="2">
                  <c:v>Firefox 11</c:v>
                </c:pt>
                <c:pt idx="3">
                  <c:v>IE 9</c:v>
                </c:pt>
                <c:pt idx="4">
                  <c:v>Chrome 17</c:v>
                </c:pt>
                <c:pt idx="5">
                  <c:v>Firefox 3.6</c:v>
                </c:pt>
                <c:pt idx="6">
                  <c:v>IE 7</c:v>
                </c:pt>
                <c:pt idx="7">
                  <c:v>IE 6</c:v>
                </c:pt>
                <c:pt idx="8">
                  <c:v>Firefox 10</c:v>
                </c:pt>
                <c:pt idx="9">
                  <c:v>Firefox 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272</c:v>
                </c:pt>
                <c:pt idx="1">
                  <c:v>0.175</c:v>
                </c:pt>
                <c:pt idx="2">
                  <c:v>0.124</c:v>
                </c:pt>
                <c:pt idx="3">
                  <c:v>0.107</c:v>
                </c:pt>
                <c:pt idx="4">
                  <c:v>0.041</c:v>
                </c:pt>
                <c:pt idx="5">
                  <c:v>0.032</c:v>
                </c:pt>
                <c:pt idx="6">
                  <c:v>0.03</c:v>
                </c:pt>
                <c:pt idx="7">
                  <c:v>0.027</c:v>
                </c:pt>
                <c:pt idx="8">
                  <c:v>0.016</c:v>
                </c:pt>
                <c:pt idx="9">
                  <c:v>0.013</c:v>
                </c:pt>
              </c:numCache>
            </c:numRef>
          </c:val>
        </c:ser>
        <c:ser>
          <c:idx val="1"/>
          <c:order val="1"/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Chrome 18</c:v>
                </c:pt>
                <c:pt idx="1">
                  <c:v>IE 8</c:v>
                </c:pt>
                <c:pt idx="2">
                  <c:v>Firefox 11</c:v>
                </c:pt>
                <c:pt idx="3">
                  <c:v>IE 9</c:v>
                </c:pt>
                <c:pt idx="4">
                  <c:v>Chrome 17</c:v>
                </c:pt>
                <c:pt idx="5">
                  <c:v>Firefox 3.6</c:v>
                </c:pt>
                <c:pt idx="6">
                  <c:v>IE 7</c:v>
                </c:pt>
                <c:pt idx="7">
                  <c:v>IE 6</c:v>
                </c:pt>
                <c:pt idx="8">
                  <c:v>Firefox 10</c:v>
                </c:pt>
                <c:pt idx="9">
                  <c:v>Firefox 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</c:numCache>
            </c:numRef>
          </c:val>
        </c:ser>
        <c:ser>
          <c:idx val="2"/>
          <c:order val="2"/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Chrome 18</c:v>
                </c:pt>
                <c:pt idx="1">
                  <c:v>IE 8</c:v>
                </c:pt>
                <c:pt idx="2">
                  <c:v>Firefox 11</c:v>
                </c:pt>
                <c:pt idx="3">
                  <c:v>IE 9</c:v>
                </c:pt>
                <c:pt idx="4">
                  <c:v>Chrome 17</c:v>
                </c:pt>
                <c:pt idx="5">
                  <c:v>Firefox 3.6</c:v>
                </c:pt>
                <c:pt idx="6">
                  <c:v>IE 7</c:v>
                </c:pt>
                <c:pt idx="7">
                  <c:v>IE 6</c:v>
                </c:pt>
                <c:pt idx="8">
                  <c:v>Firefox 10</c:v>
                </c:pt>
                <c:pt idx="9">
                  <c:v>Firefox 9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"/>
              </c:numCache>
            </c:numRef>
          </c:val>
        </c:ser>
        <c:ser>
          <c:idx val="3"/>
          <c:order val="3"/>
          <c:spPr>
            <a:solidFill>
              <a:srgbClr val="8064a2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Chrome 18</c:v>
                </c:pt>
                <c:pt idx="1">
                  <c:v>IE 8</c:v>
                </c:pt>
                <c:pt idx="2">
                  <c:v>Firefox 11</c:v>
                </c:pt>
                <c:pt idx="3">
                  <c:v>IE 9</c:v>
                </c:pt>
                <c:pt idx="4">
                  <c:v>Chrome 17</c:v>
                </c:pt>
                <c:pt idx="5">
                  <c:v>Firefox 3.6</c:v>
                </c:pt>
                <c:pt idx="6">
                  <c:v>IE 7</c:v>
                </c:pt>
                <c:pt idx="7">
                  <c:v>IE 6</c:v>
                </c:pt>
                <c:pt idx="8">
                  <c:v>Firefox 10</c:v>
                </c:pt>
                <c:pt idx="9">
                  <c:v>Firefox 9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0"/>
              </c:numCache>
            </c:numRef>
          </c:val>
        </c:ser>
        <c:gapWidth val="0"/>
        <c:shape val="box"/>
        <c:axId val="39917818"/>
        <c:axId val="38747466"/>
        <c:axId val="0"/>
      </c:bar3DChart>
      <c:catAx>
        <c:axId val="39917818"/>
        <c:scaling>
          <c:orientation val="minMax"/>
        </c:scaling>
        <c:delete val="0"/>
        <c:axPos val="b"/>
        <c:numFmt formatCode="General" sourceLinked="0"/>
        <c:majorTickMark val="in"/>
        <c:minorTickMark val="none"/>
        <c:tickLblPos val="low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38747466"/>
        <c:crosses val="autoZero"/>
        <c:auto val="1"/>
        <c:lblAlgn val="ctr"/>
        <c:lblOffset val="100"/>
        <c:noMultiLvlLbl val="0"/>
      </c:catAx>
      <c:valAx>
        <c:axId val="3874746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.00%" sourceLinked="0"/>
        <c:majorTickMark val="in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39917818"/>
        <c:crosses val="max"/>
        <c:crossBetween val="between"/>
      </c:valAx>
    </c:plotArea>
    <c:plotVisOnly val="1"/>
    <c:dispBlanksAs val="gap"/>
  </c:chart>
  <c:spPr>
    <a:noFill/>
    <a:ln w="0">
      <a:noFill/>
    </a:ln>
  </c:spPr>
</c:chartSpace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jpeg"/><Relationship Id="rId2" Type="http://schemas.openxmlformats.org/officeDocument/2006/relationships/image" Target="../media/OOXDiagramDataRels2_1.jpeg"/><Relationship Id="rId3" Type="http://schemas.openxmlformats.org/officeDocument/2006/relationships/image" Target="../media/OOXDiagramDataRels2_2.jpeg"/><Relationship Id="rId4" Type="http://schemas.openxmlformats.org/officeDocument/2006/relationships/image" Target="../media/OOXDiagramDataRels2_3.jpe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3">
  <dgm:title val=""/>
  <dgm:desc val=""/>
  <dgm:catLst>
    <dgm:cat type="accent1" pri="11300"/>
  </dgm:catLst>
  <dgm:styleLbl name="node0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1">
        <a:shade val="80000"/>
      </a:schemeClr>
      <a:schemeClr val="accent1">
        <a:tint val="7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/>
    <dgm:txEffectClrLst/>
  </dgm:styleLbl>
  <dgm:styleLbl name="node1">
    <dgm:fillClrLst>
      <a:schemeClr val="accent1">
        <a:shade val="80000"/>
      </a:schemeClr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1">
        <a:shade val="80000"/>
      </a:schemeClr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1">
        <a:shade val="80000"/>
        <a:alpha val="50000"/>
      </a:schemeClr>
      <a:schemeClr val="accent1">
        <a:tint val="7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/>
    <dgm:txEffectClrLst/>
  </dgm:styleLbl>
  <dgm:styleLbl name="fg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lt1"/>
    </dgm:txFillClrLst>
    <dgm:txEffectClrLst/>
  </dgm:styleLbl>
  <dgm:styleLbl name="sibTrans1D1">
    <dgm:fillClrLst>
      <a:schemeClr val="accent1">
        <a:shade val="90000"/>
      </a:schemeClr>
      <a:schemeClr val="accent1">
        <a:tint val="70000"/>
      </a:schemeClr>
    </dgm:fillClrLst>
    <dgm:linClrLst>
      <a:schemeClr val="accent1">
        <a:shade val="90000"/>
      </a:schemeClr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tint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9000"/>
      </a:schemeClr>
    </dgm:fillClrLst>
    <dgm:linClrLst meth="repeat">
      <a:schemeClr val="accent1">
        <a:tint val="99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80000"/>
      </a:schemeClr>
    </dgm:fillClrLst>
    <dgm:linClrLst meth="repeat">
      <a:schemeClr val="accent1">
        <a:tint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shade val="80000"/>
      </a:schemeClr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9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8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FEA903F-BB38-4467-9F2D-E4B34B0E9BDD}" type="doc">
      <dgm:prSet loTypeId="urn:microsoft.com/office/officeart/2005/8/layout/orgChart1" loCatId="hierarchy" qsTypeId="urn:microsoft.com/office/officeart/2005/8/quickstyle/simple4" qsCatId="simple" csTypeId="urn:microsoft.com/office/officeart/2005/8/colors/accent1_3" csCatId="accent1" phldr="1"/>
      <dgm:spPr/>
    </dgm:pt>
    <dgm:pt modelId="{26C32992-F761-47F9-A18B-11762E166CB6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dirty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国防生综合信息网</a:t>
          </a:r>
          <a:endParaRPr lang="zh-CN" altLang="en-US" sz="1400" b="1" dirty="0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CAD318F4-4388-43AA-84CD-34161012129B}" type="parTrans" cxnId="{76B63728-6FA8-48D2-8EF4-DA9948885DF7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02382AAA-C329-412C-98B9-D9D091A33E86}" type="sibTrans" cxnId="{76B63728-6FA8-48D2-8EF4-DA9948885DF7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A41ED6E9-F7C5-44D6-ABE6-BF8611978D78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新闻动态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35112D36-0769-4A23-88CA-888B362D6FBD}" type="parTrans" cxnId="{C6550913-B357-4865-A550-6102FAB5F289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98803AE7-53C6-47E2-A00C-77BFAF70EC09}" type="sibTrans" cxnId="{C6550913-B357-4865-A550-6102FAB5F289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D470AF21-7A53-4921-BD1D-5732933C56E0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一连动态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8F9EDCE4-9C32-4BCF-A64C-CAB0AD1EB279}" type="parTrans" cxnId="{0ACBA330-FE77-42F1-ADB0-1579600D9414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4A35A7A0-201B-4732-A20B-73D8C5D9B16B}" type="sibTrans" cxnId="{0ACBA330-FE77-42F1-ADB0-1579600D9414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D4FC14B4-9B68-4480-BBF1-211D4F114E9F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二连动态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036A4D72-69E7-4FE1-A266-2397CD9FE7B6}" type="parTrans" cxnId="{446AF0F0-34B6-4D53-BBF1-4839B0650627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453B54A6-87EF-4CCB-9EF9-2EE46333F2BE}" type="sibTrans" cxnId="{446AF0F0-34B6-4D53-BBF1-4839B0650627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47B19DCA-BC1E-411A-A4C0-B1A228CDD1D8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三连动态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61FA426D-BBFC-4520-8478-1EADAA2C08A2}" type="parTrans" cxnId="{499397D0-94A7-460E-81D8-CEF00153D96F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190A1C27-538C-4087-B83C-199AA37E4B97}" type="sibTrans" cxnId="{499397D0-94A7-460E-81D8-CEF00153D96F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FF0F6E85-1987-4AE2-B2C2-AD0EF922DA1E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四连动态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A9884C84-0A08-4ECB-BD06-479AF182FFA7}" type="parTrans" cxnId="{82BEF88F-7CDB-453C-97D3-F330D1B05C0E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98757114-1053-4F51-AF3F-4047A4D93FD9}" type="sibTrans" cxnId="{82BEF88F-7CDB-453C-97D3-F330D1B05C0E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316D6C8F-702B-4AD4-B959-EB2A218C8825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部门简介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2E31FB08-03CE-4260-8A48-ED20DD38484C}" type="parTrans" cxnId="{8C479877-4859-40F2-BFA1-8C86F9CBF668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76B90191-B78C-4B66-A377-4CB355F800D5}" type="sibTrans" cxnId="{8C479877-4859-40F2-BFA1-8C86F9CBF668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9B58875B-7096-403D-B0CA-0AE50229E538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督察部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18B7F365-0C88-4E79-97AF-6EC766F606E1}" type="parTrans" cxnId="{271A2C1C-DF6D-41F5-9FCF-59ABD5EB4337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4C45C830-D4AA-4F1A-8228-97EAB7B98C91}" type="sibTrans" cxnId="{271A2C1C-DF6D-41F5-9FCF-59ABD5EB4337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2B35086D-EA2B-4401-8C4B-2BC00E39957F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文体部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8BAA7759-05FA-4CE3-A247-728A1FEAF1DE}" type="parTrans" cxnId="{8A60A54A-2390-4319-88B3-A24845D187FD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BE2DE26A-4C62-49B1-8B76-B7B24E802175}" type="sibTrans" cxnId="{8A60A54A-2390-4319-88B3-A24845D187FD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6F15A9E7-9AA0-43CF-8DFC-58E4D01CA199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宣传部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3AEB36FE-FB06-4687-80D0-2089E3B6FEC4}" type="parTrans" cxnId="{359B5910-A984-49D8-81FA-F708B6162C07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9137CD3C-0AB9-41CA-8EF4-BB4FC3858F5A}" type="sibTrans" cxnId="{359B5910-A984-49D8-81FA-F708B6162C07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0D355F53-BA93-4E0A-8122-D3252318A437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政策法规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7B7CCF29-F004-4C0A-8572-03EAD009B0F1}" type="parTrans" cxnId="{92AFBEEE-3086-425F-81AE-A6EAA03407CB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3D5AB2FF-BFA6-4E9E-A74C-CA796C1AB2C0}" type="sibTrans" cxnId="{92AFBEEE-3086-425F-81AE-A6EAA03407CB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2C331397-15AF-4258-89E8-7F40D14554F7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国家政策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BCBB4D0B-2AAD-4F6A-AA4C-6DF646A9CD93}" type="parTrans" cxnId="{573AD270-94F5-47BC-9A49-97D18A4E6CE9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DAFEB289-293D-454E-9B77-37F108CA46A7}" type="sibTrans" cxnId="{573AD270-94F5-47BC-9A49-97D18A4E6CE9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67F361EA-694A-4A4E-86D2-3F5DFA7FD50F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学校政策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AAF6CBF2-DA53-48BD-970C-8FEDB4A90A61}" type="parTrans" cxnId="{ED362CF0-BC70-4AAF-8EE6-2E8452B306F8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8473997C-F917-4F48-A9F8-EB67F8ECDC2F}" type="sibTrans" cxnId="{ED362CF0-BC70-4AAF-8EE6-2E8452B306F8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E64A8062-572B-4299-B819-DB8E52E270F2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学院政策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3DB69E9E-D8FB-408D-8E80-9F604CEC605A}" type="parTrans" cxnId="{554346B6-9E15-49F7-B1B1-0B080FC56079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D00590C1-6BE5-44F1-9CB7-EB137EFB097B}" type="sibTrans" cxnId="{554346B6-9E15-49F7-B1B1-0B080FC56079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BE6D80D2-2A9F-48F2-B05F-21D5B03BCE36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军事天地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B57E275B-B8BB-4B99-BB0A-84EC30F5EC93}" type="parTrans" cxnId="{F6AAB2BF-8ACC-4EB8-B2C7-94E861BE7CF9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1267C972-DA48-4C96-B51A-C203A26DCC90}" type="sibTrans" cxnId="{F6AAB2BF-8ACC-4EB8-B2C7-94E861BE7CF9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21A37BD5-C955-4957-8B13-CD8D14BD2DCE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国内军事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A2294AAB-5AFA-4DCA-A8B1-F87DCAB2A9E1}" type="parTrans" cxnId="{EF68E2B6-8627-45CC-AD37-D3FE9EC4CB7B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408E1D12-3C0A-4DDC-B232-216FD630D71B}" type="sibTrans" cxnId="{EF68E2B6-8627-45CC-AD37-D3FE9EC4CB7B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7187F465-D09F-474E-AC4C-EBB9B1AC1CFC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国际军事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045906A5-2A51-4274-ACF5-6F5AC863B94D}" type="parTrans" cxnId="{ADC15C0A-3C2C-4631-92B3-CE3303B7320E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CF68A57F-969B-4CEB-A3FE-6CDE5C9742F2}" type="sibTrans" cxnId="{ADC15C0A-3C2C-4631-92B3-CE3303B7320E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94773A01-800B-4B16-9111-30D5786F4B43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青春风采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5A538430-8847-47B5-BD07-22009DCE7CB8}" type="parTrans" cxnId="{C6A9DC77-AD2B-4F8A-A197-4304C2102135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5958A2D0-9C9E-4A89-9B34-A7485C8E4E96}" type="sibTrans" cxnId="{C6A9DC77-AD2B-4F8A-A197-4304C2102135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18FF0065-5D01-4209-B63F-1B92FA2DEDFD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一连风采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9403FAF0-6941-4394-9378-3EF20829D7BA}" type="parTrans" cxnId="{55230883-FD29-4102-AA52-D373D340E240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CE66CF75-EBE4-4A4D-B651-3654EE528375}" type="sibTrans" cxnId="{55230883-FD29-4102-AA52-D373D340E240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79CF4F16-73CC-4671-A0BD-914C12E0213A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二连风采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9DCBB300-DD3A-4B08-BA74-91B428670033}" type="parTrans" cxnId="{55C95BFB-2C24-415E-AAB7-AEBAF9A4F73C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0DA5F21F-620A-467E-9C4B-93B955DC0879}" type="sibTrans" cxnId="{55C95BFB-2C24-415E-AAB7-AEBAF9A4F73C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61D25C69-FEE9-480A-8CAB-E7E785099E49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三连风采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F0749EB0-6EFE-4895-B347-3577F2E4797E}" type="parTrans" cxnId="{15A90C24-F603-411D-BEE6-686955E51490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875E695C-18D3-4324-B19C-07CE24DBC3D6}" type="sibTrans" cxnId="{15A90C24-F603-411D-BEE6-686955E51490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CDB551A1-65DD-4231-A2B1-451174C59A57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四连风采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AD6C1D60-8EE7-4D26-822C-D35265005830}" type="parTrans" cxnId="{9525E619-1F9E-4599-967E-8F654D95B28E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751D37EF-7580-44FB-A6C4-ECBBFC0E8A19}" type="sibTrans" cxnId="{9525E619-1F9E-4599-967E-8F654D95B28E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F88E4DC2-CA13-4B80-969A-4974A9200917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招生选拔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2064A4E1-8BA6-462A-AA07-ADE8A7D01D6C}" type="parTrans" cxnId="{2BFDFA15-B4B5-4D97-917F-8D8831448E40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A5A0EB83-209F-4630-9DC2-ED26305B001C}" type="sibTrans" cxnId="{2BFDFA15-B4B5-4D97-917F-8D8831448E40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C6860E71-EEEC-4E9E-A6E8-8A37D235BF4B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招生简章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DC595D63-434C-45B3-A5BA-4562CBB92189}" type="parTrans" cxnId="{A2227E34-E6CC-4327-BD09-1EA0A21701FB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DDBF630B-CCBC-49ED-87E2-63200CCF8DFE}" type="sibTrans" cxnId="{A2227E34-E6CC-4327-BD09-1EA0A21701FB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9C3B9765-9F8F-4566-80B8-483952119BE0}">
      <dgm:prSet custT="1"/>
      <dgm:spPr/>
      <dgm:t>
        <a:bodyPr/>
        <a:lstStyle/>
        <a:p>
          <a:pPr marR="0" algn="ctr" rtl="0"/>
          <a:r>
            <a:rPr lang="zh-CN" altLang="en-US" sz="1400" b="1" i="0" u="none" strike="noStrike" kern="100" baseline="0" smtClean="0">
              <a:ln>
                <a:noFill/>
              </a:ln>
              <a:effectLst>
                <a:outerShdw blurRad="50800" dist="38100" dir="5400000" algn="t" rotWithShape="0">
                  <a:prstClr val="black"/>
                </a:outerShdw>
              </a:effectLst>
              <a:latin typeface="微软雅黑" pitchFamily="34" charset="-122"/>
              <a:ea typeface="微软雅黑" pitchFamily="34" charset="-122"/>
            </a:rPr>
            <a:t>录取名单</a:t>
          </a:r>
          <a:endParaRPr lang="zh-CN" altLang="en-US" sz="1400" b="1" smtClean="0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68AEEBEB-3792-4A1E-B1A8-BC5FCE7A8D9D}" type="parTrans" cxnId="{111E0184-06D9-4C1D-A815-8B490ABED2DE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A2CE6069-44EF-4484-B86B-4348112C3DD1}" type="sibTrans" cxnId="{111E0184-06D9-4C1D-A815-8B490ABED2DE}">
      <dgm:prSet/>
      <dgm:spPr/>
      <dgm:t>
        <a:bodyPr/>
        <a:lstStyle/>
        <a:p>
          <a:pPr algn="ctr"/>
          <a:endParaRPr lang="zh-CN" altLang="en-US" sz="1800" b="1">
            <a:ln>
              <a:noFill/>
            </a:ln>
            <a:effectLst>
              <a:outerShdw blurRad="50800" dist="38100" dir="5400000" algn="t" rotWithShape="0">
                <a:prstClr val="black"/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F8E294F7-912E-453A-8075-34D53286471F}" type="pres">
      <dgm:prSet presAssocID="{BFEA903F-BB38-4467-9F2D-E4B34B0E9BDD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42DAB1D0-2747-4D61-B3EB-F1AABCAF2505}" type="pres">
      <dgm:prSet presAssocID="{26C32992-F761-47F9-A18B-11762E166CB6}" presName="hierRoot1" presStyleCnt="0">
        <dgm:presLayoutVars>
          <dgm:hierBranch val="hang"/>
        </dgm:presLayoutVars>
      </dgm:prSet>
      <dgm:spPr/>
    </dgm:pt>
    <dgm:pt modelId="{A729C98E-5918-483C-9F03-5349C11B846E}" type="pres">
      <dgm:prSet presAssocID="{26C32992-F761-47F9-A18B-11762E166CB6}" presName="rootComposite1" presStyleCnt="0"/>
      <dgm:spPr/>
    </dgm:pt>
    <dgm:pt modelId="{0A3DEF74-8EDB-49A2-8245-9639132E9752}" type="pres">
      <dgm:prSet presAssocID="{26C32992-F761-47F9-A18B-11762E166CB6}" presName="rootText1" presStyleLbl="node0" presStyleIdx="0" presStyleCnt="1" custScaleX="226462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4A228C20-4097-4AF9-B973-6A3A67E70667}" type="pres">
      <dgm:prSet presAssocID="{26C32992-F761-47F9-A18B-11762E166CB6}" presName="rootConnector1" presStyleLbl="node1" presStyleIdx="0" presStyleCnt="0"/>
      <dgm:spPr/>
      <dgm:t>
        <a:bodyPr/>
        <a:lstStyle/>
        <a:p>
          <a:endParaRPr lang="zh-CN" altLang="en-US"/>
        </a:p>
      </dgm:t>
    </dgm:pt>
    <dgm:pt modelId="{6989CADF-1369-4D09-8907-EECB490C5155}" type="pres">
      <dgm:prSet presAssocID="{26C32992-F761-47F9-A18B-11762E166CB6}" presName="hierChild2" presStyleCnt="0"/>
      <dgm:spPr/>
    </dgm:pt>
    <dgm:pt modelId="{3D8D51E1-51A3-4069-849C-8E4AB02A1DE8}" type="pres">
      <dgm:prSet presAssocID="{35112D36-0769-4A23-88CA-888B362D6FBD}" presName="Name48" presStyleLbl="parChTrans1D2" presStyleIdx="0" presStyleCnt="6"/>
      <dgm:spPr/>
      <dgm:t>
        <a:bodyPr/>
        <a:lstStyle/>
        <a:p>
          <a:endParaRPr lang="zh-CN" altLang="en-US"/>
        </a:p>
      </dgm:t>
    </dgm:pt>
    <dgm:pt modelId="{8828FD50-645D-4A91-8C02-1A545FA5CA71}" type="pres">
      <dgm:prSet presAssocID="{A41ED6E9-F7C5-44D6-ABE6-BF8611978D78}" presName="hierRoot2" presStyleCnt="0">
        <dgm:presLayoutVars>
          <dgm:hierBranch/>
        </dgm:presLayoutVars>
      </dgm:prSet>
      <dgm:spPr/>
    </dgm:pt>
    <dgm:pt modelId="{63B81BAF-4E22-4D72-A45D-30E3941D5F65}" type="pres">
      <dgm:prSet presAssocID="{A41ED6E9-F7C5-44D6-ABE6-BF8611978D78}" presName="rootComposite" presStyleCnt="0"/>
      <dgm:spPr/>
    </dgm:pt>
    <dgm:pt modelId="{BEADB2A7-8663-4F55-AB82-719407978B53}" type="pres">
      <dgm:prSet presAssocID="{A41ED6E9-F7C5-44D6-ABE6-BF8611978D78}" presName="rootText" presStyleLbl="node2" presStyleIdx="0" presStyleCnt="6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7064CB10-A0AA-4FEC-B021-7F406E316889}" type="pres">
      <dgm:prSet presAssocID="{A41ED6E9-F7C5-44D6-ABE6-BF8611978D78}" presName="rootConnector" presStyleLbl="node2" presStyleIdx="0" presStyleCnt="6"/>
      <dgm:spPr/>
      <dgm:t>
        <a:bodyPr/>
        <a:lstStyle/>
        <a:p>
          <a:endParaRPr lang="zh-CN" altLang="en-US"/>
        </a:p>
      </dgm:t>
    </dgm:pt>
    <dgm:pt modelId="{655AEF4D-D74B-45E0-A55A-183379B59F8A}" type="pres">
      <dgm:prSet presAssocID="{A41ED6E9-F7C5-44D6-ABE6-BF8611978D78}" presName="hierChild4" presStyleCnt="0"/>
      <dgm:spPr/>
    </dgm:pt>
    <dgm:pt modelId="{2F062CA7-BBA9-44E5-BF7D-B3D8ECA0C05B}" type="pres">
      <dgm:prSet presAssocID="{8F9EDCE4-9C32-4BCF-A64C-CAB0AD1EB279}" presName="Name35" presStyleLbl="parChTrans1D3" presStyleIdx="0" presStyleCnt="18"/>
      <dgm:spPr/>
      <dgm:t>
        <a:bodyPr/>
        <a:lstStyle/>
        <a:p>
          <a:endParaRPr lang="zh-CN" altLang="en-US"/>
        </a:p>
      </dgm:t>
    </dgm:pt>
    <dgm:pt modelId="{5150C9B6-AEDF-42B3-9BF4-B45556EB609E}" type="pres">
      <dgm:prSet presAssocID="{D470AF21-7A53-4921-BD1D-5732933C56E0}" presName="hierRoot2" presStyleCnt="0">
        <dgm:presLayoutVars>
          <dgm:hierBranch val="r"/>
        </dgm:presLayoutVars>
      </dgm:prSet>
      <dgm:spPr/>
    </dgm:pt>
    <dgm:pt modelId="{A114C64F-FB67-4224-908C-8401DFA4FFF0}" type="pres">
      <dgm:prSet presAssocID="{D470AF21-7A53-4921-BD1D-5732933C56E0}" presName="rootComposite" presStyleCnt="0"/>
      <dgm:spPr/>
    </dgm:pt>
    <dgm:pt modelId="{8F296E2A-38DE-4E64-9CAB-95A65F3C71CE}" type="pres">
      <dgm:prSet presAssocID="{D470AF21-7A53-4921-BD1D-5732933C56E0}" presName="rootText" presStyleLbl="node3" presStyleIdx="0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275F39F9-8048-47FD-A6F6-31135650FC4D}" type="pres">
      <dgm:prSet presAssocID="{D470AF21-7A53-4921-BD1D-5732933C56E0}" presName="rootConnector" presStyleLbl="node3" presStyleIdx="0" presStyleCnt="18"/>
      <dgm:spPr/>
      <dgm:t>
        <a:bodyPr/>
        <a:lstStyle/>
        <a:p>
          <a:endParaRPr lang="zh-CN" altLang="en-US"/>
        </a:p>
      </dgm:t>
    </dgm:pt>
    <dgm:pt modelId="{EB619CB3-F6C9-4D54-92BB-702395A3D63D}" type="pres">
      <dgm:prSet presAssocID="{D470AF21-7A53-4921-BD1D-5732933C56E0}" presName="hierChild4" presStyleCnt="0"/>
      <dgm:spPr/>
    </dgm:pt>
    <dgm:pt modelId="{B42237A1-4CCF-40D5-AFAC-F76DA3A6104B}" type="pres">
      <dgm:prSet presAssocID="{D470AF21-7A53-4921-BD1D-5732933C56E0}" presName="hierChild5" presStyleCnt="0"/>
      <dgm:spPr/>
    </dgm:pt>
    <dgm:pt modelId="{2355CCF8-BFFE-4B1F-8154-84A487F5ECC6}" type="pres">
      <dgm:prSet presAssocID="{036A4D72-69E7-4FE1-A266-2397CD9FE7B6}" presName="Name35" presStyleLbl="parChTrans1D3" presStyleIdx="1" presStyleCnt="18"/>
      <dgm:spPr/>
      <dgm:t>
        <a:bodyPr/>
        <a:lstStyle/>
        <a:p>
          <a:endParaRPr lang="zh-CN" altLang="en-US"/>
        </a:p>
      </dgm:t>
    </dgm:pt>
    <dgm:pt modelId="{C1A39FCF-9ED0-4628-BE50-FF9766E435AE}" type="pres">
      <dgm:prSet presAssocID="{D4FC14B4-9B68-4480-BBF1-211D4F114E9F}" presName="hierRoot2" presStyleCnt="0">
        <dgm:presLayoutVars>
          <dgm:hierBranch val="r"/>
        </dgm:presLayoutVars>
      </dgm:prSet>
      <dgm:spPr/>
    </dgm:pt>
    <dgm:pt modelId="{3471F4A3-FA78-4F76-9683-F200A85AF985}" type="pres">
      <dgm:prSet presAssocID="{D4FC14B4-9B68-4480-BBF1-211D4F114E9F}" presName="rootComposite" presStyleCnt="0"/>
      <dgm:spPr/>
    </dgm:pt>
    <dgm:pt modelId="{35A3FD15-A57D-4284-B5B9-D03C18251819}" type="pres">
      <dgm:prSet presAssocID="{D4FC14B4-9B68-4480-BBF1-211D4F114E9F}" presName="rootText" presStyleLbl="node3" presStyleIdx="1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41006AAC-2DDC-488F-9F03-061AF70DF831}" type="pres">
      <dgm:prSet presAssocID="{D4FC14B4-9B68-4480-BBF1-211D4F114E9F}" presName="rootConnector" presStyleLbl="node3" presStyleIdx="1" presStyleCnt="18"/>
      <dgm:spPr/>
      <dgm:t>
        <a:bodyPr/>
        <a:lstStyle/>
        <a:p>
          <a:endParaRPr lang="zh-CN" altLang="en-US"/>
        </a:p>
      </dgm:t>
    </dgm:pt>
    <dgm:pt modelId="{1138C6B2-6689-4DD4-895B-1CAC5C8F0B19}" type="pres">
      <dgm:prSet presAssocID="{D4FC14B4-9B68-4480-BBF1-211D4F114E9F}" presName="hierChild4" presStyleCnt="0"/>
      <dgm:spPr/>
    </dgm:pt>
    <dgm:pt modelId="{6A4B4D1D-A683-42E3-87AF-900AAD0823B3}" type="pres">
      <dgm:prSet presAssocID="{D4FC14B4-9B68-4480-BBF1-211D4F114E9F}" presName="hierChild5" presStyleCnt="0"/>
      <dgm:spPr/>
    </dgm:pt>
    <dgm:pt modelId="{3DA1961A-3B6C-415D-8F48-AF9C5CAAA84E}" type="pres">
      <dgm:prSet presAssocID="{61FA426D-BBFC-4520-8478-1EADAA2C08A2}" presName="Name35" presStyleLbl="parChTrans1D3" presStyleIdx="2" presStyleCnt="18"/>
      <dgm:spPr/>
      <dgm:t>
        <a:bodyPr/>
        <a:lstStyle/>
        <a:p>
          <a:endParaRPr lang="zh-CN" altLang="en-US"/>
        </a:p>
      </dgm:t>
    </dgm:pt>
    <dgm:pt modelId="{AB2804F3-0BB9-4F22-A9FB-DB668D9A1EFE}" type="pres">
      <dgm:prSet presAssocID="{47B19DCA-BC1E-411A-A4C0-B1A228CDD1D8}" presName="hierRoot2" presStyleCnt="0">
        <dgm:presLayoutVars>
          <dgm:hierBranch/>
        </dgm:presLayoutVars>
      </dgm:prSet>
      <dgm:spPr/>
    </dgm:pt>
    <dgm:pt modelId="{05F822AE-5A5C-4558-ADDD-9C589DCED9B2}" type="pres">
      <dgm:prSet presAssocID="{47B19DCA-BC1E-411A-A4C0-B1A228CDD1D8}" presName="rootComposite" presStyleCnt="0"/>
      <dgm:spPr/>
    </dgm:pt>
    <dgm:pt modelId="{2C4BAEB1-3D04-4260-A6BE-CAB3150E1EC9}" type="pres">
      <dgm:prSet presAssocID="{47B19DCA-BC1E-411A-A4C0-B1A228CDD1D8}" presName="rootText" presStyleLbl="node3" presStyleIdx="2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590B2196-273D-4DE7-AA8E-2CFC5DFBBE58}" type="pres">
      <dgm:prSet presAssocID="{47B19DCA-BC1E-411A-A4C0-B1A228CDD1D8}" presName="rootConnector" presStyleLbl="node3" presStyleIdx="2" presStyleCnt="18"/>
      <dgm:spPr/>
      <dgm:t>
        <a:bodyPr/>
        <a:lstStyle/>
        <a:p>
          <a:endParaRPr lang="zh-CN" altLang="en-US"/>
        </a:p>
      </dgm:t>
    </dgm:pt>
    <dgm:pt modelId="{B99D1EF7-921C-4326-89AA-C9046EB046B5}" type="pres">
      <dgm:prSet presAssocID="{47B19DCA-BC1E-411A-A4C0-B1A228CDD1D8}" presName="hierChild4" presStyleCnt="0"/>
      <dgm:spPr/>
    </dgm:pt>
    <dgm:pt modelId="{14E66ABD-B7A3-4859-B00E-249EE46069EA}" type="pres">
      <dgm:prSet presAssocID="{47B19DCA-BC1E-411A-A4C0-B1A228CDD1D8}" presName="hierChild5" presStyleCnt="0"/>
      <dgm:spPr/>
    </dgm:pt>
    <dgm:pt modelId="{9A90013D-1273-4EA6-8992-5BDCEAD84156}" type="pres">
      <dgm:prSet presAssocID="{A9884C84-0A08-4ECB-BD06-479AF182FFA7}" presName="Name35" presStyleLbl="parChTrans1D3" presStyleIdx="3" presStyleCnt="18"/>
      <dgm:spPr/>
      <dgm:t>
        <a:bodyPr/>
        <a:lstStyle/>
        <a:p>
          <a:endParaRPr lang="zh-CN" altLang="en-US"/>
        </a:p>
      </dgm:t>
    </dgm:pt>
    <dgm:pt modelId="{6AA13AC6-1209-4055-9B14-D4562FF9042B}" type="pres">
      <dgm:prSet presAssocID="{FF0F6E85-1987-4AE2-B2C2-AD0EF922DA1E}" presName="hierRoot2" presStyleCnt="0">
        <dgm:presLayoutVars>
          <dgm:hierBranch val="r"/>
        </dgm:presLayoutVars>
      </dgm:prSet>
      <dgm:spPr/>
    </dgm:pt>
    <dgm:pt modelId="{317ACB82-EDBF-4ABA-B011-307E58ACF3BA}" type="pres">
      <dgm:prSet presAssocID="{FF0F6E85-1987-4AE2-B2C2-AD0EF922DA1E}" presName="rootComposite" presStyleCnt="0"/>
      <dgm:spPr/>
    </dgm:pt>
    <dgm:pt modelId="{9F1256FE-1E10-43C0-AFD3-415FE55B7650}" type="pres">
      <dgm:prSet presAssocID="{FF0F6E85-1987-4AE2-B2C2-AD0EF922DA1E}" presName="rootText" presStyleLbl="node3" presStyleIdx="3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55A77265-9D92-4264-91A0-1E34C7974DE0}" type="pres">
      <dgm:prSet presAssocID="{FF0F6E85-1987-4AE2-B2C2-AD0EF922DA1E}" presName="rootConnector" presStyleLbl="node3" presStyleIdx="3" presStyleCnt="18"/>
      <dgm:spPr/>
      <dgm:t>
        <a:bodyPr/>
        <a:lstStyle/>
        <a:p>
          <a:endParaRPr lang="zh-CN" altLang="en-US"/>
        </a:p>
      </dgm:t>
    </dgm:pt>
    <dgm:pt modelId="{835BAED6-B0E7-4484-8143-9052D48F5350}" type="pres">
      <dgm:prSet presAssocID="{FF0F6E85-1987-4AE2-B2C2-AD0EF922DA1E}" presName="hierChild4" presStyleCnt="0"/>
      <dgm:spPr/>
    </dgm:pt>
    <dgm:pt modelId="{21BCB088-B729-4E7A-BB4B-B61C99B525A8}" type="pres">
      <dgm:prSet presAssocID="{FF0F6E85-1987-4AE2-B2C2-AD0EF922DA1E}" presName="hierChild5" presStyleCnt="0"/>
      <dgm:spPr/>
    </dgm:pt>
    <dgm:pt modelId="{E547F292-462B-431D-B970-EB782E1ADE76}" type="pres">
      <dgm:prSet presAssocID="{A41ED6E9-F7C5-44D6-ABE6-BF8611978D78}" presName="hierChild5" presStyleCnt="0"/>
      <dgm:spPr/>
    </dgm:pt>
    <dgm:pt modelId="{DEB66EF0-2FD6-42C8-BBAF-516EADBD6357}" type="pres">
      <dgm:prSet presAssocID="{2E31FB08-03CE-4260-8A48-ED20DD38484C}" presName="Name48" presStyleLbl="parChTrans1D2" presStyleIdx="1" presStyleCnt="6"/>
      <dgm:spPr/>
      <dgm:t>
        <a:bodyPr/>
        <a:lstStyle/>
        <a:p>
          <a:endParaRPr lang="zh-CN" altLang="en-US"/>
        </a:p>
      </dgm:t>
    </dgm:pt>
    <dgm:pt modelId="{FF1088FA-8DBB-4022-A2A9-511BE6306893}" type="pres">
      <dgm:prSet presAssocID="{316D6C8F-702B-4AD4-B959-EB2A218C8825}" presName="hierRoot2" presStyleCnt="0">
        <dgm:presLayoutVars>
          <dgm:hierBranch/>
        </dgm:presLayoutVars>
      </dgm:prSet>
      <dgm:spPr/>
    </dgm:pt>
    <dgm:pt modelId="{90E5197B-270C-4879-8EF7-F952E816E106}" type="pres">
      <dgm:prSet presAssocID="{316D6C8F-702B-4AD4-B959-EB2A218C8825}" presName="rootComposite" presStyleCnt="0"/>
      <dgm:spPr/>
    </dgm:pt>
    <dgm:pt modelId="{0F65B809-A3C6-4C9C-A2D9-0FA8C2B91456}" type="pres">
      <dgm:prSet presAssocID="{316D6C8F-702B-4AD4-B959-EB2A218C8825}" presName="rootText" presStyleLbl="node2" presStyleIdx="1" presStyleCnt="6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92E80756-DF15-4A24-B10E-35A7969653C3}" type="pres">
      <dgm:prSet presAssocID="{316D6C8F-702B-4AD4-B959-EB2A218C8825}" presName="rootConnector" presStyleLbl="node2" presStyleIdx="1" presStyleCnt="6"/>
      <dgm:spPr/>
      <dgm:t>
        <a:bodyPr/>
        <a:lstStyle/>
        <a:p>
          <a:endParaRPr lang="zh-CN" altLang="en-US"/>
        </a:p>
      </dgm:t>
    </dgm:pt>
    <dgm:pt modelId="{34A837A6-71C4-43A4-BAC6-3B01AF512672}" type="pres">
      <dgm:prSet presAssocID="{316D6C8F-702B-4AD4-B959-EB2A218C8825}" presName="hierChild4" presStyleCnt="0"/>
      <dgm:spPr/>
    </dgm:pt>
    <dgm:pt modelId="{F202F084-0215-475A-9B53-5C352D6F8056}" type="pres">
      <dgm:prSet presAssocID="{18B7F365-0C88-4E79-97AF-6EC766F606E1}" presName="Name35" presStyleLbl="parChTrans1D3" presStyleIdx="4" presStyleCnt="18"/>
      <dgm:spPr/>
      <dgm:t>
        <a:bodyPr/>
        <a:lstStyle/>
        <a:p>
          <a:endParaRPr lang="zh-CN" altLang="en-US"/>
        </a:p>
      </dgm:t>
    </dgm:pt>
    <dgm:pt modelId="{523B86A4-A9E4-452B-BBB4-D2FA40FACD7C}" type="pres">
      <dgm:prSet presAssocID="{9B58875B-7096-403D-B0CA-0AE50229E538}" presName="hierRoot2" presStyleCnt="0">
        <dgm:presLayoutVars>
          <dgm:hierBranch val="r"/>
        </dgm:presLayoutVars>
      </dgm:prSet>
      <dgm:spPr/>
    </dgm:pt>
    <dgm:pt modelId="{3EF4DBD2-B2E3-4F9A-9A69-4589A180B266}" type="pres">
      <dgm:prSet presAssocID="{9B58875B-7096-403D-B0CA-0AE50229E538}" presName="rootComposite" presStyleCnt="0"/>
      <dgm:spPr/>
    </dgm:pt>
    <dgm:pt modelId="{9D7A222D-2FDC-4FEF-B548-9BDA4FA86C18}" type="pres">
      <dgm:prSet presAssocID="{9B58875B-7096-403D-B0CA-0AE50229E538}" presName="rootText" presStyleLbl="node3" presStyleIdx="4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4CA632B1-4D67-4BB3-BD57-CCA09E12BB7B}" type="pres">
      <dgm:prSet presAssocID="{9B58875B-7096-403D-B0CA-0AE50229E538}" presName="rootConnector" presStyleLbl="node3" presStyleIdx="4" presStyleCnt="18"/>
      <dgm:spPr/>
      <dgm:t>
        <a:bodyPr/>
        <a:lstStyle/>
        <a:p>
          <a:endParaRPr lang="zh-CN" altLang="en-US"/>
        </a:p>
      </dgm:t>
    </dgm:pt>
    <dgm:pt modelId="{22B29DA6-62CA-4B8D-A33B-ACD7DC742AE2}" type="pres">
      <dgm:prSet presAssocID="{9B58875B-7096-403D-B0CA-0AE50229E538}" presName="hierChild4" presStyleCnt="0"/>
      <dgm:spPr/>
    </dgm:pt>
    <dgm:pt modelId="{BE548902-84EB-4020-85A7-D17E7E5B4D1E}" type="pres">
      <dgm:prSet presAssocID="{9B58875B-7096-403D-B0CA-0AE50229E538}" presName="hierChild5" presStyleCnt="0"/>
      <dgm:spPr/>
    </dgm:pt>
    <dgm:pt modelId="{7FF96B27-7EDF-4EAD-B4CD-87938A7F1BFB}" type="pres">
      <dgm:prSet presAssocID="{8BAA7759-05FA-4CE3-A247-728A1FEAF1DE}" presName="Name35" presStyleLbl="parChTrans1D3" presStyleIdx="5" presStyleCnt="18"/>
      <dgm:spPr/>
      <dgm:t>
        <a:bodyPr/>
        <a:lstStyle/>
        <a:p>
          <a:endParaRPr lang="zh-CN" altLang="en-US"/>
        </a:p>
      </dgm:t>
    </dgm:pt>
    <dgm:pt modelId="{701D7018-9BAB-4F93-88BA-39DDEA66749E}" type="pres">
      <dgm:prSet presAssocID="{2B35086D-EA2B-4401-8C4B-2BC00E39957F}" presName="hierRoot2" presStyleCnt="0">
        <dgm:presLayoutVars>
          <dgm:hierBranch val="r"/>
        </dgm:presLayoutVars>
      </dgm:prSet>
      <dgm:spPr/>
    </dgm:pt>
    <dgm:pt modelId="{4D6033AB-D24B-4F2B-ADB8-FD618FCA3F6F}" type="pres">
      <dgm:prSet presAssocID="{2B35086D-EA2B-4401-8C4B-2BC00E39957F}" presName="rootComposite" presStyleCnt="0"/>
      <dgm:spPr/>
    </dgm:pt>
    <dgm:pt modelId="{FB7A0C57-D967-49CE-ADA0-0146F4C2DAF3}" type="pres">
      <dgm:prSet presAssocID="{2B35086D-EA2B-4401-8C4B-2BC00E39957F}" presName="rootText" presStyleLbl="node3" presStyleIdx="5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A2F4C87D-68C8-439B-9275-8ED5FBD0CFD3}" type="pres">
      <dgm:prSet presAssocID="{2B35086D-EA2B-4401-8C4B-2BC00E39957F}" presName="rootConnector" presStyleLbl="node3" presStyleIdx="5" presStyleCnt="18"/>
      <dgm:spPr/>
      <dgm:t>
        <a:bodyPr/>
        <a:lstStyle/>
        <a:p>
          <a:endParaRPr lang="zh-CN" altLang="en-US"/>
        </a:p>
      </dgm:t>
    </dgm:pt>
    <dgm:pt modelId="{0ECD1408-1ABC-44D9-83F6-58ADB6399ED9}" type="pres">
      <dgm:prSet presAssocID="{2B35086D-EA2B-4401-8C4B-2BC00E39957F}" presName="hierChild4" presStyleCnt="0"/>
      <dgm:spPr/>
    </dgm:pt>
    <dgm:pt modelId="{4204C4E7-32BD-4DF0-A042-B050BAC08777}" type="pres">
      <dgm:prSet presAssocID="{2B35086D-EA2B-4401-8C4B-2BC00E39957F}" presName="hierChild5" presStyleCnt="0"/>
      <dgm:spPr/>
    </dgm:pt>
    <dgm:pt modelId="{EE25668F-29BC-453D-AC46-D9BC2E13C4C9}" type="pres">
      <dgm:prSet presAssocID="{3AEB36FE-FB06-4687-80D0-2089E3B6FEC4}" presName="Name35" presStyleLbl="parChTrans1D3" presStyleIdx="6" presStyleCnt="18"/>
      <dgm:spPr/>
      <dgm:t>
        <a:bodyPr/>
        <a:lstStyle/>
        <a:p>
          <a:endParaRPr lang="zh-CN" altLang="en-US"/>
        </a:p>
      </dgm:t>
    </dgm:pt>
    <dgm:pt modelId="{7DC7C898-74F1-427C-A7C0-27D7600ADF16}" type="pres">
      <dgm:prSet presAssocID="{6F15A9E7-9AA0-43CF-8DFC-58E4D01CA199}" presName="hierRoot2" presStyleCnt="0">
        <dgm:presLayoutVars>
          <dgm:hierBranch val="r"/>
        </dgm:presLayoutVars>
      </dgm:prSet>
      <dgm:spPr/>
    </dgm:pt>
    <dgm:pt modelId="{CD9C082E-078D-46DC-8D7C-11FB25FB9186}" type="pres">
      <dgm:prSet presAssocID="{6F15A9E7-9AA0-43CF-8DFC-58E4D01CA199}" presName="rootComposite" presStyleCnt="0"/>
      <dgm:spPr/>
    </dgm:pt>
    <dgm:pt modelId="{66482A96-BE26-4597-BB50-0DADA1DAA3CF}" type="pres">
      <dgm:prSet presAssocID="{6F15A9E7-9AA0-43CF-8DFC-58E4D01CA199}" presName="rootText" presStyleLbl="node3" presStyleIdx="6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0B1E2A42-61BD-4CFB-AC1A-DA2E22092583}" type="pres">
      <dgm:prSet presAssocID="{6F15A9E7-9AA0-43CF-8DFC-58E4D01CA199}" presName="rootConnector" presStyleLbl="node3" presStyleIdx="6" presStyleCnt="18"/>
      <dgm:spPr/>
      <dgm:t>
        <a:bodyPr/>
        <a:lstStyle/>
        <a:p>
          <a:endParaRPr lang="zh-CN" altLang="en-US"/>
        </a:p>
      </dgm:t>
    </dgm:pt>
    <dgm:pt modelId="{C523F4FD-B36E-47E9-BDB9-D676BDDBCAB8}" type="pres">
      <dgm:prSet presAssocID="{6F15A9E7-9AA0-43CF-8DFC-58E4D01CA199}" presName="hierChild4" presStyleCnt="0"/>
      <dgm:spPr/>
    </dgm:pt>
    <dgm:pt modelId="{00CCD61C-969E-411D-B64B-2C0E144BA8EB}" type="pres">
      <dgm:prSet presAssocID="{6F15A9E7-9AA0-43CF-8DFC-58E4D01CA199}" presName="hierChild5" presStyleCnt="0"/>
      <dgm:spPr/>
    </dgm:pt>
    <dgm:pt modelId="{D6643356-82E1-463E-A140-9940245CFF6F}" type="pres">
      <dgm:prSet presAssocID="{316D6C8F-702B-4AD4-B959-EB2A218C8825}" presName="hierChild5" presStyleCnt="0"/>
      <dgm:spPr/>
    </dgm:pt>
    <dgm:pt modelId="{935ADAE1-773E-4CA3-8B89-5B77ABC065C1}" type="pres">
      <dgm:prSet presAssocID="{7B7CCF29-F004-4C0A-8572-03EAD009B0F1}" presName="Name48" presStyleLbl="parChTrans1D2" presStyleIdx="2" presStyleCnt="6"/>
      <dgm:spPr/>
      <dgm:t>
        <a:bodyPr/>
        <a:lstStyle/>
        <a:p>
          <a:endParaRPr lang="zh-CN" altLang="en-US"/>
        </a:p>
      </dgm:t>
    </dgm:pt>
    <dgm:pt modelId="{F1A05A67-6EA0-49F1-BA04-DBD5C29C78E6}" type="pres">
      <dgm:prSet presAssocID="{0D355F53-BA93-4E0A-8122-D3252318A437}" presName="hierRoot2" presStyleCnt="0">
        <dgm:presLayoutVars>
          <dgm:hierBranch/>
        </dgm:presLayoutVars>
      </dgm:prSet>
      <dgm:spPr/>
    </dgm:pt>
    <dgm:pt modelId="{515BA0B3-EA01-45AB-9122-1C84AFB03DFA}" type="pres">
      <dgm:prSet presAssocID="{0D355F53-BA93-4E0A-8122-D3252318A437}" presName="rootComposite" presStyleCnt="0"/>
      <dgm:spPr/>
    </dgm:pt>
    <dgm:pt modelId="{7EE117EB-9E58-4A8E-92E6-716F948B7602}" type="pres">
      <dgm:prSet presAssocID="{0D355F53-BA93-4E0A-8122-D3252318A437}" presName="rootText" presStyleLbl="node2" presStyleIdx="2" presStyleCnt="6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7E373C44-BC52-43CE-83C6-F6EE38D017AC}" type="pres">
      <dgm:prSet presAssocID="{0D355F53-BA93-4E0A-8122-D3252318A437}" presName="rootConnector" presStyleLbl="node2" presStyleIdx="2" presStyleCnt="6"/>
      <dgm:spPr/>
      <dgm:t>
        <a:bodyPr/>
        <a:lstStyle/>
        <a:p>
          <a:endParaRPr lang="zh-CN" altLang="en-US"/>
        </a:p>
      </dgm:t>
    </dgm:pt>
    <dgm:pt modelId="{36E596AF-374A-47C9-9A2E-72C76FD2EB3E}" type="pres">
      <dgm:prSet presAssocID="{0D355F53-BA93-4E0A-8122-D3252318A437}" presName="hierChild4" presStyleCnt="0"/>
      <dgm:spPr/>
    </dgm:pt>
    <dgm:pt modelId="{6CAD4867-65C4-45F4-A34E-4EC1EB8F246C}" type="pres">
      <dgm:prSet presAssocID="{BCBB4D0B-2AAD-4F6A-AA4C-6DF646A9CD93}" presName="Name35" presStyleLbl="parChTrans1D3" presStyleIdx="7" presStyleCnt="18"/>
      <dgm:spPr/>
      <dgm:t>
        <a:bodyPr/>
        <a:lstStyle/>
        <a:p>
          <a:endParaRPr lang="zh-CN" altLang="en-US"/>
        </a:p>
      </dgm:t>
    </dgm:pt>
    <dgm:pt modelId="{FBD6B093-C86A-456A-8B97-90881E12ED10}" type="pres">
      <dgm:prSet presAssocID="{2C331397-15AF-4258-89E8-7F40D14554F7}" presName="hierRoot2" presStyleCnt="0">
        <dgm:presLayoutVars>
          <dgm:hierBranch val="r"/>
        </dgm:presLayoutVars>
      </dgm:prSet>
      <dgm:spPr/>
    </dgm:pt>
    <dgm:pt modelId="{6FF04C65-268C-47E9-9B9C-ADDF6E46FFAC}" type="pres">
      <dgm:prSet presAssocID="{2C331397-15AF-4258-89E8-7F40D14554F7}" presName="rootComposite" presStyleCnt="0"/>
      <dgm:spPr/>
    </dgm:pt>
    <dgm:pt modelId="{9BA80A06-1269-49BE-B629-CD095ED9C7EE}" type="pres">
      <dgm:prSet presAssocID="{2C331397-15AF-4258-89E8-7F40D14554F7}" presName="rootText" presStyleLbl="node3" presStyleIdx="7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8DD96D41-61E0-4E18-81CD-B5A179B93F21}" type="pres">
      <dgm:prSet presAssocID="{2C331397-15AF-4258-89E8-7F40D14554F7}" presName="rootConnector" presStyleLbl="node3" presStyleIdx="7" presStyleCnt="18"/>
      <dgm:spPr/>
      <dgm:t>
        <a:bodyPr/>
        <a:lstStyle/>
        <a:p>
          <a:endParaRPr lang="zh-CN" altLang="en-US"/>
        </a:p>
      </dgm:t>
    </dgm:pt>
    <dgm:pt modelId="{C94B060C-AEDE-43A1-8492-6A0F9F18ABAF}" type="pres">
      <dgm:prSet presAssocID="{2C331397-15AF-4258-89E8-7F40D14554F7}" presName="hierChild4" presStyleCnt="0"/>
      <dgm:spPr/>
    </dgm:pt>
    <dgm:pt modelId="{F77FB539-A8CB-4001-9966-490BB1981BCA}" type="pres">
      <dgm:prSet presAssocID="{2C331397-15AF-4258-89E8-7F40D14554F7}" presName="hierChild5" presStyleCnt="0"/>
      <dgm:spPr/>
    </dgm:pt>
    <dgm:pt modelId="{3BFF305B-B2F9-495B-AE21-90DB5CE22BF9}" type="pres">
      <dgm:prSet presAssocID="{AAF6CBF2-DA53-48BD-970C-8FEDB4A90A61}" presName="Name35" presStyleLbl="parChTrans1D3" presStyleIdx="8" presStyleCnt="18"/>
      <dgm:spPr/>
      <dgm:t>
        <a:bodyPr/>
        <a:lstStyle/>
        <a:p>
          <a:endParaRPr lang="zh-CN" altLang="en-US"/>
        </a:p>
      </dgm:t>
    </dgm:pt>
    <dgm:pt modelId="{D61D6DBF-67C3-42DA-A8EA-C610CAEA192D}" type="pres">
      <dgm:prSet presAssocID="{67F361EA-694A-4A4E-86D2-3F5DFA7FD50F}" presName="hierRoot2" presStyleCnt="0">
        <dgm:presLayoutVars>
          <dgm:hierBranch val="r"/>
        </dgm:presLayoutVars>
      </dgm:prSet>
      <dgm:spPr/>
    </dgm:pt>
    <dgm:pt modelId="{7892FA11-AD5C-491E-8F6B-773C9D01BB99}" type="pres">
      <dgm:prSet presAssocID="{67F361EA-694A-4A4E-86D2-3F5DFA7FD50F}" presName="rootComposite" presStyleCnt="0"/>
      <dgm:spPr/>
    </dgm:pt>
    <dgm:pt modelId="{D8792466-6E6A-499F-856A-28BF86C93D93}" type="pres">
      <dgm:prSet presAssocID="{67F361EA-694A-4A4E-86D2-3F5DFA7FD50F}" presName="rootText" presStyleLbl="node3" presStyleIdx="8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2A895502-4DB0-48D0-8C80-AC5000CB3825}" type="pres">
      <dgm:prSet presAssocID="{67F361EA-694A-4A4E-86D2-3F5DFA7FD50F}" presName="rootConnector" presStyleLbl="node3" presStyleIdx="8" presStyleCnt="18"/>
      <dgm:spPr/>
      <dgm:t>
        <a:bodyPr/>
        <a:lstStyle/>
        <a:p>
          <a:endParaRPr lang="zh-CN" altLang="en-US"/>
        </a:p>
      </dgm:t>
    </dgm:pt>
    <dgm:pt modelId="{068B7E6D-6A5B-4B4E-81CB-042CD7D71089}" type="pres">
      <dgm:prSet presAssocID="{67F361EA-694A-4A4E-86D2-3F5DFA7FD50F}" presName="hierChild4" presStyleCnt="0"/>
      <dgm:spPr/>
    </dgm:pt>
    <dgm:pt modelId="{E005150C-E3C2-4C41-BDCD-5204D1AC7378}" type="pres">
      <dgm:prSet presAssocID="{67F361EA-694A-4A4E-86D2-3F5DFA7FD50F}" presName="hierChild5" presStyleCnt="0"/>
      <dgm:spPr/>
    </dgm:pt>
    <dgm:pt modelId="{B4416062-4515-451E-B254-68DCF1C94340}" type="pres">
      <dgm:prSet presAssocID="{3DB69E9E-D8FB-408D-8E80-9F604CEC605A}" presName="Name35" presStyleLbl="parChTrans1D3" presStyleIdx="9" presStyleCnt="18"/>
      <dgm:spPr/>
      <dgm:t>
        <a:bodyPr/>
        <a:lstStyle/>
        <a:p>
          <a:endParaRPr lang="zh-CN" altLang="en-US"/>
        </a:p>
      </dgm:t>
    </dgm:pt>
    <dgm:pt modelId="{D4F58A57-37FC-4808-B725-7FFAF48DBCC4}" type="pres">
      <dgm:prSet presAssocID="{E64A8062-572B-4299-B819-DB8E52E270F2}" presName="hierRoot2" presStyleCnt="0">
        <dgm:presLayoutVars>
          <dgm:hierBranch val="r"/>
        </dgm:presLayoutVars>
      </dgm:prSet>
      <dgm:spPr/>
    </dgm:pt>
    <dgm:pt modelId="{B4FCDBAF-6D17-46B3-8CCE-FC28DAF31EB1}" type="pres">
      <dgm:prSet presAssocID="{E64A8062-572B-4299-B819-DB8E52E270F2}" presName="rootComposite" presStyleCnt="0"/>
      <dgm:spPr/>
    </dgm:pt>
    <dgm:pt modelId="{07E74FA3-C690-4AFD-9A7C-33F452E917E5}" type="pres">
      <dgm:prSet presAssocID="{E64A8062-572B-4299-B819-DB8E52E270F2}" presName="rootText" presStyleLbl="node3" presStyleIdx="9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22884BCF-05B6-48F4-9BBD-977CB9B69961}" type="pres">
      <dgm:prSet presAssocID="{E64A8062-572B-4299-B819-DB8E52E270F2}" presName="rootConnector" presStyleLbl="node3" presStyleIdx="9" presStyleCnt="18"/>
      <dgm:spPr/>
      <dgm:t>
        <a:bodyPr/>
        <a:lstStyle/>
        <a:p>
          <a:endParaRPr lang="zh-CN" altLang="en-US"/>
        </a:p>
      </dgm:t>
    </dgm:pt>
    <dgm:pt modelId="{C8348EC6-E068-480D-9AE4-C42FE66BC128}" type="pres">
      <dgm:prSet presAssocID="{E64A8062-572B-4299-B819-DB8E52E270F2}" presName="hierChild4" presStyleCnt="0"/>
      <dgm:spPr/>
    </dgm:pt>
    <dgm:pt modelId="{A34513A1-70DE-4475-B5CA-131DFF861689}" type="pres">
      <dgm:prSet presAssocID="{E64A8062-572B-4299-B819-DB8E52E270F2}" presName="hierChild5" presStyleCnt="0"/>
      <dgm:spPr/>
    </dgm:pt>
    <dgm:pt modelId="{BA524839-9863-461B-BEB1-55E61F03E42E}" type="pres">
      <dgm:prSet presAssocID="{0D355F53-BA93-4E0A-8122-D3252318A437}" presName="hierChild5" presStyleCnt="0"/>
      <dgm:spPr/>
    </dgm:pt>
    <dgm:pt modelId="{FD06118A-6113-4335-BF95-4EB6C75B72C8}" type="pres">
      <dgm:prSet presAssocID="{B57E275B-B8BB-4B99-BB0A-84EC30F5EC93}" presName="Name48" presStyleLbl="parChTrans1D2" presStyleIdx="3" presStyleCnt="6"/>
      <dgm:spPr/>
      <dgm:t>
        <a:bodyPr/>
        <a:lstStyle/>
        <a:p>
          <a:endParaRPr lang="zh-CN" altLang="en-US"/>
        </a:p>
      </dgm:t>
    </dgm:pt>
    <dgm:pt modelId="{981512BF-EAEF-4DCE-AAAD-99D722E35B4D}" type="pres">
      <dgm:prSet presAssocID="{BE6D80D2-2A9F-48F2-B05F-21D5B03BCE36}" presName="hierRoot2" presStyleCnt="0">
        <dgm:presLayoutVars>
          <dgm:hierBranch/>
        </dgm:presLayoutVars>
      </dgm:prSet>
      <dgm:spPr/>
    </dgm:pt>
    <dgm:pt modelId="{25A79FE9-21FC-4B72-B392-5B353BA620DF}" type="pres">
      <dgm:prSet presAssocID="{BE6D80D2-2A9F-48F2-B05F-21D5B03BCE36}" presName="rootComposite" presStyleCnt="0"/>
      <dgm:spPr/>
    </dgm:pt>
    <dgm:pt modelId="{D812FCAD-2B22-4FE9-850E-C7DE0BCF4C21}" type="pres">
      <dgm:prSet presAssocID="{BE6D80D2-2A9F-48F2-B05F-21D5B03BCE36}" presName="rootText" presStyleLbl="node2" presStyleIdx="3" presStyleCnt="6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D8FB0967-D52B-4B73-998C-0CC097EFC414}" type="pres">
      <dgm:prSet presAssocID="{BE6D80D2-2A9F-48F2-B05F-21D5B03BCE36}" presName="rootConnector" presStyleLbl="node2" presStyleIdx="3" presStyleCnt="6"/>
      <dgm:spPr/>
      <dgm:t>
        <a:bodyPr/>
        <a:lstStyle/>
        <a:p>
          <a:endParaRPr lang="zh-CN" altLang="en-US"/>
        </a:p>
      </dgm:t>
    </dgm:pt>
    <dgm:pt modelId="{EDE84E17-5A54-48D7-8788-B632AB12D566}" type="pres">
      <dgm:prSet presAssocID="{BE6D80D2-2A9F-48F2-B05F-21D5B03BCE36}" presName="hierChild4" presStyleCnt="0"/>
      <dgm:spPr/>
    </dgm:pt>
    <dgm:pt modelId="{43CA35DA-0BDB-43A8-9DEF-61B829894584}" type="pres">
      <dgm:prSet presAssocID="{A2294AAB-5AFA-4DCA-A8B1-F87DCAB2A9E1}" presName="Name35" presStyleLbl="parChTrans1D3" presStyleIdx="10" presStyleCnt="18"/>
      <dgm:spPr/>
      <dgm:t>
        <a:bodyPr/>
        <a:lstStyle/>
        <a:p>
          <a:endParaRPr lang="zh-CN" altLang="en-US"/>
        </a:p>
      </dgm:t>
    </dgm:pt>
    <dgm:pt modelId="{63F80E61-0CAD-48BA-B33F-C55ADE644FAA}" type="pres">
      <dgm:prSet presAssocID="{21A37BD5-C955-4957-8B13-CD8D14BD2DCE}" presName="hierRoot2" presStyleCnt="0">
        <dgm:presLayoutVars>
          <dgm:hierBranch val="r"/>
        </dgm:presLayoutVars>
      </dgm:prSet>
      <dgm:spPr/>
    </dgm:pt>
    <dgm:pt modelId="{65B1CDB7-33C5-4C96-BC8B-3CCD8DFD763B}" type="pres">
      <dgm:prSet presAssocID="{21A37BD5-C955-4957-8B13-CD8D14BD2DCE}" presName="rootComposite" presStyleCnt="0"/>
      <dgm:spPr/>
    </dgm:pt>
    <dgm:pt modelId="{6DFB67CD-2305-4E6C-8B75-F970C608DF36}" type="pres">
      <dgm:prSet presAssocID="{21A37BD5-C955-4957-8B13-CD8D14BD2DCE}" presName="rootText" presStyleLbl="node3" presStyleIdx="10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67F8CF0C-0516-4679-916E-91D340AA9065}" type="pres">
      <dgm:prSet presAssocID="{21A37BD5-C955-4957-8B13-CD8D14BD2DCE}" presName="rootConnector" presStyleLbl="node3" presStyleIdx="10" presStyleCnt="18"/>
      <dgm:spPr/>
      <dgm:t>
        <a:bodyPr/>
        <a:lstStyle/>
        <a:p>
          <a:endParaRPr lang="zh-CN" altLang="en-US"/>
        </a:p>
      </dgm:t>
    </dgm:pt>
    <dgm:pt modelId="{D66C63DB-77A3-49FE-A301-1C6594078D8D}" type="pres">
      <dgm:prSet presAssocID="{21A37BD5-C955-4957-8B13-CD8D14BD2DCE}" presName="hierChild4" presStyleCnt="0"/>
      <dgm:spPr/>
    </dgm:pt>
    <dgm:pt modelId="{F0E06D46-C9FC-4E52-AF13-0C789E1E7AF8}" type="pres">
      <dgm:prSet presAssocID="{21A37BD5-C955-4957-8B13-CD8D14BD2DCE}" presName="hierChild5" presStyleCnt="0"/>
      <dgm:spPr/>
    </dgm:pt>
    <dgm:pt modelId="{E96C58E9-083B-4B78-870A-D4292A404FD5}" type="pres">
      <dgm:prSet presAssocID="{045906A5-2A51-4274-ACF5-6F5AC863B94D}" presName="Name35" presStyleLbl="parChTrans1D3" presStyleIdx="11" presStyleCnt="18"/>
      <dgm:spPr/>
      <dgm:t>
        <a:bodyPr/>
        <a:lstStyle/>
        <a:p>
          <a:endParaRPr lang="zh-CN" altLang="en-US"/>
        </a:p>
      </dgm:t>
    </dgm:pt>
    <dgm:pt modelId="{733A00B9-0179-42DC-B41F-F984FB511E9D}" type="pres">
      <dgm:prSet presAssocID="{7187F465-D09F-474E-AC4C-EBB9B1AC1CFC}" presName="hierRoot2" presStyleCnt="0">
        <dgm:presLayoutVars>
          <dgm:hierBranch val="r"/>
        </dgm:presLayoutVars>
      </dgm:prSet>
      <dgm:spPr/>
    </dgm:pt>
    <dgm:pt modelId="{3ADB23E2-365F-46F9-B9FB-C169F8877E6B}" type="pres">
      <dgm:prSet presAssocID="{7187F465-D09F-474E-AC4C-EBB9B1AC1CFC}" presName="rootComposite" presStyleCnt="0"/>
      <dgm:spPr/>
    </dgm:pt>
    <dgm:pt modelId="{74EDF51A-6954-4D7B-A87C-BD5FDD50D626}" type="pres">
      <dgm:prSet presAssocID="{7187F465-D09F-474E-AC4C-EBB9B1AC1CFC}" presName="rootText" presStyleLbl="node3" presStyleIdx="11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A62D72EA-04BF-4A2B-B8AC-90E15BA28429}" type="pres">
      <dgm:prSet presAssocID="{7187F465-D09F-474E-AC4C-EBB9B1AC1CFC}" presName="rootConnector" presStyleLbl="node3" presStyleIdx="11" presStyleCnt="18"/>
      <dgm:spPr/>
      <dgm:t>
        <a:bodyPr/>
        <a:lstStyle/>
        <a:p>
          <a:endParaRPr lang="zh-CN" altLang="en-US"/>
        </a:p>
      </dgm:t>
    </dgm:pt>
    <dgm:pt modelId="{093ED4A0-03C0-4BF4-BB38-24D0D6311E89}" type="pres">
      <dgm:prSet presAssocID="{7187F465-D09F-474E-AC4C-EBB9B1AC1CFC}" presName="hierChild4" presStyleCnt="0"/>
      <dgm:spPr/>
    </dgm:pt>
    <dgm:pt modelId="{986863C4-DDCC-45A3-8489-3679F7E13A13}" type="pres">
      <dgm:prSet presAssocID="{7187F465-D09F-474E-AC4C-EBB9B1AC1CFC}" presName="hierChild5" presStyleCnt="0"/>
      <dgm:spPr/>
    </dgm:pt>
    <dgm:pt modelId="{EE3016D0-9FD6-4574-B747-4B845161F0A2}" type="pres">
      <dgm:prSet presAssocID="{BE6D80D2-2A9F-48F2-B05F-21D5B03BCE36}" presName="hierChild5" presStyleCnt="0"/>
      <dgm:spPr/>
    </dgm:pt>
    <dgm:pt modelId="{6E8CA10F-68AC-4B7B-BE20-52ADB7D943F7}" type="pres">
      <dgm:prSet presAssocID="{5A538430-8847-47B5-BD07-22009DCE7CB8}" presName="Name48" presStyleLbl="parChTrans1D2" presStyleIdx="4" presStyleCnt="6"/>
      <dgm:spPr/>
      <dgm:t>
        <a:bodyPr/>
        <a:lstStyle/>
        <a:p>
          <a:endParaRPr lang="zh-CN" altLang="en-US"/>
        </a:p>
      </dgm:t>
    </dgm:pt>
    <dgm:pt modelId="{4625E51F-13D0-4EDF-B384-B3B03391C389}" type="pres">
      <dgm:prSet presAssocID="{94773A01-800B-4B16-9111-30D5786F4B43}" presName="hierRoot2" presStyleCnt="0">
        <dgm:presLayoutVars>
          <dgm:hierBranch/>
        </dgm:presLayoutVars>
      </dgm:prSet>
      <dgm:spPr/>
    </dgm:pt>
    <dgm:pt modelId="{42D880DC-3082-4787-A8D7-348C9DB39834}" type="pres">
      <dgm:prSet presAssocID="{94773A01-800B-4B16-9111-30D5786F4B43}" presName="rootComposite" presStyleCnt="0"/>
      <dgm:spPr/>
    </dgm:pt>
    <dgm:pt modelId="{BCD13545-5F62-4D3F-B379-0FC1760E3BC6}" type="pres">
      <dgm:prSet presAssocID="{94773A01-800B-4B16-9111-30D5786F4B43}" presName="rootText" presStyleLbl="node2" presStyleIdx="4" presStyleCnt="6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AA097165-DBDE-49B9-A8AB-FB9472D3FA4B}" type="pres">
      <dgm:prSet presAssocID="{94773A01-800B-4B16-9111-30D5786F4B43}" presName="rootConnector" presStyleLbl="node2" presStyleIdx="4" presStyleCnt="6"/>
      <dgm:spPr/>
      <dgm:t>
        <a:bodyPr/>
        <a:lstStyle/>
        <a:p>
          <a:endParaRPr lang="zh-CN" altLang="en-US"/>
        </a:p>
      </dgm:t>
    </dgm:pt>
    <dgm:pt modelId="{E7689654-19A9-46CF-BCC9-860AA8FB9586}" type="pres">
      <dgm:prSet presAssocID="{94773A01-800B-4B16-9111-30D5786F4B43}" presName="hierChild4" presStyleCnt="0"/>
      <dgm:spPr/>
    </dgm:pt>
    <dgm:pt modelId="{5B741184-C2C8-492E-A02B-0FD98A415087}" type="pres">
      <dgm:prSet presAssocID="{9403FAF0-6941-4394-9378-3EF20829D7BA}" presName="Name35" presStyleLbl="parChTrans1D3" presStyleIdx="12" presStyleCnt="18"/>
      <dgm:spPr/>
      <dgm:t>
        <a:bodyPr/>
        <a:lstStyle/>
        <a:p>
          <a:endParaRPr lang="zh-CN" altLang="en-US"/>
        </a:p>
      </dgm:t>
    </dgm:pt>
    <dgm:pt modelId="{147E7355-64CC-49EB-AEF3-2BFFD6F39E4F}" type="pres">
      <dgm:prSet presAssocID="{18FF0065-5D01-4209-B63F-1B92FA2DEDFD}" presName="hierRoot2" presStyleCnt="0">
        <dgm:presLayoutVars>
          <dgm:hierBranch val="r"/>
        </dgm:presLayoutVars>
      </dgm:prSet>
      <dgm:spPr/>
    </dgm:pt>
    <dgm:pt modelId="{370586E7-FEA5-4023-B243-D50CEA4E8940}" type="pres">
      <dgm:prSet presAssocID="{18FF0065-5D01-4209-B63F-1B92FA2DEDFD}" presName="rootComposite" presStyleCnt="0"/>
      <dgm:spPr/>
    </dgm:pt>
    <dgm:pt modelId="{DE02485E-6271-49C7-A238-A8E992A2B57A}" type="pres">
      <dgm:prSet presAssocID="{18FF0065-5D01-4209-B63F-1B92FA2DEDFD}" presName="rootText" presStyleLbl="node3" presStyleIdx="12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BA6F8146-484A-426E-A2D7-B0001230C577}" type="pres">
      <dgm:prSet presAssocID="{18FF0065-5D01-4209-B63F-1B92FA2DEDFD}" presName="rootConnector" presStyleLbl="node3" presStyleIdx="12" presStyleCnt="18"/>
      <dgm:spPr/>
      <dgm:t>
        <a:bodyPr/>
        <a:lstStyle/>
        <a:p>
          <a:endParaRPr lang="zh-CN" altLang="en-US"/>
        </a:p>
      </dgm:t>
    </dgm:pt>
    <dgm:pt modelId="{CCE922B9-DE05-46E8-A539-8DA81C8F2E61}" type="pres">
      <dgm:prSet presAssocID="{18FF0065-5D01-4209-B63F-1B92FA2DEDFD}" presName="hierChild4" presStyleCnt="0"/>
      <dgm:spPr/>
    </dgm:pt>
    <dgm:pt modelId="{47890C92-D30D-4682-A157-195DD104892D}" type="pres">
      <dgm:prSet presAssocID="{18FF0065-5D01-4209-B63F-1B92FA2DEDFD}" presName="hierChild5" presStyleCnt="0"/>
      <dgm:spPr/>
    </dgm:pt>
    <dgm:pt modelId="{2D674AC9-2523-401A-B914-F97DFDB25117}" type="pres">
      <dgm:prSet presAssocID="{9DCBB300-DD3A-4B08-BA74-91B428670033}" presName="Name35" presStyleLbl="parChTrans1D3" presStyleIdx="13" presStyleCnt="18"/>
      <dgm:spPr/>
      <dgm:t>
        <a:bodyPr/>
        <a:lstStyle/>
        <a:p>
          <a:endParaRPr lang="zh-CN" altLang="en-US"/>
        </a:p>
      </dgm:t>
    </dgm:pt>
    <dgm:pt modelId="{2309A260-C503-4214-A6BE-3C1388E6F785}" type="pres">
      <dgm:prSet presAssocID="{79CF4F16-73CC-4671-A0BD-914C12E0213A}" presName="hierRoot2" presStyleCnt="0">
        <dgm:presLayoutVars>
          <dgm:hierBranch val="r"/>
        </dgm:presLayoutVars>
      </dgm:prSet>
      <dgm:spPr/>
    </dgm:pt>
    <dgm:pt modelId="{663EECDF-252F-4DB8-B04F-D8E66F87A6B2}" type="pres">
      <dgm:prSet presAssocID="{79CF4F16-73CC-4671-A0BD-914C12E0213A}" presName="rootComposite" presStyleCnt="0"/>
      <dgm:spPr/>
    </dgm:pt>
    <dgm:pt modelId="{9586F13D-1A4E-46D3-B35E-126DCD6DC383}" type="pres">
      <dgm:prSet presAssocID="{79CF4F16-73CC-4671-A0BD-914C12E0213A}" presName="rootText" presStyleLbl="node3" presStyleIdx="13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CADED5FE-34B7-4D0F-BE4B-32D233AFD38C}" type="pres">
      <dgm:prSet presAssocID="{79CF4F16-73CC-4671-A0BD-914C12E0213A}" presName="rootConnector" presStyleLbl="node3" presStyleIdx="13" presStyleCnt="18"/>
      <dgm:spPr/>
      <dgm:t>
        <a:bodyPr/>
        <a:lstStyle/>
        <a:p>
          <a:endParaRPr lang="zh-CN" altLang="en-US"/>
        </a:p>
      </dgm:t>
    </dgm:pt>
    <dgm:pt modelId="{6BC78B86-B4FA-4D4D-90FC-EE9D51F34794}" type="pres">
      <dgm:prSet presAssocID="{79CF4F16-73CC-4671-A0BD-914C12E0213A}" presName="hierChild4" presStyleCnt="0"/>
      <dgm:spPr/>
    </dgm:pt>
    <dgm:pt modelId="{2D8C63F9-D223-4687-B982-222759CACEA4}" type="pres">
      <dgm:prSet presAssocID="{79CF4F16-73CC-4671-A0BD-914C12E0213A}" presName="hierChild5" presStyleCnt="0"/>
      <dgm:spPr/>
    </dgm:pt>
    <dgm:pt modelId="{A24C0226-953F-462B-8355-FA959E833CB9}" type="pres">
      <dgm:prSet presAssocID="{F0749EB0-6EFE-4895-B347-3577F2E4797E}" presName="Name35" presStyleLbl="parChTrans1D3" presStyleIdx="14" presStyleCnt="18"/>
      <dgm:spPr/>
      <dgm:t>
        <a:bodyPr/>
        <a:lstStyle/>
        <a:p>
          <a:endParaRPr lang="zh-CN" altLang="en-US"/>
        </a:p>
      </dgm:t>
    </dgm:pt>
    <dgm:pt modelId="{15FF58E4-8B6F-409C-BF1F-C5305543F4AF}" type="pres">
      <dgm:prSet presAssocID="{61D25C69-FEE9-480A-8CAB-E7E785099E49}" presName="hierRoot2" presStyleCnt="0">
        <dgm:presLayoutVars>
          <dgm:hierBranch val="r"/>
        </dgm:presLayoutVars>
      </dgm:prSet>
      <dgm:spPr/>
    </dgm:pt>
    <dgm:pt modelId="{9C41389C-C992-4B1A-BDCD-0D0A6F5D09B6}" type="pres">
      <dgm:prSet presAssocID="{61D25C69-FEE9-480A-8CAB-E7E785099E49}" presName="rootComposite" presStyleCnt="0"/>
      <dgm:spPr/>
    </dgm:pt>
    <dgm:pt modelId="{F471BFF5-3FD9-4FDB-B83A-7DBB7C7047EC}" type="pres">
      <dgm:prSet presAssocID="{61D25C69-FEE9-480A-8CAB-E7E785099E49}" presName="rootText" presStyleLbl="node3" presStyleIdx="14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6A0D3BFB-150E-4998-B322-EF10CEC881E0}" type="pres">
      <dgm:prSet presAssocID="{61D25C69-FEE9-480A-8CAB-E7E785099E49}" presName="rootConnector" presStyleLbl="node3" presStyleIdx="14" presStyleCnt="18"/>
      <dgm:spPr/>
      <dgm:t>
        <a:bodyPr/>
        <a:lstStyle/>
        <a:p>
          <a:endParaRPr lang="zh-CN" altLang="en-US"/>
        </a:p>
      </dgm:t>
    </dgm:pt>
    <dgm:pt modelId="{6D091915-4CD3-4F6E-AB74-467ED530CF45}" type="pres">
      <dgm:prSet presAssocID="{61D25C69-FEE9-480A-8CAB-E7E785099E49}" presName="hierChild4" presStyleCnt="0"/>
      <dgm:spPr/>
    </dgm:pt>
    <dgm:pt modelId="{32D1B54C-59EA-4C57-8BE3-6BBA8D19812D}" type="pres">
      <dgm:prSet presAssocID="{61D25C69-FEE9-480A-8CAB-E7E785099E49}" presName="hierChild5" presStyleCnt="0"/>
      <dgm:spPr/>
    </dgm:pt>
    <dgm:pt modelId="{25392117-B3FD-4660-9D33-5523DBC83C63}" type="pres">
      <dgm:prSet presAssocID="{AD6C1D60-8EE7-4D26-822C-D35265005830}" presName="Name35" presStyleLbl="parChTrans1D3" presStyleIdx="15" presStyleCnt="18"/>
      <dgm:spPr/>
      <dgm:t>
        <a:bodyPr/>
        <a:lstStyle/>
        <a:p>
          <a:endParaRPr lang="zh-CN" altLang="en-US"/>
        </a:p>
      </dgm:t>
    </dgm:pt>
    <dgm:pt modelId="{1517BD35-1ACD-416E-91E8-F073E1997428}" type="pres">
      <dgm:prSet presAssocID="{CDB551A1-65DD-4231-A2B1-451174C59A57}" presName="hierRoot2" presStyleCnt="0">
        <dgm:presLayoutVars>
          <dgm:hierBranch val="r"/>
        </dgm:presLayoutVars>
      </dgm:prSet>
      <dgm:spPr/>
    </dgm:pt>
    <dgm:pt modelId="{8EC69E4E-5EFD-48B9-A255-78101A4F6041}" type="pres">
      <dgm:prSet presAssocID="{CDB551A1-65DD-4231-A2B1-451174C59A57}" presName="rootComposite" presStyleCnt="0"/>
      <dgm:spPr/>
    </dgm:pt>
    <dgm:pt modelId="{508FF30B-FABB-471E-BF05-57B92932901B}" type="pres">
      <dgm:prSet presAssocID="{CDB551A1-65DD-4231-A2B1-451174C59A57}" presName="rootText" presStyleLbl="node3" presStyleIdx="15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CB73E335-CDE3-4918-89D0-39379D6147A5}" type="pres">
      <dgm:prSet presAssocID="{CDB551A1-65DD-4231-A2B1-451174C59A57}" presName="rootConnector" presStyleLbl="node3" presStyleIdx="15" presStyleCnt="18"/>
      <dgm:spPr/>
      <dgm:t>
        <a:bodyPr/>
        <a:lstStyle/>
        <a:p>
          <a:endParaRPr lang="zh-CN" altLang="en-US"/>
        </a:p>
      </dgm:t>
    </dgm:pt>
    <dgm:pt modelId="{F0528D90-0905-4CE9-9763-A4BE8F1111E4}" type="pres">
      <dgm:prSet presAssocID="{CDB551A1-65DD-4231-A2B1-451174C59A57}" presName="hierChild4" presStyleCnt="0"/>
      <dgm:spPr/>
    </dgm:pt>
    <dgm:pt modelId="{78984C4C-5451-4C06-800B-ADDC5E29A81E}" type="pres">
      <dgm:prSet presAssocID="{CDB551A1-65DD-4231-A2B1-451174C59A57}" presName="hierChild5" presStyleCnt="0"/>
      <dgm:spPr/>
    </dgm:pt>
    <dgm:pt modelId="{91BE8533-1A83-4903-BF26-136492CB4024}" type="pres">
      <dgm:prSet presAssocID="{94773A01-800B-4B16-9111-30D5786F4B43}" presName="hierChild5" presStyleCnt="0"/>
      <dgm:spPr/>
    </dgm:pt>
    <dgm:pt modelId="{3EA843D1-6F40-46E7-859D-09DB88BC8805}" type="pres">
      <dgm:prSet presAssocID="{2064A4E1-8BA6-462A-AA07-ADE8A7D01D6C}" presName="Name48" presStyleLbl="parChTrans1D2" presStyleIdx="5" presStyleCnt="6"/>
      <dgm:spPr/>
      <dgm:t>
        <a:bodyPr/>
        <a:lstStyle/>
        <a:p>
          <a:endParaRPr lang="zh-CN" altLang="en-US"/>
        </a:p>
      </dgm:t>
    </dgm:pt>
    <dgm:pt modelId="{34FA2B8D-4DCB-42FE-AE88-AC9C5B790CD4}" type="pres">
      <dgm:prSet presAssocID="{F88E4DC2-CA13-4B80-969A-4974A9200917}" presName="hierRoot2" presStyleCnt="0">
        <dgm:presLayoutVars>
          <dgm:hierBranch/>
        </dgm:presLayoutVars>
      </dgm:prSet>
      <dgm:spPr/>
    </dgm:pt>
    <dgm:pt modelId="{06F56E49-8D87-426A-BB1B-040C0013B6EC}" type="pres">
      <dgm:prSet presAssocID="{F88E4DC2-CA13-4B80-969A-4974A9200917}" presName="rootComposite" presStyleCnt="0"/>
      <dgm:spPr/>
    </dgm:pt>
    <dgm:pt modelId="{596A5E4B-940C-46F8-B4C0-D61F53BA3B7D}" type="pres">
      <dgm:prSet presAssocID="{F88E4DC2-CA13-4B80-969A-4974A9200917}" presName="rootText" presStyleLbl="node2" presStyleIdx="5" presStyleCnt="6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6F7AA7E7-32DF-48A1-A5E5-EC3E8D541436}" type="pres">
      <dgm:prSet presAssocID="{F88E4DC2-CA13-4B80-969A-4974A9200917}" presName="rootConnector" presStyleLbl="node2" presStyleIdx="5" presStyleCnt="6"/>
      <dgm:spPr/>
      <dgm:t>
        <a:bodyPr/>
        <a:lstStyle/>
        <a:p>
          <a:endParaRPr lang="zh-CN" altLang="en-US"/>
        </a:p>
      </dgm:t>
    </dgm:pt>
    <dgm:pt modelId="{76A74CC8-FD39-4291-A56C-D1B5FB2A8424}" type="pres">
      <dgm:prSet presAssocID="{F88E4DC2-CA13-4B80-969A-4974A9200917}" presName="hierChild4" presStyleCnt="0"/>
      <dgm:spPr/>
    </dgm:pt>
    <dgm:pt modelId="{868CCBF5-068A-4DBC-B685-85321A2C4011}" type="pres">
      <dgm:prSet presAssocID="{DC595D63-434C-45B3-A5BA-4562CBB92189}" presName="Name35" presStyleLbl="parChTrans1D3" presStyleIdx="16" presStyleCnt="18"/>
      <dgm:spPr/>
      <dgm:t>
        <a:bodyPr/>
        <a:lstStyle/>
        <a:p>
          <a:endParaRPr lang="zh-CN" altLang="en-US"/>
        </a:p>
      </dgm:t>
    </dgm:pt>
    <dgm:pt modelId="{1B94E211-61D9-411E-9018-8F1D0319B21C}" type="pres">
      <dgm:prSet presAssocID="{C6860E71-EEEC-4E9E-A6E8-8A37D235BF4B}" presName="hierRoot2" presStyleCnt="0">
        <dgm:presLayoutVars>
          <dgm:hierBranch val="r"/>
        </dgm:presLayoutVars>
      </dgm:prSet>
      <dgm:spPr/>
    </dgm:pt>
    <dgm:pt modelId="{97B3388E-006B-49C9-8BE8-AC2AD052E807}" type="pres">
      <dgm:prSet presAssocID="{C6860E71-EEEC-4E9E-A6E8-8A37D235BF4B}" presName="rootComposite" presStyleCnt="0"/>
      <dgm:spPr/>
    </dgm:pt>
    <dgm:pt modelId="{72251CAB-35A9-43AB-9AB7-65A23C2B5696}" type="pres">
      <dgm:prSet presAssocID="{C6860E71-EEEC-4E9E-A6E8-8A37D235BF4B}" presName="rootText" presStyleLbl="node3" presStyleIdx="16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81290789-2B08-4C35-934E-2FFB2F0B3B2D}" type="pres">
      <dgm:prSet presAssocID="{C6860E71-EEEC-4E9E-A6E8-8A37D235BF4B}" presName="rootConnector" presStyleLbl="node3" presStyleIdx="16" presStyleCnt="18"/>
      <dgm:spPr/>
      <dgm:t>
        <a:bodyPr/>
        <a:lstStyle/>
        <a:p>
          <a:endParaRPr lang="zh-CN" altLang="en-US"/>
        </a:p>
      </dgm:t>
    </dgm:pt>
    <dgm:pt modelId="{A8A7E3E1-CC4C-48B5-AB4F-98DF4DBA8459}" type="pres">
      <dgm:prSet presAssocID="{C6860E71-EEEC-4E9E-A6E8-8A37D235BF4B}" presName="hierChild4" presStyleCnt="0"/>
      <dgm:spPr/>
    </dgm:pt>
    <dgm:pt modelId="{FAD024B6-C583-4EC9-A6EA-C57FE9C18EC5}" type="pres">
      <dgm:prSet presAssocID="{C6860E71-EEEC-4E9E-A6E8-8A37D235BF4B}" presName="hierChild5" presStyleCnt="0"/>
      <dgm:spPr/>
    </dgm:pt>
    <dgm:pt modelId="{EB820781-8F46-4B52-8AAE-BD798A3C31DF}" type="pres">
      <dgm:prSet presAssocID="{68AEEBEB-3792-4A1E-B1A8-BC5FCE7A8D9D}" presName="Name35" presStyleLbl="parChTrans1D3" presStyleIdx="17" presStyleCnt="18"/>
      <dgm:spPr/>
      <dgm:t>
        <a:bodyPr/>
        <a:lstStyle/>
        <a:p>
          <a:endParaRPr lang="zh-CN" altLang="en-US"/>
        </a:p>
      </dgm:t>
    </dgm:pt>
    <dgm:pt modelId="{2FA5EAEF-69E0-40F7-9331-5AEE39075C83}" type="pres">
      <dgm:prSet presAssocID="{9C3B9765-9F8F-4566-80B8-483952119BE0}" presName="hierRoot2" presStyleCnt="0">
        <dgm:presLayoutVars>
          <dgm:hierBranch val="r"/>
        </dgm:presLayoutVars>
      </dgm:prSet>
      <dgm:spPr/>
    </dgm:pt>
    <dgm:pt modelId="{58EB1A50-C31C-4EEF-BCF3-95C0E127D3AF}" type="pres">
      <dgm:prSet presAssocID="{9C3B9765-9F8F-4566-80B8-483952119BE0}" presName="rootComposite" presStyleCnt="0"/>
      <dgm:spPr/>
    </dgm:pt>
    <dgm:pt modelId="{AA6B85B5-9889-4AF8-B73C-217AD2782CA5}" type="pres">
      <dgm:prSet presAssocID="{9C3B9765-9F8F-4566-80B8-483952119BE0}" presName="rootText" presStyleLbl="node3" presStyleIdx="17" presStyleCnt="18">
        <dgm:presLayoutVars>
          <dgm:chPref val="3"/>
        </dgm:presLayoutVars>
      </dgm:prSet>
      <dgm:spPr/>
      <dgm:t>
        <a:bodyPr/>
        <a:lstStyle/>
        <a:p>
          <a:endParaRPr lang="zh-CN" altLang="en-US"/>
        </a:p>
      </dgm:t>
    </dgm:pt>
    <dgm:pt modelId="{455E4813-0DCB-499A-B8A6-4F8862F9A643}" type="pres">
      <dgm:prSet presAssocID="{9C3B9765-9F8F-4566-80B8-483952119BE0}" presName="rootConnector" presStyleLbl="node3" presStyleIdx="17" presStyleCnt="18"/>
      <dgm:spPr/>
      <dgm:t>
        <a:bodyPr/>
        <a:lstStyle/>
        <a:p>
          <a:endParaRPr lang="zh-CN" altLang="en-US"/>
        </a:p>
      </dgm:t>
    </dgm:pt>
    <dgm:pt modelId="{C8C2BC62-8F12-4FED-8FE6-91D3F75154E8}" type="pres">
      <dgm:prSet presAssocID="{9C3B9765-9F8F-4566-80B8-483952119BE0}" presName="hierChild4" presStyleCnt="0"/>
      <dgm:spPr/>
    </dgm:pt>
    <dgm:pt modelId="{16A82D25-83DE-4A5B-80EE-318FDD6E64E5}" type="pres">
      <dgm:prSet presAssocID="{9C3B9765-9F8F-4566-80B8-483952119BE0}" presName="hierChild5" presStyleCnt="0"/>
      <dgm:spPr/>
    </dgm:pt>
    <dgm:pt modelId="{040649DD-7751-40C5-958B-DE539FA787FB}" type="pres">
      <dgm:prSet presAssocID="{F88E4DC2-CA13-4B80-969A-4974A9200917}" presName="hierChild5" presStyleCnt="0"/>
      <dgm:spPr/>
    </dgm:pt>
    <dgm:pt modelId="{E4DA51AB-49AF-4865-AD98-42357E2F732C}" type="pres">
      <dgm:prSet presAssocID="{26C32992-F761-47F9-A18B-11762E166CB6}" presName="hierChild3" presStyleCnt="0"/>
      <dgm:spPr/>
    </dgm:pt>
  </dgm:ptLst>
  <dgm:cxnLst>
    <dgm:cxn modelId="{92AFBEEE-3086-425F-81AE-A6EAA03407CB}" srcId="{26C32992-F761-47F9-A18B-11762E166CB6}" destId="{0D355F53-BA93-4E0A-8122-D3252318A437}" srcOrd="2" destOrd="0" parTransId="{7B7CCF29-F004-4C0A-8572-03EAD009B0F1}" sibTransId="{3D5AB2FF-BFA6-4E9E-A74C-CA796C1AB2C0}"/>
    <dgm:cxn modelId="{8A60A54A-2390-4319-88B3-A24845D187FD}" srcId="{316D6C8F-702B-4AD4-B959-EB2A218C8825}" destId="{2B35086D-EA2B-4401-8C4B-2BC00E39957F}" srcOrd="1" destOrd="0" parTransId="{8BAA7759-05FA-4CE3-A247-728A1FEAF1DE}" sibTransId="{BE2DE26A-4C62-49B1-8B76-B7B24E802175}"/>
    <dgm:cxn modelId="{32EA83D1-2001-4D11-BA72-7F4CDAD799A1}" type="presOf" srcId="{D4FC14B4-9B68-4480-BBF1-211D4F114E9F}" destId="{35A3FD15-A57D-4284-B5B9-D03C18251819}" srcOrd="0" destOrd="0" presId="urn:microsoft.com/office/officeart/2005/8/layout/orgChart1"/>
    <dgm:cxn modelId="{B2654DF2-A722-4440-8FA1-4BAB0C228632}" type="presOf" srcId="{9403FAF0-6941-4394-9378-3EF20829D7BA}" destId="{5B741184-C2C8-492E-A02B-0FD98A415087}" srcOrd="0" destOrd="0" presId="urn:microsoft.com/office/officeart/2005/8/layout/orgChart1"/>
    <dgm:cxn modelId="{A2227E34-E6CC-4327-BD09-1EA0A21701FB}" srcId="{F88E4DC2-CA13-4B80-969A-4974A9200917}" destId="{C6860E71-EEEC-4E9E-A6E8-8A37D235BF4B}" srcOrd="0" destOrd="0" parTransId="{DC595D63-434C-45B3-A5BA-4562CBB92189}" sibTransId="{DDBF630B-CCBC-49ED-87E2-63200CCF8DFE}"/>
    <dgm:cxn modelId="{457B7DF6-718F-4354-B1D8-C227F6489970}" type="presOf" srcId="{0D355F53-BA93-4E0A-8122-D3252318A437}" destId="{7E373C44-BC52-43CE-83C6-F6EE38D017AC}" srcOrd="1" destOrd="0" presId="urn:microsoft.com/office/officeart/2005/8/layout/orgChart1"/>
    <dgm:cxn modelId="{0ACBA330-FE77-42F1-ADB0-1579600D9414}" srcId="{A41ED6E9-F7C5-44D6-ABE6-BF8611978D78}" destId="{D470AF21-7A53-4921-BD1D-5732933C56E0}" srcOrd="0" destOrd="0" parTransId="{8F9EDCE4-9C32-4BCF-A64C-CAB0AD1EB279}" sibTransId="{4A35A7A0-201B-4732-A20B-73D8C5D9B16B}"/>
    <dgm:cxn modelId="{471236F5-7489-4240-B23C-D731937B1383}" type="presOf" srcId="{61D25C69-FEE9-480A-8CAB-E7E785099E49}" destId="{6A0D3BFB-150E-4998-B322-EF10CEC881E0}" srcOrd="1" destOrd="0" presId="urn:microsoft.com/office/officeart/2005/8/layout/orgChart1"/>
    <dgm:cxn modelId="{1AB6E926-60A5-4478-BAC6-3D5D1937718D}" type="presOf" srcId="{21A37BD5-C955-4957-8B13-CD8D14BD2DCE}" destId="{6DFB67CD-2305-4E6C-8B75-F970C608DF36}" srcOrd="0" destOrd="0" presId="urn:microsoft.com/office/officeart/2005/8/layout/orgChart1"/>
    <dgm:cxn modelId="{798BF125-AFAC-4A32-B2A2-86BD34DB2756}" type="presOf" srcId="{036A4D72-69E7-4FE1-A266-2397CD9FE7B6}" destId="{2355CCF8-BFFE-4B1F-8154-84A487F5ECC6}" srcOrd="0" destOrd="0" presId="urn:microsoft.com/office/officeart/2005/8/layout/orgChart1"/>
    <dgm:cxn modelId="{15A90C24-F603-411D-BEE6-686955E51490}" srcId="{94773A01-800B-4B16-9111-30D5786F4B43}" destId="{61D25C69-FEE9-480A-8CAB-E7E785099E49}" srcOrd="2" destOrd="0" parTransId="{F0749EB0-6EFE-4895-B347-3577F2E4797E}" sibTransId="{875E695C-18D3-4324-B19C-07CE24DBC3D6}"/>
    <dgm:cxn modelId="{DE211212-9802-470C-B46F-EB33CDB0D55F}" type="presOf" srcId="{47B19DCA-BC1E-411A-A4C0-B1A228CDD1D8}" destId="{2C4BAEB1-3D04-4260-A6BE-CAB3150E1EC9}" srcOrd="0" destOrd="0" presId="urn:microsoft.com/office/officeart/2005/8/layout/orgChart1"/>
    <dgm:cxn modelId="{554346B6-9E15-49F7-B1B1-0B080FC56079}" srcId="{0D355F53-BA93-4E0A-8122-D3252318A437}" destId="{E64A8062-572B-4299-B819-DB8E52E270F2}" srcOrd="2" destOrd="0" parTransId="{3DB69E9E-D8FB-408D-8E80-9F604CEC605A}" sibTransId="{D00590C1-6BE5-44F1-9CB7-EB137EFB097B}"/>
    <dgm:cxn modelId="{ED362CF0-BC70-4AAF-8EE6-2E8452B306F8}" srcId="{0D355F53-BA93-4E0A-8122-D3252318A437}" destId="{67F361EA-694A-4A4E-86D2-3F5DFA7FD50F}" srcOrd="1" destOrd="0" parTransId="{AAF6CBF2-DA53-48BD-970C-8FEDB4A90A61}" sibTransId="{8473997C-F917-4F48-A9F8-EB67F8ECDC2F}"/>
    <dgm:cxn modelId="{EF68E2B6-8627-45CC-AD37-D3FE9EC4CB7B}" srcId="{BE6D80D2-2A9F-48F2-B05F-21D5B03BCE36}" destId="{21A37BD5-C955-4957-8B13-CD8D14BD2DCE}" srcOrd="0" destOrd="0" parTransId="{A2294AAB-5AFA-4DCA-A8B1-F87DCAB2A9E1}" sibTransId="{408E1D12-3C0A-4DDC-B232-216FD630D71B}"/>
    <dgm:cxn modelId="{55230883-FD29-4102-AA52-D373D340E240}" srcId="{94773A01-800B-4B16-9111-30D5786F4B43}" destId="{18FF0065-5D01-4209-B63F-1B92FA2DEDFD}" srcOrd="0" destOrd="0" parTransId="{9403FAF0-6941-4394-9378-3EF20829D7BA}" sibTransId="{CE66CF75-EBE4-4A4D-B651-3654EE528375}"/>
    <dgm:cxn modelId="{55C95BFB-2C24-415E-AAB7-AEBAF9A4F73C}" srcId="{94773A01-800B-4B16-9111-30D5786F4B43}" destId="{79CF4F16-73CC-4671-A0BD-914C12E0213A}" srcOrd="1" destOrd="0" parTransId="{9DCBB300-DD3A-4B08-BA74-91B428670033}" sibTransId="{0DA5F21F-620A-467E-9C4B-93B955DC0879}"/>
    <dgm:cxn modelId="{E141B1D1-DEAD-4915-B1AC-17DECC5ACFE5}" type="presOf" srcId="{35112D36-0769-4A23-88CA-888B362D6FBD}" destId="{3D8D51E1-51A3-4069-849C-8E4AB02A1DE8}" srcOrd="0" destOrd="0" presId="urn:microsoft.com/office/officeart/2005/8/layout/orgChart1"/>
    <dgm:cxn modelId="{5AF41905-4CD8-4716-965E-EC984ABF113C}" type="presOf" srcId="{A41ED6E9-F7C5-44D6-ABE6-BF8611978D78}" destId="{7064CB10-A0AA-4FEC-B021-7F406E316889}" srcOrd="1" destOrd="0" presId="urn:microsoft.com/office/officeart/2005/8/layout/orgChart1"/>
    <dgm:cxn modelId="{3983A382-3FDA-4D72-A55F-46F42D1AF63A}" type="presOf" srcId="{9B58875B-7096-403D-B0CA-0AE50229E538}" destId="{4CA632B1-4D67-4BB3-BD57-CCA09E12BB7B}" srcOrd="1" destOrd="0" presId="urn:microsoft.com/office/officeart/2005/8/layout/orgChart1"/>
    <dgm:cxn modelId="{573AD270-94F5-47BC-9A49-97D18A4E6CE9}" srcId="{0D355F53-BA93-4E0A-8122-D3252318A437}" destId="{2C331397-15AF-4258-89E8-7F40D14554F7}" srcOrd="0" destOrd="0" parTransId="{BCBB4D0B-2AAD-4F6A-AA4C-6DF646A9CD93}" sibTransId="{DAFEB289-293D-454E-9B77-37F108CA46A7}"/>
    <dgm:cxn modelId="{A5380789-1581-462F-97A1-1257D691E452}" type="presOf" srcId="{BCBB4D0B-2AAD-4F6A-AA4C-6DF646A9CD93}" destId="{6CAD4867-65C4-45F4-A34E-4EC1EB8F246C}" srcOrd="0" destOrd="0" presId="urn:microsoft.com/office/officeart/2005/8/layout/orgChart1"/>
    <dgm:cxn modelId="{6CC87AA3-1DC8-428C-861B-AA6C00BF5EC6}" type="presOf" srcId="{F88E4DC2-CA13-4B80-969A-4974A9200917}" destId="{596A5E4B-940C-46F8-B4C0-D61F53BA3B7D}" srcOrd="0" destOrd="0" presId="urn:microsoft.com/office/officeart/2005/8/layout/orgChart1"/>
    <dgm:cxn modelId="{55CD5767-7C3A-410B-A71B-C2E27905C3C8}" type="presOf" srcId="{045906A5-2A51-4274-ACF5-6F5AC863B94D}" destId="{E96C58E9-083B-4B78-870A-D4292A404FD5}" srcOrd="0" destOrd="0" presId="urn:microsoft.com/office/officeart/2005/8/layout/orgChart1"/>
    <dgm:cxn modelId="{226FBAD5-CC05-48F9-9B7E-1ECEE4A8D254}" type="presOf" srcId="{18FF0065-5D01-4209-B63F-1B92FA2DEDFD}" destId="{DE02485E-6271-49C7-A238-A8E992A2B57A}" srcOrd="0" destOrd="0" presId="urn:microsoft.com/office/officeart/2005/8/layout/orgChart1"/>
    <dgm:cxn modelId="{9525E619-1F9E-4599-967E-8F654D95B28E}" srcId="{94773A01-800B-4B16-9111-30D5786F4B43}" destId="{CDB551A1-65DD-4231-A2B1-451174C59A57}" srcOrd="3" destOrd="0" parTransId="{AD6C1D60-8EE7-4D26-822C-D35265005830}" sibTransId="{751D37EF-7580-44FB-A6C4-ECBBFC0E8A19}"/>
    <dgm:cxn modelId="{16BDC491-0F92-4A1F-8B6F-87D7CF20EF5B}" type="presOf" srcId="{D4FC14B4-9B68-4480-BBF1-211D4F114E9F}" destId="{41006AAC-2DDC-488F-9F03-061AF70DF831}" srcOrd="1" destOrd="0" presId="urn:microsoft.com/office/officeart/2005/8/layout/orgChart1"/>
    <dgm:cxn modelId="{C6A9DC77-AD2B-4F8A-A197-4304C2102135}" srcId="{26C32992-F761-47F9-A18B-11762E166CB6}" destId="{94773A01-800B-4B16-9111-30D5786F4B43}" srcOrd="4" destOrd="0" parTransId="{5A538430-8847-47B5-BD07-22009DCE7CB8}" sibTransId="{5958A2D0-9C9E-4A89-9B34-A7485C8E4E96}"/>
    <dgm:cxn modelId="{2BFDFA15-B4B5-4D97-917F-8D8831448E40}" srcId="{26C32992-F761-47F9-A18B-11762E166CB6}" destId="{F88E4DC2-CA13-4B80-969A-4974A9200917}" srcOrd="5" destOrd="0" parTransId="{2064A4E1-8BA6-462A-AA07-ADE8A7D01D6C}" sibTransId="{A5A0EB83-209F-4630-9DC2-ED26305B001C}"/>
    <dgm:cxn modelId="{43F4037C-A1EE-4913-95B3-7EB3A6B638CA}" type="presOf" srcId="{0D355F53-BA93-4E0A-8122-D3252318A437}" destId="{7EE117EB-9E58-4A8E-92E6-716F948B7602}" srcOrd="0" destOrd="0" presId="urn:microsoft.com/office/officeart/2005/8/layout/orgChart1"/>
    <dgm:cxn modelId="{CE7B26BA-5D76-47F5-8EB9-101664E1AB50}" type="presOf" srcId="{21A37BD5-C955-4957-8B13-CD8D14BD2DCE}" destId="{67F8CF0C-0516-4679-916E-91D340AA9065}" srcOrd="1" destOrd="0" presId="urn:microsoft.com/office/officeart/2005/8/layout/orgChart1"/>
    <dgm:cxn modelId="{C6550913-B357-4865-A550-6102FAB5F289}" srcId="{26C32992-F761-47F9-A18B-11762E166CB6}" destId="{A41ED6E9-F7C5-44D6-ABE6-BF8611978D78}" srcOrd="0" destOrd="0" parTransId="{35112D36-0769-4A23-88CA-888B362D6FBD}" sibTransId="{98803AE7-53C6-47E2-A00C-77BFAF70EC09}"/>
    <dgm:cxn modelId="{14877716-47B3-4D06-8929-51A729BC7D78}" type="presOf" srcId="{7187F465-D09F-474E-AC4C-EBB9B1AC1CFC}" destId="{A62D72EA-04BF-4A2B-B8AC-90E15BA28429}" srcOrd="1" destOrd="0" presId="urn:microsoft.com/office/officeart/2005/8/layout/orgChart1"/>
    <dgm:cxn modelId="{09C5C125-83CA-4E3F-9CD4-281635BF841F}" type="presOf" srcId="{61D25C69-FEE9-480A-8CAB-E7E785099E49}" destId="{F471BFF5-3FD9-4FDB-B83A-7DBB7C7047EC}" srcOrd="0" destOrd="0" presId="urn:microsoft.com/office/officeart/2005/8/layout/orgChart1"/>
    <dgm:cxn modelId="{3E0D55EA-4669-4E04-BC41-6F059D91F2B2}" type="presOf" srcId="{9C3B9765-9F8F-4566-80B8-483952119BE0}" destId="{AA6B85B5-9889-4AF8-B73C-217AD2782CA5}" srcOrd="0" destOrd="0" presId="urn:microsoft.com/office/officeart/2005/8/layout/orgChart1"/>
    <dgm:cxn modelId="{8C479877-4859-40F2-BFA1-8C86F9CBF668}" srcId="{26C32992-F761-47F9-A18B-11762E166CB6}" destId="{316D6C8F-702B-4AD4-B959-EB2A218C8825}" srcOrd="1" destOrd="0" parTransId="{2E31FB08-03CE-4260-8A48-ED20DD38484C}" sibTransId="{76B90191-B78C-4B66-A377-4CB355F800D5}"/>
    <dgm:cxn modelId="{37821EF1-7C24-4463-A79B-2921FEDEC6BB}" type="presOf" srcId="{E64A8062-572B-4299-B819-DB8E52E270F2}" destId="{07E74FA3-C690-4AFD-9A7C-33F452E917E5}" srcOrd="0" destOrd="0" presId="urn:microsoft.com/office/officeart/2005/8/layout/orgChart1"/>
    <dgm:cxn modelId="{966C01EA-A8C5-4EF6-933C-9584C5B816FF}" type="presOf" srcId="{7187F465-D09F-474E-AC4C-EBB9B1AC1CFC}" destId="{74EDF51A-6954-4D7B-A87C-BD5FDD50D626}" srcOrd="0" destOrd="0" presId="urn:microsoft.com/office/officeart/2005/8/layout/orgChart1"/>
    <dgm:cxn modelId="{DD3D28D9-7E14-4606-94FD-8BBF99E15080}" type="presOf" srcId="{AAF6CBF2-DA53-48BD-970C-8FEDB4A90A61}" destId="{3BFF305B-B2F9-495B-AE21-90DB5CE22BF9}" srcOrd="0" destOrd="0" presId="urn:microsoft.com/office/officeart/2005/8/layout/orgChart1"/>
    <dgm:cxn modelId="{70B8BCBF-92D3-4397-A6AB-0EAF47374EC9}" type="presOf" srcId="{67F361EA-694A-4A4E-86D2-3F5DFA7FD50F}" destId="{D8792466-6E6A-499F-856A-28BF86C93D93}" srcOrd="0" destOrd="0" presId="urn:microsoft.com/office/officeart/2005/8/layout/orgChart1"/>
    <dgm:cxn modelId="{A979748F-FBF4-4A13-B4E1-1E9504542876}" type="presOf" srcId="{FF0F6E85-1987-4AE2-B2C2-AD0EF922DA1E}" destId="{9F1256FE-1E10-43C0-AFD3-415FE55B7650}" srcOrd="0" destOrd="0" presId="urn:microsoft.com/office/officeart/2005/8/layout/orgChart1"/>
    <dgm:cxn modelId="{BB85EC65-D132-4A15-B73D-80B53CDEE0FB}" type="presOf" srcId="{61FA426D-BBFC-4520-8478-1EADAA2C08A2}" destId="{3DA1961A-3B6C-415D-8F48-AF9C5CAAA84E}" srcOrd="0" destOrd="0" presId="urn:microsoft.com/office/officeart/2005/8/layout/orgChart1"/>
    <dgm:cxn modelId="{54944CBE-2E17-4735-AE4C-77CEF2022A79}" type="presOf" srcId="{6F15A9E7-9AA0-43CF-8DFC-58E4D01CA199}" destId="{66482A96-BE26-4597-BB50-0DADA1DAA3CF}" srcOrd="0" destOrd="0" presId="urn:microsoft.com/office/officeart/2005/8/layout/orgChart1"/>
    <dgm:cxn modelId="{F3F41EC9-D824-4171-BC99-40C46E2199E2}" type="presOf" srcId="{C6860E71-EEEC-4E9E-A6E8-8A37D235BF4B}" destId="{72251CAB-35A9-43AB-9AB7-65A23C2B5696}" srcOrd="0" destOrd="0" presId="urn:microsoft.com/office/officeart/2005/8/layout/orgChart1"/>
    <dgm:cxn modelId="{3395A9E1-F58E-4653-A530-605BED156968}" type="presOf" srcId="{BE6D80D2-2A9F-48F2-B05F-21D5B03BCE36}" destId="{D812FCAD-2B22-4FE9-850E-C7DE0BCF4C21}" srcOrd="0" destOrd="0" presId="urn:microsoft.com/office/officeart/2005/8/layout/orgChart1"/>
    <dgm:cxn modelId="{A7A2B4C5-CEE8-4BC5-AD7F-B2CC8E56D300}" type="presOf" srcId="{26C32992-F761-47F9-A18B-11762E166CB6}" destId="{4A228C20-4097-4AF9-B973-6A3A67E70667}" srcOrd="1" destOrd="0" presId="urn:microsoft.com/office/officeart/2005/8/layout/orgChart1"/>
    <dgm:cxn modelId="{82BEF88F-7CDB-453C-97D3-F330D1B05C0E}" srcId="{A41ED6E9-F7C5-44D6-ABE6-BF8611978D78}" destId="{FF0F6E85-1987-4AE2-B2C2-AD0EF922DA1E}" srcOrd="3" destOrd="0" parTransId="{A9884C84-0A08-4ECB-BD06-479AF182FFA7}" sibTransId="{98757114-1053-4F51-AF3F-4047A4D93FD9}"/>
    <dgm:cxn modelId="{76B63728-6FA8-48D2-8EF4-DA9948885DF7}" srcId="{BFEA903F-BB38-4467-9F2D-E4B34B0E9BDD}" destId="{26C32992-F761-47F9-A18B-11762E166CB6}" srcOrd="0" destOrd="0" parTransId="{CAD318F4-4388-43AA-84CD-34161012129B}" sibTransId="{02382AAA-C329-412C-98B9-D9D091A33E86}"/>
    <dgm:cxn modelId="{3B479035-EDBF-48F9-A521-5AE9D65573FE}" type="presOf" srcId="{79CF4F16-73CC-4671-A0BD-914C12E0213A}" destId="{CADED5FE-34B7-4D0F-BE4B-32D233AFD38C}" srcOrd="1" destOrd="0" presId="urn:microsoft.com/office/officeart/2005/8/layout/orgChart1"/>
    <dgm:cxn modelId="{499397D0-94A7-460E-81D8-CEF00153D96F}" srcId="{A41ED6E9-F7C5-44D6-ABE6-BF8611978D78}" destId="{47B19DCA-BC1E-411A-A4C0-B1A228CDD1D8}" srcOrd="2" destOrd="0" parTransId="{61FA426D-BBFC-4520-8478-1EADAA2C08A2}" sibTransId="{190A1C27-538C-4087-B83C-199AA37E4B97}"/>
    <dgm:cxn modelId="{D404FEAF-CE26-4928-AA2D-F247D0BB3BAE}" type="presOf" srcId="{26C32992-F761-47F9-A18B-11762E166CB6}" destId="{0A3DEF74-8EDB-49A2-8245-9639132E9752}" srcOrd="0" destOrd="0" presId="urn:microsoft.com/office/officeart/2005/8/layout/orgChart1"/>
    <dgm:cxn modelId="{AD4A3BD3-50EE-42CC-A5AE-0F791636D80A}" type="presOf" srcId="{67F361EA-694A-4A4E-86D2-3F5DFA7FD50F}" destId="{2A895502-4DB0-48D0-8C80-AC5000CB3825}" srcOrd="1" destOrd="0" presId="urn:microsoft.com/office/officeart/2005/8/layout/orgChart1"/>
    <dgm:cxn modelId="{271A2C1C-DF6D-41F5-9FCF-59ABD5EB4337}" srcId="{316D6C8F-702B-4AD4-B959-EB2A218C8825}" destId="{9B58875B-7096-403D-B0CA-0AE50229E538}" srcOrd="0" destOrd="0" parTransId="{18B7F365-0C88-4E79-97AF-6EC766F606E1}" sibTransId="{4C45C830-D4AA-4F1A-8228-97EAB7B98C91}"/>
    <dgm:cxn modelId="{FCA2A243-2BAC-403C-A901-865112D34D2F}" type="presOf" srcId="{316D6C8F-702B-4AD4-B959-EB2A218C8825}" destId="{92E80756-DF15-4A24-B10E-35A7969653C3}" srcOrd="1" destOrd="0" presId="urn:microsoft.com/office/officeart/2005/8/layout/orgChart1"/>
    <dgm:cxn modelId="{5B093A0F-6078-419C-8A38-CF7F10E98D1E}" type="presOf" srcId="{D470AF21-7A53-4921-BD1D-5732933C56E0}" destId="{275F39F9-8048-47FD-A6F6-31135650FC4D}" srcOrd="1" destOrd="0" presId="urn:microsoft.com/office/officeart/2005/8/layout/orgChart1"/>
    <dgm:cxn modelId="{E35338E7-E24E-45F6-8E49-EDBB0D3FCCAB}" type="presOf" srcId="{2C331397-15AF-4258-89E8-7F40D14554F7}" destId="{8DD96D41-61E0-4E18-81CD-B5A179B93F21}" srcOrd="1" destOrd="0" presId="urn:microsoft.com/office/officeart/2005/8/layout/orgChart1"/>
    <dgm:cxn modelId="{ADC15C0A-3C2C-4631-92B3-CE3303B7320E}" srcId="{BE6D80D2-2A9F-48F2-B05F-21D5B03BCE36}" destId="{7187F465-D09F-474E-AC4C-EBB9B1AC1CFC}" srcOrd="1" destOrd="0" parTransId="{045906A5-2A51-4274-ACF5-6F5AC863B94D}" sibTransId="{CF68A57F-969B-4CEB-A3FE-6CDE5C9742F2}"/>
    <dgm:cxn modelId="{DA771065-E922-48FC-881A-BF458C5CFB4B}" type="presOf" srcId="{3AEB36FE-FB06-4687-80D0-2089E3B6FEC4}" destId="{EE25668F-29BC-453D-AC46-D9BC2E13C4C9}" srcOrd="0" destOrd="0" presId="urn:microsoft.com/office/officeart/2005/8/layout/orgChart1"/>
    <dgm:cxn modelId="{1D8FA18D-A0C4-4FEE-A316-5F8FF3E3F837}" type="presOf" srcId="{2E31FB08-03CE-4260-8A48-ED20DD38484C}" destId="{DEB66EF0-2FD6-42C8-BBAF-516EADBD6357}" srcOrd="0" destOrd="0" presId="urn:microsoft.com/office/officeart/2005/8/layout/orgChart1"/>
    <dgm:cxn modelId="{F6AAB2BF-8ACC-4EB8-B2C7-94E861BE7CF9}" srcId="{26C32992-F761-47F9-A18B-11762E166CB6}" destId="{BE6D80D2-2A9F-48F2-B05F-21D5B03BCE36}" srcOrd="3" destOrd="0" parTransId="{B57E275B-B8BB-4B99-BB0A-84EC30F5EC93}" sibTransId="{1267C972-DA48-4C96-B51A-C203A26DCC90}"/>
    <dgm:cxn modelId="{8FCAC5BD-5ACA-4C4A-827F-FFCF55622EB4}" type="presOf" srcId="{9B58875B-7096-403D-B0CA-0AE50229E538}" destId="{9D7A222D-2FDC-4FEF-B548-9BDA4FA86C18}" srcOrd="0" destOrd="0" presId="urn:microsoft.com/office/officeart/2005/8/layout/orgChart1"/>
    <dgm:cxn modelId="{78EA753B-4D00-45B1-A04F-B7A526A1FAEB}" type="presOf" srcId="{5A538430-8847-47B5-BD07-22009DCE7CB8}" destId="{6E8CA10F-68AC-4B7B-BE20-52ADB7D943F7}" srcOrd="0" destOrd="0" presId="urn:microsoft.com/office/officeart/2005/8/layout/orgChart1"/>
    <dgm:cxn modelId="{9E318A7E-D53E-4C9F-81D7-3B6B90F3D732}" type="presOf" srcId="{7B7CCF29-F004-4C0A-8572-03EAD009B0F1}" destId="{935ADAE1-773E-4CA3-8B89-5B77ABC065C1}" srcOrd="0" destOrd="0" presId="urn:microsoft.com/office/officeart/2005/8/layout/orgChart1"/>
    <dgm:cxn modelId="{B30C36F1-0CFB-46DE-B2FD-BABCAEBA0C7D}" type="presOf" srcId="{CDB551A1-65DD-4231-A2B1-451174C59A57}" destId="{CB73E335-CDE3-4918-89D0-39379D6147A5}" srcOrd="1" destOrd="0" presId="urn:microsoft.com/office/officeart/2005/8/layout/orgChart1"/>
    <dgm:cxn modelId="{0C0DB846-EEB2-48AC-9CA9-E25262890855}" type="presOf" srcId="{9DCBB300-DD3A-4B08-BA74-91B428670033}" destId="{2D674AC9-2523-401A-B914-F97DFDB25117}" srcOrd="0" destOrd="0" presId="urn:microsoft.com/office/officeart/2005/8/layout/orgChart1"/>
    <dgm:cxn modelId="{F1242FE7-73F0-47B2-BC61-47A9D32E9E43}" type="presOf" srcId="{F0749EB0-6EFE-4895-B347-3577F2E4797E}" destId="{A24C0226-953F-462B-8355-FA959E833CB9}" srcOrd="0" destOrd="0" presId="urn:microsoft.com/office/officeart/2005/8/layout/orgChart1"/>
    <dgm:cxn modelId="{ED85B605-AEA4-4431-AB9D-9D48E46C0B17}" type="presOf" srcId="{AD6C1D60-8EE7-4D26-822C-D35265005830}" destId="{25392117-B3FD-4660-9D33-5523DBC83C63}" srcOrd="0" destOrd="0" presId="urn:microsoft.com/office/officeart/2005/8/layout/orgChart1"/>
    <dgm:cxn modelId="{E9DF5EA7-B86F-4972-8DF2-4F4E370E4747}" type="presOf" srcId="{18B7F365-0C88-4E79-97AF-6EC766F606E1}" destId="{F202F084-0215-475A-9B53-5C352D6F8056}" srcOrd="0" destOrd="0" presId="urn:microsoft.com/office/officeart/2005/8/layout/orgChart1"/>
    <dgm:cxn modelId="{715C1AB3-385C-4A9C-99CE-400CECC38D70}" type="presOf" srcId="{2B35086D-EA2B-4401-8C4B-2BC00E39957F}" destId="{A2F4C87D-68C8-439B-9275-8ED5FBD0CFD3}" srcOrd="1" destOrd="0" presId="urn:microsoft.com/office/officeart/2005/8/layout/orgChart1"/>
    <dgm:cxn modelId="{FA1E72AA-884F-4C75-8D81-F5A05EDF2F65}" type="presOf" srcId="{A2294AAB-5AFA-4DCA-A8B1-F87DCAB2A9E1}" destId="{43CA35DA-0BDB-43A8-9DEF-61B829894584}" srcOrd="0" destOrd="0" presId="urn:microsoft.com/office/officeart/2005/8/layout/orgChart1"/>
    <dgm:cxn modelId="{096E4B1F-78D7-40AF-AC59-FDD8371D2BAA}" type="presOf" srcId="{A41ED6E9-F7C5-44D6-ABE6-BF8611978D78}" destId="{BEADB2A7-8663-4F55-AB82-719407978B53}" srcOrd="0" destOrd="0" presId="urn:microsoft.com/office/officeart/2005/8/layout/orgChart1"/>
    <dgm:cxn modelId="{6B41402E-502B-4720-8DCF-3C0F9D9B2B85}" type="presOf" srcId="{E64A8062-572B-4299-B819-DB8E52E270F2}" destId="{22884BCF-05B6-48F4-9BBD-977CB9B69961}" srcOrd="1" destOrd="0" presId="urn:microsoft.com/office/officeart/2005/8/layout/orgChart1"/>
    <dgm:cxn modelId="{4665F15C-C5CD-42E8-8AF5-70F1AB6926CC}" type="presOf" srcId="{DC595D63-434C-45B3-A5BA-4562CBB92189}" destId="{868CCBF5-068A-4DBC-B685-85321A2C4011}" srcOrd="0" destOrd="0" presId="urn:microsoft.com/office/officeart/2005/8/layout/orgChart1"/>
    <dgm:cxn modelId="{359B5910-A984-49D8-81FA-F708B6162C07}" srcId="{316D6C8F-702B-4AD4-B959-EB2A218C8825}" destId="{6F15A9E7-9AA0-43CF-8DFC-58E4D01CA199}" srcOrd="2" destOrd="0" parTransId="{3AEB36FE-FB06-4687-80D0-2089E3B6FEC4}" sibTransId="{9137CD3C-0AB9-41CA-8EF4-BB4FC3858F5A}"/>
    <dgm:cxn modelId="{B64D1E87-6185-4852-99EF-59BD3719FE2E}" type="presOf" srcId="{3DB69E9E-D8FB-408D-8E80-9F604CEC605A}" destId="{B4416062-4515-451E-B254-68DCF1C94340}" srcOrd="0" destOrd="0" presId="urn:microsoft.com/office/officeart/2005/8/layout/orgChart1"/>
    <dgm:cxn modelId="{B1F76BA0-555E-49DC-BDCD-660A788B97D2}" type="presOf" srcId="{6F15A9E7-9AA0-43CF-8DFC-58E4D01CA199}" destId="{0B1E2A42-61BD-4CFB-AC1A-DA2E22092583}" srcOrd="1" destOrd="0" presId="urn:microsoft.com/office/officeart/2005/8/layout/orgChart1"/>
    <dgm:cxn modelId="{60A29211-1E07-4DD3-9E0E-46BF91DC15CD}" type="presOf" srcId="{B57E275B-B8BB-4B99-BB0A-84EC30F5EC93}" destId="{FD06118A-6113-4335-BF95-4EB6C75B72C8}" srcOrd="0" destOrd="0" presId="urn:microsoft.com/office/officeart/2005/8/layout/orgChart1"/>
    <dgm:cxn modelId="{369DC409-0040-4267-B96D-E85A598F8818}" type="presOf" srcId="{F88E4DC2-CA13-4B80-969A-4974A9200917}" destId="{6F7AA7E7-32DF-48A1-A5E5-EC3E8D541436}" srcOrd="1" destOrd="0" presId="urn:microsoft.com/office/officeart/2005/8/layout/orgChart1"/>
    <dgm:cxn modelId="{C2248D6E-B32E-4175-ACC5-752789830964}" type="presOf" srcId="{CDB551A1-65DD-4231-A2B1-451174C59A57}" destId="{508FF30B-FABB-471E-BF05-57B92932901B}" srcOrd="0" destOrd="0" presId="urn:microsoft.com/office/officeart/2005/8/layout/orgChart1"/>
    <dgm:cxn modelId="{1789D34C-F0B5-49BD-B60E-630674BE22B3}" type="presOf" srcId="{8F9EDCE4-9C32-4BCF-A64C-CAB0AD1EB279}" destId="{2F062CA7-BBA9-44E5-BF7D-B3D8ECA0C05B}" srcOrd="0" destOrd="0" presId="urn:microsoft.com/office/officeart/2005/8/layout/orgChart1"/>
    <dgm:cxn modelId="{0DEE67E9-14CB-4A6F-83FF-843120F121A0}" type="presOf" srcId="{68AEEBEB-3792-4A1E-B1A8-BC5FCE7A8D9D}" destId="{EB820781-8F46-4B52-8AAE-BD798A3C31DF}" srcOrd="0" destOrd="0" presId="urn:microsoft.com/office/officeart/2005/8/layout/orgChart1"/>
    <dgm:cxn modelId="{ED6BD224-397D-41F1-83DD-21D5613DECA3}" type="presOf" srcId="{94773A01-800B-4B16-9111-30D5786F4B43}" destId="{AA097165-DBDE-49B9-A8AB-FB9472D3FA4B}" srcOrd="1" destOrd="0" presId="urn:microsoft.com/office/officeart/2005/8/layout/orgChart1"/>
    <dgm:cxn modelId="{ED25617F-16CD-4182-B137-3337A7D72638}" type="presOf" srcId="{8BAA7759-05FA-4CE3-A247-728A1FEAF1DE}" destId="{7FF96B27-7EDF-4EAD-B4CD-87938A7F1BFB}" srcOrd="0" destOrd="0" presId="urn:microsoft.com/office/officeart/2005/8/layout/orgChart1"/>
    <dgm:cxn modelId="{B690F826-C8E1-4526-99A8-5185531EC626}" type="presOf" srcId="{18FF0065-5D01-4209-B63F-1B92FA2DEDFD}" destId="{BA6F8146-484A-426E-A2D7-B0001230C577}" srcOrd="1" destOrd="0" presId="urn:microsoft.com/office/officeart/2005/8/layout/orgChart1"/>
    <dgm:cxn modelId="{5ACAFFF8-478F-41CC-9351-23347071FE14}" type="presOf" srcId="{94773A01-800B-4B16-9111-30D5786F4B43}" destId="{BCD13545-5F62-4D3F-B379-0FC1760E3BC6}" srcOrd="0" destOrd="0" presId="urn:microsoft.com/office/officeart/2005/8/layout/orgChart1"/>
    <dgm:cxn modelId="{A019EC7D-21A6-4F32-80A7-11616EA53367}" type="presOf" srcId="{2064A4E1-8BA6-462A-AA07-ADE8A7D01D6C}" destId="{3EA843D1-6F40-46E7-859D-09DB88BC8805}" srcOrd="0" destOrd="0" presId="urn:microsoft.com/office/officeart/2005/8/layout/orgChart1"/>
    <dgm:cxn modelId="{111E0184-06D9-4C1D-A815-8B490ABED2DE}" srcId="{F88E4DC2-CA13-4B80-969A-4974A9200917}" destId="{9C3B9765-9F8F-4566-80B8-483952119BE0}" srcOrd="1" destOrd="0" parTransId="{68AEEBEB-3792-4A1E-B1A8-BC5FCE7A8D9D}" sibTransId="{A2CE6069-44EF-4484-B86B-4348112C3DD1}"/>
    <dgm:cxn modelId="{6DD1501F-7DF7-4BE2-B718-6E1EE1D9D528}" type="presOf" srcId="{2B35086D-EA2B-4401-8C4B-2BC00E39957F}" destId="{FB7A0C57-D967-49CE-ADA0-0146F4C2DAF3}" srcOrd="0" destOrd="0" presId="urn:microsoft.com/office/officeart/2005/8/layout/orgChart1"/>
    <dgm:cxn modelId="{302F1B8B-0C4B-4523-9B46-407CA824109B}" type="presOf" srcId="{BE6D80D2-2A9F-48F2-B05F-21D5B03BCE36}" destId="{D8FB0967-D52B-4B73-998C-0CC097EFC414}" srcOrd="1" destOrd="0" presId="urn:microsoft.com/office/officeart/2005/8/layout/orgChart1"/>
    <dgm:cxn modelId="{05664A9A-5F5A-45D7-923E-107E85E61BF0}" type="presOf" srcId="{316D6C8F-702B-4AD4-B959-EB2A218C8825}" destId="{0F65B809-A3C6-4C9C-A2D9-0FA8C2B91456}" srcOrd="0" destOrd="0" presId="urn:microsoft.com/office/officeart/2005/8/layout/orgChart1"/>
    <dgm:cxn modelId="{DBD1D741-840A-4758-ACD1-BC4C84F27DEE}" type="presOf" srcId="{2C331397-15AF-4258-89E8-7F40D14554F7}" destId="{9BA80A06-1269-49BE-B629-CD095ED9C7EE}" srcOrd="0" destOrd="0" presId="urn:microsoft.com/office/officeart/2005/8/layout/orgChart1"/>
    <dgm:cxn modelId="{ACB72F8B-D380-4395-9F17-FEFC8E219175}" type="presOf" srcId="{79CF4F16-73CC-4671-A0BD-914C12E0213A}" destId="{9586F13D-1A4E-46D3-B35E-126DCD6DC383}" srcOrd="0" destOrd="0" presId="urn:microsoft.com/office/officeart/2005/8/layout/orgChart1"/>
    <dgm:cxn modelId="{A76801D3-79BB-4449-8D12-F61B890347D3}" type="presOf" srcId="{47B19DCA-BC1E-411A-A4C0-B1A228CDD1D8}" destId="{590B2196-273D-4DE7-AA8E-2CFC5DFBBE58}" srcOrd="1" destOrd="0" presId="urn:microsoft.com/office/officeart/2005/8/layout/orgChart1"/>
    <dgm:cxn modelId="{BFEC1E55-88E9-4112-8DE6-3C298883C3AA}" type="presOf" srcId="{FF0F6E85-1987-4AE2-B2C2-AD0EF922DA1E}" destId="{55A77265-9D92-4264-91A0-1E34C7974DE0}" srcOrd="1" destOrd="0" presId="urn:microsoft.com/office/officeart/2005/8/layout/orgChart1"/>
    <dgm:cxn modelId="{219EEEF0-813F-4EDF-8F05-7BDEA0DFC71D}" type="presOf" srcId="{BFEA903F-BB38-4467-9F2D-E4B34B0E9BDD}" destId="{F8E294F7-912E-453A-8075-34D53286471F}" srcOrd="0" destOrd="0" presId="urn:microsoft.com/office/officeart/2005/8/layout/orgChart1"/>
    <dgm:cxn modelId="{963207DA-3C6B-44A8-B032-77C469303B8B}" type="presOf" srcId="{A9884C84-0A08-4ECB-BD06-479AF182FFA7}" destId="{9A90013D-1273-4EA6-8992-5BDCEAD84156}" srcOrd="0" destOrd="0" presId="urn:microsoft.com/office/officeart/2005/8/layout/orgChart1"/>
    <dgm:cxn modelId="{F7EAE077-3C7D-4A70-B327-AD036B0D7040}" type="presOf" srcId="{9C3B9765-9F8F-4566-80B8-483952119BE0}" destId="{455E4813-0DCB-499A-B8A6-4F8862F9A643}" srcOrd="1" destOrd="0" presId="urn:microsoft.com/office/officeart/2005/8/layout/orgChart1"/>
    <dgm:cxn modelId="{306CEC78-4617-459C-9475-1D03CB7C00B2}" type="presOf" srcId="{D470AF21-7A53-4921-BD1D-5732933C56E0}" destId="{8F296E2A-38DE-4E64-9CAB-95A65F3C71CE}" srcOrd="0" destOrd="0" presId="urn:microsoft.com/office/officeart/2005/8/layout/orgChart1"/>
    <dgm:cxn modelId="{1583B3D3-C9E0-4562-A1AC-F39B1B1C07B9}" type="presOf" srcId="{C6860E71-EEEC-4E9E-A6E8-8A37D235BF4B}" destId="{81290789-2B08-4C35-934E-2FFB2F0B3B2D}" srcOrd="1" destOrd="0" presId="urn:microsoft.com/office/officeart/2005/8/layout/orgChart1"/>
    <dgm:cxn modelId="{446AF0F0-34B6-4D53-BBF1-4839B0650627}" srcId="{A41ED6E9-F7C5-44D6-ABE6-BF8611978D78}" destId="{D4FC14B4-9B68-4480-BBF1-211D4F114E9F}" srcOrd="1" destOrd="0" parTransId="{036A4D72-69E7-4FE1-A266-2397CD9FE7B6}" sibTransId="{453B54A6-87EF-4CCB-9EF9-2EE46333F2BE}"/>
    <dgm:cxn modelId="{CA1301A4-E8F5-4DA2-9C21-FFF89453C8B3}" type="presParOf" srcId="{F8E294F7-912E-453A-8075-34D53286471F}" destId="{42DAB1D0-2747-4D61-B3EB-F1AABCAF2505}" srcOrd="0" destOrd="0" presId="urn:microsoft.com/office/officeart/2005/8/layout/orgChart1"/>
    <dgm:cxn modelId="{4DE0957B-D462-42BA-9C2A-6FECDC624173}" type="presParOf" srcId="{42DAB1D0-2747-4D61-B3EB-F1AABCAF2505}" destId="{A729C98E-5918-483C-9F03-5349C11B846E}" srcOrd="0" destOrd="0" presId="urn:microsoft.com/office/officeart/2005/8/layout/orgChart1"/>
    <dgm:cxn modelId="{972300E9-27E9-4261-A203-26B632CBC23F}" type="presParOf" srcId="{A729C98E-5918-483C-9F03-5349C11B846E}" destId="{0A3DEF74-8EDB-49A2-8245-9639132E9752}" srcOrd="0" destOrd="0" presId="urn:microsoft.com/office/officeart/2005/8/layout/orgChart1"/>
    <dgm:cxn modelId="{245035A4-1A5E-4B6E-B28B-71B382ECA5EB}" type="presParOf" srcId="{A729C98E-5918-483C-9F03-5349C11B846E}" destId="{4A228C20-4097-4AF9-B973-6A3A67E70667}" srcOrd="1" destOrd="0" presId="urn:microsoft.com/office/officeart/2005/8/layout/orgChart1"/>
    <dgm:cxn modelId="{ACECAE92-F67A-4B7E-BBD0-C3E5E86D59AC}" type="presParOf" srcId="{42DAB1D0-2747-4D61-B3EB-F1AABCAF2505}" destId="{6989CADF-1369-4D09-8907-EECB490C5155}" srcOrd="1" destOrd="0" presId="urn:microsoft.com/office/officeart/2005/8/layout/orgChart1"/>
    <dgm:cxn modelId="{5E407B3D-FBFC-4427-9C39-F7FB5BBE04E3}" type="presParOf" srcId="{6989CADF-1369-4D09-8907-EECB490C5155}" destId="{3D8D51E1-51A3-4069-849C-8E4AB02A1DE8}" srcOrd="0" destOrd="0" presId="urn:microsoft.com/office/officeart/2005/8/layout/orgChart1"/>
    <dgm:cxn modelId="{1C20F728-C480-45BB-BF15-7C9728AC93B5}" type="presParOf" srcId="{6989CADF-1369-4D09-8907-EECB490C5155}" destId="{8828FD50-645D-4A91-8C02-1A545FA5CA71}" srcOrd="1" destOrd="0" presId="urn:microsoft.com/office/officeart/2005/8/layout/orgChart1"/>
    <dgm:cxn modelId="{6897FD9A-C481-4A62-8D0C-27FAF99CF87E}" type="presParOf" srcId="{8828FD50-645D-4A91-8C02-1A545FA5CA71}" destId="{63B81BAF-4E22-4D72-A45D-30E3941D5F65}" srcOrd="0" destOrd="0" presId="urn:microsoft.com/office/officeart/2005/8/layout/orgChart1"/>
    <dgm:cxn modelId="{443CF968-1E51-4A70-9C05-107DE8BC5C9D}" type="presParOf" srcId="{63B81BAF-4E22-4D72-A45D-30E3941D5F65}" destId="{BEADB2A7-8663-4F55-AB82-719407978B53}" srcOrd="0" destOrd="0" presId="urn:microsoft.com/office/officeart/2005/8/layout/orgChart1"/>
    <dgm:cxn modelId="{45376E22-193E-4925-9A1F-C7C6BD2427F4}" type="presParOf" srcId="{63B81BAF-4E22-4D72-A45D-30E3941D5F65}" destId="{7064CB10-A0AA-4FEC-B021-7F406E316889}" srcOrd="1" destOrd="0" presId="urn:microsoft.com/office/officeart/2005/8/layout/orgChart1"/>
    <dgm:cxn modelId="{E3E4955F-D3F4-4D4C-9E78-CACC82CB5C08}" type="presParOf" srcId="{8828FD50-645D-4A91-8C02-1A545FA5CA71}" destId="{655AEF4D-D74B-45E0-A55A-183379B59F8A}" srcOrd="1" destOrd="0" presId="urn:microsoft.com/office/officeart/2005/8/layout/orgChart1"/>
    <dgm:cxn modelId="{5ED437EF-E4A9-4782-9218-2BD08E61AEA7}" type="presParOf" srcId="{655AEF4D-D74B-45E0-A55A-183379B59F8A}" destId="{2F062CA7-BBA9-44E5-BF7D-B3D8ECA0C05B}" srcOrd="0" destOrd="0" presId="urn:microsoft.com/office/officeart/2005/8/layout/orgChart1"/>
    <dgm:cxn modelId="{74100983-39EC-4A33-8A53-4D4FA3B73575}" type="presParOf" srcId="{655AEF4D-D74B-45E0-A55A-183379B59F8A}" destId="{5150C9B6-AEDF-42B3-9BF4-B45556EB609E}" srcOrd="1" destOrd="0" presId="urn:microsoft.com/office/officeart/2005/8/layout/orgChart1"/>
    <dgm:cxn modelId="{FA8EADC6-8540-4FA5-B7C3-C9D262D2B4AA}" type="presParOf" srcId="{5150C9B6-AEDF-42B3-9BF4-B45556EB609E}" destId="{A114C64F-FB67-4224-908C-8401DFA4FFF0}" srcOrd="0" destOrd="0" presId="urn:microsoft.com/office/officeart/2005/8/layout/orgChart1"/>
    <dgm:cxn modelId="{ACEA684A-3C2C-4EBE-85B2-19C62A136E0F}" type="presParOf" srcId="{A114C64F-FB67-4224-908C-8401DFA4FFF0}" destId="{8F296E2A-38DE-4E64-9CAB-95A65F3C71CE}" srcOrd="0" destOrd="0" presId="urn:microsoft.com/office/officeart/2005/8/layout/orgChart1"/>
    <dgm:cxn modelId="{B1A77F70-C873-4982-B66E-EBC6AF0BA17E}" type="presParOf" srcId="{A114C64F-FB67-4224-908C-8401DFA4FFF0}" destId="{275F39F9-8048-47FD-A6F6-31135650FC4D}" srcOrd="1" destOrd="0" presId="urn:microsoft.com/office/officeart/2005/8/layout/orgChart1"/>
    <dgm:cxn modelId="{7CE2416E-B37B-4C0B-A228-A27759FB4F1D}" type="presParOf" srcId="{5150C9B6-AEDF-42B3-9BF4-B45556EB609E}" destId="{EB619CB3-F6C9-4D54-92BB-702395A3D63D}" srcOrd="1" destOrd="0" presId="urn:microsoft.com/office/officeart/2005/8/layout/orgChart1"/>
    <dgm:cxn modelId="{1A0A5350-3BDD-41ED-BD2D-E0E8DCA15D31}" type="presParOf" srcId="{5150C9B6-AEDF-42B3-9BF4-B45556EB609E}" destId="{B42237A1-4CCF-40D5-AFAC-F76DA3A6104B}" srcOrd="2" destOrd="0" presId="urn:microsoft.com/office/officeart/2005/8/layout/orgChart1"/>
    <dgm:cxn modelId="{08032F4F-8B2E-4081-9843-0A3AE393ABFC}" type="presParOf" srcId="{655AEF4D-D74B-45E0-A55A-183379B59F8A}" destId="{2355CCF8-BFFE-4B1F-8154-84A487F5ECC6}" srcOrd="2" destOrd="0" presId="urn:microsoft.com/office/officeart/2005/8/layout/orgChart1"/>
    <dgm:cxn modelId="{1E6C79DF-0C4A-4EAA-95DD-378E1D052464}" type="presParOf" srcId="{655AEF4D-D74B-45E0-A55A-183379B59F8A}" destId="{C1A39FCF-9ED0-4628-BE50-FF9766E435AE}" srcOrd="3" destOrd="0" presId="urn:microsoft.com/office/officeart/2005/8/layout/orgChart1"/>
    <dgm:cxn modelId="{3C670805-10F6-454F-8B77-9D91D1967666}" type="presParOf" srcId="{C1A39FCF-9ED0-4628-BE50-FF9766E435AE}" destId="{3471F4A3-FA78-4F76-9683-F200A85AF985}" srcOrd="0" destOrd="0" presId="urn:microsoft.com/office/officeart/2005/8/layout/orgChart1"/>
    <dgm:cxn modelId="{FB6CA834-3CAE-4DF7-8DA7-E24EFDC21A70}" type="presParOf" srcId="{3471F4A3-FA78-4F76-9683-F200A85AF985}" destId="{35A3FD15-A57D-4284-B5B9-D03C18251819}" srcOrd="0" destOrd="0" presId="urn:microsoft.com/office/officeart/2005/8/layout/orgChart1"/>
    <dgm:cxn modelId="{9DC08507-1141-4797-A6C0-AA6AF42C463D}" type="presParOf" srcId="{3471F4A3-FA78-4F76-9683-F200A85AF985}" destId="{41006AAC-2DDC-488F-9F03-061AF70DF831}" srcOrd="1" destOrd="0" presId="urn:microsoft.com/office/officeart/2005/8/layout/orgChart1"/>
    <dgm:cxn modelId="{7C5B8827-C61E-4907-8E51-98545B5FC93E}" type="presParOf" srcId="{C1A39FCF-9ED0-4628-BE50-FF9766E435AE}" destId="{1138C6B2-6689-4DD4-895B-1CAC5C8F0B19}" srcOrd="1" destOrd="0" presId="urn:microsoft.com/office/officeart/2005/8/layout/orgChart1"/>
    <dgm:cxn modelId="{DA1A1386-1CCE-44D9-BC92-912D1908C547}" type="presParOf" srcId="{C1A39FCF-9ED0-4628-BE50-FF9766E435AE}" destId="{6A4B4D1D-A683-42E3-87AF-900AAD0823B3}" srcOrd="2" destOrd="0" presId="urn:microsoft.com/office/officeart/2005/8/layout/orgChart1"/>
    <dgm:cxn modelId="{A8E42DF6-C14F-4A92-A447-83D9D61E2FB3}" type="presParOf" srcId="{655AEF4D-D74B-45E0-A55A-183379B59F8A}" destId="{3DA1961A-3B6C-415D-8F48-AF9C5CAAA84E}" srcOrd="4" destOrd="0" presId="urn:microsoft.com/office/officeart/2005/8/layout/orgChart1"/>
    <dgm:cxn modelId="{0DC9255E-19F4-4AC3-AE5C-74C8CB9B0B61}" type="presParOf" srcId="{655AEF4D-D74B-45E0-A55A-183379B59F8A}" destId="{AB2804F3-0BB9-4F22-A9FB-DB668D9A1EFE}" srcOrd="5" destOrd="0" presId="urn:microsoft.com/office/officeart/2005/8/layout/orgChart1"/>
    <dgm:cxn modelId="{4715B844-A92B-497A-B507-F74DC3784FB4}" type="presParOf" srcId="{AB2804F3-0BB9-4F22-A9FB-DB668D9A1EFE}" destId="{05F822AE-5A5C-4558-ADDD-9C589DCED9B2}" srcOrd="0" destOrd="0" presId="urn:microsoft.com/office/officeart/2005/8/layout/orgChart1"/>
    <dgm:cxn modelId="{A666E8FE-760C-4137-9587-D2CCD5F796D4}" type="presParOf" srcId="{05F822AE-5A5C-4558-ADDD-9C589DCED9B2}" destId="{2C4BAEB1-3D04-4260-A6BE-CAB3150E1EC9}" srcOrd="0" destOrd="0" presId="urn:microsoft.com/office/officeart/2005/8/layout/orgChart1"/>
    <dgm:cxn modelId="{A3892727-9223-4004-B290-4FCFC8053AF7}" type="presParOf" srcId="{05F822AE-5A5C-4558-ADDD-9C589DCED9B2}" destId="{590B2196-273D-4DE7-AA8E-2CFC5DFBBE58}" srcOrd="1" destOrd="0" presId="urn:microsoft.com/office/officeart/2005/8/layout/orgChart1"/>
    <dgm:cxn modelId="{DE67EF0D-FB3F-459C-AFC3-207275A062F4}" type="presParOf" srcId="{AB2804F3-0BB9-4F22-A9FB-DB668D9A1EFE}" destId="{B99D1EF7-921C-4326-89AA-C9046EB046B5}" srcOrd="1" destOrd="0" presId="urn:microsoft.com/office/officeart/2005/8/layout/orgChart1"/>
    <dgm:cxn modelId="{6B4D8BAF-9E62-4268-8AC1-7EEE1F77576A}" type="presParOf" srcId="{AB2804F3-0BB9-4F22-A9FB-DB668D9A1EFE}" destId="{14E66ABD-B7A3-4859-B00E-249EE46069EA}" srcOrd="2" destOrd="0" presId="urn:microsoft.com/office/officeart/2005/8/layout/orgChart1"/>
    <dgm:cxn modelId="{ED656179-EA09-486E-AF64-AA7CD50B278A}" type="presParOf" srcId="{655AEF4D-D74B-45E0-A55A-183379B59F8A}" destId="{9A90013D-1273-4EA6-8992-5BDCEAD84156}" srcOrd="6" destOrd="0" presId="urn:microsoft.com/office/officeart/2005/8/layout/orgChart1"/>
    <dgm:cxn modelId="{70517C06-EAB6-40EB-9C9B-A4CD1928748B}" type="presParOf" srcId="{655AEF4D-D74B-45E0-A55A-183379B59F8A}" destId="{6AA13AC6-1209-4055-9B14-D4562FF9042B}" srcOrd="7" destOrd="0" presId="urn:microsoft.com/office/officeart/2005/8/layout/orgChart1"/>
    <dgm:cxn modelId="{810C9B30-ED1D-4023-A339-112CBBD554DE}" type="presParOf" srcId="{6AA13AC6-1209-4055-9B14-D4562FF9042B}" destId="{317ACB82-EDBF-4ABA-B011-307E58ACF3BA}" srcOrd="0" destOrd="0" presId="urn:microsoft.com/office/officeart/2005/8/layout/orgChart1"/>
    <dgm:cxn modelId="{C58CDF2C-340E-403B-AF21-FECE2D20DF4E}" type="presParOf" srcId="{317ACB82-EDBF-4ABA-B011-307E58ACF3BA}" destId="{9F1256FE-1E10-43C0-AFD3-415FE55B7650}" srcOrd="0" destOrd="0" presId="urn:microsoft.com/office/officeart/2005/8/layout/orgChart1"/>
    <dgm:cxn modelId="{A593AC04-07B3-4BF7-86FE-291A840DECFE}" type="presParOf" srcId="{317ACB82-EDBF-4ABA-B011-307E58ACF3BA}" destId="{55A77265-9D92-4264-91A0-1E34C7974DE0}" srcOrd="1" destOrd="0" presId="urn:microsoft.com/office/officeart/2005/8/layout/orgChart1"/>
    <dgm:cxn modelId="{75D9738C-7739-4B1C-8C22-F20089357D3A}" type="presParOf" srcId="{6AA13AC6-1209-4055-9B14-D4562FF9042B}" destId="{835BAED6-B0E7-4484-8143-9052D48F5350}" srcOrd="1" destOrd="0" presId="urn:microsoft.com/office/officeart/2005/8/layout/orgChart1"/>
    <dgm:cxn modelId="{05B2129E-543C-490F-A978-C4144F9D6EDF}" type="presParOf" srcId="{6AA13AC6-1209-4055-9B14-D4562FF9042B}" destId="{21BCB088-B729-4E7A-BB4B-B61C99B525A8}" srcOrd="2" destOrd="0" presId="urn:microsoft.com/office/officeart/2005/8/layout/orgChart1"/>
    <dgm:cxn modelId="{664D1F6E-0272-4924-97B3-71CD4F58343E}" type="presParOf" srcId="{8828FD50-645D-4A91-8C02-1A545FA5CA71}" destId="{E547F292-462B-431D-B970-EB782E1ADE76}" srcOrd="2" destOrd="0" presId="urn:microsoft.com/office/officeart/2005/8/layout/orgChart1"/>
    <dgm:cxn modelId="{36885B55-F5B8-4A4D-8909-DA7782E1A05D}" type="presParOf" srcId="{6989CADF-1369-4D09-8907-EECB490C5155}" destId="{DEB66EF0-2FD6-42C8-BBAF-516EADBD6357}" srcOrd="2" destOrd="0" presId="urn:microsoft.com/office/officeart/2005/8/layout/orgChart1"/>
    <dgm:cxn modelId="{1D5A45DA-D4DD-4861-B9E4-CE077D5540B2}" type="presParOf" srcId="{6989CADF-1369-4D09-8907-EECB490C5155}" destId="{FF1088FA-8DBB-4022-A2A9-511BE6306893}" srcOrd="3" destOrd="0" presId="urn:microsoft.com/office/officeart/2005/8/layout/orgChart1"/>
    <dgm:cxn modelId="{9B745580-6EAD-456F-917F-D57BE8ABBD4F}" type="presParOf" srcId="{FF1088FA-8DBB-4022-A2A9-511BE6306893}" destId="{90E5197B-270C-4879-8EF7-F952E816E106}" srcOrd="0" destOrd="0" presId="urn:microsoft.com/office/officeart/2005/8/layout/orgChart1"/>
    <dgm:cxn modelId="{9969EA01-9B85-4F1B-A165-1F34319DA9DF}" type="presParOf" srcId="{90E5197B-270C-4879-8EF7-F952E816E106}" destId="{0F65B809-A3C6-4C9C-A2D9-0FA8C2B91456}" srcOrd="0" destOrd="0" presId="urn:microsoft.com/office/officeart/2005/8/layout/orgChart1"/>
    <dgm:cxn modelId="{6B1623A5-8A58-489F-B2EF-567FBECDAB68}" type="presParOf" srcId="{90E5197B-270C-4879-8EF7-F952E816E106}" destId="{92E80756-DF15-4A24-B10E-35A7969653C3}" srcOrd="1" destOrd="0" presId="urn:microsoft.com/office/officeart/2005/8/layout/orgChart1"/>
    <dgm:cxn modelId="{23015768-0F55-4877-96B9-E2E18A19649E}" type="presParOf" srcId="{FF1088FA-8DBB-4022-A2A9-511BE6306893}" destId="{34A837A6-71C4-43A4-BAC6-3B01AF512672}" srcOrd="1" destOrd="0" presId="urn:microsoft.com/office/officeart/2005/8/layout/orgChart1"/>
    <dgm:cxn modelId="{C3DDF17D-B02A-4DA5-8D7B-29A364589668}" type="presParOf" srcId="{34A837A6-71C4-43A4-BAC6-3B01AF512672}" destId="{F202F084-0215-475A-9B53-5C352D6F8056}" srcOrd="0" destOrd="0" presId="urn:microsoft.com/office/officeart/2005/8/layout/orgChart1"/>
    <dgm:cxn modelId="{AC7DB3DD-969E-41E1-A965-B7394EADCCDC}" type="presParOf" srcId="{34A837A6-71C4-43A4-BAC6-3B01AF512672}" destId="{523B86A4-A9E4-452B-BBB4-D2FA40FACD7C}" srcOrd="1" destOrd="0" presId="urn:microsoft.com/office/officeart/2005/8/layout/orgChart1"/>
    <dgm:cxn modelId="{65CA1336-A66A-4A5D-9F97-FA4FED130359}" type="presParOf" srcId="{523B86A4-A9E4-452B-BBB4-D2FA40FACD7C}" destId="{3EF4DBD2-B2E3-4F9A-9A69-4589A180B266}" srcOrd="0" destOrd="0" presId="urn:microsoft.com/office/officeart/2005/8/layout/orgChart1"/>
    <dgm:cxn modelId="{F38C6698-1655-4C00-B624-AC72759FEF57}" type="presParOf" srcId="{3EF4DBD2-B2E3-4F9A-9A69-4589A180B266}" destId="{9D7A222D-2FDC-4FEF-B548-9BDA4FA86C18}" srcOrd="0" destOrd="0" presId="urn:microsoft.com/office/officeart/2005/8/layout/orgChart1"/>
    <dgm:cxn modelId="{581CB99B-D395-484D-B45B-56994695CD54}" type="presParOf" srcId="{3EF4DBD2-B2E3-4F9A-9A69-4589A180B266}" destId="{4CA632B1-4D67-4BB3-BD57-CCA09E12BB7B}" srcOrd="1" destOrd="0" presId="urn:microsoft.com/office/officeart/2005/8/layout/orgChart1"/>
    <dgm:cxn modelId="{8A5B500F-D028-4049-B2DF-189A00DCB699}" type="presParOf" srcId="{523B86A4-A9E4-452B-BBB4-D2FA40FACD7C}" destId="{22B29DA6-62CA-4B8D-A33B-ACD7DC742AE2}" srcOrd="1" destOrd="0" presId="urn:microsoft.com/office/officeart/2005/8/layout/orgChart1"/>
    <dgm:cxn modelId="{CF2E4DB1-487D-4A7D-A7C7-26D5EE3C02DB}" type="presParOf" srcId="{523B86A4-A9E4-452B-BBB4-D2FA40FACD7C}" destId="{BE548902-84EB-4020-85A7-D17E7E5B4D1E}" srcOrd="2" destOrd="0" presId="urn:microsoft.com/office/officeart/2005/8/layout/orgChart1"/>
    <dgm:cxn modelId="{1640B6D6-E4E4-481F-AB43-987F93A80972}" type="presParOf" srcId="{34A837A6-71C4-43A4-BAC6-3B01AF512672}" destId="{7FF96B27-7EDF-4EAD-B4CD-87938A7F1BFB}" srcOrd="2" destOrd="0" presId="urn:microsoft.com/office/officeart/2005/8/layout/orgChart1"/>
    <dgm:cxn modelId="{DB272302-0791-4F47-A301-D8050FC1F125}" type="presParOf" srcId="{34A837A6-71C4-43A4-BAC6-3B01AF512672}" destId="{701D7018-9BAB-4F93-88BA-39DDEA66749E}" srcOrd="3" destOrd="0" presId="urn:microsoft.com/office/officeart/2005/8/layout/orgChart1"/>
    <dgm:cxn modelId="{4F9A6C14-95B0-47D4-806E-8E6CEDA985B8}" type="presParOf" srcId="{701D7018-9BAB-4F93-88BA-39DDEA66749E}" destId="{4D6033AB-D24B-4F2B-ADB8-FD618FCA3F6F}" srcOrd="0" destOrd="0" presId="urn:microsoft.com/office/officeart/2005/8/layout/orgChart1"/>
    <dgm:cxn modelId="{DD2213E7-78C9-4499-A658-5DB1E860FF80}" type="presParOf" srcId="{4D6033AB-D24B-4F2B-ADB8-FD618FCA3F6F}" destId="{FB7A0C57-D967-49CE-ADA0-0146F4C2DAF3}" srcOrd="0" destOrd="0" presId="urn:microsoft.com/office/officeart/2005/8/layout/orgChart1"/>
    <dgm:cxn modelId="{D5636B6A-B524-4E6E-973E-7BD4D2564492}" type="presParOf" srcId="{4D6033AB-D24B-4F2B-ADB8-FD618FCA3F6F}" destId="{A2F4C87D-68C8-439B-9275-8ED5FBD0CFD3}" srcOrd="1" destOrd="0" presId="urn:microsoft.com/office/officeart/2005/8/layout/orgChart1"/>
    <dgm:cxn modelId="{704E399A-453D-4994-BF1D-EC9560DE5350}" type="presParOf" srcId="{701D7018-9BAB-4F93-88BA-39DDEA66749E}" destId="{0ECD1408-1ABC-44D9-83F6-58ADB6399ED9}" srcOrd="1" destOrd="0" presId="urn:microsoft.com/office/officeart/2005/8/layout/orgChart1"/>
    <dgm:cxn modelId="{E46AD9FB-915B-4432-A9B3-3FC74539F5EC}" type="presParOf" srcId="{701D7018-9BAB-4F93-88BA-39DDEA66749E}" destId="{4204C4E7-32BD-4DF0-A042-B050BAC08777}" srcOrd="2" destOrd="0" presId="urn:microsoft.com/office/officeart/2005/8/layout/orgChart1"/>
    <dgm:cxn modelId="{D53A91FD-5D4B-450D-9731-76601A766462}" type="presParOf" srcId="{34A837A6-71C4-43A4-BAC6-3B01AF512672}" destId="{EE25668F-29BC-453D-AC46-D9BC2E13C4C9}" srcOrd="4" destOrd="0" presId="urn:microsoft.com/office/officeart/2005/8/layout/orgChart1"/>
    <dgm:cxn modelId="{023EEC5A-AA6C-4452-9012-230D4FBF3617}" type="presParOf" srcId="{34A837A6-71C4-43A4-BAC6-3B01AF512672}" destId="{7DC7C898-74F1-427C-A7C0-27D7600ADF16}" srcOrd="5" destOrd="0" presId="urn:microsoft.com/office/officeart/2005/8/layout/orgChart1"/>
    <dgm:cxn modelId="{95971688-29F4-419B-835B-23F0FA98117E}" type="presParOf" srcId="{7DC7C898-74F1-427C-A7C0-27D7600ADF16}" destId="{CD9C082E-078D-46DC-8D7C-11FB25FB9186}" srcOrd="0" destOrd="0" presId="urn:microsoft.com/office/officeart/2005/8/layout/orgChart1"/>
    <dgm:cxn modelId="{EFAA76A5-4A45-4FF8-B7F3-8A8C1828067C}" type="presParOf" srcId="{CD9C082E-078D-46DC-8D7C-11FB25FB9186}" destId="{66482A96-BE26-4597-BB50-0DADA1DAA3CF}" srcOrd="0" destOrd="0" presId="urn:microsoft.com/office/officeart/2005/8/layout/orgChart1"/>
    <dgm:cxn modelId="{9E0BB28C-4C73-4D8C-A23C-C064A684A3DF}" type="presParOf" srcId="{CD9C082E-078D-46DC-8D7C-11FB25FB9186}" destId="{0B1E2A42-61BD-4CFB-AC1A-DA2E22092583}" srcOrd="1" destOrd="0" presId="urn:microsoft.com/office/officeart/2005/8/layout/orgChart1"/>
    <dgm:cxn modelId="{A7A20075-8D8D-4870-9A71-242BB7409E02}" type="presParOf" srcId="{7DC7C898-74F1-427C-A7C0-27D7600ADF16}" destId="{C523F4FD-B36E-47E9-BDB9-D676BDDBCAB8}" srcOrd="1" destOrd="0" presId="urn:microsoft.com/office/officeart/2005/8/layout/orgChart1"/>
    <dgm:cxn modelId="{6933EF23-C34A-4E63-8D94-FA778B22AF8F}" type="presParOf" srcId="{7DC7C898-74F1-427C-A7C0-27D7600ADF16}" destId="{00CCD61C-969E-411D-B64B-2C0E144BA8EB}" srcOrd="2" destOrd="0" presId="urn:microsoft.com/office/officeart/2005/8/layout/orgChart1"/>
    <dgm:cxn modelId="{6AEB7C3B-0786-45AB-929B-D205A21BD33A}" type="presParOf" srcId="{FF1088FA-8DBB-4022-A2A9-511BE6306893}" destId="{D6643356-82E1-463E-A140-9940245CFF6F}" srcOrd="2" destOrd="0" presId="urn:microsoft.com/office/officeart/2005/8/layout/orgChart1"/>
    <dgm:cxn modelId="{305CECF4-2E92-41E0-BEC2-8921BD33EF2D}" type="presParOf" srcId="{6989CADF-1369-4D09-8907-EECB490C5155}" destId="{935ADAE1-773E-4CA3-8B89-5B77ABC065C1}" srcOrd="4" destOrd="0" presId="urn:microsoft.com/office/officeart/2005/8/layout/orgChart1"/>
    <dgm:cxn modelId="{58BD6486-F8F1-4266-A0FA-7325236F8691}" type="presParOf" srcId="{6989CADF-1369-4D09-8907-EECB490C5155}" destId="{F1A05A67-6EA0-49F1-BA04-DBD5C29C78E6}" srcOrd="5" destOrd="0" presId="urn:microsoft.com/office/officeart/2005/8/layout/orgChart1"/>
    <dgm:cxn modelId="{81B8248A-2ADD-44B3-A4AD-4FC0F236DA5F}" type="presParOf" srcId="{F1A05A67-6EA0-49F1-BA04-DBD5C29C78E6}" destId="{515BA0B3-EA01-45AB-9122-1C84AFB03DFA}" srcOrd="0" destOrd="0" presId="urn:microsoft.com/office/officeart/2005/8/layout/orgChart1"/>
    <dgm:cxn modelId="{25EF5C6F-8E46-4637-8280-A365B1F72837}" type="presParOf" srcId="{515BA0B3-EA01-45AB-9122-1C84AFB03DFA}" destId="{7EE117EB-9E58-4A8E-92E6-716F948B7602}" srcOrd="0" destOrd="0" presId="urn:microsoft.com/office/officeart/2005/8/layout/orgChart1"/>
    <dgm:cxn modelId="{47D34933-0F0F-48D3-80F0-AE9B4D493E84}" type="presParOf" srcId="{515BA0B3-EA01-45AB-9122-1C84AFB03DFA}" destId="{7E373C44-BC52-43CE-83C6-F6EE38D017AC}" srcOrd="1" destOrd="0" presId="urn:microsoft.com/office/officeart/2005/8/layout/orgChart1"/>
    <dgm:cxn modelId="{1014745E-97D1-4AE6-B26B-F6F2E40581C8}" type="presParOf" srcId="{F1A05A67-6EA0-49F1-BA04-DBD5C29C78E6}" destId="{36E596AF-374A-47C9-9A2E-72C76FD2EB3E}" srcOrd="1" destOrd="0" presId="urn:microsoft.com/office/officeart/2005/8/layout/orgChart1"/>
    <dgm:cxn modelId="{7B62D6B2-A2E1-4D07-A94A-CB4A02E6DE00}" type="presParOf" srcId="{36E596AF-374A-47C9-9A2E-72C76FD2EB3E}" destId="{6CAD4867-65C4-45F4-A34E-4EC1EB8F246C}" srcOrd="0" destOrd="0" presId="urn:microsoft.com/office/officeart/2005/8/layout/orgChart1"/>
    <dgm:cxn modelId="{EBA81A50-49C7-460F-A453-C956B1923737}" type="presParOf" srcId="{36E596AF-374A-47C9-9A2E-72C76FD2EB3E}" destId="{FBD6B093-C86A-456A-8B97-90881E12ED10}" srcOrd="1" destOrd="0" presId="urn:microsoft.com/office/officeart/2005/8/layout/orgChart1"/>
    <dgm:cxn modelId="{43C0371A-E64C-4C82-9490-1C02FF6E3C3B}" type="presParOf" srcId="{FBD6B093-C86A-456A-8B97-90881E12ED10}" destId="{6FF04C65-268C-47E9-9B9C-ADDF6E46FFAC}" srcOrd="0" destOrd="0" presId="urn:microsoft.com/office/officeart/2005/8/layout/orgChart1"/>
    <dgm:cxn modelId="{09783A37-C988-4E60-90EC-E84C53A5AD08}" type="presParOf" srcId="{6FF04C65-268C-47E9-9B9C-ADDF6E46FFAC}" destId="{9BA80A06-1269-49BE-B629-CD095ED9C7EE}" srcOrd="0" destOrd="0" presId="urn:microsoft.com/office/officeart/2005/8/layout/orgChart1"/>
    <dgm:cxn modelId="{E6BC6F1B-755B-47C2-ABB3-9D0F6100262B}" type="presParOf" srcId="{6FF04C65-268C-47E9-9B9C-ADDF6E46FFAC}" destId="{8DD96D41-61E0-4E18-81CD-B5A179B93F21}" srcOrd="1" destOrd="0" presId="urn:microsoft.com/office/officeart/2005/8/layout/orgChart1"/>
    <dgm:cxn modelId="{C047B673-CE15-45D6-8F61-1153E776DA8F}" type="presParOf" srcId="{FBD6B093-C86A-456A-8B97-90881E12ED10}" destId="{C94B060C-AEDE-43A1-8492-6A0F9F18ABAF}" srcOrd="1" destOrd="0" presId="urn:microsoft.com/office/officeart/2005/8/layout/orgChart1"/>
    <dgm:cxn modelId="{7724A0E1-A08F-4EA3-8D9C-BDBCDF0A8790}" type="presParOf" srcId="{FBD6B093-C86A-456A-8B97-90881E12ED10}" destId="{F77FB539-A8CB-4001-9966-490BB1981BCA}" srcOrd="2" destOrd="0" presId="urn:microsoft.com/office/officeart/2005/8/layout/orgChart1"/>
    <dgm:cxn modelId="{CA3759B2-A998-48A8-B8ED-35FBA5139BDB}" type="presParOf" srcId="{36E596AF-374A-47C9-9A2E-72C76FD2EB3E}" destId="{3BFF305B-B2F9-495B-AE21-90DB5CE22BF9}" srcOrd="2" destOrd="0" presId="urn:microsoft.com/office/officeart/2005/8/layout/orgChart1"/>
    <dgm:cxn modelId="{24306F7C-7C9B-4005-91E1-D654D87C4CF2}" type="presParOf" srcId="{36E596AF-374A-47C9-9A2E-72C76FD2EB3E}" destId="{D61D6DBF-67C3-42DA-A8EA-C610CAEA192D}" srcOrd="3" destOrd="0" presId="urn:microsoft.com/office/officeart/2005/8/layout/orgChart1"/>
    <dgm:cxn modelId="{F6D9062E-8181-49CA-8D40-6ED095722C21}" type="presParOf" srcId="{D61D6DBF-67C3-42DA-A8EA-C610CAEA192D}" destId="{7892FA11-AD5C-491E-8F6B-773C9D01BB99}" srcOrd="0" destOrd="0" presId="urn:microsoft.com/office/officeart/2005/8/layout/orgChart1"/>
    <dgm:cxn modelId="{51AA61E5-E669-4DFD-A8A9-78D422BD4CB3}" type="presParOf" srcId="{7892FA11-AD5C-491E-8F6B-773C9D01BB99}" destId="{D8792466-6E6A-499F-856A-28BF86C93D93}" srcOrd="0" destOrd="0" presId="urn:microsoft.com/office/officeart/2005/8/layout/orgChart1"/>
    <dgm:cxn modelId="{8F9C193E-BBB1-4305-A120-2B83518B1F57}" type="presParOf" srcId="{7892FA11-AD5C-491E-8F6B-773C9D01BB99}" destId="{2A895502-4DB0-48D0-8C80-AC5000CB3825}" srcOrd="1" destOrd="0" presId="urn:microsoft.com/office/officeart/2005/8/layout/orgChart1"/>
    <dgm:cxn modelId="{C52C2D0B-22FF-4107-8C76-9E181152E24E}" type="presParOf" srcId="{D61D6DBF-67C3-42DA-A8EA-C610CAEA192D}" destId="{068B7E6D-6A5B-4B4E-81CB-042CD7D71089}" srcOrd="1" destOrd="0" presId="urn:microsoft.com/office/officeart/2005/8/layout/orgChart1"/>
    <dgm:cxn modelId="{CB5D9512-3D6D-4CDE-9046-A97B0AF18600}" type="presParOf" srcId="{D61D6DBF-67C3-42DA-A8EA-C610CAEA192D}" destId="{E005150C-E3C2-4C41-BDCD-5204D1AC7378}" srcOrd="2" destOrd="0" presId="urn:microsoft.com/office/officeart/2005/8/layout/orgChart1"/>
    <dgm:cxn modelId="{CCCA7A98-08C1-4E64-925C-A778480024EC}" type="presParOf" srcId="{36E596AF-374A-47C9-9A2E-72C76FD2EB3E}" destId="{B4416062-4515-451E-B254-68DCF1C94340}" srcOrd="4" destOrd="0" presId="urn:microsoft.com/office/officeart/2005/8/layout/orgChart1"/>
    <dgm:cxn modelId="{8D52EC0E-1BAD-44D7-868E-FF763674A800}" type="presParOf" srcId="{36E596AF-374A-47C9-9A2E-72C76FD2EB3E}" destId="{D4F58A57-37FC-4808-B725-7FFAF48DBCC4}" srcOrd="5" destOrd="0" presId="urn:microsoft.com/office/officeart/2005/8/layout/orgChart1"/>
    <dgm:cxn modelId="{E8EE4EDC-64CD-47A7-A16B-541388F11020}" type="presParOf" srcId="{D4F58A57-37FC-4808-B725-7FFAF48DBCC4}" destId="{B4FCDBAF-6D17-46B3-8CCE-FC28DAF31EB1}" srcOrd="0" destOrd="0" presId="urn:microsoft.com/office/officeart/2005/8/layout/orgChart1"/>
    <dgm:cxn modelId="{4D7F209E-0819-4A58-B901-E7F19EFCB536}" type="presParOf" srcId="{B4FCDBAF-6D17-46B3-8CCE-FC28DAF31EB1}" destId="{07E74FA3-C690-4AFD-9A7C-33F452E917E5}" srcOrd="0" destOrd="0" presId="urn:microsoft.com/office/officeart/2005/8/layout/orgChart1"/>
    <dgm:cxn modelId="{B3F2A97E-396D-49FD-9E0C-2E3738CF69C6}" type="presParOf" srcId="{B4FCDBAF-6D17-46B3-8CCE-FC28DAF31EB1}" destId="{22884BCF-05B6-48F4-9BBD-977CB9B69961}" srcOrd="1" destOrd="0" presId="urn:microsoft.com/office/officeart/2005/8/layout/orgChart1"/>
    <dgm:cxn modelId="{EB8C4744-C484-44F8-BFC1-55754F85AED4}" type="presParOf" srcId="{D4F58A57-37FC-4808-B725-7FFAF48DBCC4}" destId="{C8348EC6-E068-480D-9AE4-C42FE66BC128}" srcOrd="1" destOrd="0" presId="urn:microsoft.com/office/officeart/2005/8/layout/orgChart1"/>
    <dgm:cxn modelId="{76AF408D-75C7-41E1-981A-E1A2C120B720}" type="presParOf" srcId="{D4F58A57-37FC-4808-B725-7FFAF48DBCC4}" destId="{A34513A1-70DE-4475-B5CA-131DFF861689}" srcOrd="2" destOrd="0" presId="urn:microsoft.com/office/officeart/2005/8/layout/orgChart1"/>
    <dgm:cxn modelId="{382B6FAC-92AA-4E97-9E27-A5303EEB141F}" type="presParOf" srcId="{F1A05A67-6EA0-49F1-BA04-DBD5C29C78E6}" destId="{BA524839-9863-461B-BEB1-55E61F03E42E}" srcOrd="2" destOrd="0" presId="urn:microsoft.com/office/officeart/2005/8/layout/orgChart1"/>
    <dgm:cxn modelId="{8D6EB60B-B959-438B-BEA0-6D9764B8A7BE}" type="presParOf" srcId="{6989CADF-1369-4D09-8907-EECB490C5155}" destId="{FD06118A-6113-4335-BF95-4EB6C75B72C8}" srcOrd="6" destOrd="0" presId="urn:microsoft.com/office/officeart/2005/8/layout/orgChart1"/>
    <dgm:cxn modelId="{E85CABDF-1D7A-49C1-82A4-39A62C6872C3}" type="presParOf" srcId="{6989CADF-1369-4D09-8907-EECB490C5155}" destId="{981512BF-EAEF-4DCE-AAAD-99D722E35B4D}" srcOrd="7" destOrd="0" presId="urn:microsoft.com/office/officeart/2005/8/layout/orgChart1"/>
    <dgm:cxn modelId="{B16D58A9-9B19-4E99-A00A-4FC63688C978}" type="presParOf" srcId="{981512BF-EAEF-4DCE-AAAD-99D722E35B4D}" destId="{25A79FE9-21FC-4B72-B392-5B353BA620DF}" srcOrd="0" destOrd="0" presId="urn:microsoft.com/office/officeart/2005/8/layout/orgChart1"/>
    <dgm:cxn modelId="{0699481D-4B9D-4BF4-94FD-E327B29099C8}" type="presParOf" srcId="{25A79FE9-21FC-4B72-B392-5B353BA620DF}" destId="{D812FCAD-2B22-4FE9-850E-C7DE0BCF4C21}" srcOrd="0" destOrd="0" presId="urn:microsoft.com/office/officeart/2005/8/layout/orgChart1"/>
    <dgm:cxn modelId="{F7D35652-4406-48A3-9B3C-5BB0DD6CB5CB}" type="presParOf" srcId="{25A79FE9-21FC-4B72-B392-5B353BA620DF}" destId="{D8FB0967-D52B-4B73-998C-0CC097EFC414}" srcOrd="1" destOrd="0" presId="urn:microsoft.com/office/officeart/2005/8/layout/orgChart1"/>
    <dgm:cxn modelId="{EB68A2B9-8A68-42CD-ADF6-7FA978755EC8}" type="presParOf" srcId="{981512BF-EAEF-4DCE-AAAD-99D722E35B4D}" destId="{EDE84E17-5A54-48D7-8788-B632AB12D566}" srcOrd="1" destOrd="0" presId="urn:microsoft.com/office/officeart/2005/8/layout/orgChart1"/>
    <dgm:cxn modelId="{7D057528-1DB1-4766-B872-F8C9BE629939}" type="presParOf" srcId="{EDE84E17-5A54-48D7-8788-B632AB12D566}" destId="{43CA35DA-0BDB-43A8-9DEF-61B829894584}" srcOrd="0" destOrd="0" presId="urn:microsoft.com/office/officeart/2005/8/layout/orgChart1"/>
    <dgm:cxn modelId="{FBE438BF-40AF-4FD5-93A8-41463F09FE5B}" type="presParOf" srcId="{EDE84E17-5A54-48D7-8788-B632AB12D566}" destId="{63F80E61-0CAD-48BA-B33F-C55ADE644FAA}" srcOrd="1" destOrd="0" presId="urn:microsoft.com/office/officeart/2005/8/layout/orgChart1"/>
    <dgm:cxn modelId="{4C481BD5-FA0D-4B2A-A0A7-270C2AE36B0B}" type="presParOf" srcId="{63F80E61-0CAD-48BA-B33F-C55ADE644FAA}" destId="{65B1CDB7-33C5-4C96-BC8B-3CCD8DFD763B}" srcOrd="0" destOrd="0" presId="urn:microsoft.com/office/officeart/2005/8/layout/orgChart1"/>
    <dgm:cxn modelId="{08941C82-EE42-48A2-9CE3-D15930BAFA6F}" type="presParOf" srcId="{65B1CDB7-33C5-4C96-BC8B-3CCD8DFD763B}" destId="{6DFB67CD-2305-4E6C-8B75-F970C608DF36}" srcOrd="0" destOrd="0" presId="urn:microsoft.com/office/officeart/2005/8/layout/orgChart1"/>
    <dgm:cxn modelId="{F807F191-BA15-407D-BFE4-2FF2E8E6F600}" type="presParOf" srcId="{65B1CDB7-33C5-4C96-BC8B-3CCD8DFD763B}" destId="{67F8CF0C-0516-4679-916E-91D340AA9065}" srcOrd="1" destOrd="0" presId="urn:microsoft.com/office/officeart/2005/8/layout/orgChart1"/>
    <dgm:cxn modelId="{67601EA7-3D9F-46D2-A00F-0B305D2E90BF}" type="presParOf" srcId="{63F80E61-0CAD-48BA-B33F-C55ADE644FAA}" destId="{D66C63DB-77A3-49FE-A301-1C6594078D8D}" srcOrd="1" destOrd="0" presId="urn:microsoft.com/office/officeart/2005/8/layout/orgChart1"/>
    <dgm:cxn modelId="{0E7D94F4-A930-405B-AC9F-AC83D0776216}" type="presParOf" srcId="{63F80E61-0CAD-48BA-B33F-C55ADE644FAA}" destId="{F0E06D46-C9FC-4E52-AF13-0C789E1E7AF8}" srcOrd="2" destOrd="0" presId="urn:microsoft.com/office/officeart/2005/8/layout/orgChart1"/>
    <dgm:cxn modelId="{CC3BB834-28F3-4DF2-9B70-082981B9FB26}" type="presParOf" srcId="{EDE84E17-5A54-48D7-8788-B632AB12D566}" destId="{E96C58E9-083B-4B78-870A-D4292A404FD5}" srcOrd="2" destOrd="0" presId="urn:microsoft.com/office/officeart/2005/8/layout/orgChart1"/>
    <dgm:cxn modelId="{344C9873-699B-40B2-BF0C-4FF0306A970F}" type="presParOf" srcId="{EDE84E17-5A54-48D7-8788-B632AB12D566}" destId="{733A00B9-0179-42DC-B41F-F984FB511E9D}" srcOrd="3" destOrd="0" presId="urn:microsoft.com/office/officeart/2005/8/layout/orgChart1"/>
    <dgm:cxn modelId="{BED2643F-C60C-4225-9B48-89CBB050BF2B}" type="presParOf" srcId="{733A00B9-0179-42DC-B41F-F984FB511E9D}" destId="{3ADB23E2-365F-46F9-B9FB-C169F8877E6B}" srcOrd="0" destOrd="0" presId="urn:microsoft.com/office/officeart/2005/8/layout/orgChart1"/>
    <dgm:cxn modelId="{99A08A4C-80F6-4584-A866-57BC9C045DD8}" type="presParOf" srcId="{3ADB23E2-365F-46F9-B9FB-C169F8877E6B}" destId="{74EDF51A-6954-4D7B-A87C-BD5FDD50D626}" srcOrd="0" destOrd="0" presId="urn:microsoft.com/office/officeart/2005/8/layout/orgChart1"/>
    <dgm:cxn modelId="{AAB1968F-641C-469D-BCCE-1EF2FAB8C934}" type="presParOf" srcId="{3ADB23E2-365F-46F9-B9FB-C169F8877E6B}" destId="{A62D72EA-04BF-4A2B-B8AC-90E15BA28429}" srcOrd="1" destOrd="0" presId="urn:microsoft.com/office/officeart/2005/8/layout/orgChart1"/>
    <dgm:cxn modelId="{CE76D6E3-7C71-4B6F-A928-BBF4BE3F990B}" type="presParOf" srcId="{733A00B9-0179-42DC-B41F-F984FB511E9D}" destId="{093ED4A0-03C0-4BF4-BB38-24D0D6311E89}" srcOrd="1" destOrd="0" presId="urn:microsoft.com/office/officeart/2005/8/layout/orgChart1"/>
    <dgm:cxn modelId="{D98EBEEE-2605-4DB2-80CB-93E6CE7062F8}" type="presParOf" srcId="{733A00B9-0179-42DC-B41F-F984FB511E9D}" destId="{986863C4-DDCC-45A3-8489-3679F7E13A13}" srcOrd="2" destOrd="0" presId="urn:microsoft.com/office/officeart/2005/8/layout/orgChart1"/>
    <dgm:cxn modelId="{6E007F2E-330F-4892-ADDC-EDD27A1E3541}" type="presParOf" srcId="{981512BF-EAEF-4DCE-AAAD-99D722E35B4D}" destId="{EE3016D0-9FD6-4574-B747-4B845161F0A2}" srcOrd="2" destOrd="0" presId="urn:microsoft.com/office/officeart/2005/8/layout/orgChart1"/>
    <dgm:cxn modelId="{7A9E8EBB-0E9B-4940-BA4A-B5C7AF0D4C73}" type="presParOf" srcId="{6989CADF-1369-4D09-8907-EECB490C5155}" destId="{6E8CA10F-68AC-4B7B-BE20-52ADB7D943F7}" srcOrd="8" destOrd="0" presId="urn:microsoft.com/office/officeart/2005/8/layout/orgChart1"/>
    <dgm:cxn modelId="{EA18A643-7E10-4141-A4F0-DDDC5CF3BB1B}" type="presParOf" srcId="{6989CADF-1369-4D09-8907-EECB490C5155}" destId="{4625E51F-13D0-4EDF-B384-B3B03391C389}" srcOrd="9" destOrd="0" presId="urn:microsoft.com/office/officeart/2005/8/layout/orgChart1"/>
    <dgm:cxn modelId="{456B1389-B7E3-4149-BB7A-ADC6B946F925}" type="presParOf" srcId="{4625E51F-13D0-4EDF-B384-B3B03391C389}" destId="{42D880DC-3082-4787-A8D7-348C9DB39834}" srcOrd="0" destOrd="0" presId="urn:microsoft.com/office/officeart/2005/8/layout/orgChart1"/>
    <dgm:cxn modelId="{105D3D8D-6237-4D88-9A4D-1B172CB158C7}" type="presParOf" srcId="{42D880DC-3082-4787-A8D7-348C9DB39834}" destId="{BCD13545-5F62-4D3F-B379-0FC1760E3BC6}" srcOrd="0" destOrd="0" presId="urn:microsoft.com/office/officeart/2005/8/layout/orgChart1"/>
    <dgm:cxn modelId="{D46B4388-52F8-41E4-A451-3031D9EA9589}" type="presParOf" srcId="{42D880DC-3082-4787-A8D7-348C9DB39834}" destId="{AA097165-DBDE-49B9-A8AB-FB9472D3FA4B}" srcOrd="1" destOrd="0" presId="urn:microsoft.com/office/officeart/2005/8/layout/orgChart1"/>
    <dgm:cxn modelId="{85E5555F-ED99-4FEF-81E6-9803B102DCD2}" type="presParOf" srcId="{4625E51F-13D0-4EDF-B384-B3B03391C389}" destId="{E7689654-19A9-46CF-BCC9-860AA8FB9586}" srcOrd="1" destOrd="0" presId="urn:microsoft.com/office/officeart/2005/8/layout/orgChart1"/>
    <dgm:cxn modelId="{25AE1AD6-30EB-416A-996C-875C72EC1C6B}" type="presParOf" srcId="{E7689654-19A9-46CF-BCC9-860AA8FB9586}" destId="{5B741184-C2C8-492E-A02B-0FD98A415087}" srcOrd="0" destOrd="0" presId="urn:microsoft.com/office/officeart/2005/8/layout/orgChart1"/>
    <dgm:cxn modelId="{F303B946-22DA-4213-8A15-E155A8E38CBA}" type="presParOf" srcId="{E7689654-19A9-46CF-BCC9-860AA8FB9586}" destId="{147E7355-64CC-49EB-AEF3-2BFFD6F39E4F}" srcOrd="1" destOrd="0" presId="urn:microsoft.com/office/officeart/2005/8/layout/orgChart1"/>
    <dgm:cxn modelId="{1B2D5595-7174-490A-81C8-304FBC8F426F}" type="presParOf" srcId="{147E7355-64CC-49EB-AEF3-2BFFD6F39E4F}" destId="{370586E7-FEA5-4023-B243-D50CEA4E8940}" srcOrd="0" destOrd="0" presId="urn:microsoft.com/office/officeart/2005/8/layout/orgChart1"/>
    <dgm:cxn modelId="{A6578122-58F4-45B7-9170-98BA8211FC7F}" type="presParOf" srcId="{370586E7-FEA5-4023-B243-D50CEA4E8940}" destId="{DE02485E-6271-49C7-A238-A8E992A2B57A}" srcOrd="0" destOrd="0" presId="urn:microsoft.com/office/officeart/2005/8/layout/orgChart1"/>
    <dgm:cxn modelId="{763DE0CD-3CF0-4D60-8A93-5FDF86C99397}" type="presParOf" srcId="{370586E7-FEA5-4023-B243-D50CEA4E8940}" destId="{BA6F8146-484A-426E-A2D7-B0001230C577}" srcOrd="1" destOrd="0" presId="urn:microsoft.com/office/officeart/2005/8/layout/orgChart1"/>
    <dgm:cxn modelId="{6C8C909A-C411-4E39-B36E-3EA2095A98C1}" type="presParOf" srcId="{147E7355-64CC-49EB-AEF3-2BFFD6F39E4F}" destId="{CCE922B9-DE05-46E8-A539-8DA81C8F2E61}" srcOrd="1" destOrd="0" presId="urn:microsoft.com/office/officeart/2005/8/layout/orgChart1"/>
    <dgm:cxn modelId="{05BF163E-087F-414A-B5DD-B8D960043896}" type="presParOf" srcId="{147E7355-64CC-49EB-AEF3-2BFFD6F39E4F}" destId="{47890C92-D30D-4682-A157-195DD104892D}" srcOrd="2" destOrd="0" presId="urn:microsoft.com/office/officeart/2005/8/layout/orgChart1"/>
    <dgm:cxn modelId="{23E26AC2-B8C6-495E-B1AE-BF7FF049990F}" type="presParOf" srcId="{E7689654-19A9-46CF-BCC9-860AA8FB9586}" destId="{2D674AC9-2523-401A-B914-F97DFDB25117}" srcOrd="2" destOrd="0" presId="urn:microsoft.com/office/officeart/2005/8/layout/orgChart1"/>
    <dgm:cxn modelId="{2F04FE1F-4CA0-4153-9F7D-E79C2749D174}" type="presParOf" srcId="{E7689654-19A9-46CF-BCC9-860AA8FB9586}" destId="{2309A260-C503-4214-A6BE-3C1388E6F785}" srcOrd="3" destOrd="0" presId="urn:microsoft.com/office/officeart/2005/8/layout/orgChart1"/>
    <dgm:cxn modelId="{35390256-BA0C-48C7-8FDE-FA59477693F0}" type="presParOf" srcId="{2309A260-C503-4214-A6BE-3C1388E6F785}" destId="{663EECDF-252F-4DB8-B04F-D8E66F87A6B2}" srcOrd="0" destOrd="0" presId="urn:microsoft.com/office/officeart/2005/8/layout/orgChart1"/>
    <dgm:cxn modelId="{4056CDBF-71E7-4FC6-A4CA-5050E14DD78A}" type="presParOf" srcId="{663EECDF-252F-4DB8-B04F-D8E66F87A6B2}" destId="{9586F13D-1A4E-46D3-B35E-126DCD6DC383}" srcOrd="0" destOrd="0" presId="urn:microsoft.com/office/officeart/2005/8/layout/orgChart1"/>
    <dgm:cxn modelId="{A1B1285D-562C-457E-9A2C-983802DFA18B}" type="presParOf" srcId="{663EECDF-252F-4DB8-B04F-D8E66F87A6B2}" destId="{CADED5FE-34B7-4D0F-BE4B-32D233AFD38C}" srcOrd="1" destOrd="0" presId="urn:microsoft.com/office/officeart/2005/8/layout/orgChart1"/>
    <dgm:cxn modelId="{93109900-B13F-4D2D-89D5-DE6D19EEF842}" type="presParOf" srcId="{2309A260-C503-4214-A6BE-3C1388E6F785}" destId="{6BC78B86-B4FA-4D4D-90FC-EE9D51F34794}" srcOrd="1" destOrd="0" presId="urn:microsoft.com/office/officeart/2005/8/layout/orgChart1"/>
    <dgm:cxn modelId="{12328E01-2BE0-4C6A-8C0C-1245DC9FD0CE}" type="presParOf" srcId="{2309A260-C503-4214-A6BE-3C1388E6F785}" destId="{2D8C63F9-D223-4687-B982-222759CACEA4}" srcOrd="2" destOrd="0" presId="urn:microsoft.com/office/officeart/2005/8/layout/orgChart1"/>
    <dgm:cxn modelId="{CE7CFDAC-2702-4B9B-AAB1-94D94CAD1149}" type="presParOf" srcId="{E7689654-19A9-46CF-BCC9-860AA8FB9586}" destId="{A24C0226-953F-462B-8355-FA959E833CB9}" srcOrd="4" destOrd="0" presId="urn:microsoft.com/office/officeart/2005/8/layout/orgChart1"/>
    <dgm:cxn modelId="{B0014F2A-7992-48CA-A607-E41B0C40A105}" type="presParOf" srcId="{E7689654-19A9-46CF-BCC9-860AA8FB9586}" destId="{15FF58E4-8B6F-409C-BF1F-C5305543F4AF}" srcOrd="5" destOrd="0" presId="urn:microsoft.com/office/officeart/2005/8/layout/orgChart1"/>
    <dgm:cxn modelId="{2F2E8FC9-9C0A-4AF4-9ED2-3090FD26C20F}" type="presParOf" srcId="{15FF58E4-8B6F-409C-BF1F-C5305543F4AF}" destId="{9C41389C-C992-4B1A-BDCD-0D0A6F5D09B6}" srcOrd="0" destOrd="0" presId="urn:microsoft.com/office/officeart/2005/8/layout/orgChart1"/>
    <dgm:cxn modelId="{F5B63036-81F9-437C-95CB-632B1DDCAA91}" type="presParOf" srcId="{9C41389C-C992-4B1A-BDCD-0D0A6F5D09B6}" destId="{F471BFF5-3FD9-4FDB-B83A-7DBB7C7047EC}" srcOrd="0" destOrd="0" presId="urn:microsoft.com/office/officeart/2005/8/layout/orgChart1"/>
    <dgm:cxn modelId="{EEBB3E89-B318-464A-ABD4-66365CEA5E0F}" type="presParOf" srcId="{9C41389C-C992-4B1A-BDCD-0D0A6F5D09B6}" destId="{6A0D3BFB-150E-4998-B322-EF10CEC881E0}" srcOrd="1" destOrd="0" presId="urn:microsoft.com/office/officeart/2005/8/layout/orgChart1"/>
    <dgm:cxn modelId="{C0B14BCF-0CCD-463C-A483-E331944D6183}" type="presParOf" srcId="{15FF58E4-8B6F-409C-BF1F-C5305543F4AF}" destId="{6D091915-4CD3-4F6E-AB74-467ED530CF45}" srcOrd="1" destOrd="0" presId="urn:microsoft.com/office/officeart/2005/8/layout/orgChart1"/>
    <dgm:cxn modelId="{FBE86D73-A846-4CF7-A597-B44B3A83411C}" type="presParOf" srcId="{15FF58E4-8B6F-409C-BF1F-C5305543F4AF}" destId="{32D1B54C-59EA-4C57-8BE3-6BBA8D19812D}" srcOrd="2" destOrd="0" presId="urn:microsoft.com/office/officeart/2005/8/layout/orgChart1"/>
    <dgm:cxn modelId="{78CD3D68-B25D-49DD-975B-4A3B15EBA083}" type="presParOf" srcId="{E7689654-19A9-46CF-BCC9-860AA8FB9586}" destId="{25392117-B3FD-4660-9D33-5523DBC83C63}" srcOrd="6" destOrd="0" presId="urn:microsoft.com/office/officeart/2005/8/layout/orgChart1"/>
    <dgm:cxn modelId="{3BE46455-78EC-4F95-9B81-A0DF3ADAC6EF}" type="presParOf" srcId="{E7689654-19A9-46CF-BCC9-860AA8FB9586}" destId="{1517BD35-1ACD-416E-91E8-F073E1997428}" srcOrd="7" destOrd="0" presId="urn:microsoft.com/office/officeart/2005/8/layout/orgChart1"/>
    <dgm:cxn modelId="{469C061B-3EC3-4FD3-A636-79FF33E4B447}" type="presParOf" srcId="{1517BD35-1ACD-416E-91E8-F073E1997428}" destId="{8EC69E4E-5EFD-48B9-A255-78101A4F6041}" srcOrd="0" destOrd="0" presId="urn:microsoft.com/office/officeart/2005/8/layout/orgChart1"/>
    <dgm:cxn modelId="{09322BE8-2736-4378-AC1A-A26A12636491}" type="presParOf" srcId="{8EC69E4E-5EFD-48B9-A255-78101A4F6041}" destId="{508FF30B-FABB-471E-BF05-57B92932901B}" srcOrd="0" destOrd="0" presId="urn:microsoft.com/office/officeart/2005/8/layout/orgChart1"/>
    <dgm:cxn modelId="{B12CAB79-3ADC-4A34-A13B-754A362334A5}" type="presParOf" srcId="{8EC69E4E-5EFD-48B9-A255-78101A4F6041}" destId="{CB73E335-CDE3-4918-89D0-39379D6147A5}" srcOrd="1" destOrd="0" presId="urn:microsoft.com/office/officeart/2005/8/layout/orgChart1"/>
    <dgm:cxn modelId="{7740460A-DD91-41A1-8D76-E4E98502A5DF}" type="presParOf" srcId="{1517BD35-1ACD-416E-91E8-F073E1997428}" destId="{F0528D90-0905-4CE9-9763-A4BE8F1111E4}" srcOrd="1" destOrd="0" presId="urn:microsoft.com/office/officeart/2005/8/layout/orgChart1"/>
    <dgm:cxn modelId="{C23C336B-0545-4003-875C-17501C3E8932}" type="presParOf" srcId="{1517BD35-1ACD-416E-91E8-F073E1997428}" destId="{78984C4C-5451-4C06-800B-ADDC5E29A81E}" srcOrd="2" destOrd="0" presId="urn:microsoft.com/office/officeart/2005/8/layout/orgChart1"/>
    <dgm:cxn modelId="{CE86EEFE-706F-472C-BE2B-3494E75C4E97}" type="presParOf" srcId="{4625E51F-13D0-4EDF-B384-B3B03391C389}" destId="{91BE8533-1A83-4903-BF26-136492CB4024}" srcOrd="2" destOrd="0" presId="urn:microsoft.com/office/officeart/2005/8/layout/orgChart1"/>
    <dgm:cxn modelId="{F683D64D-94F6-4167-A978-F233B88AF692}" type="presParOf" srcId="{6989CADF-1369-4D09-8907-EECB490C5155}" destId="{3EA843D1-6F40-46E7-859D-09DB88BC8805}" srcOrd="10" destOrd="0" presId="urn:microsoft.com/office/officeart/2005/8/layout/orgChart1"/>
    <dgm:cxn modelId="{CECD3B1D-674D-4E23-B103-F60C152CA43E}" type="presParOf" srcId="{6989CADF-1369-4D09-8907-EECB490C5155}" destId="{34FA2B8D-4DCB-42FE-AE88-AC9C5B790CD4}" srcOrd="11" destOrd="0" presId="urn:microsoft.com/office/officeart/2005/8/layout/orgChart1"/>
    <dgm:cxn modelId="{BD2A35F7-2608-42BF-84FC-24394D37B5A6}" type="presParOf" srcId="{34FA2B8D-4DCB-42FE-AE88-AC9C5B790CD4}" destId="{06F56E49-8D87-426A-BB1B-040C0013B6EC}" srcOrd="0" destOrd="0" presId="urn:microsoft.com/office/officeart/2005/8/layout/orgChart1"/>
    <dgm:cxn modelId="{6B41B328-586D-4CD2-A367-30E904D86C74}" type="presParOf" srcId="{06F56E49-8D87-426A-BB1B-040C0013B6EC}" destId="{596A5E4B-940C-46F8-B4C0-D61F53BA3B7D}" srcOrd="0" destOrd="0" presId="urn:microsoft.com/office/officeart/2005/8/layout/orgChart1"/>
    <dgm:cxn modelId="{955C4971-B3E5-4C95-A416-8831FC920717}" type="presParOf" srcId="{06F56E49-8D87-426A-BB1B-040C0013B6EC}" destId="{6F7AA7E7-32DF-48A1-A5E5-EC3E8D541436}" srcOrd="1" destOrd="0" presId="urn:microsoft.com/office/officeart/2005/8/layout/orgChart1"/>
    <dgm:cxn modelId="{3564BD56-4D4B-49A9-9DCC-3BFE6A12C31D}" type="presParOf" srcId="{34FA2B8D-4DCB-42FE-AE88-AC9C5B790CD4}" destId="{76A74CC8-FD39-4291-A56C-D1B5FB2A8424}" srcOrd="1" destOrd="0" presId="urn:microsoft.com/office/officeart/2005/8/layout/orgChart1"/>
    <dgm:cxn modelId="{58CD74CD-DD80-4C99-97DC-AEDA307BBB52}" type="presParOf" srcId="{76A74CC8-FD39-4291-A56C-D1B5FB2A8424}" destId="{868CCBF5-068A-4DBC-B685-85321A2C4011}" srcOrd="0" destOrd="0" presId="urn:microsoft.com/office/officeart/2005/8/layout/orgChart1"/>
    <dgm:cxn modelId="{D60D7E49-7BCF-41D9-8C4D-63BDF72E1865}" type="presParOf" srcId="{76A74CC8-FD39-4291-A56C-D1B5FB2A8424}" destId="{1B94E211-61D9-411E-9018-8F1D0319B21C}" srcOrd="1" destOrd="0" presId="urn:microsoft.com/office/officeart/2005/8/layout/orgChart1"/>
    <dgm:cxn modelId="{B4535EFF-1064-489A-A103-00C7E06C87D4}" type="presParOf" srcId="{1B94E211-61D9-411E-9018-8F1D0319B21C}" destId="{97B3388E-006B-49C9-8BE8-AC2AD052E807}" srcOrd="0" destOrd="0" presId="urn:microsoft.com/office/officeart/2005/8/layout/orgChart1"/>
    <dgm:cxn modelId="{4CB9CF99-1C98-4511-98AC-D6EFF4E2042B}" type="presParOf" srcId="{97B3388E-006B-49C9-8BE8-AC2AD052E807}" destId="{72251CAB-35A9-43AB-9AB7-65A23C2B5696}" srcOrd="0" destOrd="0" presId="urn:microsoft.com/office/officeart/2005/8/layout/orgChart1"/>
    <dgm:cxn modelId="{8B2D6783-ED31-4F8A-9366-EF10C5913383}" type="presParOf" srcId="{97B3388E-006B-49C9-8BE8-AC2AD052E807}" destId="{81290789-2B08-4C35-934E-2FFB2F0B3B2D}" srcOrd="1" destOrd="0" presId="urn:microsoft.com/office/officeart/2005/8/layout/orgChart1"/>
    <dgm:cxn modelId="{18613C18-BA08-4D0E-9755-BE7BBE6125A2}" type="presParOf" srcId="{1B94E211-61D9-411E-9018-8F1D0319B21C}" destId="{A8A7E3E1-CC4C-48B5-AB4F-98DF4DBA8459}" srcOrd="1" destOrd="0" presId="urn:microsoft.com/office/officeart/2005/8/layout/orgChart1"/>
    <dgm:cxn modelId="{1174C210-A7FF-4D27-B333-823165C9F054}" type="presParOf" srcId="{1B94E211-61D9-411E-9018-8F1D0319B21C}" destId="{FAD024B6-C583-4EC9-A6EA-C57FE9C18EC5}" srcOrd="2" destOrd="0" presId="urn:microsoft.com/office/officeart/2005/8/layout/orgChart1"/>
    <dgm:cxn modelId="{EA857B0D-0D00-4B3F-9550-2620FB503C7F}" type="presParOf" srcId="{76A74CC8-FD39-4291-A56C-D1B5FB2A8424}" destId="{EB820781-8F46-4B52-8AAE-BD798A3C31DF}" srcOrd="2" destOrd="0" presId="urn:microsoft.com/office/officeart/2005/8/layout/orgChart1"/>
    <dgm:cxn modelId="{8BF5C861-6A84-491B-B01D-13DED13149D9}" type="presParOf" srcId="{76A74CC8-FD39-4291-A56C-D1B5FB2A8424}" destId="{2FA5EAEF-69E0-40F7-9331-5AEE39075C83}" srcOrd="3" destOrd="0" presId="urn:microsoft.com/office/officeart/2005/8/layout/orgChart1"/>
    <dgm:cxn modelId="{E17C2384-53B7-4F04-8C95-C60861A2B6ED}" type="presParOf" srcId="{2FA5EAEF-69E0-40F7-9331-5AEE39075C83}" destId="{58EB1A50-C31C-4EEF-BCF3-95C0E127D3AF}" srcOrd="0" destOrd="0" presId="urn:microsoft.com/office/officeart/2005/8/layout/orgChart1"/>
    <dgm:cxn modelId="{8AF85A4C-63DB-44C8-B825-EB6B250E3F09}" type="presParOf" srcId="{58EB1A50-C31C-4EEF-BCF3-95C0E127D3AF}" destId="{AA6B85B5-9889-4AF8-B73C-217AD2782CA5}" srcOrd="0" destOrd="0" presId="urn:microsoft.com/office/officeart/2005/8/layout/orgChart1"/>
    <dgm:cxn modelId="{5BE56918-F320-4095-9C5C-222027143964}" type="presParOf" srcId="{58EB1A50-C31C-4EEF-BCF3-95C0E127D3AF}" destId="{455E4813-0DCB-499A-B8A6-4F8862F9A643}" srcOrd="1" destOrd="0" presId="urn:microsoft.com/office/officeart/2005/8/layout/orgChart1"/>
    <dgm:cxn modelId="{7D61CF8F-0B35-4FA7-8AC6-A69E791D29F0}" type="presParOf" srcId="{2FA5EAEF-69E0-40F7-9331-5AEE39075C83}" destId="{C8C2BC62-8F12-4FED-8FE6-91D3F75154E8}" srcOrd="1" destOrd="0" presId="urn:microsoft.com/office/officeart/2005/8/layout/orgChart1"/>
    <dgm:cxn modelId="{0C819DEE-DDA5-4927-8D68-5DA5CD40AAC7}" type="presParOf" srcId="{2FA5EAEF-69E0-40F7-9331-5AEE39075C83}" destId="{16A82D25-83DE-4A5B-80EE-318FDD6E64E5}" srcOrd="2" destOrd="0" presId="urn:microsoft.com/office/officeart/2005/8/layout/orgChart1"/>
    <dgm:cxn modelId="{BA5565A8-6143-4D5E-97C4-A623262F76E0}" type="presParOf" srcId="{34FA2B8D-4DCB-42FE-AE88-AC9C5B790CD4}" destId="{040649DD-7751-40C5-958B-DE539FA787FB}" srcOrd="2" destOrd="0" presId="urn:microsoft.com/office/officeart/2005/8/layout/orgChart1"/>
    <dgm:cxn modelId="{C0E7C3EB-6332-4C2A-9F52-5AC300EA20E3}" type="presParOf" srcId="{42DAB1D0-2747-4D61-B3EB-F1AABCAF2505}" destId="{E4DA51AB-49AF-4865-AD98-42357E2F732C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9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0F19130F-05B0-4A64-80D8-E00D04AAF1FB}" type="doc">
      <dgm:prSet loTypeId="urn:microsoft.com/office/officeart/2008/layout/CaptionedPictures" loCatId="picture" qsTypeId="urn:microsoft.com/office/officeart/2005/8/quickstyle/3d6" qsCatId="3D" csTypeId="urn:microsoft.com/office/officeart/2005/8/colors/accent0_3" csCatId="mainScheme" phldr="1"/>
      <dgm:spPr/>
      <dgm:t>
        <a:bodyPr/>
        <a:lstStyle/>
        <a:p>
          <a:endParaRPr lang="zh-CN" altLang="en-US"/>
        </a:p>
      </dgm:t>
    </dgm:pt>
    <dgm:pt modelId="{A934226E-78F8-461E-BF63-F75D1321322D}">
      <dgm:prSet phldrT="[文本]"/>
      <dgm:spPr/>
      <dgm:t>
        <a:bodyPr/>
        <a:lstStyle/>
        <a:p>
          <a:endParaRPr lang="zh-CN" altLang="en-US" b="1"/>
        </a:p>
      </dgm:t>
    </dgm:pt>
    <dgm:pt modelId="{489C1247-294F-4284-A955-25A3DFC9472D}" type="parTrans" cxnId="{E4858746-9062-43B3-9531-33A12F9378E4}">
      <dgm:prSet/>
      <dgm:spPr/>
      <dgm:t>
        <a:bodyPr/>
        <a:lstStyle/>
        <a:p>
          <a:endParaRPr lang="zh-CN" altLang="en-US" b="1"/>
        </a:p>
      </dgm:t>
    </dgm:pt>
    <dgm:pt modelId="{B05924BD-FCFD-4E15-BA01-979E2452878C}" type="sibTrans" cxnId="{E4858746-9062-43B3-9531-33A12F9378E4}">
      <dgm:prSet/>
      <dgm:spPr/>
      <dgm:t>
        <a:bodyPr/>
        <a:lstStyle/>
        <a:p>
          <a:endParaRPr lang="zh-CN" altLang="en-US" b="1"/>
        </a:p>
      </dgm:t>
    </dgm:pt>
    <dgm:pt modelId="{76425203-B1E8-4AAF-9F51-10270058E8B8}">
      <dgm:prSet phldrT="[文本]"/>
      <dgm:spPr/>
      <dgm:t>
        <a:bodyPr/>
        <a:lstStyle/>
        <a:p>
          <a:r>
            <a:rPr lang="en-US" altLang="zh-CN" b="1" dirty="0" smtClean="0"/>
            <a:t>APACHE</a:t>
          </a:r>
          <a:endParaRPr lang="zh-CN" altLang="en-US" b="1" dirty="0"/>
        </a:p>
      </dgm:t>
    </dgm:pt>
    <dgm:pt modelId="{821703D1-DBC1-41EA-9F79-40B218139977}" type="parTrans" cxnId="{8DB5063E-B862-4225-92B7-99D906230AF3}">
      <dgm:prSet/>
      <dgm:spPr/>
      <dgm:t>
        <a:bodyPr/>
        <a:lstStyle/>
        <a:p>
          <a:endParaRPr lang="zh-CN" altLang="en-US" b="1"/>
        </a:p>
      </dgm:t>
    </dgm:pt>
    <dgm:pt modelId="{A363EFD7-745B-4E34-8544-885DBF83EED6}" type="sibTrans" cxnId="{8DB5063E-B862-4225-92B7-99D906230AF3}">
      <dgm:prSet/>
      <dgm:spPr/>
      <dgm:t>
        <a:bodyPr/>
        <a:lstStyle/>
        <a:p>
          <a:endParaRPr lang="zh-CN" altLang="en-US" b="1"/>
        </a:p>
      </dgm:t>
    </dgm:pt>
    <dgm:pt modelId="{9E94C3EE-E60E-4D6F-BF35-75C181A9FA43}">
      <dgm:prSet phldrT="[文本]"/>
      <dgm:spPr/>
      <dgm:t>
        <a:bodyPr/>
        <a:lstStyle/>
        <a:p>
          <a:r>
            <a:rPr lang="en-US" altLang="zh-CN" b="1" dirty="0" smtClean="0"/>
            <a:t>WINDOWS</a:t>
          </a:r>
          <a:endParaRPr lang="zh-CN" altLang="en-US" b="1" dirty="0"/>
        </a:p>
      </dgm:t>
    </dgm:pt>
    <dgm:pt modelId="{BB16C96D-983A-4148-B1C0-46FD45066307}" type="parTrans" cxnId="{24173712-0A19-4D8C-9DD5-66071074F25E}">
      <dgm:prSet/>
      <dgm:spPr/>
      <dgm:t>
        <a:bodyPr/>
        <a:lstStyle/>
        <a:p>
          <a:endParaRPr lang="zh-CN" altLang="en-US" b="1"/>
        </a:p>
      </dgm:t>
    </dgm:pt>
    <dgm:pt modelId="{BA46638B-E78A-4450-9013-79DD2068062E}" type="sibTrans" cxnId="{24173712-0A19-4D8C-9DD5-66071074F25E}">
      <dgm:prSet/>
      <dgm:spPr/>
      <dgm:t>
        <a:bodyPr/>
        <a:lstStyle/>
        <a:p>
          <a:endParaRPr lang="zh-CN" altLang="en-US" b="1"/>
        </a:p>
      </dgm:t>
    </dgm:pt>
    <dgm:pt modelId="{D2C4FB91-08DE-4C63-8DD3-71C793D93CEA}">
      <dgm:prSet phldrT="[文本]" phldr="1"/>
      <dgm:spPr/>
      <dgm:t>
        <a:bodyPr/>
        <a:lstStyle/>
        <a:p>
          <a:endParaRPr lang="zh-CN" altLang="en-US" b="1" dirty="0"/>
        </a:p>
      </dgm:t>
    </dgm:pt>
    <dgm:pt modelId="{66E534E2-8A1B-482E-9673-89EB7438F960}" type="parTrans" cxnId="{E4246C8A-D72F-48C1-848A-0E22F6D10102}">
      <dgm:prSet/>
      <dgm:spPr/>
      <dgm:t>
        <a:bodyPr/>
        <a:lstStyle/>
        <a:p>
          <a:endParaRPr lang="zh-CN" altLang="en-US" b="1"/>
        </a:p>
      </dgm:t>
    </dgm:pt>
    <dgm:pt modelId="{F2560BB4-5B01-4AB5-B62E-CCFCCD73F1BF}" type="sibTrans" cxnId="{E4246C8A-D72F-48C1-848A-0E22F6D10102}">
      <dgm:prSet/>
      <dgm:spPr/>
      <dgm:t>
        <a:bodyPr/>
        <a:lstStyle/>
        <a:p>
          <a:endParaRPr lang="zh-CN" altLang="en-US" b="1"/>
        </a:p>
      </dgm:t>
    </dgm:pt>
    <dgm:pt modelId="{933BCE3F-27CF-4941-BEC3-70162D4ADCAB}">
      <dgm:prSet phldrT="[文本]"/>
      <dgm:spPr/>
      <dgm:t>
        <a:bodyPr/>
        <a:lstStyle/>
        <a:p>
          <a:r>
            <a:rPr lang="en-US" altLang="zh-CN" b="1" dirty="0" smtClean="0"/>
            <a:t>PHP</a:t>
          </a:r>
          <a:endParaRPr lang="zh-CN" altLang="en-US" b="1" dirty="0"/>
        </a:p>
      </dgm:t>
    </dgm:pt>
    <dgm:pt modelId="{6E2723D7-E4F1-4702-8FA7-972B508E9493}" type="parTrans" cxnId="{8EA9B262-86F3-4281-B743-3CE7AD1DDBEA}">
      <dgm:prSet/>
      <dgm:spPr/>
      <dgm:t>
        <a:bodyPr/>
        <a:lstStyle/>
        <a:p>
          <a:endParaRPr lang="zh-CN" altLang="en-US" b="1"/>
        </a:p>
      </dgm:t>
    </dgm:pt>
    <dgm:pt modelId="{91AB0E4A-9AE8-4D9C-9838-D9EB093E8231}" type="sibTrans" cxnId="{8EA9B262-86F3-4281-B743-3CE7AD1DDBEA}">
      <dgm:prSet/>
      <dgm:spPr/>
      <dgm:t>
        <a:bodyPr/>
        <a:lstStyle/>
        <a:p>
          <a:endParaRPr lang="zh-CN" altLang="en-US" b="1"/>
        </a:p>
      </dgm:t>
    </dgm:pt>
    <dgm:pt modelId="{15401C94-D911-4D9D-B8C9-993C4AAF2197}">
      <dgm:prSet/>
      <dgm:spPr/>
      <dgm:t>
        <a:bodyPr/>
        <a:lstStyle/>
        <a:p>
          <a:endParaRPr lang="zh-CN" altLang="en-US" b="1"/>
        </a:p>
      </dgm:t>
    </dgm:pt>
    <dgm:pt modelId="{66F88436-B15C-4172-94DB-E9517D72213C}" type="parTrans" cxnId="{E51531DA-67C5-4CDE-AB45-552370B78033}">
      <dgm:prSet/>
      <dgm:spPr/>
      <dgm:t>
        <a:bodyPr/>
        <a:lstStyle/>
        <a:p>
          <a:endParaRPr lang="zh-CN" altLang="en-US" b="1"/>
        </a:p>
      </dgm:t>
    </dgm:pt>
    <dgm:pt modelId="{3E206B7B-802E-4A78-A86A-CE0835107ED6}" type="sibTrans" cxnId="{E51531DA-67C5-4CDE-AB45-552370B78033}">
      <dgm:prSet/>
      <dgm:spPr/>
      <dgm:t>
        <a:bodyPr/>
        <a:lstStyle/>
        <a:p>
          <a:endParaRPr lang="zh-CN" altLang="en-US" b="1"/>
        </a:p>
      </dgm:t>
    </dgm:pt>
    <dgm:pt modelId="{48BA0F7A-E91F-4E32-8026-65603557212C}">
      <dgm:prSet/>
      <dgm:spPr/>
      <dgm:t>
        <a:bodyPr/>
        <a:lstStyle/>
        <a:p>
          <a:r>
            <a:rPr lang="en-US" altLang="zh-CN" b="1" dirty="0" smtClean="0"/>
            <a:t>MYSQL</a:t>
          </a:r>
          <a:endParaRPr lang="zh-CN" altLang="en-US" b="1" dirty="0"/>
        </a:p>
      </dgm:t>
    </dgm:pt>
    <dgm:pt modelId="{EF01FBB1-019F-4D2D-B573-4199FA6E8D6F}" type="parTrans" cxnId="{FBB3A87A-A924-47C1-9A07-CB7CCE0DAC7F}">
      <dgm:prSet/>
      <dgm:spPr/>
      <dgm:t>
        <a:bodyPr/>
        <a:lstStyle/>
        <a:p>
          <a:endParaRPr lang="zh-CN" altLang="en-US" b="1"/>
        </a:p>
      </dgm:t>
    </dgm:pt>
    <dgm:pt modelId="{9A524B10-1B13-4208-AC4D-96025A798060}" type="sibTrans" cxnId="{FBB3A87A-A924-47C1-9A07-CB7CCE0DAC7F}">
      <dgm:prSet/>
      <dgm:spPr/>
      <dgm:t>
        <a:bodyPr/>
        <a:lstStyle/>
        <a:p>
          <a:endParaRPr lang="zh-CN" altLang="en-US" b="1"/>
        </a:p>
      </dgm:t>
    </dgm:pt>
    <dgm:pt modelId="{388DFBDD-D30A-4EAC-A420-D08BA1E0206F}">
      <dgm:prSet phldrT="[文本]" phldr="1"/>
      <dgm:spPr/>
      <dgm:t>
        <a:bodyPr/>
        <a:lstStyle/>
        <a:p>
          <a:endParaRPr lang="zh-CN" altLang="en-US" b="1" dirty="0"/>
        </a:p>
      </dgm:t>
    </dgm:pt>
    <dgm:pt modelId="{9B4148FA-2723-4EAB-BE6E-E6992AD65D30}" type="sibTrans" cxnId="{6E6E3938-621E-4D66-B80A-33A9429EEA92}">
      <dgm:prSet/>
      <dgm:spPr/>
      <dgm:t>
        <a:bodyPr/>
        <a:lstStyle/>
        <a:p>
          <a:endParaRPr lang="zh-CN" altLang="en-US" b="1"/>
        </a:p>
      </dgm:t>
    </dgm:pt>
    <dgm:pt modelId="{5A3D09C6-8F12-496E-88FD-0F9DE8D5F41A}" type="parTrans" cxnId="{6E6E3938-621E-4D66-B80A-33A9429EEA92}">
      <dgm:prSet/>
      <dgm:spPr/>
      <dgm:t>
        <a:bodyPr/>
        <a:lstStyle/>
        <a:p>
          <a:endParaRPr lang="zh-CN" altLang="en-US" b="1"/>
        </a:p>
      </dgm:t>
    </dgm:pt>
    <dgm:pt modelId="{50CD1988-70DD-482E-9C11-F4C47B278BE6}" type="pres">
      <dgm:prSet presAssocID="{0F19130F-05B0-4A64-80D8-E00D04AAF1FB}" presName="Name0" presStyleCnt="0">
        <dgm:presLayoutVars>
          <dgm:chMax/>
          <dgm:chPref/>
          <dgm:dir/>
        </dgm:presLayoutVars>
      </dgm:prSet>
      <dgm:spPr/>
      <dgm:t>
        <a:bodyPr/>
        <a:lstStyle/>
        <a:p>
          <a:endParaRPr lang="zh-CN" altLang="en-US"/>
        </a:p>
      </dgm:t>
    </dgm:pt>
    <dgm:pt modelId="{9C181810-065D-44C7-8131-2753DDC6CEA0}" type="pres">
      <dgm:prSet presAssocID="{388DFBDD-D30A-4EAC-A420-D08BA1E0206F}" presName="composite" presStyleCnt="0">
        <dgm:presLayoutVars>
          <dgm:chMax val="1"/>
          <dgm:chPref val="1"/>
        </dgm:presLayoutVars>
      </dgm:prSet>
      <dgm:spPr/>
    </dgm:pt>
    <dgm:pt modelId="{6D6BACA9-1151-4D30-A42A-3FF8CBFF4FB4}" type="pres">
      <dgm:prSet presAssocID="{388DFBDD-D30A-4EAC-A420-D08BA1E0206F}" presName="Accent" presStyleLbl="trAlignAcc1" presStyleIdx="0" presStyleCnt="4">
        <dgm:presLayoutVars>
          <dgm:chMax val="0"/>
          <dgm:chPref val="0"/>
        </dgm:presLayoutVars>
      </dgm:prSet>
      <dgm:spPr/>
    </dgm:pt>
    <dgm:pt modelId="{2BD43F5A-ACE0-4A2C-85D6-94A843147E3B}" type="pres">
      <dgm:prSet presAssocID="{388DFBDD-D30A-4EAC-A420-D08BA1E0206F}" presName="Image" presStyleLbl="alignImgPlace1" presStyleIdx="0" presStyleCnt="4">
        <dgm:presLayoutVars>
          <dgm:chMax val="0"/>
          <dgm:chPref val="0"/>
        </dgm:presLayoutVars>
      </dgm:prSet>
      <dgm:spPr>
        <a:blipFill>
          <a:blip xmlns:r="http://schemas.openxmlformats.org/officeDocument/2006/relationships" r:embed="rId1">
            <a:extLst/>
          </a:blip>
          <a:srcRect/>
          <a:stretch>
            <a:fillRect t="-8000" b="-8000"/>
          </a:stretch>
        </a:blipFill>
      </dgm:spPr>
    </dgm:pt>
    <dgm:pt modelId="{879A38AB-F4E6-4163-B7C2-AA4461378EE4}" type="pres">
      <dgm:prSet presAssocID="{388DFBDD-D30A-4EAC-A420-D08BA1E0206F}" presName="ChildComposite" presStyleCnt="0"/>
      <dgm:spPr/>
    </dgm:pt>
    <dgm:pt modelId="{3359B5D8-C9FB-493B-9132-8520D1AB8A72}" type="pres">
      <dgm:prSet presAssocID="{388DFBDD-D30A-4EAC-A420-D08BA1E0206F}" presName="Child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7E811BF-6063-46E7-ACF7-14BEEAA110A4}" type="pres">
      <dgm:prSet presAssocID="{388DFBDD-D30A-4EAC-A420-D08BA1E0206F}" presName="Parent" presStyleLbl="revTx" presStyleIdx="0" presStyleCnt="4">
        <dgm:presLayoutVars>
          <dgm:chMax val="1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7B32F09-AEE8-493F-B609-4EFDE63ABDFF}" type="pres">
      <dgm:prSet presAssocID="{9B4148FA-2723-4EAB-BE6E-E6992AD65D30}" presName="sibTrans" presStyleCnt="0"/>
      <dgm:spPr/>
    </dgm:pt>
    <dgm:pt modelId="{50371410-1442-49E6-88D7-039F63255A9E}" type="pres">
      <dgm:prSet presAssocID="{D2C4FB91-08DE-4C63-8DD3-71C793D93CEA}" presName="composite" presStyleCnt="0">
        <dgm:presLayoutVars>
          <dgm:chMax val="1"/>
          <dgm:chPref val="1"/>
        </dgm:presLayoutVars>
      </dgm:prSet>
      <dgm:spPr/>
    </dgm:pt>
    <dgm:pt modelId="{72A34549-C308-40E8-B410-C7198E7E6074}" type="pres">
      <dgm:prSet presAssocID="{D2C4FB91-08DE-4C63-8DD3-71C793D93CEA}" presName="Accent" presStyleLbl="trAlignAcc1" presStyleIdx="1" presStyleCnt="4">
        <dgm:presLayoutVars>
          <dgm:chMax val="0"/>
          <dgm:chPref val="0"/>
        </dgm:presLayoutVars>
      </dgm:prSet>
      <dgm:spPr/>
    </dgm:pt>
    <dgm:pt modelId="{D4C2F36A-2BAF-415D-A523-7743E590577E}" type="pres">
      <dgm:prSet presAssocID="{D2C4FB91-08DE-4C63-8DD3-71C793D93CEA}" presName="Image" presStyleLbl="alignImgPlace1" presStyleIdx="1" presStyleCnt="4">
        <dgm:presLayoutVars>
          <dgm:chMax val="0"/>
          <dgm:chPref val="0"/>
        </dgm:presLayoutVars>
      </dgm:prSet>
      <dgm:spPr>
        <a:blipFill>
          <a:blip xmlns:r="http://schemas.openxmlformats.org/officeDocument/2006/relationships" r:embed="rId2">
            <a:extLst/>
          </a:blip>
          <a:srcRect/>
          <a:stretch>
            <a:fillRect l="-30000" r="-30000"/>
          </a:stretch>
        </a:blipFill>
      </dgm:spPr>
    </dgm:pt>
    <dgm:pt modelId="{E291BE00-9E91-4C26-9F1F-0993B1178BDD}" type="pres">
      <dgm:prSet presAssocID="{D2C4FB91-08DE-4C63-8DD3-71C793D93CEA}" presName="ChildComposite" presStyleCnt="0"/>
      <dgm:spPr/>
    </dgm:pt>
    <dgm:pt modelId="{D4BC8E2E-1C9F-4F89-B759-C12A792D1004}" type="pres">
      <dgm:prSet presAssocID="{D2C4FB91-08DE-4C63-8DD3-71C793D93CEA}" presName="Child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263975F-DB72-4748-BF0A-8246BF88BB32}" type="pres">
      <dgm:prSet presAssocID="{D2C4FB91-08DE-4C63-8DD3-71C793D93CEA}" presName="Parent" presStyleLbl="revTx" presStyleIdx="1" presStyleCnt="4">
        <dgm:presLayoutVars>
          <dgm:chMax val="1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9B324F-6DA3-4E48-AEF0-924EBC500842}" type="pres">
      <dgm:prSet presAssocID="{F2560BB4-5B01-4AB5-B62E-CCFCCD73F1BF}" presName="sibTrans" presStyleCnt="0"/>
      <dgm:spPr/>
    </dgm:pt>
    <dgm:pt modelId="{C2C51564-FD7E-41D9-BE14-BBAB59DD6DFC}" type="pres">
      <dgm:prSet presAssocID="{A934226E-78F8-461E-BF63-F75D1321322D}" presName="composite" presStyleCnt="0">
        <dgm:presLayoutVars>
          <dgm:chMax val="1"/>
          <dgm:chPref val="1"/>
        </dgm:presLayoutVars>
      </dgm:prSet>
      <dgm:spPr/>
    </dgm:pt>
    <dgm:pt modelId="{2C98C808-1DF6-4BA1-9F57-F4DD88B7C2B1}" type="pres">
      <dgm:prSet presAssocID="{A934226E-78F8-461E-BF63-F75D1321322D}" presName="Accent" presStyleLbl="trAlignAcc1" presStyleIdx="2" presStyleCnt="4">
        <dgm:presLayoutVars>
          <dgm:chMax val="0"/>
          <dgm:chPref val="0"/>
        </dgm:presLayoutVars>
      </dgm:prSet>
      <dgm:spPr/>
    </dgm:pt>
    <dgm:pt modelId="{895900C4-4CB1-4307-A48B-3BE54AE6F0EB}" type="pres">
      <dgm:prSet presAssocID="{A934226E-78F8-461E-BF63-F75D1321322D}" presName="Image" presStyleLbl="alignImgPlace1" presStyleIdx="2" presStyleCnt="4">
        <dgm:presLayoutVars>
          <dgm:chMax val="0"/>
          <dgm:chPref val="0"/>
        </dgm:presLayoutVars>
      </dgm:prSet>
      <dgm:spPr>
        <a:blipFill>
          <a:blip xmlns:r="http://schemas.openxmlformats.org/officeDocument/2006/relationships" r:embed="rId3">
            <a:extLst/>
          </a:blip>
          <a:srcRect/>
          <a:stretch>
            <a:fillRect l="-65000" r="-65000"/>
          </a:stretch>
        </a:blipFill>
      </dgm:spPr>
    </dgm:pt>
    <dgm:pt modelId="{7DED4373-1BE3-44DF-99B2-9BE9F4F99883}" type="pres">
      <dgm:prSet presAssocID="{A934226E-78F8-461E-BF63-F75D1321322D}" presName="ChildComposite" presStyleCnt="0"/>
      <dgm:spPr/>
    </dgm:pt>
    <dgm:pt modelId="{6A995207-BBA7-4F36-ACAD-38167493BEEE}" type="pres">
      <dgm:prSet presAssocID="{A934226E-78F8-461E-BF63-F75D1321322D}" presName="Child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CFEC658-762D-43EE-A688-FCFF81FB024B}" type="pres">
      <dgm:prSet presAssocID="{A934226E-78F8-461E-BF63-F75D1321322D}" presName="Parent" presStyleLbl="revTx" presStyleIdx="2" presStyleCnt="4">
        <dgm:presLayoutVars>
          <dgm:chMax val="1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C6E9384-954B-4EAD-935A-89EC2CB5ED1A}" type="pres">
      <dgm:prSet presAssocID="{B05924BD-FCFD-4E15-BA01-979E2452878C}" presName="sibTrans" presStyleCnt="0"/>
      <dgm:spPr/>
    </dgm:pt>
    <dgm:pt modelId="{4BFC5DEF-DD8B-4D92-A22A-BD75026A56B2}" type="pres">
      <dgm:prSet presAssocID="{15401C94-D911-4D9D-B8C9-993C4AAF2197}" presName="composite" presStyleCnt="0">
        <dgm:presLayoutVars>
          <dgm:chMax val="1"/>
          <dgm:chPref val="1"/>
        </dgm:presLayoutVars>
      </dgm:prSet>
      <dgm:spPr/>
    </dgm:pt>
    <dgm:pt modelId="{9DF5523A-D858-4970-AE3D-B53F486EB176}" type="pres">
      <dgm:prSet presAssocID="{15401C94-D911-4D9D-B8C9-993C4AAF2197}" presName="Accent" presStyleLbl="trAlignAcc1" presStyleIdx="3" presStyleCnt="4">
        <dgm:presLayoutVars>
          <dgm:chMax val="0"/>
          <dgm:chPref val="0"/>
        </dgm:presLayoutVars>
      </dgm:prSet>
      <dgm:spPr/>
    </dgm:pt>
    <dgm:pt modelId="{CF94532C-A7B5-4F0F-9FB9-A10E47572E8E}" type="pres">
      <dgm:prSet presAssocID="{15401C94-D911-4D9D-B8C9-993C4AAF2197}" presName="Image" presStyleLbl="alignImgPlace1" presStyleIdx="3" presStyleCnt="4">
        <dgm:presLayoutVars>
          <dgm:chMax val="0"/>
          <dgm:chPref val="0"/>
        </dgm:presLayoutVars>
      </dgm:prSet>
      <dgm:spPr>
        <a:blipFill>
          <a:blip xmlns:r="http://schemas.openxmlformats.org/officeDocument/2006/relationships" r:embed="rId4">
            <a:extLst/>
          </a:blip>
          <a:srcRect/>
          <a:stretch>
            <a:fillRect l="-23000" r="-23000"/>
          </a:stretch>
        </a:blipFill>
      </dgm:spPr>
    </dgm:pt>
    <dgm:pt modelId="{373349D7-182D-4A8E-ADC4-1D22635323E4}" type="pres">
      <dgm:prSet presAssocID="{15401C94-D911-4D9D-B8C9-993C4AAF2197}" presName="ChildComposite" presStyleCnt="0"/>
      <dgm:spPr/>
    </dgm:pt>
    <dgm:pt modelId="{B630E0DF-A7E0-4C3F-820E-0D23AD97475A}" type="pres">
      <dgm:prSet presAssocID="{15401C94-D911-4D9D-B8C9-993C4AAF2197}" presName="Child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E79A0A6-590D-48C5-87F7-CA96C4EE20E2}" type="pres">
      <dgm:prSet presAssocID="{15401C94-D911-4D9D-B8C9-993C4AAF2197}" presName="Parent" presStyleLbl="revTx" presStyleIdx="3" presStyleCnt="4">
        <dgm:presLayoutVars>
          <dgm:chMax val="1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5CDA9400-ED95-4CCD-9467-12EC173B48BF}" type="presOf" srcId="{48BA0F7A-E91F-4E32-8026-65603557212C}" destId="{B630E0DF-A7E0-4C3F-820E-0D23AD97475A}" srcOrd="0" destOrd="0" presId="urn:microsoft.com/office/officeart/2008/layout/CaptionedPictures"/>
    <dgm:cxn modelId="{17A01EEA-3D7E-4DEB-8574-FFF92CB82496}" type="presOf" srcId="{76425203-B1E8-4AAF-9F51-10270058E8B8}" destId="{6A995207-BBA7-4F36-ACAD-38167493BEEE}" srcOrd="0" destOrd="0" presId="urn:microsoft.com/office/officeart/2008/layout/CaptionedPictures"/>
    <dgm:cxn modelId="{FBB3A87A-A924-47C1-9A07-CB7CCE0DAC7F}" srcId="{15401C94-D911-4D9D-B8C9-993C4AAF2197}" destId="{48BA0F7A-E91F-4E32-8026-65603557212C}" srcOrd="0" destOrd="0" parTransId="{EF01FBB1-019F-4D2D-B573-4199FA6E8D6F}" sibTransId="{9A524B10-1B13-4208-AC4D-96025A798060}"/>
    <dgm:cxn modelId="{0A8C0C7C-8930-4BFF-83AB-F7B82082DA06}" type="presOf" srcId="{9E94C3EE-E60E-4D6F-BF35-75C181A9FA43}" destId="{3359B5D8-C9FB-493B-9132-8520D1AB8A72}" srcOrd="0" destOrd="0" presId="urn:microsoft.com/office/officeart/2008/layout/CaptionedPictures"/>
    <dgm:cxn modelId="{E4246C8A-D72F-48C1-848A-0E22F6D10102}" srcId="{0F19130F-05B0-4A64-80D8-E00D04AAF1FB}" destId="{D2C4FB91-08DE-4C63-8DD3-71C793D93CEA}" srcOrd="1" destOrd="0" parTransId="{66E534E2-8A1B-482E-9673-89EB7438F960}" sibTransId="{F2560BB4-5B01-4AB5-B62E-CCFCCD73F1BF}"/>
    <dgm:cxn modelId="{2B2D49CF-2B70-48A8-A9FB-E341413CE052}" type="presOf" srcId="{933BCE3F-27CF-4941-BEC3-70162D4ADCAB}" destId="{D4BC8E2E-1C9F-4F89-B759-C12A792D1004}" srcOrd="0" destOrd="0" presId="urn:microsoft.com/office/officeart/2008/layout/CaptionedPictures"/>
    <dgm:cxn modelId="{3E99F959-1EBD-4C40-AD43-45CE80A525F0}" type="presOf" srcId="{15401C94-D911-4D9D-B8C9-993C4AAF2197}" destId="{7E79A0A6-590D-48C5-87F7-CA96C4EE20E2}" srcOrd="0" destOrd="0" presId="urn:microsoft.com/office/officeart/2008/layout/CaptionedPictures"/>
    <dgm:cxn modelId="{8EA9B262-86F3-4281-B743-3CE7AD1DDBEA}" srcId="{D2C4FB91-08DE-4C63-8DD3-71C793D93CEA}" destId="{933BCE3F-27CF-4941-BEC3-70162D4ADCAB}" srcOrd="0" destOrd="0" parTransId="{6E2723D7-E4F1-4702-8FA7-972B508E9493}" sibTransId="{91AB0E4A-9AE8-4D9C-9838-D9EB093E8231}"/>
    <dgm:cxn modelId="{8DB5063E-B862-4225-92B7-99D906230AF3}" srcId="{A934226E-78F8-461E-BF63-F75D1321322D}" destId="{76425203-B1E8-4AAF-9F51-10270058E8B8}" srcOrd="0" destOrd="0" parTransId="{821703D1-DBC1-41EA-9F79-40B218139977}" sibTransId="{A363EFD7-745B-4E34-8544-885DBF83EED6}"/>
    <dgm:cxn modelId="{7BFB6B25-0D76-4B62-A83D-D8E877DFB984}" type="presOf" srcId="{388DFBDD-D30A-4EAC-A420-D08BA1E0206F}" destId="{F7E811BF-6063-46E7-ACF7-14BEEAA110A4}" srcOrd="0" destOrd="0" presId="urn:microsoft.com/office/officeart/2008/layout/CaptionedPictures"/>
    <dgm:cxn modelId="{CFAD1C06-7B9E-4B37-BD94-B5AB0073837F}" type="presOf" srcId="{D2C4FB91-08DE-4C63-8DD3-71C793D93CEA}" destId="{2263975F-DB72-4748-BF0A-8246BF88BB32}" srcOrd="0" destOrd="0" presId="urn:microsoft.com/office/officeart/2008/layout/CaptionedPictures"/>
    <dgm:cxn modelId="{FB299A6F-9069-4B7D-BE8C-28F52B77F9F0}" type="presOf" srcId="{0F19130F-05B0-4A64-80D8-E00D04AAF1FB}" destId="{50CD1988-70DD-482E-9C11-F4C47B278BE6}" srcOrd="0" destOrd="0" presId="urn:microsoft.com/office/officeart/2008/layout/CaptionedPictures"/>
    <dgm:cxn modelId="{E4858746-9062-43B3-9531-33A12F9378E4}" srcId="{0F19130F-05B0-4A64-80D8-E00D04AAF1FB}" destId="{A934226E-78F8-461E-BF63-F75D1321322D}" srcOrd="2" destOrd="0" parTransId="{489C1247-294F-4284-A955-25A3DFC9472D}" sibTransId="{B05924BD-FCFD-4E15-BA01-979E2452878C}"/>
    <dgm:cxn modelId="{E51531DA-67C5-4CDE-AB45-552370B78033}" srcId="{0F19130F-05B0-4A64-80D8-E00D04AAF1FB}" destId="{15401C94-D911-4D9D-B8C9-993C4AAF2197}" srcOrd="3" destOrd="0" parTransId="{66F88436-B15C-4172-94DB-E9517D72213C}" sibTransId="{3E206B7B-802E-4A78-A86A-CE0835107ED6}"/>
    <dgm:cxn modelId="{46F2AC0F-4ABB-4E13-8EBC-35FF39BBE5F5}" type="presOf" srcId="{A934226E-78F8-461E-BF63-F75D1321322D}" destId="{FCFEC658-762D-43EE-A688-FCFF81FB024B}" srcOrd="0" destOrd="0" presId="urn:microsoft.com/office/officeart/2008/layout/CaptionedPictures"/>
    <dgm:cxn modelId="{6E6E3938-621E-4D66-B80A-33A9429EEA92}" srcId="{0F19130F-05B0-4A64-80D8-E00D04AAF1FB}" destId="{388DFBDD-D30A-4EAC-A420-D08BA1E0206F}" srcOrd="0" destOrd="0" parTransId="{5A3D09C6-8F12-496E-88FD-0F9DE8D5F41A}" sibTransId="{9B4148FA-2723-4EAB-BE6E-E6992AD65D30}"/>
    <dgm:cxn modelId="{24173712-0A19-4D8C-9DD5-66071074F25E}" srcId="{388DFBDD-D30A-4EAC-A420-D08BA1E0206F}" destId="{9E94C3EE-E60E-4D6F-BF35-75C181A9FA43}" srcOrd="0" destOrd="0" parTransId="{BB16C96D-983A-4148-B1C0-46FD45066307}" sibTransId="{BA46638B-E78A-4450-9013-79DD2068062E}"/>
    <dgm:cxn modelId="{077A993C-DD64-4962-937C-CE99690FD95B}" type="presParOf" srcId="{50CD1988-70DD-482E-9C11-F4C47B278BE6}" destId="{9C181810-065D-44C7-8131-2753DDC6CEA0}" srcOrd="0" destOrd="0" presId="urn:microsoft.com/office/officeart/2008/layout/CaptionedPictures"/>
    <dgm:cxn modelId="{F7519A6E-C9A8-4E4A-8089-92D1B14AD433}" type="presParOf" srcId="{9C181810-065D-44C7-8131-2753DDC6CEA0}" destId="{6D6BACA9-1151-4D30-A42A-3FF8CBFF4FB4}" srcOrd="0" destOrd="0" presId="urn:microsoft.com/office/officeart/2008/layout/CaptionedPictures"/>
    <dgm:cxn modelId="{1C2A1D9B-ACE8-4A3E-825F-B3C13EDE23C2}" type="presParOf" srcId="{9C181810-065D-44C7-8131-2753DDC6CEA0}" destId="{2BD43F5A-ACE0-4A2C-85D6-94A843147E3B}" srcOrd="1" destOrd="0" presId="urn:microsoft.com/office/officeart/2008/layout/CaptionedPictures"/>
    <dgm:cxn modelId="{843BFDAA-6EB6-49C7-8EA9-28D2AE2A449A}" type="presParOf" srcId="{9C181810-065D-44C7-8131-2753DDC6CEA0}" destId="{879A38AB-F4E6-4163-B7C2-AA4461378EE4}" srcOrd="2" destOrd="0" presId="urn:microsoft.com/office/officeart/2008/layout/CaptionedPictures"/>
    <dgm:cxn modelId="{C3003FE2-EE93-4084-9C59-014CE630E452}" type="presParOf" srcId="{879A38AB-F4E6-4163-B7C2-AA4461378EE4}" destId="{3359B5D8-C9FB-493B-9132-8520D1AB8A72}" srcOrd="0" destOrd="0" presId="urn:microsoft.com/office/officeart/2008/layout/CaptionedPictures"/>
    <dgm:cxn modelId="{448A8FAE-7369-42BD-9FDC-329201C24298}" type="presParOf" srcId="{879A38AB-F4E6-4163-B7C2-AA4461378EE4}" destId="{F7E811BF-6063-46E7-ACF7-14BEEAA110A4}" srcOrd="1" destOrd="0" presId="urn:microsoft.com/office/officeart/2008/layout/CaptionedPictures"/>
    <dgm:cxn modelId="{B4159EE7-88E5-400D-B172-6EBBFCF443BC}" type="presParOf" srcId="{50CD1988-70DD-482E-9C11-F4C47B278BE6}" destId="{D7B32F09-AEE8-493F-B609-4EFDE63ABDFF}" srcOrd="1" destOrd="0" presId="urn:microsoft.com/office/officeart/2008/layout/CaptionedPictures"/>
    <dgm:cxn modelId="{1EE7D629-C6BF-4ABD-9E7A-3A5F6F8C0EF2}" type="presParOf" srcId="{50CD1988-70DD-482E-9C11-F4C47B278BE6}" destId="{50371410-1442-49E6-88D7-039F63255A9E}" srcOrd="2" destOrd="0" presId="urn:microsoft.com/office/officeart/2008/layout/CaptionedPictures"/>
    <dgm:cxn modelId="{5146C00B-7C4D-4A78-9743-8A74322E4B0F}" type="presParOf" srcId="{50371410-1442-49E6-88D7-039F63255A9E}" destId="{72A34549-C308-40E8-B410-C7198E7E6074}" srcOrd="0" destOrd="0" presId="urn:microsoft.com/office/officeart/2008/layout/CaptionedPictures"/>
    <dgm:cxn modelId="{5EB30686-1A42-493A-A857-D7B13E753474}" type="presParOf" srcId="{50371410-1442-49E6-88D7-039F63255A9E}" destId="{D4C2F36A-2BAF-415D-A523-7743E590577E}" srcOrd="1" destOrd="0" presId="urn:microsoft.com/office/officeart/2008/layout/CaptionedPictures"/>
    <dgm:cxn modelId="{488B9999-9F17-48DE-94B0-809DD92AEB6E}" type="presParOf" srcId="{50371410-1442-49E6-88D7-039F63255A9E}" destId="{E291BE00-9E91-4C26-9F1F-0993B1178BDD}" srcOrd="2" destOrd="0" presId="urn:microsoft.com/office/officeart/2008/layout/CaptionedPictures"/>
    <dgm:cxn modelId="{C8D5661B-82F7-49F9-B226-51B9D2510839}" type="presParOf" srcId="{E291BE00-9E91-4C26-9F1F-0993B1178BDD}" destId="{D4BC8E2E-1C9F-4F89-B759-C12A792D1004}" srcOrd="0" destOrd="0" presId="urn:microsoft.com/office/officeart/2008/layout/CaptionedPictures"/>
    <dgm:cxn modelId="{BBF9DD08-D404-45E5-BF79-C6DE8958F3D0}" type="presParOf" srcId="{E291BE00-9E91-4C26-9F1F-0993B1178BDD}" destId="{2263975F-DB72-4748-BF0A-8246BF88BB32}" srcOrd="1" destOrd="0" presId="urn:microsoft.com/office/officeart/2008/layout/CaptionedPictures"/>
    <dgm:cxn modelId="{C0523F40-A220-4CF7-AD33-F7DFAF5F3FD2}" type="presParOf" srcId="{50CD1988-70DD-482E-9C11-F4C47B278BE6}" destId="{B29B324F-6DA3-4E48-AEF0-924EBC500842}" srcOrd="3" destOrd="0" presId="urn:microsoft.com/office/officeart/2008/layout/CaptionedPictures"/>
    <dgm:cxn modelId="{3CDA5DC6-966C-4B14-BB02-F3931BA97393}" type="presParOf" srcId="{50CD1988-70DD-482E-9C11-F4C47B278BE6}" destId="{C2C51564-FD7E-41D9-BE14-BBAB59DD6DFC}" srcOrd="4" destOrd="0" presId="urn:microsoft.com/office/officeart/2008/layout/CaptionedPictures"/>
    <dgm:cxn modelId="{53BF08CF-1160-461A-B6A7-4EBC19F298B7}" type="presParOf" srcId="{C2C51564-FD7E-41D9-BE14-BBAB59DD6DFC}" destId="{2C98C808-1DF6-4BA1-9F57-F4DD88B7C2B1}" srcOrd="0" destOrd="0" presId="urn:microsoft.com/office/officeart/2008/layout/CaptionedPictures"/>
    <dgm:cxn modelId="{DC330CE8-D0CF-41B4-AF21-C815001B5338}" type="presParOf" srcId="{C2C51564-FD7E-41D9-BE14-BBAB59DD6DFC}" destId="{895900C4-4CB1-4307-A48B-3BE54AE6F0EB}" srcOrd="1" destOrd="0" presId="urn:microsoft.com/office/officeart/2008/layout/CaptionedPictures"/>
    <dgm:cxn modelId="{B0B9B582-3430-490C-9A2C-9375912922A1}" type="presParOf" srcId="{C2C51564-FD7E-41D9-BE14-BBAB59DD6DFC}" destId="{7DED4373-1BE3-44DF-99B2-9BE9F4F99883}" srcOrd="2" destOrd="0" presId="urn:microsoft.com/office/officeart/2008/layout/CaptionedPictures"/>
    <dgm:cxn modelId="{8C95F8B7-7D57-4B5F-B200-EAE86A9BD22E}" type="presParOf" srcId="{7DED4373-1BE3-44DF-99B2-9BE9F4F99883}" destId="{6A995207-BBA7-4F36-ACAD-38167493BEEE}" srcOrd="0" destOrd="0" presId="urn:microsoft.com/office/officeart/2008/layout/CaptionedPictures"/>
    <dgm:cxn modelId="{910E5C4E-5A05-4769-9C49-DFF713F637E2}" type="presParOf" srcId="{7DED4373-1BE3-44DF-99B2-9BE9F4F99883}" destId="{FCFEC658-762D-43EE-A688-FCFF81FB024B}" srcOrd="1" destOrd="0" presId="urn:microsoft.com/office/officeart/2008/layout/CaptionedPictures"/>
    <dgm:cxn modelId="{39A007F1-E2FC-457F-80FE-7E751C8D6601}" type="presParOf" srcId="{50CD1988-70DD-482E-9C11-F4C47B278BE6}" destId="{5C6E9384-954B-4EAD-935A-89EC2CB5ED1A}" srcOrd="5" destOrd="0" presId="urn:microsoft.com/office/officeart/2008/layout/CaptionedPictures"/>
    <dgm:cxn modelId="{D8DD4390-19A7-4700-9249-F603A6195292}" type="presParOf" srcId="{50CD1988-70DD-482E-9C11-F4C47B278BE6}" destId="{4BFC5DEF-DD8B-4D92-A22A-BD75026A56B2}" srcOrd="6" destOrd="0" presId="urn:microsoft.com/office/officeart/2008/layout/CaptionedPictures"/>
    <dgm:cxn modelId="{13A17F9B-8C62-480B-B50E-3441527D4EF3}" type="presParOf" srcId="{4BFC5DEF-DD8B-4D92-A22A-BD75026A56B2}" destId="{9DF5523A-D858-4970-AE3D-B53F486EB176}" srcOrd="0" destOrd="0" presId="urn:microsoft.com/office/officeart/2008/layout/CaptionedPictures"/>
    <dgm:cxn modelId="{B6F3801E-39BC-4679-958C-3A32FADEC537}" type="presParOf" srcId="{4BFC5DEF-DD8B-4D92-A22A-BD75026A56B2}" destId="{CF94532C-A7B5-4F0F-9FB9-A10E47572E8E}" srcOrd="1" destOrd="0" presId="urn:microsoft.com/office/officeart/2008/layout/CaptionedPictures"/>
    <dgm:cxn modelId="{4A0DAA99-F145-4AE3-A101-FEA2416D3E31}" type="presParOf" srcId="{4BFC5DEF-DD8B-4D92-A22A-BD75026A56B2}" destId="{373349D7-182D-4A8E-ADC4-1D22635323E4}" srcOrd="2" destOrd="0" presId="urn:microsoft.com/office/officeart/2008/layout/CaptionedPictures"/>
    <dgm:cxn modelId="{08DCB862-8899-4564-A22C-7116DA256896}" type="presParOf" srcId="{373349D7-182D-4A8E-ADC4-1D22635323E4}" destId="{B630E0DF-A7E0-4C3F-820E-0D23AD97475A}" srcOrd="0" destOrd="0" presId="urn:microsoft.com/office/officeart/2008/layout/CaptionedPictures"/>
    <dgm:cxn modelId="{6E8E20BF-0F73-4EE5-977A-FA7A7A33DB43}" type="presParOf" srcId="{373349D7-182D-4A8E-ADC4-1D22635323E4}" destId="{7E79A0A6-590D-48C5-87F7-CA96C4EE20E2}" srcOrd="1" destOrd="0" presId="urn:microsoft.com/office/officeart/2008/layout/CaptionedPictures"/>
  </dgm:cxnLst>
  <dgm:bg/>
  <dgm:whole>
    <a:effectLst/>
  </dgm:whole>
  <dgm:extLst>
    <a:ext uri="http://schemas.microsoft.com/office/drawing/2008/diagram">
      <dsp:dataModelExt xmlns:dsp="http://schemas.microsoft.com/office/drawing/2008/diagram" relId="rId9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8/layout/CaptionedPictures">
  <dgm:title val=""/>
  <dgm:desc val=""/>
  <dgm:catLst>
    <dgm:cat type="picture" pri="5000"/>
    <dgm:cat type="pictureconvert" pri="50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  <dgm:pt modelId="40">
          <dgm:prSet phldr="1"/>
        </dgm:pt>
        <dgm:pt modelId="4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  <dgm:cxn modelId="90" srcId="0" destId="40" srcOrd="3" destOrd="0"/>
        <dgm:cxn modelId="42" srcId="40" destId="41" srcOrd="0" destOrd="0"/>
      </dgm:cxnLst>
      <dgm:bg/>
      <dgm:whole/>
    </dgm:dataModel>
  </dgm:clrData>
  <dgm:layoutNode name="Name0">
    <dgm:varLst>
      <dgm:chMax/>
      <dgm:chPref/>
      <dgm:dir/>
    </dgm:varLst>
    <dgm:choose name="Name1">
      <dgm:if name="Name2" func="var" arg="dir" op="equ" val="norm">
        <dgm:alg type="snake">
          <dgm:param type="off" val="ctr"/>
        </dgm:alg>
      </dgm:if>
      <dgm:else name="Name3">
        <dgm:alg type="snake">
          <dgm:param type="grDir" val="tR"/>
          <dgm:param type="off" val="ctr"/>
        </dgm:alg>
      </dgm:else>
    </dgm:choose>
    <dgm:shape xmlns:r="http://schemas.openxmlformats.org/officeDocument/2006/relationships" r:blip="">
      <dgm:adjLst/>
    </dgm:shape>
    <dgm:constrLst>
      <dgm:constr type="primFontSz" for="des" forName="Parent" op="equ"/>
      <dgm:constr type="primFontSz" for="des" forName="Child" refType="primFontSz" refFor="des" refForName="Parent" op="lte"/>
      <dgm:constr type="w" for="ch" forName="composite" refType="w"/>
      <dgm:constr type="h" for="ch" forName="composite" refType="h"/>
      <dgm:constr type="sp" refType="w" refFor="ch" refForName="composite" op="equ" fact="0.1"/>
      <dgm:constr type="w" for="ch" forName="sibTrans" refType="w" refFor="ch" refForName="composite" op="equ" fact="0.1"/>
      <dgm:constr type="h" for="ch" forName="sibTrans" refType="w" refFor="ch" refForName="sibTrans" op="equ"/>
    </dgm:constrLst>
    <dgm:forEach name="nodesForEach" axis="ch" ptType="node">
      <dgm:layoutNode name="composite">
        <dgm:varLst>
          <dgm:chMax val="1"/>
          <dgm:chPref val="1"/>
        </dgm:varLst>
        <dgm:alg type="composite">
          <dgm:param type="ar" val="0.85"/>
        </dgm:alg>
        <dgm:shape xmlns:r="http://schemas.openxmlformats.org/officeDocument/2006/relationships" r:blip="">
          <dgm:adjLst/>
        </dgm:shape>
        <dgm:constrLst>
          <dgm:constr type="l" for="ch" forName="Accent" refType="w" fact="0"/>
          <dgm:constr type="t" for="ch" forName="Accent" refType="h" fact="0"/>
          <dgm:constr type="w" for="ch" forName="Accent" refType="w"/>
          <dgm:constr type="h" for="ch" forName="Accent" refType="h"/>
          <dgm:constr type="l" for="ch" forName="Image" refType="w" fact="0.05"/>
          <dgm:constr type="t" for="ch" forName="Image" refType="h" fact="0.04"/>
          <dgm:constr type="w" for="ch" forName="Image" refType="w" fact="0.9"/>
          <dgm:constr type="h" for="ch" forName="Image" refType="h" fact="0.65"/>
          <dgm:constr type="l" for="ch" forName="ChildComposite" refType="w" fact="0.05"/>
          <dgm:constr type="t" for="ch" forName="ChildComposite" refType="h" fact="0.69"/>
          <dgm:constr type="w" for="ch" forName="ChildComposite" refType="w" fact="0.9"/>
          <dgm:constr type="h" for="ch" forName="ChildComposite" refType="h" fact="0.27"/>
        </dgm:constrLst>
        <dgm:layoutNode name="Accent" styleLbl="trAlignAcc1">
          <dgm:varLst>
            <dgm:chMax val="0"/>
            <dgm:chPref val="0"/>
          </dgm:varLst>
          <dgm:alg type="sp"/>
          <dgm:shape xmlns:r="http://schemas.openxmlformats.org/officeDocument/2006/relationships" type="rect" r:blip="">
            <dgm:adjLst/>
          </dgm:shape>
          <dgm:presOf/>
        </dgm:layoutNode>
        <dgm:layoutNode name="Image" styleLbl="alignImgPlace1">
          <dgm:varLst>
            <dgm:chMax val="0"/>
            <dgm:chPref val="0"/>
          </dgm:varLst>
          <dgm:alg type="sp"/>
          <dgm:shape xmlns:r="http://schemas.openxmlformats.org/officeDocument/2006/relationships" type="rect" r:blip="" blipPhldr="1">
            <dgm:adjLst/>
          </dgm:shape>
          <dgm:presOf/>
        </dgm:layoutNode>
        <dgm:layoutNode name="ChildComposite">
          <dgm:alg type="composite"/>
          <dgm:shape xmlns:r="http://schemas.openxmlformats.org/officeDocument/2006/relationships" r:blip="">
            <dgm:adjLst/>
          </dgm:shape>
          <dgm:choose name="Name4">
            <dgm:if name="Name5" axis="ch" ptType="node" func="cnt" op="gte" val="1">
              <dgm:constrLst>
                <dgm:constr type="l" for="ch" forName="Parent" refType="w" fact="0"/>
                <dgm:constr type="t" for="ch" forName="Parent" refType="h" fact="0"/>
                <dgm:constr type="w" for="ch" forName="Parent" refType="w"/>
                <dgm:constr type="h" for="ch" forName="Parent" refType="h" fact="0.3704"/>
                <dgm:constr type="l" for="ch" forName="Child" refType="w" fact="0"/>
                <dgm:constr type="t" for="ch" forName="Child" refType="h" fact="0.3704"/>
                <dgm:constr type="w" for="ch" forName="Child" refType="w"/>
                <dgm:constr type="h" for="ch" forName="Child" refType="h" fact="0.6296"/>
              </dgm:constrLst>
            </dgm:if>
            <dgm:else name="Name6">
              <dgm:constrLst>
                <dgm:constr type="l" for="ch" forName="Parent" refType="w" fact="0"/>
                <dgm:constr type="t" for="ch" forName="Parent" refType="h" fact="0"/>
                <dgm:constr type="w" for="ch" forName="Parent" refType="w"/>
                <dgm:constr type="h" for="ch" forName="Parent" refType="h"/>
                <dgm:constr type="l" for="ch" forName="Child" refType="w" fact="0"/>
                <dgm:constr type="t" for="ch" forName="Child" refType="h" fact="0"/>
                <dgm:constr type="w" for="ch" forName="Child" refType="w" fact="0"/>
                <dgm:constr type="h" for="ch" forName="Child" refType="h" fact="0"/>
              </dgm:constrLst>
            </dgm:else>
          </dgm:choose>
          <dgm:layoutNode name="Child" styleLbl="node1">
            <dgm:varLst>
              <dgm:chMax val="0"/>
              <dgm:chPref val="0"/>
              <dgm:bulletEnabled val="1"/>
            </dgm:varLst>
            <dgm:choose name="Name7">
              <dgm:if name="Name8" axis="ch" ptType="node" func="cnt" op="gt" val="1">
                <dgm:alg type="tx">
                  <dgm:param type="parTxLTRAlign" val="l"/>
                  <dgm:param type="parTxRTLAlign" val="r"/>
                  <dgm:param type="txAnchorVert" val="mid"/>
                  <dgm:param type="txAnchorVertCh" val="mid"/>
                </dgm:alg>
              </dgm:if>
              <dgm:else name="Name9">
                <dgm:alg type="tx">
                  <dgm:param type="parTxLTRAlign" val="ctr"/>
                  <dgm:param type="parTxRTLAlign" val="ctr"/>
                  <dgm:param type="shpTxLTRAlignCh" val="l"/>
                  <dgm:param type="shpTxRTLAlignCh" val="r"/>
                  <dgm:param type="txAnchorVert" val="mid"/>
                  <dgm:param type="txAnchorVertCh" val="mid"/>
                </dgm:alg>
              </dgm:else>
            </dgm:choose>
            <dgm:choose name="Name10">
              <dgm:if name="Name11" axis="ch" ptType="node" func="cnt" op="gte" val="1">
                <dgm:shape xmlns:r="http://schemas.openxmlformats.org/officeDocument/2006/relationships" type="rect" r:blip="">
                  <dgm:adjLst/>
                </dgm:shape>
              </dgm:if>
              <dgm:else name="Name12">
                <dgm:shape xmlns:r="http://schemas.openxmlformats.org/officeDocument/2006/relationships" type="rect" r:blip="" hideGeom="1">
                  <dgm:adjLst/>
                </dgm:shape>
              </dgm:else>
            </dgm:choose>
            <dgm:choose name="Name13">
              <dgm:if name="Name14" axis="ch" ptType="node" func="cnt" op="gte" val="1">
                <dgm:presOf axis="des" ptType="node"/>
              </dgm:if>
              <dgm:else name="Name15">
                <dgm:presOf/>
              </dgm:else>
            </dgm:choose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  <dgm:layoutNode name="Parent" styleLbl="revTx">
            <dgm:varLst>
              <dgm:chMax val="1"/>
              <dgm:chPref val="0"/>
              <dgm:bulletEnabled val="1"/>
            </dgm:varLst>
            <dgm:alg type="tx">
              <dgm:param type="shpTxLTRAlignCh" val="ctr"/>
              <dgm:param type="txAnchorVert" val="mid"/>
            </dgm:alg>
            <dgm:shape xmlns:r="http://schemas.openxmlformats.org/officeDocument/2006/relationships" type="rect" r:blip="">
              <dgm:adjLst/>
            </dgm:shape>
            <dgm:presOf axis="self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layoutNod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6D6-27E6-4F84-B969-8790A61D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650-DC29-4D47-8111-4DAD99E7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057-5357-439D-A4B0-ED8BA351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17B-1CE0-4A05-8775-A5E3E8B4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61FA-E3B3-4C90-BF13-17B613D1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00C1-B8A2-4ECA-9254-DA6DE6C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E0F-A571-4C94-BF48-134FA6BF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5A3F-93A1-45FB-B03B-17B8C574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AC76-DC9F-4D39-87C8-C5F584A3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644-86DF-404A-BAAD-F2F502FC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58F4-945E-42B4-9FAC-64B013E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D5E8-1581-46F8-BE3D-A970AF44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1E46-8B66-4044-B0D5-D7A1FDA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9DFA-870E-4B59-B6A7-D66CC91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2C71-0373-4FCF-B31E-45CE5C69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5EF4-69BD-4FFD-BAF3-D69B8D33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E437-2F6D-4068-832D-D6712D90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A3B-8766-4FB1-9955-BC63268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AB9-FD47-400C-9979-76D795AF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E41-688E-4BE8-8603-42BAFB28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E5F-26EE-4FA1-82CD-841B55EC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22C-0EE0-4A54-AB9C-17160F5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1BC-0B2D-4944-85CB-ED6E8CA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F99-E4FA-4479-B85B-EA88D99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8B764B-8FA7-4CA0-86DD-F45471DC08E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502F3E-6063-4300-977C-A4BFA150FCB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video" Target="file:///tmp/in/NULL" TargetMode="External"/><Relationship Id="rId10" Type="http://schemas.microsoft.com/office/2007/relationships/media" Target="file:///tmp/in/NULL" TargetMode="External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diagramData" Target="../diagrams/data2.xml"/><Relationship Id="rId5" Type="http://schemas.openxmlformats.org/officeDocument/2006/relationships/diagramLayout" Target="../diagrams/layout2.xml"/><Relationship Id="rId6" Type="http://schemas.openxmlformats.org/officeDocument/2006/relationships/diagramQuickStyle" Target="../diagrams/quickStyle2.xml"/><Relationship Id="rId7" Type="http://schemas.openxmlformats.org/officeDocument/2006/relationships/diagramColors" Target="../diagrams/colors2.xml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video" Target="file:///tmp/in/NULL" TargetMode="External"/><Relationship Id="rId10" Type="http://schemas.microsoft.com/office/2007/relationships/media" Target="file:///tmp/in/NULL" TargetMode="External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diagramData" Target="../diagrams/data1.xml"/><Relationship Id="rId5" Type="http://schemas.openxmlformats.org/officeDocument/2006/relationships/diagramLayout" Target="../diagrams/layout1.xml"/><Relationship Id="rId6" Type="http://schemas.openxmlformats.org/officeDocument/2006/relationships/diagramQuickStyle" Target="../diagrams/quickStyle1.xml"/><Relationship Id="rId7" Type="http://schemas.openxmlformats.org/officeDocument/2006/relationships/diagramColors" Target="../diagrams/colors1.xml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1" descr=""/>
          <p:cNvPicPr/>
          <p:nvPr/>
        </p:nvPicPr>
        <p:blipFill>
          <a:blip r:embed="rId1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2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84" name="图片 6" descr=""/>
          <p:cNvPicPr/>
          <p:nvPr/>
        </p:nvPicPr>
        <p:blipFill>
          <a:blip r:embed="rId3"/>
          <a:srcRect l="0" t="4584" r="0" b="35976"/>
          <a:stretch/>
        </p:blipFill>
        <p:spPr>
          <a:xfrm>
            <a:off x="-227160" y="839880"/>
            <a:ext cx="9142200" cy="3057120"/>
          </a:xfrm>
          <a:prstGeom prst="rect">
            <a:avLst/>
          </a:prstGeom>
          <a:ln w="9525">
            <a:noFill/>
          </a:ln>
        </p:spPr>
      </p:pic>
      <p:pic>
        <p:nvPicPr>
          <p:cNvPr id="85" name="图片 4" descr=""/>
          <p:cNvPicPr/>
          <p:nvPr/>
        </p:nvPicPr>
        <p:blipFill>
          <a:blip r:embed="rId4"/>
          <a:srcRect l="0" t="11526" r="0" b="37362"/>
          <a:stretch/>
        </p:blipFill>
        <p:spPr>
          <a:xfrm>
            <a:off x="-243000" y="1190520"/>
            <a:ext cx="9140400" cy="2628720"/>
          </a:xfrm>
          <a:prstGeom prst="rect">
            <a:avLst/>
          </a:prstGeom>
          <a:ln w="9525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5"/>
          <a:srcRect l="0" t="34031" r="0" b="16760"/>
          <a:stretch/>
        </p:blipFill>
        <p:spPr>
          <a:xfrm>
            <a:off x="-63360" y="2228760"/>
            <a:ext cx="9140400" cy="2531880"/>
          </a:xfrm>
          <a:prstGeom prst="rect">
            <a:avLst/>
          </a:prstGeom>
          <a:ln w="9525">
            <a:noFill/>
          </a:ln>
        </p:spPr>
      </p:pic>
      <p:pic>
        <p:nvPicPr>
          <p:cNvPr id="87" name="图片 9" descr=""/>
          <p:cNvPicPr/>
          <p:nvPr/>
        </p:nvPicPr>
        <p:blipFill>
          <a:blip r:embed="rId6"/>
          <a:srcRect l="0" t="0" r="0" b="95010"/>
          <a:stretch/>
        </p:blipFill>
        <p:spPr>
          <a:xfrm>
            <a:off x="1440" y="0"/>
            <a:ext cx="9140400" cy="256680"/>
          </a:xfrm>
          <a:prstGeom prst="rect">
            <a:avLst/>
          </a:prstGeom>
          <a:ln w="9525">
            <a:noFill/>
          </a:ln>
        </p:spPr>
      </p:pic>
      <p:pic>
        <p:nvPicPr>
          <p:cNvPr id="88" name="图片 10" descr=""/>
          <p:cNvPicPr/>
          <p:nvPr/>
        </p:nvPicPr>
        <p:blipFill>
          <a:blip r:embed="rId7"/>
          <a:srcRect l="38709" t="8188" r="38784" b="45906"/>
          <a:stretch/>
        </p:blipFill>
        <p:spPr>
          <a:xfrm>
            <a:off x="3543480" y="-528480"/>
            <a:ext cx="2057040" cy="2360160"/>
          </a:xfrm>
          <a:prstGeom prst="rect">
            <a:avLst/>
          </a:prstGeom>
          <a:ln w="9525">
            <a:noFill/>
          </a:ln>
        </p:spPr>
      </p:pic>
      <p:pic>
        <p:nvPicPr>
          <p:cNvPr id="89" name="图片 11" descr=""/>
          <p:cNvPicPr/>
          <p:nvPr/>
        </p:nvPicPr>
        <p:blipFill>
          <a:blip r:embed="rId8"/>
          <a:srcRect l="39532" t="19671" r="37752" b="20952"/>
          <a:stretch/>
        </p:blipFill>
        <p:spPr>
          <a:xfrm>
            <a:off x="3581280" y="766800"/>
            <a:ext cx="2076120" cy="3052440"/>
          </a:xfrm>
          <a:prstGeom prst="rect">
            <a:avLst/>
          </a:prstGeom>
          <a:ln w="9525">
            <a:noFill/>
          </a:ln>
        </p:spPr>
      </p:pic>
      <p:sp>
        <p:nvSpPr>
          <p:cNvPr id="90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椭圆 18"/>
          <p:cNvSpPr/>
          <p:nvPr/>
        </p:nvSpPr>
        <p:spPr>
          <a:xfrm rot="20523600">
            <a:off x="549000" y="3468240"/>
            <a:ext cx="508680" cy="897120"/>
          </a:xfrm>
          <a:prstGeom prst="ellipse">
            <a:avLst/>
          </a:prstGeom>
          <a:solidFill>
            <a:schemeClr val="bg1">
              <a:alpha val="68000"/>
            </a:schemeClr>
          </a:solidFill>
          <a:ln>
            <a:noFill/>
          </a:ln>
          <a:effectLst>
            <a:softEdge rad="1522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椭圆 19"/>
          <p:cNvSpPr/>
          <p:nvPr/>
        </p:nvSpPr>
        <p:spPr>
          <a:xfrm rot="20523600">
            <a:off x="647280" y="3408480"/>
            <a:ext cx="491400" cy="870480"/>
          </a:xfrm>
          <a:prstGeom prst="ellipse">
            <a:avLst/>
          </a:prstGeom>
          <a:solidFill>
            <a:schemeClr val="bg1">
              <a:alpha val="66000"/>
            </a:schemeClr>
          </a:solidFill>
          <a:ln>
            <a:noFill/>
          </a:ln>
          <a:effectLst>
            <a:softEdge rad="1522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9288360" y="-477720"/>
            <a:ext cx="609120" cy="60912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2838960" y="3235320"/>
            <a:ext cx="445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网站建设毕业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34740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5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autoRev="1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autoRev="1" nodeType="withEffect" fill="hold" presetClass="path" presetID="42" repeatCount="indefinite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1.66667E-006 9.87654E-007 L 1.66667E-006 0.02623 E">
                                      <p:cBhvr>
                                        <p:cTn id="39" dur="2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10250"/>
                                  </p:stCondLst>
                                  <p:childTnLst>
                                    <p:animMotion origin="layout" path="M -4.72222E-006 2.37434E-007 L 0.83108 -0.00123 E">
                                      <p:cBhvr>
                                        <p:cTn id="44" dur="1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2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12250"/>
                                  </p:stCondLst>
                                  <p:childTnLst>
                                    <p:animMotion origin="layout" path="M -4.72222E-006 2.37434E-007 L 0.83108 -0.00123 E">
                                      <p:cBhvr>
                                        <p:cTn id="52" dur="1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240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pic>
        <p:nvPicPr>
          <p:cNvPr id="241" name="图片 7" descr=""/>
          <p:cNvPicPr/>
          <p:nvPr/>
        </p:nvPicPr>
        <p:blipFill>
          <a:blip r:embed="rId3"/>
          <a:stretch/>
        </p:blipFill>
        <p:spPr>
          <a:xfrm>
            <a:off x="1331640" y="488160"/>
            <a:ext cx="4590000" cy="3747960"/>
          </a:xfrm>
          <a:prstGeom prst="rect">
            <a:avLst/>
          </a:prstGeom>
          <a:ln w="0">
            <a:noFill/>
          </a:ln>
          <a:effectLst>
            <a:outerShdw algn="tl" blurRad="114480" dir="2700000" dist="37674" rotWithShape="0" sx="101000" sy="101000">
              <a:srgbClr val="000000">
                <a:alpha val="40000"/>
              </a:srgbClr>
            </a:outerShdw>
            <a:reflection algn="bl" blurRad="6350" dir="5400000" dist="50800" endA="300" endPos="19000" rotWithShape="0" stA="52000" sy="-100000"/>
          </a:effectLst>
        </p:spPr>
      </p:pic>
      <p:sp>
        <p:nvSpPr>
          <p:cNvPr id="242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矩形 25"/>
          <p:cNvSpPr/>
          <p:nvPr/>
        </p:nvSpPr>
        <p:spPr>
          <a:xfrm>
            <a:off x="8516520" y="4411800"/>
            <a:ext cx="486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子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直接连接符 26"/>
          <p:cNvCxnSpPr/>
          <p:nvPr/>
        </p:nvCxnSpPr>
        <p:spPr>
          <a:xfrm>
            <a:off x="6804000" y="4394160"/>
            <a:ext cx="259272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headEnd len="med" type="oval" w="med"/>
          </a:ln>
        </p:spPr>
      </p:cxnSp>
      <p:sp>
        <p:nvSpPr>
          <p:cNvPr id="245" name="矩形 3"/>
          <p:cNvSpPr/>
          <p:nvPr/>
        </p:nvSpPr>
        <p:spPr>
          <a:xfrm>
            <a:off x="1332000" y="426960"/>
            <a:ext cx="4679640" cy="272520"/>
          </a:xfrm>
          <a:prstGeom prst="rect">
            <a:avLst/>
          </a:prstGeom>
          <a:solidFill>
            <a:srgbClr val="ff0000">
              <a:alpha val="50000"/>
            </a:srgbClr>
          </a:solidFill>
          <a:ln w="31750">
            <a:solidFill>
              <a:srgbClr val="ff000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6" name="矩形 15"/>
          <p:cNvSpPr/>
          <p:nvPr/>
        </p:nvSpPr>
        <p:spPr>
          <a:xfrm>
            <a:off x="1332000" y="700200"/>
            <a:ext cx="4679640" cy="271080"/>
          </a:xfrm>
          <a:prstGeom prst="rect">
            <a:avLst/>
          </a:prstGeom>
          <a:solidFill>
            <a:srgbClr val="ffc000">
              <a:alpha val="50000"/>
            </a:srgbClr>
          </a:solidFill>
          <a:ln w="31750">
            <a:solidFill>
              <a:srgbClr val="ffc00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7" name="矩形 16"/>
          <p:cNvSpPr/>
          <p:nvPr/>
        </p:nvSpPr>
        <p:spPr>
          <a:xfrm>
            <a:off x="1332000" y="941400"/>
            <a:ext cx="1007640" cy="2854080"/>
          </a:xfrm>
          <a:prstGeom prst="rect">
            <a:avLst/>
          </a:prstGeom>
          <a:solidFill>
            <a:srgbClr val="00b050">
              <a:alpha val="50000"/>
            </a:srgbClr>
          </a:solidFill>
          <a:ln w="31750">
            <a:solidFill>
              <a:srgbClr val="00b05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2340000" y="971640"/>
            <a:ext cx="3671640" cy="736200"/>
          </a:xfrm>
          <a:prstGeom prst="rect">
            <a:avLst/>
          </a:prstGeom>
          <a:solidFill>
            <a:srgbClr val="7030a0">
              <a:alpha val="50000"/>
            </a:srgbClr>
          </a:solidFill>
          <a:ln w="31750">
            <a:solidFill>
              <a:srgbClr val="7030a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49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250" name="图片 2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51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静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页面的设计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直接箭头连接符 6"/>
          <p:cNvCxnSpPr>
            <a:stCxn id="245" idx="3"/>
          </p:cNvCxnSpPr>
          <p:nvPr/>
        </p:nvCxnSpPr>
        <p:spPr>
          <a:xfrm>
            <a:off x="6011640" y="563400"/>
            <a:ext cx="1081440" cy="360"/>
          </a:xfrm>
          <a:prstGeom prst="straightConnector1">
            <a:avLst/>
          </a:prstGeom>
          <a:ln w="25400">
            <a:solidFill>
              <a:srgbClr val="ff0000"/>
            </a:solidFill>
            <a:prstDash val="sysDot"/>
            <a:round/>
            <a:tailEnd len="med" type="arrow" w="med"/>
          </a:ln>
        </p:spPr>
      </p:cxnSp>
      <p:cxnSp>
        <p:nvCxnSpPr>
          <p:cNvPr id="253" name="直接箭头连接符 20"/>
          <p:cNvCxnSpPr/>
          <p:nvPr/>
        </p:nvCxnSpPr>
        <p:spPr>
          <a:xfrm>
            <a:off x="6011640" y="834840"/>
            <a:ext cx="1081440" cy="360"/>
          </a:xfrm>
          <a:prstGeom prst="straightConnector1">
            <a:avLst/>
          </a:prstGeom>
          <a:ln w="25400">
            <a:solidFill>
              <a:srgbClr val="ffc000"/>
            </a:solidFill>
            <a:prstDash val="sysDot"/>
            <a:round/>
            <a:tailEnd len="med" type="arrow" w="med"/>
          </a:ln>
        </p:spPr>
      </p:cxnSp>
      <p:cxnSp>
        <p:nvCxnSpPr>
          <p:cNvPr id="254" name="直接箭头连接符 21"/>
          <p:cNvCxnSpPr/>
          <p:nvPr/>
        </p:nvCxnSpPr>
        <p:spPr>
          <a:xfrm>
            <a:off x="2339640" y="1287360"/>
            <a:ext cx="4753440" cy="360"/>
          </a:xfrm>
          <a:prstGeom prst="straightConnector1">
            <a:avLst/>
          </a:prstGeom>
          <a:ln w="25400">
            <a:solidFill>
              <a:srgbClr val="00b050"/>
            </a:solidFill>
            <a:prstDash val="sysDot"/>
            <a:round/>
            <a:tailEnd len="med" type="arrow" w="med"/>
          </a:ln>
        </p:spPr>
      </p:cxnSp>
      <p:cxnSp>
        <p:nvCxnSpPr>
          <p:cNvPr id="255" name="直接箭头连接符 22"/>
          <p:cNvCxnSpPr/>
          <p:nvPr/>
        </p:nvCxnSpPr>
        <p:spPr>
          <a:xfrm>
            <a:off x="6011640" y="1679400"/>
            <a:ext cx="1081440" cy="360"/>
          </a:xfrm>
          <a:prstGeom prst="straightConnector1">
            <a:avLst/>
          </a:prstGeom>
          <a:ln w="25400">
            <a:solidFill>
              <a:srgbClr val="7030a0"/>
            </a:solidFill>
            <a:prstDash val="sysDot"/>
            <a:round/>
            <a:tailEnd len="med" type="arrow" w="med"/>
          </a:ln>
        </p:spPr>
      </p:cxnSp>
      <p:sp>
        <p:nvSpPr>
          <p:cNvPr id="256" name="矩形 9"/>
          <p:cNvSpPr/>
          <p:nvPr/>
        </p:nvSpPr>
        <p:spPr>
          <a:xfrm>
            <a:off x="7318080" y="363600"/>
            <a:ext cx="108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10004"/>
                </a:solidFill>
                <a:latin typeface="微软雅黑"/>
                <a:ea typeface="微软雅黑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7326360" y="635040"/>
            <a:ext cx="645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n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0"/>
          <p:cNvSpPr/>
          <p:nvPr/>
        </p:nvSpPr>
        <p:spPr>
          <a:xfrm>
            <a:off x="7324920" y="1087560"/>
            <a:ext cx="1128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b050"/>
                </a:solidFill>
                <a:latin typeface="微软雅黑"/>
                <a:ea typeface="微软雅黑"/>
              </a:rPr>
              <a:t>side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1"/>
          <p:cNvSpPr/>
          <p:nvPr/>
        </p:nvSpPr>
        <p:spPr>
          <a:xfrm>
            <a:off x="7315560" y="1508040"/>
            <a:ext cx="1089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7"/>
          <p:cNvSpPr/>
          <p:nvPr/>
        </p:nvSpPr>
        <p:spPr>
          <a:xfrm>
            <a:off x="2340000" y="1717560"/>
            <a:ext cx="3671640" cy="2077560"/>
          </a:xfrm>
          <a:prstGeom prst="rect">
            <a:avLst/>
          </a:prstGeom>
          <a:solidFill>
            <a:schemeClr val="accent5">
              <a:lumMod val="50000"/>
              <a:alpha val="50000"/>
            </a:schemeClr>
          </a:solidFill>
          <a:ln w="31750">
            <a:solidFill>
              <a:srgbClr val="4bacc6">
                <a:lumMod val="50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1" name="矩形 28"/>
          <p:cNvSpPr/>
          <p:nvPr/>
        </p:nvSpPr>
        <p:spPr>
          <a:xfrm>
            <a:off x="1332000" y="3867120"/>
            <a:ext cx="4679640" cy="355320"/>
          </a:xfrm>
          <a:prstGeom prst="rect">
            <a:avLst/>
          </a:prstGeom>
          <a:solidFill>
            <a:schemeClr val="bg2">
              <a:lumMod val="50000"/>
              <a:alpha val="50000"/>
            </a:schemeClr>
          </a:solidFill>
          <a:ln w="31750">
            <a:solidFill>
              <a:srgbClr val="eeece1">
                <a:lumMod val="50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262" name="直接箭头连接符 29"/>
          <p:cNvCxnSpPr/>
          <p:nvPr/>
        </p:nvCxnSpPr>
        <p:spPr>
          <a:xfrm>
            <a:off x="6011640" y="2931840"/>
            <a:ext cx="1081440" cy="360"/>
          </a:xfrm>
          <a:prstGeom prst="straightConnector1">
            <a:avLst/>
          </a:prstGeom>
          <a:ln w="25400">
            <a:solidFill>
              <a:srgbClr val="4bacc6">
                <a:lumMod val="50000"/>
              </a:srgbClr>
            </a:solidFill>
            <a:prstDash val="sysDot"/>
            <a:round/>
            <a:tailEnd len="med" type="arrow" w="med"/>
          </a:ln>
        </p:spPr>
      </p:cxnSp>
      <p:cxnSp>
        <p:nvCxnSpPr>
          <p:cNvPr id="263" name="直接箭头连接符 32"/>
          <p:cNvCxnSpPr/>
          <p:nvPr/>
        </p:nvCxnSpPr>
        <p:spPr>
          <a:xfrm>
            <a:off x="6011640" y="4059000"/>
            <a:ext cx="1081440" cy="360"/>
          </a:xfrm>
          <a:prstGeom prst="straightConnector1">
            <a:avLst/>
          </a:prstGeom>
          <a:ln w="25400">
            <a:solidFill>
              <a:srgbClr val="eeece1">
                <a:lumMod val="50000"/>
              </a:srgbClr>
            </a:solidFill>
            <a:prstDash val="sysDot"/>
            <a:round/>
            <a:tailEnd len="med" type="arrow" w="med"/>
          </a:ln>
        </p:spPr>
      </p:cxnSp>
      <p:sp>
        <p:nvSpPr>
          <p:cNvPr id="264" name="矩形 33"/>
          <p:cNvSpPr/>
          <p:nvPr/>
        </p:nvSpPr>
        <p:spPr>
          <a:xfrm>
            <a:off x="7320240" y="2732040"/>
            <a:ext cx="930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5">
                    <a:lumMod val="75000"/>
                  </a:schemeClr>
                </a:solidFill>
                <a:latin typeface="微软雅黑"/>
                <a:ea typeface="微软雅黑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4"/>
          <p:cNvSpPr/>
          <p:nvPr/>
        </p:nvSpPr>
        <p:spPr>
          <a:xfrm>
            <a:off x="7322760" y="3828960"/>
            <a:ext cx="97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948a54"/>
                </a:solidFill>
                <a:latin typeface="微软雅黑"/>
                <a:ea typeface="微软雅黑"/>
              </a:rPr>
              <a:t>foo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267" name="图片 12" descr=""/>
          <p:cNvPicPr/>
          <p:nvPr/>
        </p:nvPicPr>
        <p:blipFill>
          <a:blip r:embed="rId2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268" name="图片 9" descr=""/>
          <p:cNvPicPr/>
          <p:nvPr/>
        </p:nvPicPr>
        <p:blipFill>
          <a:blip r:embed="rId3"/>
          <a:srcRect l="0" t="0" r="0" b="95010"/>
          <a:stretch/>
        </p:blipFill>
        <p:spPr>
          <a:xfrm>
            <a:off x="1440" y="0"/>
            <a:ext cx="9140400" cy="256680"/>
          </a:xfrm>
          <a:prstGeom prst="rect">
            <a:avLst/>
          </a:prstGeom>
          <a:ln w="9525">
            <a:noFill/>
          </a:ln>
        </p:spPr>
      </p:pic>
      <p:sp>
        <p:nvSpPr>
          <p:cNvPr id="269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0" name="矩形 15"/>
          <p:cNvSpPr/>
          <p:nvPr/>
        </p:nvSpPr>
        <p:spPr>
          <a:xfrm>
            <a:off x="3107520" y="221796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21540000" lon="0" rev="0"/>
              </a:camera>
              <a:lightRig dir="t" rig="threePt">
                <a:rot lat="0" lon="0" rev="0"/>
              </a:lightRig>
            </a:scene3d>
            <a:sp3d extrusionH="1905000" contourW="12700" prstMaterial="flat">
              <a:bevelT prst="relaxedInset" w="69850" h="50800"/>
              <a:bevelB w="31750"/>
              <a:contourClr>
                <a:schemeClr val="tx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4000" spc="-1" strike="noStrike" cap="all">
                <a:solidFill>
                  <a:schemeClr val="accent5">
                    <a:lumMod val="20000"/>
                    <a:lumOff val="80000"/>
                  </a:schemeClr>
                </a:solidFill>
                <a:latin typeface="方正正粗黑简体"/>
                <a:ea typeface="方正正粗黑简体"/>
              </a:rPr>
              <a:t>网站动态功能的实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14"/>
          <p:cNvGrpSpPr/>
          <p:nvPr/>
        </p:nvGrpSpPr>
        <p:grpSpPr>
          <a:xfrm>
            <a:off x="3629160" y="-781200"/>
            <a:ext cx="1882440" cy="2231640"/>
            <a:chOff x="3629160" y="-781200"/>
            <a:chExt cx="1882440" cy="2231640"/>
          </a:xfrm>
        </p:grpSpPr>
        <p:pic>
          <p:nvPicPr>
            <p:cNvPr id="272" name="图片 17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3629160" y="-781200"/>
              <a:ext cx="188244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73" name="矩形 21"/>
            <p:cNvSpPr/>
            <p:nvPr/>
          </p:nvSpPr>
          <p:spPr>
            <a:xfrm>
              <a:off x="4083480" y="206280"/>
              <a:ext cx="9126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第三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9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sp>
        <p:nvSpPr>
          <p:cNvPr id="275" name="矩形 5"/>
          <p:cNvSpPr/>
          <p:nvPr/>
        </p:nvSpPr>
        <p:spPr>
          <a:xfrm rot="20352600">
            <a:off x="2218680" y="1752120"/>
            <a:ext cx="679824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558ed5">
                    <a:alpha val="31000"/>
                  </a:srgbClr>
                </a:solidFill>
                <a:latin typeface="方正正粗黑简体"/>
                <a:ea typeface="方正正粗黑简体"/>
              </a:rPr>
              <a:t>SORRY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grpSp>
        <p:nvGrpSpPr>
          <p:cNvPr id="277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278" name="图片 2" descr=""/>
            <p:cNvPicPr/>
            <p:nvPr/>
          </p:nvPicPr>
          <p:blipFill>
            <a:blip r:embed="rId3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79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动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功能的实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矩形 3"/>
          <p:cNvSpPr/>
          <p:nvPr/>
        </p:nvSpPr>
        <p:spPr>
          <a:xfrm>
            <a:off x="-785880" y="1131840"/>
            <a:ext cx="26204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99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“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1835280" y="1276200"/>
            <a:ext cx="59767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技术涉及面很广，由于本学期国防生军政训练月及毕业考核与毕设时间冲突，导致毕设时间紧张，所以本次毕设主要</a:t>
            </a:r>
            <a:r>
              <a:rPr b="0" lang="zh-CN" sz="2400" spc="-1" strike="noStrike">
                <a:solidFill>
                  <a:srgbClr val="ff0000"/>
                </a:solidFill>
                <a:latin typeface="方正正中黑简体"/>
                <a:ea typeface="方正正中黑简体"/>
              </a:rPr>
              <a:t>侧重静态页面的实现过程</a:t>
            </a:r>
            <a:r>
              <a:rPr b="0" lang="zh-CN" sz="2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，动态功能主要借鉴了</a:t>
            </a:r>
            <a:r>
              <a:rPr b="0" lang="en-US" sz="2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PHPWind</a:t>
            </a:r>
            <a:r>
              <a:rPr b="0" lang="zh-CN" sz="2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模板，我将在以后的学习中不断改进和完善网站的其他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9"/>
          <p:cNvSpPr/>
          <p:nvPr/>
        </p:nvSpPr>
        <p:spPr>
          <a:xfrm rot="10800000">
            <a:off x="6918480" y="1308600"/>
            <a:ext cx="26222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99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“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127680" y="3867120"/>
            <a:ext cx="237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900"/>
                            </p:stCondLst>
                            <p:childTnLst>
                              <p:par>
                                <p:cTn id="73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286" name="图片 12" descr=""/>
          <p:cNvPicPr/>
          <p:nvPr/>
        </p:nvPicPr>
        <p:blipFill>
          <a:blip r:embed="rId2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287" name="图片 9" descr=""/>
          <p:cNvPicPr/>
          <p:nvPr/>
        </p:nvPicPr>
        <p:blipFill>
          <a:blip r:embed="rId3"/>
          <a:srcRect l="0" t="0" r="0" b="95010"/>
          <a:stretch/>
        </p:blipFill>
        <p:spPr>
          <a:xfrm>
            <a:off x="1440" y="0"/>
            <a:ext cx="9140400" cy="256680"/>
          </a:xfrm>
          <a:prstGeom prst="rect">
            <a:avLst/>
          </a:prstGeom>
          <a:ln w="9525">
            <a:noFill/>
          </a:ln>
        </p:spPr>
      </p:pic>
      <p:sp>
        <p:nvSpPr>
          <p:cNvPr id="288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9" name="矩形 15"/>
          <p:cNvSpPr/>
          <p:nvPr/>
        </p:nvSpPr>
        <p:spPr>
          <a:xfrm>
            <a:off x="3260160" y="221796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21540000" lon="0" rev="0"/>
              </a:camera>
              <a:lightRig dir="t" rig="threePt">
                <a:rot lat="0" lon="0" rev="0"/>
              </a:lightRig>
            </a:scene3d>
            <a:sp3d extrusionH="1905000" contourW="12700" prstMaterial="flat">
              <a:bevelT prst="relaxedInset" w="69850" h="50800"/>
              <a:bevelB w="31750"/>
              <a:contourClr>
                <a:schemeClr val="tx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4000" spc="-1" strike="noStrike" cap="all">
                <a:solidFill>
                  <a:schemeClr val="accent5">
                    <a:lumMod val="20000"/>
                    <a:lumOff val="80000"/>
                  </a:schemeClr>
                </a:solidFill>
                <a:latin typeface="方正正粗黑简体"/>
                <a:ea typeface="方正正粗黑简体"/>
              </a:rPr>
              <a:t>网站的测试与维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4"/>
          <p:cNvGrpSpPr/>
          <p:nvPr/>
        </p:nvGrpSpPr>
        <p:grpSpPr>
          <a:xfrm>
            <a:off x="3629160" y="-781200"/>
            <a:ext cx="1882440" cy="2231640"/>
            <a:chOff x="3629160" y="-781200"/>
            <a:chExt cx="1882440" cy="2231640"/>
          </a:xfrm>
        </p:grpSpPr>
        <p:pic>
          <p:nvPicPr>
            <p:cNvPr id="291" name="图片 17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3629160" y="-781200"/>
              <a:ext cx="188244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92" name="矩形 21"/>
            <p:cNvSpPr/>
            <p:nvPr/>
          </p:nvSpPr>
          <p:spPr>
            <a:xfrm>
              <a:off x="4083480" y="206280"/>
              <a:ext cx="9126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第四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8"/>
          <p:cNvSpPr/>
          <p:nvPr/>
        </p:nvSpPr>
        <p:spPr>
          <a:xfrm>
            <a:off x="827640" y="48024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9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295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grpSp>
        <p:nvGrpSpPr>
          <p:cNvPr id="296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297" name="图片 2" descr=""/>
            <p:cNvPicPr/>
            <p:nvPr/>
          </p:nvPicPr>
          <p:blipFill>
            <a:blip r:embed="rId3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98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的测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与维护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7698960" y="4411800"/>
            <a:ext cx="10954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服务器的搭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连接符 11"/>
          <p:cNvCxnSpPr/>
          <p:nvPr/>
        </p:nvCxnSpPr>
        <p:spPr>
          <a:xfrm>
            <a:off x="6804000" y="4394160"/>
            <a:ext cx="259272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headEnd len="med" type="oval" w="med"/>
          </a:ln>
        </p:spPr>
      </p:cxn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769928113"/>
              </p:ext>
            </p:extLst>
          </p:nvPr>
        </p:nvGraphicFramePr>
        <p:xfrm>
          <a:off x="396720" y="1287360"/>
          <a:ext cx="8405640" cy="2751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" r:lo="rId5" r:qs="rId6" r:cs="rId7"/>
          </a:graphicData>
        </a:graphic>
      </p:graphicFrame>
    </p:spTree>
  </p:cSld>
  <p:transition spd="slow">
    <p:fade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303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grpSp>
        <p:nvGrpSpPr>
          <p:cNvPr id="304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305" name="图片 2" descr=""/>
            <p:cNvPicPr/>
            <p:nvPr/>
          </p:nvPicPr>
          <p:blipFill>
            <a:blip r:embed="rId3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306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的测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与维护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7290360" y="4411800"/>
            <a:ext cx="14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浏览器调查与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连接符 11"/>
          <p:cNvCxnSpPr/>
          <p:nvPr/>
        </p:nvCxnSpPr>
        <p:spPr>
          <a:xfrm>
            <a:off x="6804000" y="4394160"/>
            <a:ext cx="259272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headEnd len="med" type="oval" w="med"/>
          </a:ln>
        </p:spPr>
      </p:cxnSp>
      <p:graphicFrame>
        <p:nvGraphicFramePr>
          <p:cNvPr id="310" name="对象 21"/>
          <p:cNvGraphicFramePr/>
          <p:nvPr/>
        </p:nvGraphicFramePr>
        <p:xfrm>
          <a:off x="-47520" y="979560"/>
          <a:ext cx="9207000" cy="3682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311" name="笑脸 3"/>
          <p:cNvSpPr/>
          <p:nvPr/>
        </p:nvSpPr>
        <p:spPr>
          <a:xfrm>
            <a:off x="5536800" y="2707200"/>
            <a:ext cx="503640" cy="503640"/>
          </a:xfrm>
          <a:prstGeom prst="smileyFace">
            <a:avLst>
              <a:gd name="adj" fmla="val -4653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ff953e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2" name="笑脸 16"/>
          <p:cNvSpPr/>
          <p:nvPr/>
        </p:nvSpPr>
        <p:spPr>
          <a:xfrm>
            <a:off x="111564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3" name="笑脸 26"/>
          <p:cNvSpPr/>
          <p:nvPr/>
        </p:nvSpPr>
        <p:spPr>
          <a:xfrm>
            <a:off x="174708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4" name="笑脸 27"/>
          <p:cNvSpPr/>
          <p:nvPr/>
        </p:nvSpPr>
        <p:spPr>
          <a:xfrm>
            <a:off x="237888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5" name="笑脸 28"/>
          <p:cNvSpPr/>
          <p:nvPr/>
        </p:nvSpPr>
        <p:spPr>
          <a:xfrm>
            <a:off x="301032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6" name="笑脸 29"/>
          <p:cNvSpPr/>
          <p:nvPr/>
        </p:nvSpPr>
        <p:spPr>
          <a:xfrm>
            <a:off x="364212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7" name="笑脸 30"/>
          <p:cNvSpPr/>
          <p:nvPr/>
        </p:nvSpPr>
        <p:spPr>
          <a:xfrm>
            <a:off x="427356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8" name="笑脸 31"/>
          <p:cNvSpPr/>
          <p:nvPr/>
        </p:nvSpPr>
        <p:spPr>
          <a:xfrm>
            <a:off x="490536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19" name="笑脸 32"/>
          <p:cNvSpPr/>
          <p:nvPr/>
        </p:nvSpPr>
        <p:spPr>
          <a:xfrm>
            <a:off x="616860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20" name="笑脸 33"/>
          <p:cNvSpPr/>
          <p:nvPr/>
        </p:nvSpPr>
        <p:spPr>
          <a:xfrm>
            <a:off x="6800040" y="2707200"/>
            <a:ext cx="503640" cy="50364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19050">
            <a:solidFill>
              <a:srgbClr val="ffffff"/>
            </a:solidFill>
            <a:round/>
          </a:ln>
          <a:effectLst>
            <a:glow rad="101520">
              <a:srgbClr val="a8e034">
                <a:alpha val="40000"/>
              </a:srgbClr>
            </a:glow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>
    <p:fade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5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322" name="图片 12" descr=""/>
          <p:cNvPicPr/>
          <p:nvPr/>
        </p:nvPicPr>
        <p:blipFill>
          <a:blip r:embed="rId2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323" name="图片 9" descr=""/>
          <p:cNvPicPr/>
          <p:nvPr/>
        </p:nvPicPr>
        <p:blipFill>
          <a:blip r:embed="rId3"/>
          <a:srcRect l="0" t="0" r="0" b="95010"/>
          <a:stretch/>
        </p:blipFill>
        <p:spPr>
          <a:xfrm>
            <a:off x="1440" y="0"/>
            <a:ext cx="9140400" cy="256680"/>
          </a:xfrm>
          <a:prstGeom prst="rect">
            <a:avLst/>
          </a:prstGeom>
          <a:ln w="9525">
            <a:noFill/>
          </a:ln>
        </p:spPr>
      </p:pic>
      <p:sp>
        <p:nvSpPr>
          <p:cNvPr id="324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25" name="矩形 15"/>
          <p:cNvSpPr/>
          <p:nvPr/>
        </p:nvSpPr>
        <p:spPr>
          <a:xfrm>
            <a:off x="3260160" y="221796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21540000" lon="0" rev="0"/>
              </a:camera>
              <a:lightRig dir="t" rig="threePt">
                <a:rot lat="0" lon="0" rev="0"/>
              </a:lightRig>
            </a:scene3d>
            <a:sp3d extrusionH="1905000" contourW="12700" prstMaterial="flat">
              <a:bevelT prst="relaxedInset" w="69850" h="50800"/>
              <a:bevelB w="31750"/>
              <a:contourClr>
                <a:schemeClr val="tx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4000" spc="-1" strike="noStrike" cap="all">
                <a:solidFill>
                  <a:schemeClr val="accent5">
                    <a:lumMod val="20000"/>
                    <a:lumOff val="80000"/>
                  </a:schemeClr>
                </a:solidFill>
                <a:latin typeface="方正正粗黑简体"/>
                <a:ea typeface="方正正粗黑简体"/>
              </a:rPr>
              <a:t>网站的发展与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14"/>
          <p:cNvGrpSpPr/>
          <p:nvPr/>
        </p:nvGrpSpPr>
        <p:grpSpPr>
          <a:xfrm>
            <a:off x="3629160" y="-781200"/>
            <a:ext cx="1882440" cy="2231640"/>
            <a:chOff x="3629160" y="-781200"/>
            <a:chExt cx="1882440" cy="2231640"/>
          </a:xfrm>
        </p:grpSpPr>
        <p:pic>
          <p:nvPicPr>
            <p:cNvPr id="327" name="图片 17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3629160" y="-781200"/>
              <a:ext cx="188244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328" name="矩形 21"/>
            <p:cNvSpPr/>
            <p:nvPr/>
          </p:nvSpPr>
          <p:spPr>
            <a:xfrm>
              <a:off x="4083480" y="206280"/>
              <a:ext cx="9126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第五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9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330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grpSp>
        <p:nvGrpSpPr>
          <p:cNvPr id="331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332" name="图片 2" descr=""/>
            <p:cNvPicPr/>
            <p:nvPr/>
          </p:nvPicPr>
          <p:blipFill>
            <a:blip r:embed="rId3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333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的发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与展望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图片 3" descr=""/>
          <p:cNvPicPr/>
          <p:nvPr/>
        </p:nvPicPr>
        <p:blipFill>
          <a:blip r:embed="rId4"/>
          <a:stretch/>
        </p:blipFill>
        <p:spPr>
          <a:xfrm>
            <a:off x="900000" y="1287360"/>
            <a:ext cx="3031920" cy="2225160"/>
          </a:xfrm>
          <a:prstGeom prst="rect">
            <a:avLst/>
          </a:prstGeom>
          <a:ln w="9525">
            <a:noFill/>
          </a:ln>
        </p:spPr>
      </p:pic>
      <p:pic>
        <p:nvPicPr>
          <p:cNvPr id="335" name="图片 4" descr=""/>
          <p:cNvPicPr/>
          <p:nvPr/>
        </p:nvPicPr>
        <p:blipFill>
          <a:blip r:embed="rId5"/>
          <a:stretch/>
        </p:blipFill>
        <p:spPr>
          <a:xfrm>
            <a:off x="5811840" y="1596960"/>
            <a:ext cx="2447640" cy="152856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pic>
        <p:nvPicPr>
          <p:cNvPr id="336" name="图片 5" descr=""/>
          <p:cNvPicPr/>
          <p:nvPr/>
        </p:nvPicPr>
        <p:blipFill>
          <a:blip r:embed="rId6"/>
          <a:stretch/>
        </p:blipFill>
        <p:spPr>
          <a:xfrm>
            <a:off x="5451840" y="2236680"/>
            <a:ext cx="2005560" cy="1270800"/>
          </a:xfrm>
          <a:prstGeom prst="rect">
            <a:avLst/>
          </a:prstGeom>
          <a:ln w="101600">
            <a:noFill/>
          </a:ln>
          <a:effectLst>
            <a:outerShdw algn="t" blurRad="203040" dir="5400000" dist="88920" rotWithShape="0" sx="101000" sy="101000">
              <a:srgbClr val="000000">
                <a:alpha val="40000"/>
              </a:srgbClr>
            </a:outerShdw>
          </a:effectLst>
          <a:scene3d>
            <a:camera prst="perspectiveRelaxed">
              <a:rot lat="18960000" lon="0" rev="0"/>
            </a:camera>
            <a:lightRig dir="t" rig="twoPt">
              <a:rot lat="0" lon="0" rev="7200000"/>
            </a:lightRig>
          </a:scene3d>
          <a:sp3d prstMaterial="matte">
            <a:bevelT w="22860" h="12700"/>
            <a:contourClr>
              <a:srgbClr val="ffffff"/>
            </a:contourClr>
          </a:sp3d>
        </p:spPr>
      </p:pic>
      <p:sp>
        <p:nvSpPr>
          <p:cNvPr id="337" name="矩形 6"/>
          <p:cNvSpPr/>
          <p:nvPr/>
        </p:nvSpPr>
        <p:spPr>
          <a:xfrm>
            <a:off x="4146840" y="1849320"/>
            <a:ext cx="849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&amp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9"/>
          <p:cNvSpPr/>
          <p:nvPr/>
        </p:nvSpPr>
        <p:spPr>
          <a:xfrm>
            <a:off x="1891080" y="365112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交互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5"/>
          <p:cNvSpPr/>
          <p:nvPr/>
        </p:nvSpPr>
        <p:spPr>
          <a:xfrm>
            <a:off x="6146280" y="365112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后台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>
    <p:fade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21" descr=""/>
          <p:cNvPicPr/>
          <p:nvPr/>
        </p:nvPicPr>
        <p:blipFill>
          <a:blip r:embed="rId1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342" name="图片 12" descr=""/>
          <p:cNvPicPr/>
          <p:nvPr/>
        </p:nvPicPr>
        <p:blipFill>
          <a:blip r:embed="rId2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343" name="图片 6" descr=""/>
          <p:cNvPicPr/>
          <p:nvPr/>
        </p:nvPicPr>
        <p:blipFill>
          <a:blip r:embed="rId3"/>
          <a:srcRect l="0" t="4584" r="0" b="35976"/>
          <a:stretch/>
        </p:blipFill>
        <p:spPr>
          <a:xfrm>
            <a:off x="-227160" y="839880"/>
            <a:ext cx="9142200" cy="3057120"/>
          </a:xfrm>
          <a:prstGeom prst="rect">
            <a:avLst/>
          </a:prstGeom>
          <a:ln w="9525">
            <a:noFill/>
          </a:ln>
        </p:spPr>
      </p:pic>
      <p:pic>
        <p:nvPicPr>
          <p:cNvPr id="344" name="图片 4" descr=""/>
          <p:cNvPicPr/>
          <p:nvPr/>
        </p:nvPicPr>
        <p:blipFill>
          <a:blip r:embed="rId4"/>
          <a:srcRect l="0" t="11526" r="0" b="37362"/>
          <a:stretch/>
        </p:blipFill>
        <p:spPr>
          <a:xfrm>
            <a:off x="-243000" y="1190520"/>
            <a:ext cx="9140400" cy="2628720"/>
          </a:xfrm>
          <a:prstGeom prst="rect">
            <a:avLst/>
          </a:prstGeom>
          <a:ln w="9525">
            <a:noFill/>
          </a:ln>
        </p:spPr>
      </p:pic>
      <p:pic>
        <p:nvPicPr>
          <p:cNvPr id="345" name="图片 7" descr=""/>
          <p:cNvPicPr/>
          <p:nvPr/>
        </p:nvPicPr>
        <p:blipFill>
          <a:blip r:embed="rId5"/>
          <a:srcRect l="0" t="34031" r="0" b="16760"/>
          <a:stretch/>
        </p:blipFill>
        <p:spPr>
          <a:xfrm>
            <a:off x="-63360" y="2228760"/>
            <a:ext cx="9140400" cy="2531880"/>
          </a:xfrm>
          <a:prstGeom prst="rect">
            <a:avLst/>
          </a:prstGeom>
          <a:ln w="9525">
            <a:noFill/>
          </a:ln>
        </p:spPr>
      </p:pic>
      <p:pic>
        <p:nvPicPr>
          <p:cNvPr id="346" name="图片 9" descr=""/>
          <p:cNvPicPr/>
          <p:nvPr/>
        </p:nvPicPr>
        <p:blipFill>
          <a:blip r:embed="rId6"/>
          <a:srcRect l="0" t="0" r="0" b="95010"/>
          <a:stretch/>
        </p:blipFill>
        <p:spPr>
          <a:xfrm>
            <a:off x="1440" y="0"/>
            <a:ext cx="9140400" cy="256680"/>
          </a:xfrm>
          <a:prstGeom prst="rect">
            <a:avLst/>
          </a:prstGeom>
          <a:ln w="9525">
            <a:noFill/>
          </a:ln>
        </p:spPr>
      </p:pic>
      <p:pic>
        <p:nvPicPr>
          <p:cNvPr id="347" name="图片 10" descr=""/>
          <p:cNvPicPr/>
          <p:nvPr/>
        </p:nvPicPr>
        <p:blipFill>
          <a:blip r:embed="rId7"/>
          <a:srcRect l="38709" t="8188" r="38784" b="45906"/>
          <a:stretch/>
        </p:blipFill>
        <p:spPr>
          <a:xfrm>
            <a:off x="3543480" y="-528480"/>
            <a:ext cx="2057040" cy="2360160"/>
          </a:xfrm>
          <a:prstGeom prst="rect">
            <a:avLst/>
          </a:prstGeom>
          <a:ln w="9525">
            <a:noFill/>
          </a:ln>
        </p:spPr>
      </p:pic>
      <p:pic>
        <p:nvPicPr>
          <p:cNvPr id="348" name="图片 11" descr=""/>
          <p:cNvPicPr/>
          <p:nvPr/>
        </p:nvPicPr>
        <p:blipFill>
          <a:blip r:embed="rId8"/>
          <a:srcRect l="39532" t="19671" r="37752" b="20952"/>
          <a:stretch/>
        </p:blipFill>
        <p:spPr>
          <a:xfrm>
            <a:off x="3581280" y="766800"/>
            <a:ext cx="2076120" cy="3052440"/>
          </a:xfrm>
          <a:prstGeom prst="rect">
            <a:avLst/>
          </a:prstGeom>
          <a:ln w="9525">
            <a:noFill/>
          </a:ln>
        </p:spPr>
      </p:pic>
      <p:sp>
        <p:nvSpPr>
          <p:cNvPr id="349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50" name="矩形 15"/>
          <p:cNvSpPr/>
          <p:nvPr/>
        </p:nvSpPr>
        <p:spPr>
          <a:xfrm>
            <a:off x="2517840" y="35200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21540000" lon="0" rev="0"/>
              </a:camera>
              <a:lightRig dir="t" rig="threePt">
                <a:rot lat="0" lon="0" rev="0"/>
              </a:lightRig>
            </a:scene3d>
            <a:sp3d extrusionH="1905000" contourW="12700" prstMaterial="flat">
              <a:bevelT prst="relaxedInset" w="69850" h="50800"/>
              <a:bevelB w="31750"/>
              <a:contourClr>
                <a:schemeClr val="tx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4000" spc="-1" strike="noStrike" cap="all">
                <a:solidFill>
                  <a:schemeClr val="accent5">
                    <a:lumMod val="20000"/>
                    <a:lumOff val="80000"/>
                  </a:schemeClr>
                </a:solidFill>
                <a:latin typeface="方正正粗黑简体"/>
                <a:ea typeface="方正正粗黑简体"/>
              </a:rPr>
              <a:t>感谢各位老师  欢迎批评指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6"/>
          <p:cNvSpPr/>
          <p:nvPr/>
        </p:nvSpPr>
        <p:spPr>
          <a:xfrm>
            <a:off x="3651840" y="4156200"/>
            <a:ext cx="183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299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光电</a:t>
            </a:r>
            <a:r>
              <a:rPr b="1" lang="en-US" sz="1800" spc="299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083-3 </a:t>
            </a:r>
            <a:r>
              <a:rPr b="1" lang="zh-CN" sz="1800" spc="299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许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299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指导老师  薛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8"/>
          <p:cNvSpPr/>
          <p:nvPr/>
        </p:nvSpPr>
        <p:spPr>
          <a:xfrm rot="20523600">
            <a:off x="1139760" y="3376080"/>
            <a:ext cx="508680" cy="897120"/>
          </a:xfrm>
          <a:prstGeom prst="ellipse">
            <a:avLst/>
          </a:prstGeom>
          <a:solidFill>
            <a:schemeClr val="bg1">
              <a:alpha val="68000"/>
            </a:schemeClr>
          </a:solidFill>
          <a:ln>
            <a:noFill/>
          </a:ln>
          <a:effectLst>
            <a:softEdge rad="1522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53" name="椭圆 19"/>
          <p:cNvSpPr/>
          <p:nvPr/>
        </p:nvSpPr>
        <p:spPr>
          <a:xfrm rot="20523600">
            <a:off x="1165680" y="3374280"/>
            <a:ext cx="491400" cy="870480"/>
          </a:xfrm>
          <a:prstGeom prst="ellipse">
            <a:avLst/>
          </a:prstGeom>
          <a:solidFill>
            <a:schemeClr val="bg1">
              <a:alpha val="66000"/>
            </a:schemeClr>
          </a:solidFill>
          <a:ln>
            <a:noFill/>
          </a:ln>
          <a:effectLst>
            <a:softEdge rad="1522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vide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9288360" y="-477720"/>
            <a:ext cx="609120" cy="6091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0"/>
          <p:cNvSpPr/>
          <p:nvPr/>
        </p:nvSpPr>
        <p:spPr>
          <a:xfrm>
            <a:off x="3383280" y="2389320"/>
            <a:ext cx="237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9" dur="1575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autoRev="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050" dur="2000" fill="hold"/>
                                        <p:tgtEl>
                                          <p:spTgt spid="343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055" dur="2000" fill="hold"/>
                                        <p:tgtEl>
                                          <p:spTgt spid="345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autoRev="1" nodeType="withEffect" fill="hold" presetClass="path" presetID="42" repeatCount="indefinite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1.66667E-006 9.87654E-007 L 1.66667E-006 0.02623 E">
                                      <p:cBhvr>
                                        <p:cTn id="1072" dur="225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2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7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1025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path" presetID="42">
                                  <p:stCondLst>
                                    <p:cond delay="10250"/>
                                  </p:stCondLst>
                                  <p:childTnLst>
                                    <p:animMotion origin="layout" path="M -5.55556E-007 1.48148E-006 L 0.6941 -0.00093 E">
                                      <p:cBhvr>
                                        <p:cTn id="1087" dur="1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1225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path" presetID="42">
                                  <p:stCondLst>
                                    <p:cond delay="12250"/>
                                  </p:stCondLst>
                                  <p:childTnLst>
                                    <p:animMotion origin="layout" path="M -2.77778E-007 -7.40741E-007 L 0.69219 -0.00093 E">
                                      <p:cBhvr>
                                        <p:cTn id="1095" dur="1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1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sp>
        <p:nvSpPr>
          <p:cNvPr id="97" name="矩形 5"/>
          <p:cNvSpPr/>
          <p:nvPr/>
        </p:nvSpPr>
        <p:spPr>
          <a:xfrm>
            <a:off x="468360" y="555480"/>
            <a:ext cx="1510920" cy="4250880"/>
          </a:xfrm>
          <a:prstGeom prst="rect">
            <a:avLst/>
          </a:prstGeom>
          <a:gradFill rotWithShape="0">
            <a:gsLst>
              <a:gs pos="0">
                <a:srgbClr val="558ed5"/>
              </a:gs>
              <a:gs pos="100000">
                <a:srgbClr val="558ed5">
                  <a:alpha val="4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grpSp>
        <p:nvGrpSpPr>
          <p:cNvPr id="99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100" name="图片 2" descr=""/>
            <p:cNvPicPr/>
            <p:nvPr/>
          </p:nvPicPr>
          <p:blipFill>
            <a:blip r:embed="rId3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01" name="矩形 8"/>
            <p:cNvSpPr/>
            <p:nvPr/>
          </p:nvSpPr>
          <p:spPr>
            <a:xfrm>
              <a:off x="794880" y="42840"/>
              <a:ext cx="774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目 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5"/>
          <p:cNvGrpSpPr/>
          <p:nvPr/>
        </p:nvGrpSpPr>
        <p:grpSpPr>
          <a:xfrm>
            <a:off x="468360" y="1347840"/>
            <a:ext cx="8675280" cy="455400"/>
            <a:chOff x="468360" y="1347840"/>
            <a:chExt cx="8675280" cy="455400"/>
          </a:xfrm>
        </p:grpSpPr>
        <p:grpSp>
          <p:nvGrpSpPr>
            <p:cNvPr id="103" name="组合 40"/>
            <p:cNvGrpSpPr/>
            <p:nvPr/>
          </p:nvGrpSpPr>
          <p:grpSpPr>
            <a:xfrm>
              <a:off x="468360" y="1347840"/>
              <a:ext cx="1510920" cy="455400"/>
              <a:chOff x="468360" y="1347840"/>
              <a:chExt cx="1510920" cy="455400"/>
            </a:xfrm>
          </p:grpSpPr>
          <p:sp>
            <p:nvSpPr>
              <p:cNvPr id="104" name="矩形 20"/>
              <p:cNvSpPr/>
              <p:nvPr/>
            </p:nvSpPr>
            <p:spPr>
              <a:xfrm>
                <a:off x="468360" y="1347840"/>
                <a:ext cx="1510920" cy="420480"/>
              </a:xfrm>
              <a:prstGeom prst="rect">
                <a:avLst/>
              </a:prstGeom>
              <a:solidFill>
                <a:schemeClr val="tx1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5" name="矩形 15"/>
              <p:cNvSpPr/>
              <p:nvPr/>
            </p:nvSpPr>
            <p:spPr>
              <a:xfrm>
                <a:off x="980640" y="1347840"/>
                <a:ext cx="4860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正粗黑简体"/>
                    <a:ea typeface="方正正粗黑简体"/>
                  </a:rPr>
                  <a:t>第一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27"/>
            <p:cNvGrpSpPr/>
            <p:nvPr/>
          </p:nvGrpSpPr>
          <p:grpSpPr>
            <a:xfrm>
              <a:off x="1979640" y="1347840"/>
              <a:ext cx="7164000" cy="455400"/>
              <a:chOff x="1979640" y="1347840"/>
              <a:chExt cx="7164000" cy="455400"/>
            </a:xfrm>
          </p:grpSpPr>
          <p:sp>
            <p:nvSpPr>
              <p:cNvPr id="107" name="矩形 25"/>
              <p:cNvSpPr/>
              <p:nvPr/>
            </p:nvSpPr>
            <p:spPr>
              <a:xfrm>
                <a:off x="1979640" y="1347840"/>
                <a:ext cx="7164000" cy="420480"/>
              </a:xfrm>
              <a:prstGeom prst="rect">
                <a:avLst/>
              </a:prstGeom>
              <a:solidFill>
                <a:schemeClr val="tx2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8" name="矩形 26"/>
              <p:cNvSpPr/>
              <p:nvPr/>
            </p:nvSpPr>
            <p:spPr>
              <a:xfrm>
                <a:off x="2268360" y="1347840"/>
                <a:ext cx="65516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299" strike="noStrike">
                    <a:solidFill>
                      <a:srgbClr val="17375e"/>
                    </a:solidFill>
                    <a:latin typeface="方正正粗黑简体"/>
                    <a:ea typeface="方正正粗黑简体"/>
                  </a:rPr>
                  <a:t>网站的规划与前期准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组合 46"/>
          <p:cNvGrpSpPr/>
          <p:nvPr/>
        </p:nvGrpSpPr>
        <p:grpSpPr>
          <a:xfrm>
            <a:off x="468360" y="1941480"/>
            <a:ext cx="8675280" cy="456120"/>
            <a:chOff x="468360" y="1941480"/>
            <a:chExt cx="8675280" cy="456120"/>
          </a:xfrm>
        </p:grpSpPr>
        <p:grpSp>
          <p:nvGrpSpPr>
            <p:cNvPr id="110" name="组合 41"/>
            <p:cNvGrpSpPr/>
            <p:nvPr/>
          </p:nvGrpSpPr>
          <p:grpSpPr>
            <a:xfrm>
              <a:off x="468360" y="1941480"/>
              <a:ext cx="1510920" cy="455400"/>
              <a:chOff x="468360" y="1941480"/>
              <a:chExt cx="1510920" cy="455400"/>
            </a:xfrm>
          </p:grpSpPr>
          <p:sp>
            <p:nvSpPr>
              <p:cNvPr id="111" name="矩形 21"/>
              <p:cNvSpPr/>
              <p:nvPr/>
            </p:nvSpPr>
            <p:spPr>
              <a:xfrm>
                <a:off x="468360" y="1941480"/>
                <a:ext cx="1510920" cy="420480"/>
              </a:xfrm>
              <a:prstGeom prst="rect">
                <a:avLst/>
              </a:prstGeom>
              <a:solidFill>
                <a:schemeClr val="tx1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2" name="矩形 16"/>
              <p:cNvSpPr/>
              <p:nvPr/>
            </p:nvSpPr>
            <p:spPr>
              <a:xfrm>
                <a:off x="858960" y="194148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正粗黑简体"/>
                    <a:ea typeface="方正正粗黑简体"/>
                  </a:rPr>
                  <a:t>第二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28"/>
            <p:cNvGrpSpPr/>
            <p:nvPr/>
          </p:nvGrpSpPr>
          <p:grpSpPr>
            <a:xfrm>
              <a:off x="1979640" y="1941480"/>
              <a:ext cx="7164000" cy="456120"/>
              <a:chOff x="1979640" y="1941480"/>
              <a:chExt cx="7164000" cy="456120"/>
            </a:xfrm>
          </p:grpSpPr>
          <p:sp>
            <p:nvSpPr>
              <p:cNvPr id="114" name="矩形 29"/>
              <p:cNvSpPr/>
              <p:nvPr/>
            </p:nvSpPr>
            <p:spPr>
              <a:xfrm>
                <a:off x="1979640" y="1941480"/>
                <a:ext cx="7164000" cy="420480"/>
              </a:xfrm>
              <a:prstGeom prst="rect">
                <a:avLst/>
              </a:prstGeom>
              <a:solidFill>
                <a:schemeClr val="tx2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5" name="矩形 30"/>
              <p:cNvSpPr/>
              <p:nvPr/>
            </p:nvSpPr>
            <p:spPr>
              <a:xfrm>
                <a:off x="2268360" y="1942200"/>
                <a:ext cx="65516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299" strike="noStrike">
                    <a:solidFill>
                      <a:srgbClr val="17375e"/>
                    </a:solidFill>
                    <a:latin typeface="方正正粗黑简体"/>
                    <a:ea typeface="方正正粗黑简体"/>
                  </a:rPr>
                  <a:t>网站静态页面的设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组合 47"/>
          <p:cNvGrpSpPr/>
          <p:nvPr/>
        </p:nvGrpSpPr>
        <p:grpSpPr>
          <a:xfrm>
            <a:off x="468360" y="2535120"/>
            <a:ext cx="8675280" cy="455400"/>
            <a:chOff x="468360" y="2535120"/>
            <a:chExt cx="8675280" cy="455400"/>
          </a:xfrm>
        </p:grpSpPr>
        <p:grpSp>
          <p:nvGrpSpPr>
            <p:cNvPr id="117" name="组合 42"/>
            <p:cNvGrpSpPr/>
            <p:nvPr/>
          </p:nvGrpSpPr>
          <p:grpSpPr>
            <a:xfrm>
              <a:off x="468360" y="2535120"/>
              <a:ext cx="1510920" cy="455400"/>
              <a:chOff x="468360" y="2535120"/>
              <a:chExt cx="1510920" cy="455400"/>
            </a:xfrm>
          </p:grpSpPr>
          <p:sp>
            <p:nvSpPr>
              <p:cNvPr id="118" name="矩形 22"/>
              <p:cNvSpPr/>
              <p:nvPr/>
            </p:nvSpPr>
            <p:spPr>
              <a:xfrm>
                <a:off x="468360" y="2535120"/>
                <a:ext cx="1510920" cy="420480"/>
              </a:xfrm>
              <a:prstGeom prst="rect">
                <a:avLst/>
              </a:prstGeom>
              <a:solidFill>
                <a:schemeClr val="tx1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19" name="矩形 17"/>
              <p:cNvSpPr/>
              <p:nvPr/>
            </p:nvSpPr>
            <p:spPr>
              <a:xfrm>
                <a:off x="858960" y="253512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正粗黑简体"/>
                    <a:ea typeface="方正正粗黑简体"/>
                  </a:rPr>
                  <a:t>第三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31"/>
            <p:cNvGrpSpPr/>
            <p:nvPr/>
          </p:nvGrpSpPr>
          <p:grpSpPr>
            <a:xfrm>
              <a:off x="1979640" y="2535120"/>
              <a:ext cx="7164000" cy="455400"/>
              <a:chOff x="1979640" y="2535120"/>
              <a:chExt cx="7164000" cy="455400"/>
            </a:xfrm>
          </p:grpSpPr>
          <p:sp>
            <p:nvSpPr>
              <p:cNvPr id="121" name="矩形 32"/>
              <p:cNvSpPr/>
              <p:nvPr/>
            </p:nvSpPr>
            <p:spPr>
              <a:xfrm>
                <a:off x="1979640" y="2535120"/>
                <a:ext cx="7164000" cy="420480"/>
              </a:xfrm>
              <a:prstGeom prst="rect">
                <a:avLst/>
              </a:prstGeom>
              <a:solidFill>
                <a:schemeClr val="tx2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22" name="矩形 33"/>
              <p:cNvSpPr/>
              <p:nvPr/>
            </p:nvSpPr>
            <p:spPr>
              <a:xfrm>
                <a:off x="2268360" y="2535120"/>
                <a:ext cx="65516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299" strike="noStrike">
                    <a:solidFill>
                      <a:srgbClr val="17375e"/>
                    </a:solidFill>
                    <a:latin typeface="方正正粗黑简体"/>
                    <a:ea typeface="方正正粗黑简体"/>
                  </a:rPr>
                  <a:t>网站动态功能的实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组合 48"/>
          <p:cNvGrpSpPr/>
          <p:nvPr/>
        </p:nvGrpSpPr>
        <p:grpSpPr>
          <a:xfrm>
            <a:off x="468360" y="3130560"/>
            <a:ext cx="8675280" cy="456840"/>
            <a:chOff x="468360" y="3130560"/>
            <a:chExt cx="8675280" cy="456840"/>
          </a:xfrm>
        </p:grpSpPr>
        <p:grpSp>
          <p:nvGrpSpPr>
            <p:cNvPr id="124" name="组合 43"/>
            <p:cNvGrpSpPr/>
            <p:nvPr/>
          </p:nvGrpSpPr>
          <p:grpSpPr>
            <a:xfrm>
              <a:off x="468360" y="3130560"/>
              <a:ext cx="1510920" cy="455400"/>
              <a:chOff x="468360" y="3130560"/>
              <a:chExt cx="1510920" cy="455400"/>
            </a:xfrm>
          </p:grpSpPr>
          <p:sp>
            <p:nvSpPr>
              <p:cNvPr id="125" name="矩形 23"/>
              <p:cNvSpPr/>
              <p:nvPr/>
            </p:nvSpPr>
            <p:spPr>
              <a:xfrm>
                <a:off x="468360" y="3130560"/>
                <a:ext cx="1510920" cy="418680"/>
              </a:xfrm>
              <a:prstGeom prst="rect">
                <a:avLst/>
              </a:prstGeom>
              <a:solidFill>
                <a:schemeClr val="tx1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26" name="矩形 18"/>
              <p:cNvSpPr/>
              <p:nvPr/>
            </p:nvSpPr>
            <p:spPr>
              <a:xfrm>
                <a:off x="858960" y="313056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正粗黑简体"/>
                    <a:ea typeface="方正正粗黑简体"/>
                  </a:rPr>
                  <a:t>第四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34"/>
            <p:cNvGrpSpPr/>
            <p:nvPr/>
          </p:nvGrpSpPr>
          <p:grpSpPr>
            <a:xfrm>
              <a:off x="1979640" y="3132000"/>
              <a:ext cx="7164000" cy="455400"/>
              <a:chOff x="1979640" y="3132000"/>
              <a:chExt cx="7164000" cy="455400"/>
            </a:xfrm>
          </p:grpSpPr>
          <p:sp>
            <p:nvSpPr>
              <p:cNvPr id="128" name="矩形 35"/>
              <p:cNvSpPr/>
              <p:nvPr/>
            </p:nvSpPr>
            <p:spPr>
              <a:xfrm>
                <a:off x="1979640" y="3132000"/>
                <a:ext cx="7164000" cy="420480"/>
              </a:xfrm>
              <a:prstGeom prst="rect">
                <a:avLst/>
              </a:prstGeom>
              <a:solidFill>
                <a:schemeClr val="tx2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29" name="矩形 36"/>
              <p:cNvSpPr/>
              <p:nvPr/>
            </p:nvSpPr>
            <p:spPr>
              <a:xfrm>
                <a:off x="2268360" y="3132000"/>
                <a:ext cx="65516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299" strike="noStrike">
                    <a:solidFill>
                      <a:srgbClr val="17375e"/>
                    </a:solidFill>
                    <a:latin typeface="方正正粗黑简体"/>
                    <a:ea typeface="方正正粗黑简体"/>
                  </a:rPr>
                  <a:t>网站的测试与维护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组合 49"/>
          <p:cNvGrpSpPr/>
          <p:nvPr/>
        </p:nvGrpSpPr>
        <p:grpSpPr>
          <a:xfrm>
            <a:off x="468360" y="3724200"/>
            <a:ext cx="8675280" cy="455400"/>
            <a:chOff x="468360" y="3724200"/>
            <a:chExt cx="8675280" cy="455400"/>
          </a:xfrm>
        </p:grpSpPr>
        <p:grpSp>
          <p:nvGrpSpPr>
            <p:cNvPr id="131" name="组合 44"/>
            <p:cNvGrpSpPr/>
            <p:nvPr/>
          </p:nvGrpSpPr>
          <p:grpSpPr>
            <a:xfrm>
              <a:off x="468360" y="3724200"/>
              <a:ext cx="1510920" cy="455400"/>
              <a:chOff x="468360" y="3724200"/>
              <a:chExt cx="1510920" cy="455400"/>
            </a:xfrm>
          </p:grpSpPr>
          <p:sp>
            <p:nvSpPr>
              <p:cNvPr id="132" name="矩形 24"/>
              <p:cNvSpPr/>
              <p:nvPr/>
            </p:nvSpPr>
            <p:spPr>
              <a:xfrm>
                <a:off x="468360" y="3724200"/>
                <a:ext cx="1510920" cy="420480"/>
              </a:xfrm>
              <a:prstGeom prst="rect">
                <a:avLst/>
              </a:prstGeom>
              <a:solidFill>
                <a:schemeClr val="tx1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3" name="矩形 19"/>
              <p:cNvSpPr/>
              <p:nvPr/>
            </p:nvSpPr>
            <p:spPr>
              <a:xfrm>
                <a:off x="858960" y="3724200"/>
                <a:ext cx="729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正粗黑简体"/>
                    <a:ea typeface="方正正粗黑简体"/>
                  </a:rPr>
                  <a:t>第五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37"/>
            <p:cNvGrpSpPr/>
            <p:nvPr/>
          </p:nvGrpSpPr>
          <p:grpSpPr>
            <a:xfrm>
              <a:off x="1979640" y="3724200"/>
              <a:ext cx="7164000" cy="455400"/>
              <a:chOff x="1979640" y="3724200"/>
              <a:chExt cx="7164000" cy="455400"/>
            </a:xfrm>
          </p:grpSpPr>
          <p:sp>
            <p:nvSpPr>
              <p:cNvPr id="135" name="矩形 38"/>
              <p:cNvSpPr/>
              <p:nvPr/>
            </p:nvSpPr>
            <p:spPr>
              <a:xfrm>
                <a:off x="1979640" y="3724200"/>
                <a:ext cx="7164000" cy="420480"/>
              </a:xfrm>
              <a:prstGeom prst="rect">
                <a:avLst/>
              </a:prstGeom>
              <a:solidFill>
                <a:schemeClr val="tx2">
                  <a:alpha val="28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6" name="矩形 39"/>
              <p:cNvSpPr/>
              <p:nvPr/>
            </p:nvSpPr>
            <p:spPr>
              <a:xfrm>
                <a:off x="2268360" y="3724200"/>
                <a:ext cx="65516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299" strike="noStrike">
                    <a:solidFill>
                      <a:srgbClr val="17375e"/>
                    </a:solidFill>
                    <a:latin typeface="方正正粗黑简体"/>
                    <a:ea typeface="方正正粗黑简体"/>
                  </a:rPr>
                  <a:t>网站的发展与展望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7" name="图片 3" descr=""/>
          <p:cNvPicPr/>
          <p:nvPr/>
        </p:nvPicPr>
        <p:blipFill>
          <a:blip r:embed="rId4"/>
          <a:srcRect l="76793" t="58411" r="0" b="0"/>
          <a:stretch/>
        </p:blipFill>
        <p:spPr>
          <a:xfrm>
            <a:off x="7021440" y="3005280"/>
            <a:ext cx="2120400" cy="2138040"/>
          </a:xfrm>
          <a:prstGeom prst="rect">
            <a:avLst/>
          </a:prstGeom>
          <a:ln w="9525">
            <a:noFill/>
          </a:ln>
        </p:spPr>
      </p:pic>
      <p:sp>
        <p:nvSpPr>
          <p:cNvPr id="138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140" name="图片 12" descr=""/>
          <p:cNvPicPr/>
          <p:nvPr/>
        </p:nvPicPr>
        <p:blipFill>
          <a:blip r:embed="rId2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141" name="图片 9" descr=""/>
          <p:cNvPicPr/>
          <p:nvPr/>
        </p:nvPicPr>
        <p:blipFill>
          <a:blip r:embed="rId3"/>
          <a:srcRect l="0" t="0" r="0" b="95010"/>
          <a:stretch/>
        </p:blipFill>
        <p:spPr>
          <a:xfrm>
            <a:off x="1440" y="0"/>
            <a:ext cx="9140400" cy="256680"/>
          </a:xfrm>
          <a:prstGeom prst="rect">
            <a:avLst/>
          </a:prstGeom>
          <a:ln w="9525">
            <a:noFill/>
          </a:ln>
        </p:spPr>
      </p:pic>
      <p:sp>
        <p:nvSpPr>
          <p:cNvPr id="142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2954880" y="221796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21540000" lon="0" rev="0"/>
              </a:camera>
              <a:lightRig dir="t" rig="threePt">
                <a:rot lat="0" lon="0" rev="0"/>
              </a:lightRig>
            </a:scene3d>
            <a:sp3d extrusionH="1905000" contourW="12700" prstMaterial="flat">
              <a:bevelT prst="relaxedInset" w="69850" h="50800"/>
              <a:bevelB w="31750"/>
              <a:contourClr>
                <a:schemeClr val="tx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4000" spc="-1" strike="noStrike" cap="all">
                <a:solidFill>
                  <a:schemeClr val="accent5">
                    <a:lumMod val="20000"/>
                    <a:lumOff val="80000"/>
                  </a:schemeClr>
                </a:solidFill>
                <a:latin typeface="方正正粗黑简体"/>
                <a:ea typeface="方正正粗黑简体"/>
              </a:rPr>
              <a:t>网站的规划与前期准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14"/>
          <p:cNvGrpSpPr/>
          <p:nvPr/>
        </p:nvGrpSpPr>
        <p:grpSpPr>
          <a:xfrm>
            <a:off x="3629160" y="-781200"/>
            <a:ext cx="1882440" cy="2231640"/>
            <a:chOff x="3629160" y="-781200"/>
            <a:chExt cx="1882440" cy="2231640"/>
          </a:xfrm>
        </p:grpSpPr>
        <p:pic>
          <p:nvPicPr>
            <p:cNvPr id="145" name="图片 17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3629160" y="-781200"/>
              <a:ext cx="188244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46" name="矩形 21"/>
            <p:cNvSpPr/>
            <p:nvPr/>
          </p:nvSpPr>
          <p:spPr>
            <a:xfrm>
              <a:off x="4245840" y="206280"/>
              <a:ext cx="587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第一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148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grpSp>
        <p:nvGrpSpPr>
          <p:cNvPr id="149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150" name="图片 2" descr=""/>
            <p:cNvPicPr/>
            <p:nvPr/>
          </p:nvPicPr>
          <p:blipFill>
            <a:blip r:embed="rId3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51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的规划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与前期准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979993016"/>
              </p:ext>
            </p:extLst>
          </p:nvPr>
        </p:nvGraphicFramePr>
        <p:xfrm>
          <a:off x="-396720" y="443880"/>
          <a:ext cx="8873280" cy="4143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" r:lo="rId5" r:qs="rId6" r:cs="rId7"/>
          </a:graphicData>
        </a:graphic>
      </p:graphicFrame>
      <p:sp>
        <p:nvSpPr>
          <p:cNvPr id="153" name="矩形 4"/>
          <p:cNvSpPr/>
          <p:nvPr/>
        </p:nvSpPr>
        <p:spPr>
          <a:xfrm>
            <a:off x="7903800" y="4227480"/>
            <a:ext cx="9432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网站结构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直接连接符 7"/>
          <p:cNvCxnSpPr/>
          <p:nvPr/>
        </p:nvCxnSpPr>
        <p:spPr>
          <a:xfrm>
            <a:off x="6804000" y="4209840"/>
            <a:ext cx="259272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headEnd len="med" type="oval" w="med"/>
          </a:ln>
        </p:spPr>
      </p:cxnSp>
      <p:sp>
        <p:nvSpPr>
          <p:cNvPr id="155" name="Text Box 8"/>
          <p:cNvSpPr/>
          <p:nvPr/>
        </p:nvSpPr>
        <p:spPr>
          <a:xfrm>
            <a:off x="539640" y="48290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157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grpSp>
        <p:nvGrpSpPr>
          <p:cNvPr id="158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159" name="图片 2" descr=""/>
            <p:cNvPicPr/>
            <p:nvPr/>
          </p:nvPicPr>
          <p:blipFill>
            <a:blip r:embed="rId3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60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的规划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与前期准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8107920" y="4227480"/>
            <a:ext cx="7905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开发工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直接连接符 7"/>
          <p:cNvCxnSpPr/>
          <p:nvPr/>
        </p:nvCxnSpPr>
        <p:spPr>
          <a:xfrm>
            <a:off x="6804000" y="4209840"/>
            <a:ext cx="259272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headEnd len="med" type="oval" w="med"/>
          </a:ln>
        </p:spPr>
      </p:cxnSp>
      <p:sp>
        <p:nvSpPr>
          <p:cNvPr id="164" name="圆角矩形标注 5"/>
          <p:cNvSpPr/>
          <p:nvPr/>
        </p:nvSpPr>
        <p:spPr>
          <a:xfrm>
            <a:off x="787680" y="3156480"/>
            <a:ext cx="1365480" cy="79956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799560"/>
              <a:gd name="textAreaBottom" fmla="*/ 799920 h 799560"/>
            </a:gdLst>
            <a:ahLst/>
            <a:rect l="textAreaLeft" t="textAreaTop" r="textAreaRight" b="textAreaBottom"/>
            <a:pathLst>
              <a:path w="2376264" h="1391390">
                <a:moveTo>
                  <a:pt x="0" y="192025"/>
                </a:moveTo>
                <a:cubicBezTo>
                  <a:pt x="0" y="85973"/>
                  <a:pt x="85973" y="0"/>
                  <a:pt x="192025" y="0"/>
                </a:cubicBezTo>
                <a:lnTo>
                  <a:pt x="396044" y="0"/>
                </a:lnTo>
                <a:lnTo>
                  <a:pt x="396044" y="0"/>
                </a:lnTo>
                <a:lnTo>
                  <a:pt x="990110" y="0"/>
                </a:lnTo>
                <a:lnTo>
                  <a:pt x="2184239" y="0"/>
                </a:lnTo>
                <a:cubicBezTo>
                  <a:pt x="2290291" y="0"/>
                  <a:pt x="2376264" y="85973"/>
                  <a:pt x="2376264" y="192025"/>
                </a:cubicBezTo>
                <a:lnTo>
                  <a:pt x="2376264" y="672075"/>
                </a:lnTo>
                <a:lnTo>
                  <a:pt x="2376264" y="672075"/>
                </a:lnTo>
                <a:lnTo>
                  <a:pt x="2376264" y="960107"/>
                </a:lnTo>
                <a:lnTo>
                  <a:pt x="2376264" y="960103"/>
                </a:lnTo>
                <a:cubicBezTo>
                  <a:pt x="2376264" y="1066155"/>
                  <a:pt x="2290291" y="1152128"/>
                  <a:pt x="2184239" y="1152128"/>
                </a:cubicBezTo>
                <a:lnTo>
                  <a:pt x="621810" y="1164828"/>
                </a:lnTo>
                <a:lnTo>
                  <a:pt x="400995" y="1391390"/>
                </a:lnTo>
                <a:lnTo>
                  <a:pt x="396044" y="1152128"/>
                </a:lnTo>
                <a:lnTo>
                  <a:pt x="192025" y="1152128"/>
                </a:lnTo>
                <a:cubicBezTo>
                  <a:pt x="85973" y="1152128"/>
                  <a:pt x="0" y="1066155"/>
                  <a:pt x="0" y="960103"/>
                </a:cubicBezTo>
                <a:lnTo>
                  <a:pt x="0" y="960107"/>
                </a:lnTo>
                <a:lnTo>
                  <a:pt x="0" y="672075"/>
                </a:lnTo>
                <a:lnTo>
                  <a:pt x="0" y="672075"/>
                </a:lnTo>
                <a:lnTo>
                  <a:pt x="0" y="192025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265d9f"/>
              </a:gs>
            </a:gsLst>
            <a:lin ang="5400000"/>
          </a:gradFill>
          <a:ln w="6350">
            <a:solidFill>
              <a:srgbClr val="ffffff"/>
            </a:solidFill>
            <a:round/>
          </a:ln>
          <a:effectLst>
            <a:outerShdw algn="ctr" blurRad="165240" rotWithShape="0" sx="105000" sy="105000">
              <a:schemeClr val="accent1">
                <a:lumMod val="75000"/>
                <a:alpha val="58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ts val="21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标注 5"/>
          <p:cNvSpPr/>
          <p:nvPr/>
        </p:nvSpPr>
        <p:spPr>
          <a:xfrm>
            <a:off x="2881080" y="2400480"/>
            <a:ext cx="1365480" cy="79956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799560"/>
              <a:gd name="textAreaBottom" fmla="*/ 799920 h 799560"/>
            </a:gdLst>
            <a:ahLst/>
            <a:rect l="textAreaLeft" t="textAreaTop" r="textAreaRight" b="textAreaBottom"/>
            <a:pathLst>
              <a:path w="2376264" h="1391390">
                <a:moveTo>
                  <a:pt x="0" y="192025"/>
                </a:moveTo>
                <a:cubicBezTo>
                  <a:pt x="0" y="85973"/>
                  <a:pt x="85973" y="0"/>
                  <a:pt x="192025" y="0"/>
                </a:cubicBezTo>
                <a:lnTo>
                  <a:pt x="396044" y="0"/>
                </a:lnTo>
                <a:lnTo>
                  <a:pt x="396044" y="0"/>
                </a:lnTo>
                <a:lnTo>
                  <a:pt x="990110" y="0"/>
                </a:lnTo>
                <a:lnTo>
                  <a:pt x="2184239" y="0"/>
                </a:lnTo>
                <a:cubicBezTo>
                  <a:pt x="2290291" y="0"/>
                  <a:pt x="2376264" y="85973"/>
                  <a:pt x="2376264" y="192025"/>
                </a:cubicBezTo>
                <a:lnTo>
                  <a:pt x="2376264" y="672075"/>
                </a:lnTo>
                <a:lnTo>
                  <a:pt x="2376264" y="672075"/>
                </a:lnTo>
                <a:lnTo>
                  <a:pt x="2376264" y="960107"/>
                </a:lnTo>
                <a:lnTo>
                  <a:pt x="2376264" y="960103"/>
                </a:lnTo>
                <a:cubicBezTo>
                  <a:pt x="2376264" y="1066155"/>
                  <a:pt x="2290291" y="1152128"/>
                  <a:pt x="2184239" y="1152128"/>
                </a:cubicBezTo>
                <a:lnTo>
                  <a:pt x="621810" y="1164828"/>
                </a:lnTo>
                <a:lnTo>
                  <a:pt x="400995" y="1391390"/>
                </a:lnTo>
                <a:lnTo>
                  <a:pt x="396044" y="1152128"/>
                </a:lnTo>
                <a:lnTo>
                  <a:pt x="192025" y="1152128"/>
                </a:lnTo>
                <a:cubicBezTo>
                  <a:pt x="85973" y="1152128"/>
                  <a:pt x="0" y="1066155"/>
                  <a:pt x="0" y="960103"/>
                </a:cubicBezTo>
                <a:lnTo>
                  <a:pt x="0" y="960107"/>
                </a:lnTo>
                <a:lnTo>
                  <a:pt x="0" y="672075"/>
                </a:lnTo>
                <a:lnTo>
                  <a:pt x="0" y="672075"/>
                </a:lnTo>
                <a:lnTo>
                  <a:pt x="0" y="192025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265d9f"/>
              </a:gs>
            </a:gsLst>
            <a:lin ang="5400000"/>
          </a:gradFill>
          <a:ln w="6350">
            <a:solidFill>
              <a:srgbClr val="ffffff"/>
            </a:solidFill>
            <a:round/>
          </a:ln>
          <a:effectLst>
            <a:outerShdw algn="ctr" blurRad="165240" rotWithShape="0" sx="105000" sy="105000">
              <a:schemeClr val="accent1">
                <a:lumMod val="75000"/>
                <a:alpha val="58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ts val="21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C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标注 5"/>
          <p:cNvSpPr/>
          <p:nvPr/>
        </p:nvSpPr>
        <p:spPr>
          <a:xfrm>
            <a:off x="7020360" y="1352160"/>
            <a:ext cx="1365480" cy="79956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799560"/>
              <a:gd name="textAreaBottom" fmla="*/ 799920 h 799560"/>
            </a:gdLst>
            <a:ahLst/>
            <a:rect l="textAreaLeft" t="textAreaTop" r="textAreaRight" b="textAreaBottom"/>
            <a:pathLst>
              <a:path w="2376264" h="1391390">
                <a:moveTo>
                  <a:pt x="0" y="192025"/>
                </a:moveTo>
                <a:cubicBezTo>
                  <a:pt x="0" y="85973"/>
                  <a:pt x="85973" y="0"/>
                  <a:pt x="192025" y="0"/>
                </a:cubicBezTo>
                <a:lnTo>
                  <a:pt x="396044" y="0"/>
                </a:lnTo>
                <a:lnTo>
                  <a:pt x="396044" y="0"/>
                </a:lnTo>
                <a:lnTo>
                  <a:pt x="990110" y="0"/>
                </a:lnTo>
                <a:lnTo>
                  <a:pt x="2184239" y="0"/>
                </a:lnTo>
                <a:cubicBezTo>
                  <a:pt x="2290291" y="0"/>
                  <a:pt x="2376264" y="85973"/>
                  <a:pt x="2376264" y="192025"/>
                </a:cubicBezTo>
                <a:lnTo>
                  <a:pt x="2376264" y="672075"/>
                </a:lnTo>
                <a:lnTo>
                  <a:pt x="2376264" y="672075"/>
                </a:lnTo>
                <a:lnTo>
                  <a:pt x="2376264" y="960107"/>
                </a:lnTo>
                <a:lnTo>
                  <a:pt x="2376264" y="960103"/>
                </a:lnTo>
                <a:cubicBezTo>
                  <a:pt x="2376264" y="1066155"/>
                  <a:pt x="2290291" y="1152128"/>
                  <a:pt x="2184239" y="1152128"/>
                </a:cubicBezTo>
                <a:lnTo>
                  <a:pt x="621810" y="1164828"/>
                </a:lnTo>
                <a:lnTo>
                  <a:pt x="400995" y="1391390"/>
                </a:lnTo>
                <a:lnTo>
                  <a:pt x="396044" y="1152128"/>
                </a:lnTo>
                <a:lnTo>
                  <a:pt x="192025" y="1152128"/>
                </a:lnTo>
                <a:cubicBezTo>
                  <a:pt x="85973" y="1152128"/>
                  <a:pt x="0" y="1066155"/>
                  <a:pt x="0" y="960103"/>
                </a:cubicBezTo>
                <a:lnTo>
                  <a:pt x="0" y="960107"/>
                </a:lnTo>
                <a:lnTo>
                  <a:pt x="0" y="672075"/>
                </a:lnTo>
                <a:lnTo>
                  <a:pt x="0" y="672075"/>
                </a:lnTo>
                <a:lnTo>
                  <a:pt x="0" y="192025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265d9f"/>
              </a:gs>
            </a:gsLst>
            <a:lin ang="5400000"/>
          </a:gradFill>
          <a:ln w="6350">
            <a:solidFill>
              <a:srgbClr val="ffffff"/>
            </a:solidFill>
            <a:round/>
          </a:ln>
          <a:effectLst>
            <a:outerShdw algn="ctr" blurRad="165240" rotWithShape="0" sx="105000" sy="105000">
              <a:schemeClr val="accent1">
                <a:lumMod val="75000"/>
                <a:alpha val="58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ts val="21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标注 5"/>
          <p:cNvSpPr/>
          <p:nvPr/>
        </p:nvSpPr>
        <p:spPr>
          <a:xfrm>
            <a:off x="3564000" y="3656880"/>
            <a:ext cx="1365480" cy="79956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799560"/>
              <a:gd name="textAreaBottom" fmla="*/ 799920 h 799560"/>
            </a:gdLst>
            <a:ahLst/>
            <a:rect l="textAreaLeft" t="textAreaTop" r="textAreaRight" b="textAreaBottom"/>
            <a:pathLst>
              <a:path w="2376264" h="1391390">
                <a:moveTo>
                  <a:pt x="0" y="192025"/>
                </a:moveTo>
                <a:cubicBezTo>
                  <a:pt x="0" y="85973"/>
                  <a:pt x="85973" y="0"/>
                  <a:pt x="192025" y="0"/>
                </a:cubicBezTo>
                <a:lnTo>
                  <a:pt x="396044" y="0"/>
                </a:lnTo>
                <a:lnTo>
                  <a:pt x="396044" y="0"/>
                </a:lnTo>
                <a:lnTo>
                  <a:pt x="990110" y="0"/>
                </a:lnTo>
                <a:lnTo>
                  <a:pt x="2184239" y="0"/>
                </a:lnTo>
                <a:cubicBezTo>
                  <a:pt x="2290291" y="0"/>
                  <a:pt x="2376264" y="85973"/>
                  <a:pt x="2376264" y="192025"/>
                </a:cubicBezTo>
                <a:lnTo>
                  <a:pt x="2376264" y="672075"/>
                </a:lnTo>
                <a:lnTo>
                  <a:pt x="2376264" y="672075"/>
                </a:lnTo>
                <a:lnTo>
                  <a:pt x="2376264" y="960107"/>
                </a:lnTo>
                <a:lnTo>
                  <a:pt x="2376264" y="960103"/>
                </a:lnTo>
                <a:cubicBezTo>
                  <a:pt x="2376264" y="1066155"/>
                  <a:pt x="2290291" y="1152128"/>
                  <a:pt x="2184239" y="1152128"/>
                </a:cubicBezTo>
                <a:lnTo>
                  <a:pt x="621810" y="1164828"/>
                </a:lnTo>
                <a:lnTo>
                  <a:pt x="400995" y="1391390"/>
                </a:lnTo>
                <a:lnTo>
                  <a:pt x="396044" y="1152128"/>
                </a:lnTo>
                <a:lnTo>
                  <a:pt x="192025" y="1152128"/>
                </a:lnTo>
                <a:cubicBezTo>
                  <a:pt x="85973" y="1152128"/>
                  <a:pt x="0" y="1066155"/>
                  <a:pt x="0" y="960103"/>
                </a:cubicBezTo>
                <a:lnTo>
                  <a:pt x="0" y="960107"/>
                </a:lnTo>
                <a:lnTo>
                  <a:pt x="0" y="672075"/>
                </a:lnTo>
                <a:lnTo>
                  <a:pt x="0" y="672075"/>
                </a:lnTo>
                <a:lnTo>
                  <a:pt x="0" y="192025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265d9f"/>
              </a:gs>
            </a:gsLst>
            <a:lin ang="5400000"/>
          </a:gradFill>
          <a:ln w="6350">
            <a:solidFill>
              <a:srgbClr val="ffffff"/>
            </a:solidFill>
            <a:round/>
          </a:ln>
          <a:effectLst>
            <a:outerShdw algn="ctr" blurRad="165240" rotWithShape="0" sx="105000" sy="105000">
              <a:schemeClr val="accent1">
                <a:lumMod val="75000"/>
                <a:alpha val="58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ts val="21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标注 5"/>
          <p:cNvSpPr/>
          <p:nvPr/>
        </p:nvSpPr>
        <p:spPr>
          <a:xfrm>
            <a:off x="6121440" y="3156480"/>
            <a:ext cx="1365480" cy="79956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799560"/>
              <a:gd name="textAreaBottom" fmla="*/ 799920 h 799560"/>
            </a:gdLst>
            <a:ahLst/>
            <a:rect l="textAreaLeft" t="textAreaTop" r="textAreaRight" b="textAreaBottom"/>
            <a:pathLst>
              <a:path w="2376264" h="1391390">
                <a:moveTo>
                  <a:pt x="0" y="192025"/>
                </a:moveTo>
                <a:cubicBezTo>
                  <a:pt x="0" y="85973"/>
                  <a:pt x="85973" y="0"/>
                  <a:pt x="192025" y="0"/>
                </a:cubicBezTo>
                <a:lnTo>
                  <a:pt x="396044" y="0"/>
                </a:lnTo>
                <a:lnTo>
                  <a:pt x="396044" y="0"/>
                </a:lnTo>
                <a:lnTo>
                  <a:pt x="990110" y="0"/>
                </a:lnTo>
                <a:lnTo>
                  <a:pt x="2184239" y="0"/>
                </a:lnTo>
                <a:cubicBezTo>
                  <a:pt x="2290291" y="0"/>
                  <a:pt x="2376264" y="85973"/>
                  <a:pt x="2376264" y="192025"/>
                </a:cubicBezTo>
                <a:lnTo>
                  <a:pt x="2376264" y="672075"/>
                </a:lnTo>
                <a:lnTo>
                  <a:pt x="2376264" y="672075"/>
                </a:lnTo>
                <a:lnTo>
                  <a:pt x="2376264" y="960107"/>
                </a:lnTo>
                <a:lnTo>
                  <a:pt x="2376264" y="960103"/>
                </a:lnTo>
                <a:cubicBezTo>
                  <a:pt x="2376264" y="1066155"/>
                  <a:pt x="2290291" y="1152128"/>
                  <a:pt x="2184239" y="1152128"/>
                </a:cubicBezTo>
                <a:lnTo>
                  <a:pt x="621810" y="1164828"/>
                </a:lnTo>
                <a:lnTo>
                  <a:pt x="400995" y="1391390"/>
                </a:lnTo>
                <a:lnTo>
                  <a:pt x="396044" y="1152128"/>
                </a:lnTo>
                <a:lnTo>
                  <a:pt x="192025" y="1152128"/>
                </a:lnTo>
                <a:cubicBezTo>
                  <a:pt x="85973" y="1152128"/>
                  <a:pt x="0" y="1066155"/>
                  <a:pt x="0" y="960103"/>
                </a:cubicBezTo>
                <a:lnTo>
                  <a:pt x="0" y="960107"/>
                </a:lnTo>
                <a:lnTo>
                  <a:pt x="0" y="672075"/>
                </a:lnTo>
                <a:lnTo>
                  <a:pt x="0" y="672075"/>
                </a:lnTo>
                <a:lnTo>
                  <a:pt x="0" y="192025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265d9f"/>
              </a:gs>
            </a:gsLst>
            <a:lin ang="5400000"/>
          </a:gradFill>
          <a:ln w="6350">
            <a:solidFill>
              <a:srgbClr val="ffffff"/>
            </a:solidFill>
            <a:round/>
          </a:ln>
          <a:effectLst>
            <a:outerShdw algn="ctr" blurRad="165240" rotWithShape="0" sx="105000" sy="105000">
              <a:schemeClr val="accent1">
                <a:lumMod val="75000"/>
                <a:alpha val="58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ts val="21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标注 5"/>
          <p:cNvSpPr/>
          <p:nvPr/>
        </p:nvSpPr>
        <p:spPr>
          <a:xfrm>
            <a:off x="4933440" y="2160000"/>
            <a:ext cx="1365480" cy="79956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799560"/>
              <a:gd name="textAreaBottom" fmla="*/ 799920 h 799560"/>
            </a:gdLst>
            <a:ahLst/>
            <a:rect l="textAreaLeft" t="textAreaTop" r="textAreaRight" b="textAreaBottom"/>
            <a:pathLst>
              <a:path w="2376264" h="1391390">
                <a:moveTo>
                  <a:pt x="0" y="192025"/>
                </a:moveTo>
                <a:cubicBezTo>
                  <a:pt x="0" y="85973"/>
                  <a:pt x="85973" y="0"/>
                  <a:pt x="192025" y="0"/>
                </a:cubicBezTo>
                <a:lnTo>
                  <a:pt x="396044" y="0"/>
                </a:lnTo>
                <a:lnTo>
                  <a:pt x="396044" y="0"/>
                </a:lnTo>
                <a:lnTo>
                  <a:pt x="990110" y="0"/>
                </a:lnTo>
                <a:lnTo>
                  <a:pt x="2184239" y="0"/>
                </a:lnTo>
                <a:cubicBezTo>
                  <a:pt x="2290291" y="0"/>
                  <a:pt x="2376264" y="85973"/>
                  <a:pt x="2376264" y="192025"/>
                </a:cubicBezTo>
                <a:lnTo>
                  <a:pt x="2376264" y="672075"/>
                </a:lnTo>
                <a:lnTo>
                  <a:pt x="2376264" y="672075"/>
                </a:lnTo>
                <a:lnTo>
                  <a:pt x="2376264" y="960107"/>
                </a:lnTo>
                <a:lnTo>
                  <a:pt x="2376264" y="960103"/>
                </a:lnTo>
                <a:cubicBezTo>
                  <a:pt x="2376264" y="1066155"/>
                  <a:pt x="2290291" y="1152128"/>
                  <a:pt x="2184239" y="1152128"/>
                </a:cubicBezTo>
                <a:lnTo>
                  <a:pt x="621810" y="1164828"/>
                </a:lnTo>
                <a:lnTo>
                  <a:pt x="400995" y="1391390"/>
                </a:lnTo>
                <a:lnTo>
                  <a:pt x="396044" y="1152128"/>
                </a:lnTo>
                <a:lnTo>
                  <a:pt x="192025" y="1152128"/>
                </a:lnTo>
                <a:cubicBezTo>
                  <a:pt x="85973" y="1152128"/>
                  <a:pt x="0" y="1066155"/>
                  <a:pt x="0" y="960103"/>
                </a:cubicBezTo>
                <a:lnTo>
                  <a:pt x="0" y="960107"/>
                </a:lnTo>
                <a:lnTo>
                  <a:pt x="0" y="672075"/>
                </a:lnTo>
                <a:lnTo>
                  <a:pt x="0" y="672075"/>
                </a:lnTo>
                <a:lnTo>
                  <a:pt x="0" y="192025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265d9f"/>
              </a:gs>
            </a:gsLst>
            <a:lin ang="5400000"/>
          </a:gradFill>
          <a:ln w="6350">
            <a:solidFill>
              <a:srgbClr val="ffffff"/>
            </a:solidFill>
            <a:round/>
          </a:ln>
          <a:effectLst>
            <a:outerShdw algn="ctr" blurRad="165240" rotWithShape="0" sx="105000" sy="105000">
              <a:schemeClr val="accent1">
                <a:lumMod val="75000"/>
                <a:alpha val="58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ts val="21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AS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标注 5"/>
          <p:cNvSpPr/>
          <p:nvPr/>
        </p:nvSpPr>
        <p:spPr>
          <a:xfrm>
            <a:off x="3996000" y="856080"/>
            <a:ext cx="1728000" cy="903600"/>
          </a:xfrm>
          <a:custGeom>
            <a:avLst/>
            <a:gdLst>
              <a:gd name="textAreaLeft" fmla="*/ 0 w 1728000"/>
              <a:gd name="textAreaRight" fmla="*/ 1728360 w 1728000"/>
              <a:gd name="textAreaTop" fmla="*/ 0 h 903600"/>
              <a:gd name="textAreaBottom" fmla="*/ 903960 h 903600"/>
            </a:gdLst>
            <a:ahLst/>
            <a:rect l="textAreaLeft" t="textAreaTop" r="textAreaRight" b="textAreaBottom"/>
            <a:pathLst>
              <a:path w="2376264" h="1391390">
                <a:moveTo>
                  <a:pt x="0" y="192025"/>
                </a:moveTo>
                <a:cubicBezTo>
                  <a:pt x="0" y="85973"/>
                  <a:pt x="85973" y="0"/>
                  <a:pt x="192025" y="0"/>
                </a:cubicBezTo>
                <a:lnTo>
                  <a:pt x="396044" y="0"/>
                </a:lnTo>
                <a:lnTo>
                  <a:pt x="396044" y="0"/>
                </a:lnTo>
                <a:lnTo>
                  <a:pt x="990110" y="0"/>
                </a:lnTo>
                <a:lnTo>
                  <a:pt x="2184239" y="0"/>
                </a:lnTo>
                <a:cubicBezTo>
                  <a:pt x="2290291" y="0"/>
                  <a:pt x="2376264" y="85973"/>
                  <a:pt x="2376264" y="192025"/>
                </a:cubicBezTo>
                <a:lnTo>
                  <a:pt x="2376264" y="672075"/>
                </a:lnTo>
                <a:lnTo>
                  <a:pt x="2376264" y="672075"/>
                </a:lnTo>
                <a:lnTo>
                  <a:pt x="2376264" y="960107"/>
                </a:lnTo>
                <a:lnTo>
                  <a:pt x="2376264" y="960103"/>
                </a:lnTo>
                <a:cubicBezTo>
                  <a:pt x="2376264" y="1066155"/>
                  <a:pt x="2290291" y="1152128"/>
                  <a:pt x="2184239" y="1152128"/>
                </a:cubicBezTo>
                <a:lnTo>
                  <a:pt x="621810" y="1164828"/>
                </a:lnTo>
                <a:lnTo>
                  <a:pt x="400995" y="1391390"/>
                </a:lnTo>
                <a:lnTo>
                  <a:pt x="396044" y="1152128"/>
                </a:lnTo>
                <a:lnTo>
                  <a:pt x="192025" y="1152128"/>
                </a:lnTo>
                <a:cubicBezTo>
                  <a:pt x="85973" y="1152128"/>
                  <a:pt x="0" y="1066155"/>
                  <a:pt x="0" y="960103"/>
                </a:cubicBezTo>
                <a:lnTo>
                  <a:pt x="0" y="960107"/>
                </a:lnTo>
                <a:lnTo>
                  <a:pt x="0" y="672075"/>
                </a:lnTo>
                <a:lnTo>
                  <a:pt x="0" y="672075"/>
                </a:lnTo>
                <a:lnTo>
                  <a:pt x="0" y="192025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265d9f"/>
              </a:gs>
            </a:gsLst>
            <a:lin ang="5400000"/>
          </a:gradFill>
          <a:ln w="6350">
            <a:solidFill>
              <a:srgbClr val="ffffff"/>
            </a:solidFill>
            <a:round/>
          </a:ln>
          <a:effectLst>
            <a:outerShdw algn="ctr" blurRad="165240" rotWithShape="0" sx="105000" sy="105000">
              <a:schemeClr val="accent1">
                <a:lumMod val="75000"/>
                <a:alpha val="58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ts val="21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标注 5"/>
          <p:cNvSpPr/>
          <p:nvPr/>
        </p:nvSpPr>
        <p:spPr>
          <a:xfrm>
            <a:off x="1899360" y="1360440"/>
            <a:ext cx="1365480" cy="79956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799560"/>
              <a:gd name="textAreaBottom" fmla="*/ 799920 h 799560"/>
            </a:gdLst>
            <a:ahLst/>
            <a:rect l="textAreaLeft" t="textAreaTop" r="textAreaRight" b="textAreaBottom"/>
            <a:pathLst>
              <a:path w="2376264" h="1391390">
                <a:moveTo>
                  <a:pt x="0" y="192025"/>
                </a:moveTo>
                <a:cubicBezTo>
                  <a:pt x="0" y="85973"/>
                  <a:pt x="85973" y="0"/>
                  <a:pt x="192025" y="0"/>
                </a:cubicBezTo>
                <a:lnTo>
                  <a:pt x="396044" y="0"/>
                </a:lnTo>
                <a:lnTo>
                  <a:pt x="396044" y="0"/>
                </a:lnTo>
                <a:lnTo>
                  <a:pt x="990110" y="0"/>
                </a:lnTo>
                <a:lnTo>
                  <a:pt x="2184239" y="0"/>
                </a:lnTo>
                <a:cubicBezTo>
                  <a:pt x="2290291" y="0"/>
                  <a:pt x="2376264" y="85973"/>
                  <a:pt x="2376264" y="192025"/>
                </a:cubicBezTo>
                <a:lnTo>
                  <a:pt x="2376264" y="672075"/>
                </a:lnTo>
                <a:lnTo>
                  <a:pt x="2376264" y="672075"/>
                </a:lnTo>
                <a:lnTo>
                  <a:pt x="2376264" y="960107"/>
                </a:lnTo>
                <a:lnTo>
                  <a:pt x="2376264" y="960103"/>
                </a:lnTo>
                <a:cubicBezTo>
                  <a:pt x="2376264" y="1066155"/>
                  <a:pt x="2290291" y="1152128"/>
                  <a:pt x="2184239" y="1152128"/>
                </a:cubicBezTo>
                <a:lnTo>
                  <a:pt x="621810" y="1164828"/>
                </a:lnTo>
                <a:lnTo>
                  <a:pt x="400995" y="1391390"/>
                </a:lnTo>
                <a:lnTo>
                  <a:pt x="396044" y="1152128"/>
                </a:lnTo>
                <a:lnTo>
                  <a:pt x="192025" y="1152128"/>
                </a:lnTo>
                <a:cubicBezTo>
                  <a:pt x="85973" y="1152128"/>
                  <a:pt x="0" y="1066155"/>
                  <a:pt x="0" y="960103"/>
                </a:cubicBezTo>
                <a:lnTo>
                  <a:pt x="0" y="960107"/>
                </a:lnTo>
                <a:lnTo>
                  <a:pt x="0" y="672075"/>
                </a:lnTo>
                <a:lnTo>
                  <a:pt x="0" y="672075"/>
                </a:lnTo>
                <a:lnTo>
                  <a:pt x="0" y="192025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265d9f"/>
              </a:gs>
            </a:gsLst>
            <a:lin ang="5400000"/>
          </a:gradFill>
          <a:ln w="6350">
            <a:solidFill>
              <a:srgbClr val="ffffff"/>
            </a:solidFill>
            <a:round/>
          </a:ln>
          <a:effectLst>
            <a:outerShdw algn="ctr" blurRad="165240" rotWithShape="0" sx="105000" sy="105000">
              <a:schemeClr val="accent1">
                <a:lumMod val="75000"/>
                <a:alpha val="58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 extrusionH="57150">
              <a:bevelT prst="cross" w="69850" h="38100"/>
            </a:sp3d>
          </a:bodyPr>
          <a:p>
            <a:pPr algn="ctr">
              <a:lnSpc>
                <a:spcPts val="21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x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2750040" y="1938240"/>
            <a:ext cx="52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5870880" y="1938240"/>
            <a:ext cx="52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58025E-006 L -3.88889E-006 -0.02098 E">
                                      <p:cBhvr>
                                        <p:cTn id="328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1500" fill="hold"/>
                                        <p:tgtEl>
                                          <p:spTgt spid="164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58025E-006 L -3.88889E-006 -0.02098 E">
                                      <p:cBhvr>
                                        <p:cTn id="339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1500" fill="hold"/>
                                        <p:tgtEl>
                                          <p:spTgt spid="165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58025E-006 L -3.88889E-006 -0.02098 E">
                                      <p:cBhvr>
                                        <p:cTn id="350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1500" fill="hold"/>
                                        <p:tgtEl>
                                          <p:spTgt spid="171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58025E-006 L -3.88889E-006 -0.02098 E">
                                      <p:cBhvr>
                                        <p:cTn id="361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1500" fill="hold"/>
                                        <p:tgtEl>
                                          <p:spTgt spid="167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58025E-006 L -3.88889E-006 -0.02098 E">
                                      <p:cBhvr>
                                        <p:cTn id="372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1500" fill="hold"/>
                                        <p:tgtEl>
                                          <p:spTgt spid="169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58025E-006 L -3.88889E-006 -0.02098 E">
                                      <p:cBhvr>
                                        <p:cTn id="383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500" fill="hold"/>
                                        <p:tgtEl>
                                          <p:spTgt spid="168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58025E-006 L -3.88889E-006 -0.02098 E">
                                      <p:cBhvr>
                                        <p:cTn id="394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1500" fill="hold"/>
                                        <p:tgtEl>
                                          <p:spTgt spid="166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58025E-006 L -3.88889E-006 -0.02098 E">
                                      <p:cBhvr>
                                        <p:cTn id="405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1500" fill="hold"/>
                                        <p:tgtEl>
                                          <p:spTgt spid="170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2099 L 0.0007 -0.21235 E">
                                      <p:cBhvr>
                                        <p:cTn id="4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2099 L 0.11024 -0.06543 E">
                                      <p:cBhvr>
                                        <p:cTn id="4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2099 L -1.11111E-006 0.13827 E">
                                      <p:cBhvr>
                                        <p:cTn id="44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175" name="图片 12" descr=""/>
          <p:cNvPicPr/>
          <p:nvPr/>
        </p:nvPicPr>
        <p:blipFill>
          <a:blip r:embed="rId2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176" name="图片 9" descr=""/>
          <p:cNvPicPr/>
          <p:nvPr/>
        </p:nvPicPr>
        <p:blipFill>
          <a:blip r:embed="rId3"/>
          <a:srcRect l="0" t="0" r="0" b="95010"/>
          <a:stretch/>
        </p:blipFill>
        <p:spPr>
          <a:xfrm>
            <a:off x="1440" y="0"/>
            <a:ext cx="9140400" cy="256680"/>
          </a:xfrm>
          <a:prstGeom prst="rect">
            <a:avLst/>
          </a:prstGeom>
          <a:ln w="9525">
            <a:noFill/>
          </a:ln>
        </p:spPr>
      </p:pic>
      <p:sp>
        <p:nvSpPr>
          <p:cNvPr id="177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3107520" y="221796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21540000" lon="0" rev="0"/>
              </a:camera>
              <a:lightRig dir="t" rig="threePt">
                <a:rot lat="0" lon="0" rev="0"/>
              </a:lightRig>
            </a:scene3d>
            <a:sp3d extrusionH="1905000" contourW="12700" prstMaterial="flat">
              <a:bevelT prst="relaxedInset" w="69850" h="50800"/>
              <a:bevelB w="31750"/>
              <a:contourClr>
                <a:schemeClr val="tx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4000" spc="-1" strike="noStrike" cap="all">
                <a:solidFill>
                  <a:schemeClr val="accent5">
                    <a:lumMod val="20000"/>
                    <a:lumOff val="80000"/>
                  </a:schemeClr>
                </a:solidFill>
                <a:latin typeface="方正正粗黑简体"/>
                <a:ea typeface="方正正粗黑简体"/>
              </a:rPr>
              <a:t>网站静态页面的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4"/>
          <p:cNvGrpSpPr/>
          <p:nvPr/>
        </p:nvGrpSpPr>
        <p:grpSpPr>
          <a:xfrm>
            <a:off x="3629160" y="-781200"/>
            <a:ext cx="1882440" cy="2231640"/>
            <a:chOff x="3629160" y="-781200"/>
            <a:chExt cx="1882440" cy="2231640"/>
          </a:xfrm>
        </p:grpSpPr>
        <p:pic>
          <p:nvPicPr>
            <p:cNvPr id="180" name="图片 17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3629160" y="-781200"/>
              <a:ext cx="188244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81" name="矩形 21"/>
            <p:cNvSpPr/>
            <p:nvPr/>
          </p:nvSpPr>
          <p:spPr>
            <a:xfrm>
              <a:off x="4083480" y="206280"/>
              <a:ext cx="9126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第二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3343320" y="2787480"/>
            <a:ext cx="237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9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184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pic>
        <p:nvPicPr>
          <p:cNvPr id="185" name="图片 7" descr="QQ截图20120512140336"/>
          <p:cNvPicPr/>
          <p:nvPr/>
        </p:nvPicPr>
        <p:blipFill>
          <a:blip r:embed="rId3"/>
          <a:stretch/>
        </p:blipFill>
        <p:spPr>
          <a:xfrm>
            <a:off x="343080" y="1059480"/>
            <a:ext cx="4221720" cy="3456000"/>
          </a:xfrm>
          <a:prstGeom prst="rect">
            <a:avLst/>
          </a:prstGeom>
          <a:ln w="0">
            <a:noFill/>
          </a:ln>
          <a:effectLst>
            <a:outerShdw algn="tl" blurRad="114480" dir="2700000" dist="37674" rotWithShape="0" sx="101000" sy="101000">
              <a:srgbClr val="000000">
                <a:alpha val="40000"/>
              </a:srgbClr>
            </a:outerShdw>
            <a:reflection algn="bl" blurRad="6350" dir="5400000" dist="50800" endA="300" endPos="19000" rotWithShape="0" stA="52000" sy="-100000"/>
          </a:effectLst>
        </p:spPr>
      </p:pic>
      <p:grpSp>
        <p:nvGrpSpPr>
          <p:cNvPr id="186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187" name="图片 2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88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静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页面的设计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矩形 3"/>
          <p:cNvSpPr/>
          <p:nvPr/>
        </p:nvSpPr>
        <p:spPr>
          <a:xfrm>
            <a:off x="5508720" y="1347840"/>
            <a:ext cx="791640" cy="593280"/>
          </a:xfrm>
          <a:prstGeom prst="rect">
            <a:avLst/>
          </a:prstGeom>
          <a:solidFill>
            <a:srgbClr val="254488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0" name="矩形 9"/>
          <p:cNvSpPr/>
          <p:nvPr/>
        </p:nvSpPr>
        <p:spPr>
          <a:xfrm>
            <a:off x="6324480" y="1347840"/>
            <a:ext cx="791640" cy="593280"/>
          </a:xfrm>
          <a:prstGeom prst="rect">
            <a:avLst/>
          </a:prstGeom>
          <a:solidFill>
            <a:srgbClr val="4175d8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1" name="矩形 10"/>
          <p:cNvSpPr/>
          <p:nvPr/>
        </p:nvSpPr>
        <p:spPr>
          <a:xfrm>
            <a:off x="7140600" y="1347840"/>
            <a:ext cx="791640" cy="593280"/>
          </a:xfrm>
          <a:prstGeom prst="rect">
            <a:avLst/>
          </a:prstGeom>
          <a:solidFill>
            <a:srgbClr val="69acee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7956720" y="1347840"/>
            <a:ext cx="791640" cy="593280"/>
          </a:xfrm>
          <a:prstGeom prst="rect">
            <a:avLst/>
          </a:prstGeom>
          <a:solidFill>
            <a:srgbClr val="e5f3fc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5508720" y="2427120"/>
            <a:ext cx="791640" cy="593280"/>
          </a:xfrm>
          <a:prstGeom prst="rect">
            <a:avLst/>
          </a:prstGeom>
          <a:solidFill>
            <a:srgbClr val="01150e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6324480" y="2427120"/>
            <a:ext cx="791640" cy="593280"/>
          </a:xfrm>
          <a:prstGeom prst="rect">
            <a:avLst/>
          </a:prstGeom>
          <a:solidFill>
            <a:srgbClr val="164b41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7140600" y="2427120"/>
            <a:ext cx="791640" cy="593280"/>
          </a:xfrm>
          <a:prstGeom prst="rect">
            <a:avLst/>
          </a:prstGeom>
          <a:solidFill>
            <a:srgbClr val="315d40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6" name="矩形 18"/>
          <p:cNvSpPr/>
          <p:nvPr/>
        </p:nvSpPr>
        <p:spPr>
          <a:xfrm>
            <a:off x="7956720" y="2427120"/>
            <a:ext cx="791640" cy="593280"/>
          </a:xfrm>
          <a:prstGeom prst="rect">
            <a:avLst/>
          </a:prstGeom>
          <a:solidFill>
            <a:srgbClr val="c4d0b3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7" name="矩形 19"/>
          <p:cNvSpPr/>
          <p:nvPr/>
        </p:nvSpPr>
        <p:spPr>
          <a:xfrm>
            <a:off x="5508720" y="3579840"/>
            <a:ext cx="791640" cy="593280"/>
          </a:xfrm>
          <a:prstGeom prst="rect">
            <a:avLst/>
          </a:prstGeom>
          <a:solidFill>
            <a:srgbClr val="e10004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8" name="矩形 20"/>
          <p:cNvSpPr/>
          <p:nvPr/>
        </p:nvSpPr>
        <p:spPr>
          <a:xfrm>
            <a:off x="6324480" y="3579840"/>
            <a:ext cx="791640" cy="593280"/>
          </a:xfrm>
          <a:prstGeom prst="rect">
            <a:avLst/>
          </a:prstGeom>
          <a:solidFill>
            <a:srgbClr val="e1ee2c"/>
          </a:solidFill>
          <a:ln>
            <a:noFill/>
          </a:ln>
          <a:effectLst>
            <a:outerShdw algn="tl" blurRad="50760" dir="2700000" dist="37674" rotWithShape="0" sx="101000" sy="101000">
              <a:srgbClr val="000000">
                <a:alpha val="48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4859280" y="1214280"/>
            <a:ext cx="493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基本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3"/>
          <p:cNvSpPr/>
          <p:nvPr/>
        </p:nvSpPr>
        <p:spPr>
          <a:xfrm>
            <a:off x="4859280" y="2330280"/>
            <a:ext cx="493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辅助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4"/>
          <p:cNvSpPr/>
          <p:nvPr/>
        </p:nvSpPr>
        <p:spPr>
          <a:xfrm>
            <a:off x="4859280" y="3446640"/>
            <a:ext cx="493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点睛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3" name="矩形 25"/>
          <p:cNvSpPr/>
          <p:nvPr/>
        </p:nvSpPr>
        <p:spPr>
          <a:xfrm>
            <a:off x="7903800" y="4411800"/>
            <a:ext cx="9432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网站配色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接连接符 26"/>
          <p:cNvCxnSpPr/>
          <p:nvPr/>
        </p:nvCxnSpPr>
        <p:spPr>
          <a:xfrm>
            <a:off x="6804000" y="4394160"/>
            <a:ext cx="259272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headEnd len="med" type="oval" w="med"/>
          </a:ln>
        </p:spPr>
      </p:cxnSp>
    </p:spTree>
  </p:cSld>
  <p:transition spd="slow"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206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pic>
        <p:nvPicPr>
          <p:cNvPr id="207" name="图片 7" descr="QQ截图20120512140336"/>
          <p:cNvPicPr/>
          <p:nvPr/>
        </p:nvPicPr>
        <p:blipFill>
          <a:blip r:embed="rId3"/>
          <a:stretch/>
        </p:blipFill>
        <p:spPr>
          <a:xfrm>
            <a:off x="343080" y="1059480"/>
            <a:ext cx="4221720" cy="3456000"/>
          </a:xfrm>
          <a:prstGeom prst="rect">
            <a:avLst/>
          </a:prstGeom>
          <a:ln w="0">
            <a:noFill/>
          </a:ln>
          <a:effectLst>
            <a:outerShdw algn="tl" blurRad="114480" dir="2700000" dist="37674" rotWithShape="0" sx="101000" sy="101000">
              <a:srgbClr val="000000">
                <a:alpha val="40000"/>
              </a:srgbClr>
            </a:outerShdw>
            <a:reflection algn="bl" blurRad="6350" dir="5400000" dist="50800" endA="300" endPos="19000" rotWithShape="0" stA="52000" sy="-100000"/>
          </a:effectLst>
        </p:spPr>
      </p:pic>
      <p:grpSp>
        <p:nvGrpSpPr>
          <p:cNvPr id="208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209" name="图片 2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10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静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页面的设计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2" name="矩形 25"/>
          <p:cNvSpPr/>
          <p:nvPr/>
        </p:nvSpPr>
        <p:spPr>
          <a:xfrm>
            <a:off x="7903800" y="4411800"/>
            <a:ext cx="9432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字体的选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连接符 26"/>
          <p:cNvCxnSpPr/>
          <p:nvPr/>
        </p:nvCxnSpPr>
        <p:spPr>
          <a:xfrm>
            <a:off x="6804000" y="4394160"/>
            <a:ext cx="259272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headEnd len="med" type="oval" w="med"/>
          </a:ln>
        </p:spPr>
      </p:cxnSp>
      <p:sp>
        <p:nvSpPr>
          <p:cNvPr id="214" name="矩形 5"/>
          <p:cNvSpPr/>
          <p:nvPr/>
        </p:nvSpPr>
        <p:spPr>
          <a:xfrm>
            <a:off x="5877000" y="1276200"/>
            <a:ext cx="210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方正正粗黑简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7"/>
          <p:cNvSpPr/>
          <p:nvPr/>
        </p:nvSpPr>
        <p:spPr>
          <a:xfrm>
            <a:off x="5596200" y="2019240"/>
            <a:ext cx="127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雅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8"/>
          <p:cNvSpPr/>
          <p:nvPr/>
        </p:nvSpPr>
        <p:spPr>
          <a:xfrm>
            <a:off x="5408640" y="27637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宋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9"/>
          <p:cNvSpPr/>
          <p:nvPr/>
        </p:nvSpPr>
        <p:spPr>
          <a:xfrm>
            <a:off x="5225040" y="3508200"/>
            <a:ext cx="109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A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2" descr=""/>
          <p:cNvPicPr/>
          <p:nvPr/>
        </p:nvPicPr>
        <p:blipFill>
          <a:blip r:embed="rId1"/>
          <a:stretch/>
        </p:blipFill>
        <p:spPr>
          <a:xfrm>
            <a:off x="3240" y="0"/>
            <a:ext cx="9140400" cy="5143320"/>
          </a:xfrm>
          <a:prstGeom prst="rect">
            <a:avLst/>
          </a:prstGeom>
          <a:ln w="9525">
            <a:noFill/>
          </a:ln>
        </p:spPr>
      </p:pic>
      <p:pic>
        <p:nvPicPr>
          <p:cNvPr id="219" name="图片 1" descr=""/>
          <p:cNvPicPr/>
          <p:nvPr/>
        </p:nvPicPr>
        <p:blipFill>
          <a:blip r:embed="rId2"/>
          <a:srcRect l="-854" t="0" r="0" b="93331"/>
          <a:stretch/>
        </p:blipFill>
        <p:spPr>
          <a:xfrm>
            <a:off x="-98280" y="0"/>
            <a:ext cx="9327960" cy="342720"/>
          </a:xfrm>
          <a:prstGeom prst="rect">
            <a:avLst/>
          </a:prstGeom>
          <a:ln w="9525">
            <a:noFill/>
          </a:ln>
        </p:spPr>
      </p:pic>
      <p:pic>
        <p:nvPicPr>
          <p:cNvPr id="220" name="图片 7" descr="QQ截图20120512140336"/>
          <p:cNvPicPr/>
          <p:nvPr/>
        </p:nvPicPr>
        <p:blipFill>
          <a:blip r:embed="rId3"/>
          <a:stretch/>
        </p:blipFill>
        <p:spPr>
          <a:xfrm>
            <a:off x="1331640" y="483480"/>
            <a:ext cx="4590000" cy="3757320"/>
          </a:xfrm>
          <a:prstGeom prst="rect">
            <a:avLst/>
          </a:prstGeom>
          <a:ln w="0">
            <a:noFill/>
          </a:ln>
          <a:effectLst>
            <a:outerShdw algn="tl" blurRad="114480" dir="2700000" dist="37674" rotWithShape="0" sx="101000" sy="101000">
              <a:srgbClr val="000000">
                <a:alpha val="40000"/>
              </a:srgbClr>
            </a:outerShdw>
            <a:reflection algn="bl" blurRad="6350" dir="5400000" dist="50800" endA="300" endPos="19000" rotWithShape="0" stA="52000" sy="-100000"/>
          </a:effectLst>
        </p:spPr>
      </p:pic>
      <p:sp>
        <p:nvSpPr>
          <p:cNvPr id="221" name="矩形 13"/>
          <p:cNvSpPr/>
          <p:nvPr/>
        </p:nvSpPr>
        <p:spPr>
          <a:xfrm>
            <a:off x="-76320" y="4807080"/>
            <a:ext cx="9315000" cy="356760"/>
          </a:xfrm>
          <a:prstGeom prst="rect">
            <a:avLst/>
          </a:prstGeom>
          <a:gradFill rotWithShape="0">
            <a:gsLst>
              <a:gs pos="0">
                <a:srgbClr val="004c8a"/>
              </a:gs>
              <a:gs pos="100000">
                <a:srgbClr val="00206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2" name="矩形 25"/>
          <p:cNvSpPr/>
          <p:nvPr/>
        </p:nvSpPr>
        <p:spPr>
          <a:xfrm>
            <a:off x="8516520" y="4411800"/>
            <a:ext cx="486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首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直接连接符 26"/>
          <p:cNvCxnSpPr/>
          <p:nvPr/>
        </p:nvCxnSpPr>
        <p:spPr>
          <a:xfrm>
            <a:off x="6804000" y="4394160"/>
            <a:ext cx="259272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  <a:headEnd len="med" type="oval" w="med"/>
          </a:ln>
        </p:spPr>
      </p:cxnSp>
      <p:sp>
        <p:nvSpPr>
          <p:cNvPr id="224" name="矩形 3"/>
          <p:cNvSpPr/>
          <p:nvPr/>
        </p:nvSpPr>
        <p:spPr>
          <a:xfrm>
            <a:off x="1332000" y="426960"/>
            <a:ext cx="4679640" cy="272520"/>
          </a:xfrm>
          <a:prstGeom prst="rect">
            <a:avLst/>
          </a:prstGeom>
          <a:solidFill>
            <a:srgbClr val="ff0000">
              <a:alpha val="50000"/>
            </a:srgbClr>
          </a:solidFill>
          <a:ln w="31750">
            <a:solidFill>
              <a:srgbClr val="ff000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5" name="矩形 15"/>
          <p:cNvSpPr/>
          <p:nvPr/>
        </p:nvSpPr>
        <p:spPr>
          <a:xfrm>
            <a:off x="1332000" y="700200"/>
            <a:ext cx="4679640" cy="271080"/>
          </a:xfrm>
          <a:prstGeom prst="rect">
            <a:avLst/>
          </a:prstGeom>
          <a:solidFill>
            <a:srgbClr val="ffc000">
              <a:alpha val="50000"/>
            </a:srgbClr>
          </a:solidFill>
          <a:ln w="31750">
            <a:solidFill>
              <a:srgbClr val="ffc00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1332000" y="941400"/>
            <a:ext cx="4679640" cy="2854080"/>
          </a:xfrm>
          <a:prstGeom prst="rect">
            <a:avLst/>
          </a:prstGeom>
          <a:solidFill>
            <a:srgbClr val="00b050">
              <a:alpha val="50000"/>
            </a:srgbClr>
          </a:solidFill>
          <a:ln w="31750">
            <a:solidFill>
              <a:srgbClr val="00b05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7" name="矩形 17"/>
          <p:cNvSpPr/>
          <p:nvPr/>
        </p:nvSpPr>
        <p:spPr>
          <a:xfrm>
            <a:off x="1332000" y="3801960"/>
            <a:ext cx="4679640" cy="439200"/>
          </a:xfrm>
          <a:prstGeom prst="rect">
            <a:avLst/>
          </a:prstGeom>
          <a:solidFill>
            <a:srgbClr val="7030a0">
              <a:alpha val="50000"/>
            </a:srgbClr>
          </a:solidFill>
          <a:ln w="31750">
            <a:solidFill>
              <a:srgbClr val="7030a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28" name="组合 14"/>
          <p:cNvGrpSpPr/>
          <p:nvPr/>
        </p:nvGrpSpPr>
        <p:grpSpPr>
          <a:xfrm>
            <a:off x="270000" y="-944640"/>
            <a:ext cx="1883880" cy="2231640"/>
            <a:chOff x="270000" y="-944640"/>
            <a:chExt cx="1883880" cy="2231640"/>
          </a:xfrm>
        </p:grpSpPr>
        <p:pic>
          <p:nvPicPr>
            <p:cNvPr id="229" name="图片 2" descr=""/>
            <p:cNvPicPr/>
            <p:nvPr/>
          </p:nvPicPr>
          <p:blipFill>
            <a:blip r:embed="rId4"/>
            <a:srcRect l="3083" t="1484" r="76316" b="55129"/>
            <a:stretch/>
          </p:blipFill>
          <p:spPr>
            <a:xfrm>
              <a:off x="270000" y="-944640"/>
              <a:ext cx="1883880" cy="2231640"/>
            </a:xfrm>
            <a:prstGeom prst="rect">
              <a:avLst/>
            </a:prstGeom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30" name="矩形 8"/>
            <p:cNvSpPr/>
            <p:nvPr/>
          </p:nvSpPr>
          <p:spPr>
            <a:xfrm>
              <a:off x="684720" y="42840"/>
              <a:ext cx="1019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站静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页面的设计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1" name="直接箭头连接符 6"/>
          <p:cNvCxnSpPr>
            <a:stCxn id="224" idx="3"/>
          </p:cNvCxnSpPr>
          <p:nvPr/>
        </p:nvCxnSpPr>
        <p:spPr>
          <a:xfrm>
            <a:off x="6011640" y="563400"/>
            <a:ext cx="1081440" cy="360"/>
          </a:xfrm>
          <a:prstGeom prst="straightConnector1">
            <a:avLst/>
          </a:prstGeom>
          <a:ln w="25400">
            <a:solidFill>
              <a:srgbClr val="ff0000"/>
            </a:solidFill>
            <a:prstDash val="sysDot"/>
            <a:round/>
            <a:tailEnd len="med" type="arrow" w="med"/>
          </a:ln>
        </p:spPr>
      </p:cxnSp>
      <p:cxnSp>
        <p:nvCxnSpPr>
          <p:cNvPr id="232" name="直接箭头连接符 20"/>
          <p:cNvCxnSpPr/>
          <p:nvPr/>
        </p:nvCxnSpPr>
        <p:spPr>
          <a:xfrm>
            <a:off x="6011640" y="834840"/>
            <a:ext cx="1081440" cy="360"/>
          </a:xfrm>
          <a:prstGeom prst="straightConnector1">
            <a:avLst/>
          </a:prstGeom>
          <a:ln w="25400">
            <a:solidFill>
              <a:srgbClr val="ffc000"/>
            </a:solidFill>
            <a:prstDash val="sysDot"/>
            <a:round/>
            <a:tailEnd len="med" type="arrow" w="med"/>
          </a:ln>
        </p:spPr>
      </p:cxnSp>
      <p:cxnSp>
        <p:nvCxnSpPr>
          <p:cNvPr id="233" name="直接箭头连接符 21"/>
          <p:cNvCxnSpPr/>
          <p:nvPr/>
        </p:nvCxnSpPr>
        <p:spPr>
          <a:xfrm>
            <a:off x="6011640" y="2361960"/>
            <a:ext cx="1081440" cy="360"/>
          </a:xfrm>
          <a:prstGeom prst="straightConnector1">
            <a:avLst/>
          </a:prstGeom>
          <a:ln w="25400">
            <a:solidFill>
              <a:srgbClr val="00b050"/>
            </a:solidFill>
            <a:prstDash val="sysDot"/>
            <a:round/>
            <a:tailEnd len="med" type="arrow" w="med"/>
          </a:ln>
        </p:spPr>
      </p:cxnSp>
      <p:cxnSp>
        <p:nvCxnSpPr>
          <p:cNvPr id="234" name="直接箭头连接符 22"/>
          <p:cNvCxnSpPr/>
          <p:nvPr/>
        </p:nvCxnSpPr>
        <p:spPr>
          <a:xfrm>
            <a:off x="6011640" y="4020840"/>
            <a:ext cx="1081440" cy="360"/>
          </a:xfrm>
          <a:prstGeom prst="straightConnector1">
            <a:avLst/>
          </a:prstGeom>
          <a:ln w="25400">
            <a:solidFill>
              <a:srgbClr val="7030a0"/>
            </a:solidFill>
            <a:prstDash val="sysDot"/>
            <a:round/>
            <a:tailEnd len="med" type="arrow" w="med"/>
          </a:ln>
        </p:spPr>
      </p:cxnSp>
      <p:sp>
        <p:nvSpPr>
          <p:cNvPr id="235" name="矩形 9"/>
          <p:cNvSpPr/>
          <p:nvPr/>
        </p:nvSpPr>
        <p:spPr>
          <a:xfrm>
            <a:off x="7318080" y="363600"/>
            <a:ext cx="108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e10004"/>
                </a:solidFill>
                <a:latin typeface="微软雅黑"/>
                <a:ea typeface="微软雅黑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4"/>
          <p:cNvSpPr/>
          <p:nvPr/>
        </p:nvSpPr>
        <p:spPr>
          <a:xfrm>
            <a:off x="7326360" y="635040"/>
            <a:ext cx="645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n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0"/>
          <p:cNvSpPr/>
          <p:nvPr/>
        </p:nvSpPr>
        <p:spPr>
          <a:xfrm>
            <a:off x="7341840" y="2162160"/>
            <a:ext cx="806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b050"/>
                </a:solidFill>
                <a:latin typeface="微软雅黑"/>
                <a:ea typeface="微软雅黑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7322760" y="3821040"/>
            <a:ext cx="97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foo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  <Words>523</Words>
  <Paragraphs>1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1:43:16Z</dcterms:created>
  <dc:creator>CANG!</dc:creator>
  <dc:description/>
  <dc:language>en-US</dc:language>
  <cp:lastModifiedBy>yu wang</cp:lastModifiedBy>
  <dcterms:modified xsi:type="dcterms:W3CDTF">2015-08-14T12:53:41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PresentationFormat">
    <vt:lpwstr>全屏显示(16:9)</vt:lpwstr>
  </property>
  <property fmtid="{D5CDD505-2E9C-101B-9397-08002B2CF9AE}" pid="4" name="Slides">
    <vt:r8>19</vt:r8>
  </property>
</Properties>
</file>