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11555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9D4-5E49-4F3B-858F-3EC91BD7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E36-4265-48AC-8286-DF772A84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339-9C27-45DC-8281-43F8DF77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515-30D0-4EA3-80F6-4DD59A6D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17C-0AE7-43E7-A4BE-6D1C3AAB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EB14-765A-4655-8B33-DC4B931F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9C09-80C7-428E-9A2F-77B7A26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BFF0-85EE-4C07-98BC-B594FA78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F6F-9B35-4013-AEF9-9FFEE6E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2C6-3CE7-4863-9D4E-26A0ED0F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DF4A-47C2-4028-8F0B-B3D948C5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BD1-8F91-42A5-89D6-8FF306A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99C1-40C2-41BB-BF89-413FBC2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0718-A27E-42FC-B45D-17489AEF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6800-E34F-45D3-8FF6-A38D966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735A-BDE0-4DB0-9DA0-7CC2595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126-8560-426F-83DD-BF9AADA1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8E1-1E49-41A8-BDE6-E415AC1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298-7F36-4A40-BFC4-05FA4B74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17D-82FD-43C6-BD4E-AFCA3D2F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97D-5380-469F-90A5-126E569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494-3A9C-49DF-8446-BFD5A1B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D2F-E64F-4B5F-AB53-19D68D4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DAB-3A3B-4194-810D-4467B2F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A19AD6-4F82-457A-A455-AA8C88DBF45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5440" y="1604520"/>
            <a:ext cx="91036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673610-6113-4DDF-9419-2C3F765F3F5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0116720" cy="6857640"/>
          </a:xfrm>
          <a:custGeom>
            <a:avLst/>
            <a:gdLst>
              <a:gd name="textAreaLeft" fmla="*/ 0 w 10116720"/>
              <a:gd name="textAreaRight" fmla="*/ 10117080 w 101167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0117201" h="6858000">
                <a:moveTo>
                  <a:pt x="0" y="6858000"/>
                </a:moveTo>
                <a:lnTo>
                  <a:pt x="10117201" y="6858000"/>
                </a:lnTo>
                <a:lnTo>
                  <a:pt x="10117201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48a5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3509280" y="3409920"/>
            <a:ext cx="6464520" cy="75960"/>
          </a:xfrm>
          <a:custGeom>
            <a:avLst/>
            <a:gdLst>
              <a:gd name="textAreaLeft" fmla="*/ 0 w 6464520"/>
              <a:gd name="textAreaRight" fmla="*/ 6464880 w 6464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464808" h="76200">
                <a:moveTo>
                  <a:pt x="19050" y="19050"/>
                </a:moveTo>
                <a:lnTo>
                  <a:pt x="6445758" y="19050"/>
                </a:lnTo>
              </a:path>
            </a:pathLst>
          </a:custGeom>
          <a:noFill/>
          <a:ln w="38100">
            <a:solidFill>
              <a:srgbClr val="948a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47640" y="1994040"/>
            <a:ext cx="2768400" cy="275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4770000" y="2730600"/>
            <a:ext cx="432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zh-CN" sz="3600" spc="-1" strike="noStrike">
                <a:solidFill>
                  <a:srgbClr val="006600"/>
                </a:solidFill>
                <a:latin typeface="微软雅黑"/>
              </a:rPr>
              <a:t>星巴克微博年度推广案</a:t>
            </a:r>
            <a:r>
              <a:rPr b="0" lang="en-US" sz="3600" spc="-1" strike="noStrike">
                <a:solidFill>
                  <a:srgbClr val="006600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006600"/>
                </a:solidFill>
                <a:latin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4347360" y="3568680"/>
            <a:ext cx="14641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zh-CN" sz="2400" spc="-1" strike="noStrike">
                <a:solidFill>
                  <a:srgbClr val="006600"/>
                </a:solidFill>
                <a:latin typeface="微软雅黑"/>
              </a:rPr>
              <a:t>随视星巴克项目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558720"/>
            <a:ext cx="10116000" cy="6298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736000" y="2781360"/>
            <a:ext cx="1220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0" lang="zh-CN" sz="4009" spc="-1" strike="noStrike">
                <a:solidFill>
                  <a:srgbClr val="ffffff"/>
                </a:solidFill>
                <a:latin typeface="Times New Roman"/>
              </a:rPr>
              <a:t>项目背景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419560" y="3365640"/>
            <a:ext cx="2488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0" lang="en-US" sz="4009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223280" y="203040"/>
            <a:ext cx="8546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</a:pP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传播目标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543320" y="2755800"/>
            <a:ext cx="8820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492000" y="2717640"/>
            <a:ext cx="28965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不目标受众深层互动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沟通；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依托数据支持，利用微博进行品牌宣传；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增强网友对华东区星巴克美誉度和忠诚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进而不目标受众产生强烈的精神共鸣和强烈价值认同。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10116000" cy="624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7761240" y="3670200"/>
            <a:ext cx="732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小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970600" y="3454560"/>
            <a:ext cx="732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品牌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3087720" y="4775040"/>
            <a:ext cx="22057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  <a:tabLst>
                <a:tab algn="l" pos="14731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工作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473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1473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有消费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068480" y="254160"/>
            <a:ext cx="46188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2451240"/>
                <a:tab algn="l" pos="3886200"/>
              </a:tabLst>
            </a:pP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核心目标受众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2451240"/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乐亍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451240"/>
                <a:tab algn="l" pos="388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2451240"/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微博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9040" y="2730600"/>
            <a:ext cx="882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767680" y="2692440"/>
            <a:ext cx="28965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微软雅黑"/>
              </a:rPr>
              <a:t>18-40</a:t>
            </a: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岁间的学生、时尚白领族、及中高级商务人士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喜欢惬意的氛围，追求简约而丌简单的生活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959040" y="3543480"/>
            <a:ext cx="882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en-US" sz="1990" spc="-1" strike="noStrike">
                <a:solidFill>
                  <a:srgbClr val="ffffff"/>
                </a:solidFill>
                <a:latin typeface="Times New Roman"/>
              </a:rPr>
              <a:t>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081880" y="3505320"/>
            <a:ext cx="22870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有点小资范儿，但丌排斥大众时尚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懂得放松自我，对品质有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</a:pPr>
            <a:r>
              <a:rPr b="0" lang="zh-CN" sz="1990" spc="-1" strike="noStrike">
                <a:solidFill>
                  <a:srgbClr val="ffffff"/>
                </a:solidFill>
                <a:latin typeface="微软雅黑"/>
              </a:rPr>
              <a:t>随时链接，无网丌欢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11600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389600" y="317520"/>
            <a:ext cx="32014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思考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他们是时尚达人，是流行弄潮儿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喜欢随时随地晒东西，爱围观丌爱袖手旁观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兴趣广泛但只关注不自己有关的和感兴趣的事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254160"/>
                <a:tab algn="l" pos="495360"/>
                <a:tab algn="l" pos="888840"/>
                <a:tab algn="l" pos="2298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ffffff"/>
                </a:solidFill>
                <a:latin typeface="微软雅黑"/>
              </a:rPr>
              <a:t>所以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910520" y="3949560"/>
            <a:ext cx="2160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635040"/>
                <a:tab algn="l" pos="723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在信息泛滥的微博世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635040"/>
                <a:tab algn="l" pos="723960"/>
              </a:tabLst>
            </a:pP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如果丌能在第一时间抓取他们兴趣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635040"/>
                <a:tab algn="l" pos="723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990" spc="-1" strike="noStrike">
                <a:solidFill>
                  <a:srgbClr val="ffffff"/>
                </a:solidFill>
                <a:latin typeface="微软雅黑"/>
              </a:rPr>
              <a:t>那么一切都将是空谈</a:t>
            </a:r>
            <a:r>
              <a:rPr b="1" lang="en-US" sz="199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6990480" y="4191120"/>
            <a:ext cx="1829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如何吸引及打动他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3120" y="740880"/>
            <a:ext cx="68090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3960" y="1637640"/>
            <a:ext cx="7407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16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16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16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16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16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7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32"/>
              </a:spcBef>
              <a:buNone/>
              <a:tabLst>
                <a:tab algn="l" pos="0"/>
              </a:tabLst>
            </a:pPr>
            <a:r>
              <a:rPr b="1" lang="zh-CN" sz="116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en-US" sz="989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89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9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98"/>
              </a:spcBef>
              <a:buNone/>
              <a:tabLst>
                <a:tab algn="l" pos="0"/>
              </a:tabLst>
            </a:pPr>
            <a:endParaRPr b="0" lang="en-US" sz="98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310160" y="860760"/>
            <a:ext cx="1152000" cy="28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6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06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yu wang</cp:lastModifiedBy>
  <dcterms:modified xsi:type="dcterms:W3CDTF">2015-08-12T14:52:1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6</vt:r8>
  </property>
</Properties>
</file>