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210-5BA6-41DF-A0ED-C45B8802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616-9B1D-411D-861F-86288561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85D-9BC4-44A3-A41C-4E1525BB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5F4-3D40-4506-BA06-AECF154D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6E78-7421-4878-9B31-D0EABB35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F596-A4B9-486A-992E-BB3AC632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1AC5-D38E-4F5A-9918-2E1A5FF3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A92C-7B66-45FB-A817-74F32287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6E74-9D0B-4904-A19F-A95B3845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E64B-2F07-4E41-83B0-30AD0597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F1C0-B1E4-42B3-B5F2-DBE5CEE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19E-97CA-4FFF-AA6A-368AD4F1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5076-0E7F-4AAA-BD91-0C226B8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D273-E592-4835-9234-B01B44A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ED80-73D7-4ECF-ACA6-D035C6A6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5B4-8C52-404D-9AA8-9EA6B6C1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497D-AC67-48EE-BDD9-AB75DF34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44A-E553-4042-8788-33FFFE25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B5D-9DDF-40BE-9468-482BAC52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305-AEFE-459E-AC20-09F00FA8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FA9-6C41-4A91-95E0-259F83B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B98-4B5F-41BA-AAFB-DF5D59F7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149-0690-4C48-8B84-BF1826A5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FB3-21DA-49F9-B82E-F093DD50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D9C7-85A3-474D-9F8F-60A58DE022D9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F893-2864-448E-B29E-90E9119E4EAB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12" descr=""/>
          <p:cNvPicPr/>
          <p:nvPr/>
        </p:nvPicPr>
        <p:blipFill>
          <a:blip r:embed="rId1"/>
          <a:stretch/>
        </p:blipFill>
        <p:spPr>
          <a:xfrm>
            <a:off x="4608360" y="2146320"/>
            <a:ext cx="4316400" cy="5364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3" descr=""/>
          <p:cNvPicPr/>
          <p:nvPr/>
        </p:nvPicPr>
        <p:blipFill>
          <a:blip r:embed="rId2"/>
          <a:stretch/>
        </p:blipFill>
        <p:spPr>
          <a:xfrm>
            <a:off x="4608360" y="2865600"/>
            <a:ext cx="2395800" cy="218880"/>
          </a:xfrm>
          <a:prstGeom prst="rect">
            <a:avLst/>
          </a:prstGeom>
          <a:ln w="0">
            <a:noFill/>
          </a:ln>
        </p:spPr>
      </p:pic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c0c0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c0c0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www.1ppt.com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5491080" y="2060640"/>
            <a:ext cx="2189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Arial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Arial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005414"/>
              </a:gs>
              <a:gs pos="100000">
                <a:srgbClr val="0027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黑体"/>
              </a:rPr>
              <a:t> </a:t>
            </a:r>
            <a:r>
              <a:rPr b="0" lang="zh-CN" sz="1000" spc="-1" strike="noStrike" u="sng">
                <a:solidFill>
                  <a:srgbClr val="009900"/>
                </a:solidFill>
                <a:uFillTx/>
                <a:latin typeface="黑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00"/>
                </a:solidFill>
                <a:uFillTx/>
                <a:latin typeface="黑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 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dongtai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chuangyi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gongzuo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kejian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shangwu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sucai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fengjing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anjie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00"/>
                </a:solidFill>
                <a:uFillTx/>
                <a:latin typeface="黑体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aoyu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lunwen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yiliao/</a:t>
            </a: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PPT</dc:creator>
  <dc:description/>
  <dc:language>en-US</dc:language>
  <cp:lastModifiedBy>yu wang</cp:lastModifiedBy>
  <dcterms:modified xsi:type="dcterms:W3CDTF">2015-08-14T12:54:37Z</dcterms:modified>
  <cp:revision>133</cp:revision>
  <dc:subject/>
  <dc:title>锐得PPT模板</dc:title>
</cp:coreProperties>
</file>