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67E-D8C4-49F4-BD8F-035FC87C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A4F-0590-4703-B0A8-32228CBB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AA7-EDB9-4022-979A-B5127565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1CA-1DC5-4131-94EB-F18AB0CA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745-9C37-4A60-9BB5-BD96997B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177-49D3-4398-973B-DF666305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606-BAC7-411E-BA4E-15477D22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6CA-9B6E-4B90-9A73-011133ED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491-19AD-4D5F-B7EA-1F1367AE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0D2-5658-4C90-B43C-33BCFD50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017-A02C-44A8-B9CB-AAFA81C6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8D1-93A5-4255-86B6-8062AD3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FDC9-7067-445E-A737-3D5FB88791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124000" y="4006800"/>
            <a:ext cx="57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小清新唯美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50028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73160" y="65721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0:53Z</dcterms:modified>
  <cp:revision>50</cp:revision>
  <dc:subject/>
  <dc:title>幻灯片 1</dc:title>
</cp:coreProperties>
</file>