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DD09A-81AB-4EBA-9747-C30E31065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B6EC-63A5-43C3-91CF-26AAAADC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E73B-0282-4408-9DF0-ADE2D523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E2EA-7BDD-46F4-B4C6-2F3C5BC83D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A5EE1-DBF3-44C2-8C82-118131B5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2AEA0-1ABA-4A29-9369-A84B4353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2116D-C534-4452-BD81-BAAEE370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87D97-ACFA-43C8-B259-29D84911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B6F8D-6313-4FE7-A746-0D706F14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8A238-8263-42E8-8DE5-FE1A8486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FC03E-3E0F-4558-AD5D-2DC6646D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EC81-3860-4434-AFF6-B6A43D8B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4C0C9-575A-409E-9569-50B9C6FB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2F79F-7EC5-46A5-867D-E7812A2D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A0469-7008-43AB-A8D2-1DC52CB1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1E050-0651-49DF-8BBC-CBDF48DE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D0333-3D96-4945-AFF3-9CC68C54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02C6-035D-4D45-A9E3-9F3BE98C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4D18-A831-47D5-BB63-0B026D1C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4A7E-5067-464D-BCF2-32787A21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AC00-A584-471A-96E6-F89CB0A9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8943F-36C0-4879-A38E-FB5F67C1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0E5B-F3DB-4C14-824A-226CC24D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329A-BE96-4441-A284-587F5ECF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8C6E-38DF-42A9-9488-4E21C8AEA1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-1033560" y="1552680"/>
            <a:ext cx="10177200" cy="5305320"/>
            <a:chOff x="-1033560" y="1552680"/>
            <a:chExt cx="10177200" cy="5305320"/>
          </a:xfrm>
        </p:grpSpPr>
        <p:sp>
          <p:nvSpPr>
            <p:cNvPr id="44" name="Freeform 3"/>
            <p:cNvSpPr/>
            <p:nvPr/>
          </p:nvSpPr>
          <p:spPr>
            <a:xfrm>
              <a:off x="3272760" y="2710080"/>
              <a:ext cx="5870880" cy="4147920"/>
            </a:xfrm>
            <a:custGeom>
              <a:avLst/>
              <a:gdLst>
                <a:gd name="textAreaLeft" fmla="*/ 0 w 5870880"/>
                <a:gd name="textAreaRight" fmla="*/ 5871240 w 5870880"/>
                <a:gd name="textAreaTop" fmla="*/ 0 h 4147920"/>
                <a:gd name="textAreaBottom" fmla="*/ 4148280 h 414792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Times New Roman"/>
              </a:endParaRPr>
            </a:p>
          </p:txBody>
        </p:sp>
        <p:sp>
          <p:nvSpPr>
            <p:cNvPr id="45" name="Arc 4"/>
            <p:cNvSpPr/>
            <p:nvPr/>
          </p:nvSpPr>
          <p:spPr>
            <a:xfrm>
              <a:off x="-1033560" y="1552680"/>
              <a:ext cx="6725160" cy="5305320"/>
            </a:xfrm>
            <a:custGeom>
              <a:avLst/>
              <a:gdLst>
                <a:gd name="textAreaLeft" fmla="*/ 0 w 6725160"/>
                <a:gd name="textAreaRight" fmla="*/ 6725520 w 672516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版权所有  中央音乐学院  周海宏 未经作者许可禁止使用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6548-7245-4BEC-8F7F-83B88B69F7D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1889640" y="112536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音乐学院毕业答辩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PPT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背景下载</a:t>
            </a:r>
            <a:endParaRPr b="0" lang="en-US" sz="4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Arial"/>
              </a:rPr>
              <a:t>幻灯片之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eeppt.com</a:t>
            </a:r>
            <a:endParaRPr b="0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33"/>
                </a:solidFill>
                <a:uFillTx/>
                <a:latin typeface="Times New Roman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00"/>
                </a:solidFill>
                <a:uFillTx/>
                <a:latin typeface="Arial"/>
              </a:rPr>
              <a:t>www.eeppt.com</a:t>
            </a:r>
            <a:endParaRPr b="0" lang="en-US" sz="1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13:20:48Z</dcterms:created>
  <dc:creator/>
  <dc:description/>
  <cp:keywords/>
  <dc:language>en-US</dc:language>
  <cp:lastModifiedBy>yu wang</cp:lastModifiedBy>
  <dcterms:modified xsi:type="dcterms:W3CDTF">2015-08-14T12:54:34Z</dcterms:modified>
  <cp:revision>426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</Properties>
</file>