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396-7BC0-43CD-8297-C32297EE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CA2-558F-4F6F-8B47-B47EAAEA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FB6-519D-4995-A620-3C7DE087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792-34A6-4700-9AB1-BC4A68AD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814-B074-4C00-B7C8-CC63A52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9D0-C9E5-4EA2-A575-83AE3888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5DF-76E9-4BE4-B39E-26A8C5C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8BF-A9CC-4EE3-9DAD-E74D244F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66A-8BE3-4F08-84C1-A394FA8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BE4-156B-492D-A65C-057E031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A3D-B69F-40AC-ACC5-B0B64AA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895-E22F-4DCC-93EC-7E0F6B79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yinyueyishu2_0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A44-37D4-4A2F-9AA0-01167B792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T_yinyueyishu2_0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2132640" y="16588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指挥艺术专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3:50Z</dcterms:created>
  <dc:creator/>
  <dc:description/>
  <cp:keywords/>
  <dc:language>en-US</dc:language>
  <cp:lastModifiedBy>yu wang</cp:lastModifiedBy>
  <dcterms:modified xsi:type="dcterms:W3CDTF">2015-08-12T14:56:52Z</dcterms:modified>
  <cp:revision>4</cp:revision>
  <dc:subject/>
  <dc:title>www.glzy8.com提供海量PPT模板免费下载！</dc:title>
</cp:coreProperties>
</file>