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4c4c4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AEA496-6290-45B8-9DCC-B9805BFED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750381-09D4-4871-9C76-ED32AC821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D102F7-6F7A-49D0-8269-4E19C402A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06DD60-3594-497D-926F-0D84DD940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65D193-1CA9-4022-8D0B-D399F8B56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7FDDEB-3CB6-4C3D-904B-B875EBB33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158-4584-4C00-B8E3-F98EE82A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24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E8F-CEFA-411C-8955-D50F1D1A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7E8-CAE8-4D99-8F7F-DB1B8B22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FFD-6300-4072-9E3C-DC32AF4B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29C7-42F9-4652-BC0D-99534F7E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1534-7C6E-4C0D-9463-EE545D0B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8ED0-8A48-43A8-8739-E8F29C30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726D-84E4-4F70-95BF-1F0D39AA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3C25-2713-4406-A5DA-056C02A5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3231-9EFF-43BD-880A-B735EB3B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A33B-0809-4036-B02F-3DC6A587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BEE-FB76-4864-A1AB-D6AAA764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3EB6-1F19-49EF-B318-B3469DCC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24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614F-D56D-40D3-BF5D-51630B30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24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1888-930F-44B8-97EB-5BBF13A3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8333-4889-4BCF-8625-5AF0F74C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D913-CE34-4731-ABA8-606A162D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A96E4-AB18-4EDB-BC10-DA931D72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DA996-2DEE-4445-8137-EDE79558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738D9-A4C8-4908-AB94-0EB1D87C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3EDFD-2A1B-4BFD-AD9C-506552E8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6ED79-C4BA-4271-A3E9-C483A15C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602-58A0-4448-AF15-74E18938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20793-C2A0-4D4D-83BA-7E592389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6A41B-D7E3-4387-AC60-07EAF668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BDA58-6710-43A7-B179-64042C53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24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2140F-3E5B-4B1C-9B93-28546A2E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24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687A8-86B7-4387-934B-E99B69C5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D912E-EDDF-4253-AC67-BCBAA6BB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7DB1D-F6A1-41C2-85BD-35FB55A4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6564E-DD41-40EA-A002-3BA263DD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542E3-626C-4E3A-8DF9-5EE87853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F81F2-D970-4490-8931-42A34A1F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B34-E5C2-4DB2-9F15-ADA7F26A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4E60A-ED4E-4D89-AFDC-42124B8E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4B138-9D41-4122-B153-CA86E127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01807-D9FA-440D-849E-8BAE9E9D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41095-5EB7-46BD-B3D4-1E7168B4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0D8C1-9023-4B39-9FB4-715E952E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24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12E5A-63DE-4C12-ADE3-BE400824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24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9EE1B-4122-4BFF-AC34-44CD4254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6EAD7-4715-4C72-9C88-857592D9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047A7-77F3-4E1E-8891-AB24CFEC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A4952-27C9-4CA1-941F-D4431A8D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188-A973-4052-981F-BA4A47D0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432A5-93F4-412E-98F5-4426EC58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C71E8-2AA2-4C5C-8C00-3407F6E4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FE611-49DC-474F-81F5-9277EE23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1AA56-BFBF-4906-AF8C-08626697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93610-1386-478C-8EED-DADD9492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FF738-6206-4340-9686-2A6C7F01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3CBE1-E02F-489F-8EAC-0208F61C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24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8FB8D-4C31-4CA1-9C3F-40752918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24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40598-76A8-4479-95A8-64B8AE8C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1AE8D-3DE9-4570-95B9-7C5251D7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7B9F-DE87-4872-B13D-10613E9B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2E8CA-5428-4886-B13C-1F5A46C1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4256-9D16-4F1E-9747-462E5AC8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73ED-7465-4598-B90A-DC9BC659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240" cy="17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E93-3574-4852-A1EC-A2E9539C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vectorhills"/>
          <p:cNvPicPr/>
          <p:nvPr/>
        </p:nvPicPr>
        <p:blipFill>
          <a:blip r:embed="rId2"/>
          <a:stretch/>
        </p:blipFill>
        <p:spPr>
          <a:xfrm>
            <a:off x="0" y="0"/>
            <a:ext cx="9181800" cy="6886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4" hidden="1"/>
          <p:cNvSpPr/>
          <p:nvPr/>
        </p:nvSpPr>
        <p:spPr>
          <a:xfrm>
            <a:off x="0" y="0"/>
            <a:ext cx="9181800" cy="6886080"/>
          </a:xfrm>
          <a:prstGeom prst="rect">
            <a:avLst/>
          </a:prstGeom>
          <a:solidFill>
            <a:schemeClr val="bg1">
              <a:alpha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" name="Picture 28" descr="vectorhills"/>
          <p:cNvPicPr/>
          <p:nvPr/>
        </p:nvPicPr>
        <p:blipFill>
          <a:blip r:embed="rId3"/>
          <a:stretch/>
        </p:blipFill>
        <p:spPr>
          <a:xfrm>
            <a:off x="-19080" y="-14400"/>
            <a:ext cx="9181800" cy="6886080"/>
          </a:xfrm>
          <a:prstGeom prst="rect">
            <a:avLst/>
          </a:prstGeom>
          <a:ln w="0">
            <a:noFill/>
          </a:ln>
        </p:spPr>
      </p:pic>
      <p:sp>
        <p:nvSpPr>
          <p:cNvPr id="3" name="Text Box 18"/>
          <p:cNvSpPr/>
          <p:nvPr/>
        </p:nvSpPr>
        <p:spPr>
          <a:xfrm rot="19237200">
            <a:off x="4622400" y="519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008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c4c4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3655C1-9367-4FA8-B42C-EFD7C703082F}" type="slidenum">
              <a:rPr b="0" lang="en-US" sz="14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3" descr="vectorhills"/>
          <p:cNvPicPr/>
          <p:nvPr/>
        </p:nvPicPr>
        <p:blipFill>
          <a:blip r:embed="rId2"/>
          <a:stretch/>
        </p:blipFill>
        <p:spPr>
          <a:xfrm>
            <a:off x="0" y="0"/>
            <a:ext cx="9181800" cy="6886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4"/>
          <p:cNvSpPr/>
          <p:nvPr/>
        </p:nvSpPr>
        <p:spPr>
          <a:xfrm>
            <a:off x="0" y="0"/>
            <a:ext cx="9181800" cy="6886080"/>
          </a:xfrm>
          <a:prstGeom prst="rect">
            <a:avLst/>
          </a:prstGeom>
          <a:solidFill>
            <a:schemeClr val="bg1">
              <a:alpha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3700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c4c4c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4c4c4c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4c4c4c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c4c4c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4c4c4c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4c4c4c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c4c4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243E35-6FCB-436E-9406-444D48AD1ABF}" type="slidenum">
              <a:rPr b="0" lang="en-US" sz="14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3" descr="vectorhills"/>
          <p:cNvPicPr/>
          <p:nvPr/>
        </p:nvPicPr>
        <p:blipFill>
          <a:blip r:embed="rId2"/>
          <a:stretch/>
        </p:blipFill>
        <p:spPr>
          <a:xfrm>
            <a:off x="0" y="0"/>
            <a:ext cx="9181800" cy="6886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4"/>
          <p:cNvSpPr/>
          <p:nvPr/>
        </p:nvSpPr>
        <p:spPr>
          <a:xfrm>
            <a:off x="0" y="0"/>
            <a:ext cx="9181800" cy="6886080"/>
          </a:xfrm>
          <a:prstGeom prst="rect">
            <a:avLst/>
          </a:prstGeom>
          <a:solidFill>
            <a:schemeClr val="bg1">
              <a:alpha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37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c4c4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AAE8EC-EC2E-4EB2-8AC8-DE6B6631A4D6}" type="slidenum">
              <a:rPr b="0" lang="en-US" sz="14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3" descr="vectorhills"/>
          <p:cNvPicPr/>
          <p:nvPr/>
        </p:nvPicPr>
        <p:blipFill>
          <a:blip r:embed="rId2"/>
          <a:stretch/>
        </p:blipFill>
        <p:spPr>
          <a:xfrm>
            <a:off x="0" y="0"/>
            <a:ext cx="9181800" cy="6886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4"/>
          <p:cNvSpPr/>
          <p:nvPr/>
        </p:nvSpPr>
        <p:spPr>
          <a:xfrm>
            <a:off x="0" y="0"/>
            <a:ext cx="9181800" cy="6886080"/>
          </a:xfrm>
          <a:prstGeom prst="rect">
            <a:avLst/>
          </a:prstGeom>
          <a:solidFill>
            <a:schemeClr val="bg1">
              <a:alpha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3700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c4c4c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4c4c4c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4c4c4c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c4c4c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4c4c4c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4c4c4c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3700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c4c4c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4c4c4c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4c4c4c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c4c4c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4c4c4c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4c4c4c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c4c4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BED1B1-4EDD-49F0-B1F4-4A6C1D389818}" type="slidenum">
              <a:rPr b="0" lang="en-US" sz="14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3" descr="vectorhills"/>
          <p:cNvPicPr/>
          <p:nvPr/>
        </p:nvPicPr>
        <p:blipFill>
          <a:blip r:embed="rId2"/>
          <a:stretch/>
        </p:blipFill>
        <p:spPr>
          <a:xfrm>
            <a:off x="0" y="0"/>
            <a:ext cx="9181800" cy="6886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4"/>
          <p:cNvSpPr/>
          <p:nvPr/>
        </p:nvSpPr>
        <p:spPr>
          <a:xfrm>
            <a:off x="0" y="0"/>
            <a:ext cx="9181800" cy="6886080"/>
          </a:xfrm>
          <a:prstGeom prst="rect">
            <a:avLst/>
          </a:prstGeom>
          <a:solidFill>
            <a:schemeClr val="bg1">
              <a:alpha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3700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c4c4c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4c4c4c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4c4c4c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c4c4c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4c4c4c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4c4c4c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3700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c4c4c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4c4c4c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4c4c4c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c4c4c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4c4c4c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4c4c4c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c4c4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13A19C-F35D-4A66-8158-1BD931D5F3C8}" type="slidenum">
              <a:rPr b="0" lang="en-US" sz="14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0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5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6" name="Text Box 58"/>
          <p:cNvSpPr/>
          <p:nvPr/>
        </p:nvSpPr>
        <p:spPr>
          <a:xfrm>
            <a:off x="898560" y="2176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7" name="Text Box 60"/>
          <p:cNvSpPr/>
          <p:nvPr/>
        </p:nvSpPr>
        <p:spPr>
          <a:xfrm>
            <a:off x="1082520" y="2176560"/>
            <a:ext cx="6918120" cy="13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</a:pPr>
            <a:r>
              <a:rPr b="0" lang="zh-CN" sz="4000" spc="-1" strike="noStrike">
                <a:solidFill>
                  <a:srgbClr val="ff0080"/>
                </a:solidFill>
                <a:latin typeface="Arial Black"/>
              </a:rPr>
              <a:t>艺术插画简洁</a:t>
            </a:r>
            <a:r>
              <a:rPr b="0" lang="en-US" sz="4000" spc="-1" strike="noStrike">
                <a:solidFill>
                  <a:srgbClr val="ff0080"/>
                </a:solidFill>
                <a:latin typeface="Arial Black"/>
              </a:rPr>
              <a:t>PPT</a:t>
            </a:r>
            <a:r>
              <a:rPr b="0" lang="zh-CN" sz="4000" spc="-1" strike="noStrike">
                <a:solidFill>
                  <a:srgbClr val="ff0080"/>
                </a:solidFill>
                <a:latin typeface="Arial Black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fdfff4"/>
                </a:solidFill>
                <a:latin typeface="Arial Black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72" descr="roundedarrow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76320"/>
            <a:ext cx="1110960" cy="1212480"/>
          </a:xfrm>
          <a:prstGeom prst="rect">
            <a:avLst/>
          </a:prstGeom>
          <a:ln w="0">
            <a:noFill/>
          </a:ln>
        </p:spPr>
      </p:pic>
      <p:sp>
        <p:nvSpPr>
          <p:cNvPr id="22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73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16240"/>
            <a:ext cx="8229240" cy="3700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c4c4c"/>
              </a:buClr>
              <a:buFont typeface="Symbol" charset="2"/>
              <a:buChar char=""/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c4c4c"/>
              </a:buClr>
              <a:buFont typeface="Symbol" charset="2"/>
              <a:buChar char=""/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4c4c4c"/>
              </a:buClr>
              <a:buFont typeface="Symbol" charset="2"/>
              <a:buChar char=""/>
            </a:pPr>
            <a:r>
              <a:rPr b="0" lang="en-GB" sz="2800" spc="-1" strike="noStrike">
                <a:solidFill>
                  <a:srgbClr val="4c4c4c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704880" y="961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33" name="Picture 31" descr="roundedarrow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76320"/>
            <a:ext cx="1110960" cy="1212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2" descr="roundedarrow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5680" y="76320"/>
            <a:ext cx="1110960" cy="121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graphicFrame>
        <p:nvGraphicFramePr>
          <p:cNvPr id="236" name="Object 3"/>
          <p:cNvGraphicFramePr/>
          <p:nvPr/>
        </p:nvGraphicFramePr>
        <p:xfrm>
          <a:off x="2027160" y="1219320"/>
          <a:ext cx="6062400" cy="375876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2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400" cy="37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Text Box 24"/>
          <p:cNvSpPr/>
          <p:nvPr/>
        </p:nvSpPr>
        <p:spPr>
          <a:xfrm>
            <a:off x="457200" y="915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39" name="Picture 28" descr="roundedarrow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76320"/>
            <a:ext cx="1110960" cy="1212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9" descr="roundedarrow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5680" y="76320"/>
            <a:ext cx="1110960" cy="121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8" descr="water"/>
          <p:cNvPicPr/>
          <p:nvPr/>
        </p:nvPicPr>
        <p:blipFill>
          <a:blip r:embed="rId1"/>
          <a:stretch/>
        </p:blipFill>
        <p:spPr>
          <a:xfrm>
            <a:off x="1347840" y="1219320"/>
            <a:ext cx="6500520" cy="48747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457200" y="885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44" name="Picture 29" descr="rounded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76320"/>
            <a:ext cx="1110960" cy="1212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0" descr="roundedarrow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5680" y="76320"/>
            <a:ext cx="1110960" cy="121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default styles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3700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4c4c4c"/>
              </a:buClr>
              <a:buFont typeface="Symbol" charset="2"/>
              <a:buChar char=""/>
            </a:pPr>
            <a:r>
              <a:rPr b="0" lang="en-GB" sz="2800" spc="-1" strike="noStrike">
                <a:solidFill>
                  <a:srgbClr val="4c4c4c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666666"/>
              </a:buClr>
              <a:buFont typeface="Symbol" charset="2"/>
              <a:buChar char=""/>
            </a:pPr>
            <a:r>
              <a:rPr b="0" lang="en-GB" sz="2800" spc="-1" strike="noStrike" u="sng">
                <a:solidFill>
                  <a:schemeClr val="hlink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66ffff"/>
              </a:buClr>
              <a:buFont typeface="Symbol" charset="2"/>
              <a:buChar char=""/>
            </a:pPr>
            <a:r>
              <a:rPr b="0" lang="en-GB" sz="2800" spc="-1" strike="noStrike" u="sng">
                <a:solidFill>
                  <a:schemeClr val="folHlink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graphicFrame>
        <p:nvGraphicFramePr>
          <p:cNvPr id="248" name="Group 18"/>
          <p:cNvGraphicFramePr/>
          <p:nvPr/>
        </p:nvGraphicFramePr>
        <p:xfrm>
          <a:off x="4994280" y="1701720"/>
          <a:ext cx="3630240" cy="1726920"/>
        </p:xfrm>
        <a:graphic>
          <a:graphicData uri="http://schemas.openxmlformats.org/drawingml/2006/table">
            <a:tbl>
              <a:tblPr/>
              <a:tblGrid>
                <a:gridCol w="1815840"/>
                <a:gridCol w="181440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GB" sz="2800" spc="-1" strike="noStrike">
                          <a:solidFill>
                            <a:srgbClr val="4c4c4c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4c4c4c"/>
                      </a:solidFill>
                    </a:lnL>
                    <a:lnR w="12240">
                      <a:solidFill>
                        <a:srgbClr val="4c4c4c"/>
                      </a:solidFill>
                    </a:lnR>
                    <a:lnT w="28080">
                      <a:solidFill>
                        <a:srgbClr val="4c4c4c"/>
                      </a:solidFill>
                    </a:lnT>
                    <a:lnB w="12240">
                      <a:solidFill>
                        <a:srgbClr val="4c4c4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GB" sz="28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c4c4c"/>
                      </a:solidFill>
                    </a:lnL>
                    <a:lnR w="28080">
                      <a:solidFill>
                        <a:srgbClr val="4c4c4c"/>
                      </a:solidFill>
                    </a:lnR>
                    <a:lnT w="28080">
                      <a:solidFill>
                        <a:srgbClr val="4c4c4c"/>
                      </a:solidFill>
                    </a:lnT>
                    <a:lnB w="12240">
                      <a:solidFill>
                        <a:srgbClr val="4c4c4c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GB" sz="28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4c4c4c"/>
                      </a:solidFill>
                    </a:lnL>
                    <a:lnR w="12240">
                      <a:solidFill>
                        <a:srgbClr val="4c4c4c"/>
                      </a:solidFill>
                    </a:lnR>
                    <a:lnT w="12240">
                      <a:solidFill>
                        <a:srgbClr val="4c4c4c"/>
                      </a:solidFill>
                    </a:lnT>
                    <a:lnB w="28080">
                      <a:solidFill>
                        <a:srgbClr val="4c4c4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GB" sz="28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c4c4c"/>
                      </a:solidFill>
                    </a:lnL>
                    <a:lnR w="28080">
                      <a:solidFill>
                        <a:srgbClr val="4c4c4c"/>
                      </a:solidFill>
                    </a:lnR>
                    <a:lnT w="12240">
                      <a:solidFill>
                        <a:srgbClr val="4c4c4c"/>
                      </a:solidFill>
                    </a:lnT>
                    <a:lnB w="28080">
                      <a:solidFill>
                        <a:srgbClr val="4c4c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15"/>
          <p:cNvSpPr/>
          <p:nvPr/>
        </p:nvSpPr>
        <p:spPr>
          <a:xfrm>
            <a:off x="990720" y="4495680"/>
            <a:ext cx="2231640" cy="13680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3886200" y="4495680"/>
            <a:ext cx="2231640" cy="13680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4c4c4c"/>
            </a:solidFill>
            <a:miter/>
          </a:ln>
          <a:effectLst>
            <a:outerShdw algn="ctr" dir="2700000" dist="107423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0" descr="cross"/>
          <p:cNvPicPr/>
          <p:nvPr/>
        </p:nvPicPr>
        <p:blipFill>
          <a:blip r:embed="rId1"/>
          <a:stretch/>
        </p:blipFill>
        <p:spPr>
          <a:xfrm>
            <a:off x="7966080" y="76320"/>
            <a:ext cx="1101240" cy="1101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1" descr="roundedarrow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5680" y="76320"/>
            <a:ext cx="1110960" cy="12124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7"/>
          <p:cNvSpPr/>
          <p:nvPr/>
        </p:nvSpPr>
        <p:spPr>
          <a:xfrm>
            <a:off x="47628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666666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666666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4c4c4c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008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5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1" lang="en-US" sz="1050" spc="-1" strike="noStrike" u="sng">
                <a:solidFill>
                  <a:srgbClr val="666666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666666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5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5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5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666666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666666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666666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en-US" sz="900" spc="-1" strike="noStrike" u="sng">
                <a:solidFill>
                  <a:srgbClr val="666666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666666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666666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666666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666666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666666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666666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666666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666666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666666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666666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666666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666666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666666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666666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666666"/>
                </a:solidFill>
                <a:uFillTx/>
                <a:latin typeface="Arial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666666"/>
                </a:solidFill>
                <a:uFillTx/>
                <a:latin typeface="Arial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666666"/>
                </a:solidFill>
                <a:uFillTx/>
                <a:latin typeface="Arial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666666"/>
                </a:solidFill>
                <a:uFillTx/>
                <a:latin typeface="Arial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4c4c4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">
      <a:dk1>
        <a:srgbClr val="4c4c4c"/>
      </a:dk1>
      <a:lt1>
        <a:srgbClr val="ffffff"/>
      </a:lt1>
      <a:dk2>
        <a:srgbClr val="ff0080"/>
      </a:dk2>
      <a:lt2>
        <a:srgbClr val="4c4c4c"/>
      </a:lt2>
      <a:accent1>
        <a:srgbClr val="66ccff"/>
      </a:accent1>
      <a:accent2>
        <a:srgbClr val="ff0080"/>
      </a:accent2>
      <a:accent3>
        <a:srgbClr val="ffffff"/>
      </a:accent3>
      <a:accent4>
        <a:srgbClr val="404040"/>
      </a:accent4>
      <a:accent5>
        <a:srgbClr val="b8e2ff"/>
      </a:accent5>
      <a:accent6>
        <a:srgbClr val="e70073"/>
      </a:accent6>
      <a:hlink>
        <a:srgbClr val="666666"/>
      </a:hlink>
      <a:folHlink>
        <a:srgbClr val="66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">
      <a:dk1>
        <a:srgbClr val="4c4c4c"/>
      </a:dk1>
      <a:lt1>
        <a:srgbClr val="ffffff"/>
      </a:lt1>
      <a:dk2>
        <a:srgbClr val="ff0080"/>
      </a:dk2>
      <a:lt2>
        <a:srgbClr val="4c4c4c"/>
      </a:lt2>
      <a:accent1>
        <a:srgbClr val="66ccff"/>
      </a:accent1>
      <a:accent2>
        <a:srgbClr val="ff0080"/>
      </a:accent2>
      <a:accent3>
        <a:srgbClr val="ffffff"/>
      </a:accent3>
      <a:accent4>
        <a:srgbClr val="404040"/>
      </a:accent4>
      <a:accent5>
        <a:srgbClr val="b8e2ff"/>
      </a:accent5>
      <a:accent6>
        <a:srgbClr val="e70073"/>
      </a:accent6>
      <a:hlink>
        <a:srgbClr val="666666"/>
      </a:hlink>
      <a:folHlink>
        <a:srgbClr val="66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fault Design">
  <a:themeElements>
    <a:clrScheme name="">
      <a:dk1>
        <a:srgbClr val="4c4c4c"/>
      </a:dk1>
      <a:lt1>
        <a:srgbClr val="ffffff"/>
      </a:lt1>
      <a:dk2>
        <a:srgbClr val="ff0080"/>
      </a:dk2>
      <a:lt2>
        <a:srgbClr val="4c4c4c"/>
      </a:lt2>
      <a:accent1>
        <a:srgbClr val="66ccff"/>
      </a:accent1>
      <a:accent2>
        <a:srgbClr val="ff0080"/>
      </a:accent2>
      <a:accent3>
        <a:srgbClr val="ffffff"/>
      </a:accent3>
      <a:accent4>
        <a:srgbClr val="404040"/>
      </a:accent4>
      <a:accent5>
        <a:srgbClr val="b8e2ff"/>
      </a:accent5>
      <a:accent6>
        <a:srgbClr val="e70073"/>
      </a:accent6>
      <a:hlink>
        <a:srgbClr val="666666"/>
      </a:hlink>
      <a:folHlink>
        <a:srgbClr val="66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efault Design">
  <a:themeElements>
    <a:clrScheme name="">
      <a:dk1>
        <a:srgbClr val="4c4c4c"/>
      </a:dk1>
      <a:lt1>
        <a:srgbClr val="ffffff"/>
      </a:lt1>
      <a:dk2>
        <a:srgbClr val="ff0080"/>
      </a:dk2>
      <a:lt2>
        <a:srgbClr val="4c4c4c"/>
      </a:lt2>
      <a:accent1>
        <a:srgbClr val="66ccff"/>
      </a:accent1>
      <a:accent2>
        <a:srgbClr val="ff0080"/>
      </a:accent2>
      <a:accent3>
        <a:srgbClr val="ffffff"/>
      </a:accent3>
      <a:accent4>
        <a:srgbClr val="404040"/>
      </a:accent4>
      <a:accent5>
        <a:srgbClr val="b8e2ff"/>
      </a:accent5>
      <a:accent6>
        <a:srgbClr val="e70073"/>
      </a:accent6>
      <a:hlink>
        <a:srgbClr val="666666"/>
      </a:hlink>
      <a:folHlink>
        <a:srgbClr val="66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Default Design">
  <a:themeElements>
    <a:clrScheme name="">
      <a:dk1>
        <a:srgbClr val="4c4c4c"/>
      </a:dk1>
      <a:lt1>
        <a:srgbClr val="ffffff"/>
      </a:lt1>
      <a:dk2>
        <a:srgbClr val="ff0080"/>
      </a:dk2>
      <a:lt2>
        <a:srgbClr val="4c4c4c"/>
      </a:lt2>
      <a:accent1>
        <a:srgbClr val="66ccff"/>
      </a:accent1>
      <a:accent2>
        <a:srgbClr val="ff0080"/>
      </a:accent2>
      <a:accent3>
        <a:srgbClr val="ffffff"/>
      </a:accent3>
      <a:accent4>
        <a:srgbClr val="404040"/>
      </a:accent4>
      <a:accent5>
        <a:srgbClr val="b8e2ff"/>
      </a:accent5>
      <a:accent6>
        <a:srgbClr val="e70073"/>
      </a:accent6>
      <a:hlink>
        <a:srgbClr val="666666"/>
      </a:hlink>
      <a:folHlink>
        <a:srgbClr val="66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ff0080"/>
      </a:dk2>
      <a:lt2>
        <a:srgbClr val="4c4c4c"/>
      </a:lt2>
      <a:accent1>
        <a:srgbClr val="66ccff"/>
      </a:accent1>
      <a:accent2>
        <a:srgbClr val="ff0080"/>
      </a:accent2>
      <a:accent3>
        <a:srgbClr val="ffffff"/>
      </a:accent3>
      <a:accent4>
        <a:srgbClr val="404040"/>
      </a:accent4>
      <a:accent5>
        <a:srgbClr val="b8e2ff"/>
      </a:accent5>
      <a:accent6>
        <a:srgbClr val="e70073"/>
      </a:accent6>
      <a:hlink>
        <a:srgbClr val="666666"/>
      </a:hlink>
      <a:folHlink>
        <a:srgbClr val="66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  <Words>212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pptbz.com</dc:creator>
  <dc:description/>
  <dc:language>en-US</dc:language>
  <cp:lastModifiedBy>yu wang</cp:lastModifiedBy>
  <dcterms:modified xsi:type="dcterms:W3CDTF">2015-08-14T12:53:59Z</dcterms:modified>
  <cp:revision>8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全屏显示(4:3)</vt:lpwstr>
  </property>
  <property fmtid="{D5CDD505-2E9C-101B-9397-08002B2CF9AE}" pid="4" name="Slides">
    <vt:r8>6</vt:r8>
  </property>
</Properties>
</file>