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9AA-C003-4F1E-9682-703591B6E82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2F8F-E84D-41AE-9C92-37748C007747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B228-D308-45E7-AF30-064AF84C613F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4033800" y="42861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494320" y="4719600"/>
            <a:ext cx="322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246040" y="357012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学类毕业设计论文答辩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3320" y="128376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0:13:00Z</dcterms:created>
  <dc:creator/>
  <dc:description/>
  <cp:keywords/>
  <dc:language>en-US</dc:language>
  <cp:lastModifiedBy>yu wang</cp:lastModifiedBy>
  <cp:lastPrinted>1899-12-30T00:00:00Z</cp:lastPrinted>
  <dcterms:modified xsi:type="dcterms:W3CDTF">2015-08-12T14:51:18Z</dcterms:modified>
  <cp:revision>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