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DBD5-B081-4A62-9B5B-CC474CD5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8A7-29E7-43BF-9884-4EFB4159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ED89-FB1B-4BE1-9A63-8214EC16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8E37-5917-4822-A8FF-A002C346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7F5-4A8A-47D2-A02B-31E3D2F7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386-23F8-423A-99CB-E4075416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E84-4146-4C16-A65F-26175A83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886-4296-4099-A061-88628D3B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AB2-D83D-465D-ABDF-A2B4DC8F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F63-4BC8-4D18-92AD-FC87B936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4D66-618F-4ADD-AD8B-C67121D4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EA0-42F5-41E8-AF82-E8F628C0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28A6-604B-49AD-A339-734544DAEE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84360" y="344484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圆圆地球上的商务楼小清新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714760" y="415296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企业商务主题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862200" y="857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4283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2068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6140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21405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3550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"/>
          <p:cNvSpPr/>
          <p:nvPr/>
        </p:nvSpPr>
        <p:spPr>
          <a:xfrm>
            <a:off x="76068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2354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97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4976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5640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87760" y="976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39978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3926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16120" y="905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2835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7121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7835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81612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2071800" y="3571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354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2838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28364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81612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228600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3549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6212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41407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79092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4354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67125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1568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50920" y="64245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86220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5783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3214800" y="450072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93384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4640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1497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6640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35690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4T12:50:37Z</dcterms:modified>
  <cp:revision>44</cp:revision>
  <dc:subject/>
  <dc:title>幻灯片 1</dc:title>
</cp:coreProperties>
</file>