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114-6D61-464C-B970-C450302A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C1D-4C59-485B-A0BE-26884A9E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B92-2879-42AD-8AFC-2AEE2DD8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320-FC59-4DE5-A9BB-570C62C9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D57-64D8-4B92-804B-051E1D57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44F-30B6-4E53-A408-339A23BB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001-C972-475A-8EDE-1FCB555E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48F-085B-4676-BFAD-BF1BEB7F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B26-6F0E-489B-BF47-FF136002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29C-502E-43C1-8954-370610B4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57D-CE53-4308-A125-9A5B3C2A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66B-8D9D-4874-9E4A-A259BCCD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2A46BB-7D37-42FE-B970-FC0E0811D45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【背景2加图i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优雅清新浪漫简洁的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幻灯片24"/>
          <p:cNvPicPr/>
          <p:nvPr/>
        </p:nvPicPr>
        <p:blipFill>
          <a:blip r:embed="rId1"/>
          <a:stretch/>
        </p:blipFill>
        <p:spPr>
          <a:xfrm>
            <a:off x="-44712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幻灯片5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【背景2加图c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幻灯片3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57200" y="63086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幻灯片6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幻灯片1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幻灯片15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幻灯片2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幻灯片1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  <Words>172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3T09:43:57Z</dcterms:created>
  <dc:creator>莊彩月</dc:creator>
  <dc:description/>
  <dc:language>en-US</dc:language>
  <cp:lastModifiedBy>yu wang</cp:lastModifiedBy>
  <dcterms:modified xsi:type="dcterms:W3CDTF">2015-08-14T12:49:22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